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9E0-5E97-49F4-A2FB-50D44C9E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2B4-850A-421E-A93D-2448F47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5A0-CCAF-4A4E-AD2A-95D38811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5EB-57B8-4834-A9B6-11FCF74E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3BA-6F8E-4FB0-89AD-5B80140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D52-2C1E-4C6E-99D6-FF4B12C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500-9844-45BF-9BCB-5DA0B83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8A6-F795-4A98-A4BA-12BB909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EA5-8982-40A5-B420-4D23800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83-C1BF-44B4-91D6-0DAA62A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176-7794-4679-BEB3-AB3AD43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CAE-F08B-4E44-ACA9-2116775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CFCF-B62B-4F3D-B5BA-D85CEAF897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00101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Гимнастика для укрепления глазных мышц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0440" y="5143320"/>
            <a:ext cx="29876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Аветисову Э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165нег"/>
          <p:cNvPicPr/>
          <p:nvPr/>
        </p:nvPicPr>
        <p:blipFill>
          <a:blip r:embed="rId1"/>
          <a:stretch/>
        </p:blipFill>
        <p:spPr>
          <a:xfrm>
            <a:off x="2411280" y="2276640"/>
            <a:ext cx="3956040" cy="3074760"/>
          </a:xfrm>
          <a:prstGeom prst="rect">
            <a:avLst/>
          </a:prstGeom>
          <a:ln w="0">
            <a:noFill/>
          </a:ln>
        </p:spPr>
      </p:pic>
      <p:pic>
        <p:nvPicPr>
          <p:cNvPr id="44" name="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"/>
          <p:cNvSpPr/>
          <p:nvPr/>
        </p:nvSpPr>
        <p:spPr>
          <a:xfrm>
            <a:off x="4427640" y="260280"/>
            <a:ext cx="0" cy="6264360"/>
          </a:xfrm>
          <a:prstGeom prst="line">
            <a:avLst/>
          </a:prstGeom>
          <a:ln w="101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995640" y="0"/>
            <a:ext cx="863640" cy="836640"/>
          </a:xfrm>
          <a:custGeom>
            <a:avLst/>
            <a:gdLst>
              <a:gd name="textAreaLeft" fmla="*/ 126360 w 863640"/>
              <a:gd name="textAreaRight" fmla="*/ 737280 w 86364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28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5803 E">
                                      <p:cBhvr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395280" y="3141720"/>
            <a:ext cx="8064360" cy="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50920" y="2781360"/>
            <a:ext cx="720720" cy="71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59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5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1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395280" y="476280"/>
            <a:ext cx="8353440" cy="5977080"/>
          </a:xfrm>
          <a:prstGeom prst="line">
            <a:avLst/>
          </a:prstGeom>
          <a:ln w="1015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8952200">
            <a:off x="250560" y="259920"/>
            <a:ext cx="649080" cy="647640"/>
          </a:xfrm>
          <a:prstGeom prst="pentagon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38778E-017 L 0.87413 0.84948 E">
                                      <p:cBhvr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10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10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031 0.84439 E">
                                      <p:cBhvr>
                                        <p:cTn id="108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 flipH="1">
            <a:off x="395280" y="404640"/>
            <a:ext cx="8353440" cy="6048720"/>
          </a:xfrm>
          <a:prstGeom prst="line">
            <a:avLst/>
          </a:prstGeom>
          <a:ln w="1015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 rot="3358800">
            <a:off x="8154000" y="207000"/>
            <a:ext cx="755640" cy="71928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75 0.86798 L -2.22222E-006 -4.16185E-006 E">
                                      <p:cBhvr>
                                        <p:cTn id="1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3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3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3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5988 L 2.77778E-007 1.38778E-017 E">
                                      <p:cBhvr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1403280" y="765000"/>
            <a:ext cx="6553440" cy="5616720"/>
          </a:xfrm>
          <a:prstGeom prst="ellipse">
            <a:avLst/>
          </a:prstGeom>
          <a:noFill/>
          <a:ln w="1015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4211640" y="333360"/>
            <a:ext cx="934920" cy="863640"/>
          </a:xfrm>
          <a:custGeom>
            <a:avLst/>
            <a:gdLst/>
            <a:ahLst/>
            <a:rect l="l" t="t" r="r" b="b"/>
            <a:pathLst>
              <a:path w="935037" h="863600">
                <a:moveTo>
                  <a:pt x="1" y="329865"/>
                </a:moveTo>
                <a:lnTo>
                  <a:pt x="357154" y="329867"/>
                </a:lnTo>
                <a:lnTo>
                  <a:pt x="467519" y="0"/>
                </a:lnTo>
                <a:lnTo>
                  <a:pt x="577883" y="329867"/>
                </a:lnTo>
                <a:lnTo>
                  <a:pt x="935036" y="329865"/>
                </a:lnTo>
                <a:lnTo>
                  <a:pt x="646091" y="533732"/>
                </a:lnTo>
                <a:lnTo>
                  <a:pt x="756460" y="863598"/>
                </a:lnTo>
                <a:lnTo>
                  <a:pt x="467519" y="659727"/>
                </a:lnTo>
                <a:lnTo>
                  <a:pt x="178577" y="863598"/>
                </a:lnTo>
                <a:lnTo>
                  <a:pt x="28894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91329E-006 C 0.19532 4.91329E-006 0.35452 0.18104 0.35452 0.40369 C 0.35452 0.62612 0.19532 0.80739 -2.5E-006 0.80739 C -0.19566 0.80739 -0.35434 0.62612 -0.35434 0.40369 C -0.35434 0.18104 -0.19566 4.91329E-006 -2.5E-006 4.91329E-006 Z">
                                      <p:cBhvr>
                                        <p:cTn id="14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4"/>
          <p:cNvSpPr/>
          <p:nvPr/>
        </p:nvSpPr>
        <p:spPr>
          <a:xfrm>
            <a:off x="1187280" y="476280"/>
            <a:ext cx="6840720" cy="5977080"/>
          </a:xfrm>
          <a:prstGeom prst="ellipse">
            <a:avLst/>
          </a:prstGeom>
          <a:noFill/>
          <a:ln w="1015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067280" y="260280"/>
            <a:ext cx="1009440" cy="50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0" nodeType="afterEffect" fill="hold" presetClass="path" presetID="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2.08092E-006 C 0.20642 -2.08092E-006 0.37431 0.19122 0.37431 0.42729 C 0.37431 0.66243 0.20642 0.8548 0 0.8548 C -0.20625 0.8548 -0.37378 0.66243 -0.37378 0.42729 C -0.37378 0.19122 -0.20625 -2.08092E-006 0 -2.08092E-006 Z">
                                      <p:cBhvr>
                                        <p:cTn id="16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43570" dir="2700000" blurRad="0" rotWithShape="0">
              <a:srgbClr val="00101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Берегите зре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9777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8328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7:24:06Z</dcterms:created>
  <dc:creator>1</dc:creator>
  <dc:description/>
  <dc:language>en-US</dc:language>
  <cp:lastModifiedBy>User</cp:lastModifiedBy>
  <dcterms:modified xsi:type="dcterms:W3CDTF">2013-11-07T01:53:46Z</dcterms:modified>
  <cp:revision>10</cp:revision>
  <dc:subject/>
  <dc:title>Слайд 1</dc:title>
</cp:coreProperties>
</file>