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AAC-B4AC-4E26-BC6F-2D25E283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9B-7442-4A01-A633-F641B3B0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5E8-D71E-4BF1-BF30-0441313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141-46AA-46BC-A4B6-616077A6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AC1-AC79-4822-8613-66FA1923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EE25-D380-489D-BC30-2357F2A9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46DA-4D27-4377-B287-F3A8C5D2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AC09-B73F-45E0-AD57-4E35443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3C55-1F36-4B72-8615-A834857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C49-5F57-4814-9D8D-3FE44336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635-D931-49EA-97F4-9E6940E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0F9-AF90-4A4A-8CCB-4D32628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26CC-3B63-47E4-963D-4C3237C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E09-A88D-4DCD-978D-8A2B9DA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585-C2F0-40DF-A327-1B138B3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BE83-289D-4872-9165-1D04A74D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FD22-1594-4727-AC0C-75CA28D7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7BE7-77EE-4060-9BD3-1AB290E6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FE5F-B3C9-4D7B-957A-63823A4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B187-587E-4369-B974-F7B0C7B1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74FE-E013-4F35-AC97-C930A93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586F-54C0-4926-9C8A-28BF588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1B6-9968-485E-BA72-35AAAFA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2BD8-51D3-4000-8755-3079384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09949-482E-421C-AD21-480835D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2096-299B-4A17-8C33-D808F43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2B97-1A4B-482B-BE8E-F143DB9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6AFC-48E0-4A7E-8757-5E00655D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8C9D-683C-4683-B21B-1F0A5577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AEDB-6859-41EE-A1EA-BFC75D65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0B76-CC9A-47DA-AF9F-A2445B04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5989-BA54-47FE-AEC8-9B1EC85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A4E5-AB93-42F9-A86F-95019412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35A-3D19-4ECC-93A7-B113BB2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8C3A-9433-4301-BE12-3713169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7EB6-AAFD-4116-8D0C-10D1FFFB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3195-2D99-42D0-8833-6D9CAE10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7BE7-E3AC-4610-B105-388DA16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74F8-23B8-49FC-A9C1-F02E31D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1CB6-C053-47FC-9C80-0BF66DD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2F31-86B5-42D4-8E43-2C5009E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D72C-49EF-49DD-87E1-16A4AEB3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7866-212D-47E8-ADDD-72A1384F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FD6D-D273-489B-B0BA-818C085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0FD-A735-4C15-B418-1C75A964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49AE-00C9-4291-8ECD-4F7B7A3B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3BCB-9B09-449B-8F92-A847683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5F6C-9A11-4117-B526-C180226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F60B-9842-4D8D-89F4-989BC76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964F-CE27-446C-8D5C-34C450D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D9D1-20A2-44EF-98A9-9B3B5C3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C509-9528-4801-AEA3-E6C7369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1E13-29AB-4F57-B492-67DA945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2BEA-76C5-4CC4-A6E7-FC510A0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E978-0C45-448A-83BF-209B0B66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A87-19D0-4EA0-B3CB-DEDF41F3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3BB2-2975-478C-A074-B0A114E0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B43-1428-422E-AED1-DC49BB3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50F-A94C-4B10-BB63-283A61F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8C6-52E2-406E-87D4-94CAC37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B212-6EC4-4CAB-A2F5-AD11B33BCA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6304-AB9F-4CFB-A42F-FC08730D0AA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723-AECF-40E2-BB61-BE6EA52228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EF3-37C3-4CF7-996F-92DFDFCA42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154-2A25-4907-8293-BECFC62A6E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329680" cy="1833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ный час, посвящённый Дню юного героя-антифашист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642760" y="285840"/>
            <a:ext cx="6286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 нем рассказывали легенды: как водил за нос целый отряд гитлеровцев, выслеживающих партизан в крымских каменоломнях; как проскальзывал тенью мимо усиленных постов врага; как мог запомнить с точностью до одного солдата численность сразу нескольких гитлеровских подразделений, расположенных в разных местах…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 был любимцем партизан, их общим сыном. Но война есть война, она не щадит ни взрослых, ни дете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Юный разведчик погиб, подорвавшись на фашистской мине, когда возвращался с очередного задания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мандующий Крымским фронтом, узнав о его гибели, отдал приказ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градить посмертно юного патриота орденом Красного Знамен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9" name="Рисунок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214200" y="500040"/>
            <a:ext cx="2381400" cy="2781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70" name="Picture 2" descr="J:\пионерыгерои\орден красного знамени.png"/>
          <p:cNvPicPr/>
          <p:nvPr/>
        </p:nvPicPr>
        <p:blipFill>
          <a:blip r:embed="rId2"/>
          <a:stretch/>
        </p:blipFill>
        <p:spPr>
          <a:xfrm>
            <a:off x="785880" y="4714920"/>
            <a:ext cx="1371600" cy="15825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342900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ол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уб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х жизнь и подвиг стали сюжетами для фильмов. Назовите их имен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Содержимое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1571760" y="1714680"/>
            <a:ext cx="2381040" cy="2781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74" name="Рисунок 4" descr="http://gazeta.aif.ru/data/mags/kids/143/pics/22_01_15.jpg"/>
          <p:cNvPicPr/>
          <p:nvPr/>
        </p:nvPicPr>
        <p:blipFill>
          <a:blip r:embed="rId2"/>
          <a:stretch/>
        </p:blipFill>
        <p:spPr>
          <a:xfrm>
            <a:off x="5500800" y="1714680"/>
            <a:ext cx="210492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275" name="TextBox 5"/>
          <p:cNvSpPr/>
          <p:nvPr/>
        </p:nvSpPr>
        <p:spPr>
          <a:xfrm>
            <a:off x="1857240" y="47862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оло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уб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643720" y="478620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ихе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вочка из блокадного Ленингра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428640" y="1447920"/>
            <a:ext cx="54291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на жила в блокадном Ленинграде. Умирая от голода,  отдавала последние крошки хлеба другим людям, из последних сил носила песок и воду на городские чердаки, чтобы было чем тушить зажигательные бомбы.  Вела дневник, в котором рассказывала о том, как умирала от голода, холода, болезней ее семья. Последняя страничка дневника осталась недописанно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9" name="Picture 3" descr="http://im8-tub.yandex.net/i?id=21150795&amp;tov=8"/>
          <p:cNvPicPr/>
          <p:nvPr/>
        </p:nvPicPr>
        <p:blipFill>
          <a:blip r:embed="rId1"/>
          <a:stretch/>
        </p:blipFill>
        <p:spPr>
          <a:xfrm>
            <a:off x="428760" y="1428840"/>
            <a:ext cx="3112920" cy="2357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http://im3-tub.yandex.net/i?id=22706766&amp;tov=3"/>
          <p:cNvPicPr/>
          <p:nvPr/>
        </p:nvPicPr>
        <p:blipFill>
          <a:blip r:embed="rId2"/>
          <a:stretch/>
        </p:blipFill>
        <p:spPr>
          <a:xfrm>
            <a:off x="428760" y="4429080"/>
            <a:ext cx="3081240" cy="2071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1071720" y="3500280"/>
            <a:ext cx="1928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а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ави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чему 8 февраля стало Днём юного героя-антифашист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3" name="Содержимое 3" descr="http://gazeta.aif.ru/data/mags/kids/143/pics/22_01_06.jpg"/>
          <p:cNvPicPr/>
          <p:nvPr/>
        </p:nvPicPr>
        <p:blipFill>
          <a:blip r:embed="rId1"/>
          <a:stretch/>
        </p:blipFill>
        <p:spPr>
          <a:xfrm>
            <a:off x="4643280" y="1285920"/>
            <a:ext cx="1643400" cy="200016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http://gazeta.aif.ru/data/mags/kids/143/pics/22_01_07.jpg"/>
          <p:cNvPicPr/>
          <p:nvPr/>
        </p:nvPicPr>
        <p:blipFill>
          <a:blip r:embed="rId2"/>
          <a:stretch/>
        </p:blipFill>
        <p:spPr>
          <a:xfrm>
            <a:off x="642960" y="4000680"/>
            <a:ext cx="1571760" cy="20714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" descr="http://gazeta.aif.ru/data/mags/kids/143/pics/22_01_08.jpg"/>
          <p:cNvPicPr/>
          <p:nvPr/>
        </p:nvPicPr>
        <p:blipFill>
          <a:blip r:embed="rId3"/>
          <a:stretch/>
        </p:blipFill>
        <p:spPr>
          <a:xfrm>
            <a:off x="2500200" y="135720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" descr="http://gazeta.aif.ru/data/mags/kids/143/pics/22_01_09.jpg"/>
          <p:cNvPicPr/>
          <p:nvPr/>
        </p:nvPicPr>
        <p:blipFill>
          <a:blip r:embed="rId4"/>
          <a:stretch/>
        </p:blipFill>
        <p:spPr>
          <a:xfrm>
            <a:off x="2643120" y="400068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7" descr="http://gazeta.aif.ru/data/mags/kids/143/pics/22_01_11.jpg"/>
          <p:cNvPicPr/>
          <p:nvPr/>
        </p:nvPicPr>
        <p:blipFill>
          <a:blip r:embed="rId5"/>
          <a:stretch/>
        </p:blipFill>
        <p:spPr>
          <a:xfrm>
            <a:off x="285840" y="114300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8" descr="http://gazeta.aif.ru/data/mags/kids/143/pics/22_01_12.jpg"/>
          <p:cNvPicPr/>
          <p:nvPr/>
        </p:nvPicPr>
        <p:blipFill>
          <a:blip r:embed="rId6"/>
          <a:stretch/>
        </p:blipFill>
        <p:spPr>
          <a:xfrm>
            <a:off x="4714920" y="400068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9" descr="http://gazeta.aif.ru/data/mags/kids/143/pics/22_01_13.jpg"/>
          <p:cNvPicPr/>
          <p:nvPr/>
        </p:nvPicPr>
        <p:blipFill>
          <a:blip r:embed="rId7"/>
          <a:stretch/>
        </p:blipFill>
        <p:spPr>
          <a:xfrm>
            <a:off x="6858000" y="100008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0" descr="http://gazeta.aif.ru/data/mags/kids/143/pics/22_01_16.jpg"/>
          <p:cNvPicPr/>
          <p:nvPr/>
        </p:nvPicPr>
        <p:blipFill>
          <a:blip r:embed="rId8"/>
          <a:stretch/>
        </p:blipFill>
        <p:spPr>
          <a:xfrm>
            <a:off x="6786720" y="392904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3"/>
          <p:cNvSpPr/>
          <p:nvPr/>
        </p:nvSpPr>
        <p:spPr>
          <a:xfrm>
            <a:off x="214200" y="314316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ва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2357280" y="321480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Га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м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4572000" y="3214800"/>
            <a:ext cx="18572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силий Короб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6715080" y="321480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р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57120" y="600084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и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Хом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2428920" y="6000840"/>
            <a:ext cx="1857240" cy="119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Ю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4572000" y="6000840"/>
            <a:ext cx="185724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укове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6572160" y="6000840"/>
            <a:ext cx="18576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Ш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42600" y="3200040"/>
            <a:ext cx="792972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Мы рассказали лишь о немногих из тех, кто, не дожив до своего совершеннолетия, отдал жизнь в борьбе с врагом. Тысячи, десятки тысяч мальчишек и девчонок пожертвовали собой ради победы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В городе Курске работает единственный в своем роде музей, где собраны уникальные сведения о судьбах детей войны. За сорок лет сотрудникам музея удалось установить более 10 тысяч имен сынов и дочерей полков и юных партизан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Есть совершенно потрясающие человеческие истории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ечная  память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8 февраля – День юног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героя- антифашист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07172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ионеры- герои Великой Отечественной войн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7120" y="1447560"/>
            <a:ext cx="8501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гда началась война, на защиту России поднялись тысячи мальчиков и девочек, твоих ровесник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ни порой делали то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не под силу было сильным мужчин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руководило ими в ту грозную пору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яга к приключениям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тветственность за судьбу своей страны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енависть к оккупантам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верное, всё вместе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ни совершили истинный подви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 мы не можем не вспомнить имена юных патриот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9984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0" lang="ru-RU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4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 рос обыкновенным деревенским парнишкой. Когда немецкие захватчики заняли его родную деревню Лукино, что в Ленинградской области, он собрал на местах боев несколько винтовок, раздобыл у фашистов два мешка гранат, чтобы передать их партизанам. И сам остался в партизанском отряде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оевал наравне со взрослыми. В свои десять с небольшим лет он в боях с оккупантами лично уничтожил 78 немецких солдат и офицеров, подорвал 9 автомашин с боеприпасами. Он участвовал в 27 боевых операциях, взрыве 2 железнодорожных и 12 шоссейных мостов. 15 августа 1942 года юный партизан взорвал немецкую легковую машину, в которой находился важный гитлеровский генерал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Погиб весной 1943 года в неравном бою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Посмертно ему присвоено звание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Aharoni"/>
              </a:rPr>
              <a:t>Героя Советского Союз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Рисунок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285840" y="214200"/>
            <a:ext cx="2181240" cy="2810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39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286160"/>
            <a:ext cx="2338560" cy="1785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214200" y="3214800"/>
            <a:ext cx="221472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ёня Го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499840" y="214200"/>
            <a:ext cx="62866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Белорусскому школьнику было чуть больше тринадцати лет, когда он ушел к партизанам вместе со своей сестрой. Он стал разведчиком. Пробирался во вражеские гарнизоны, высматривал, где расположены немецкие посты, штабы, склады с боеприпасами. Сведения, которые он доставлял в отряд, помогали партизанам наносить врагу большие потери. Как и Голиков, взрывал мосты, пускал под откос вражеские эшелоны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В мае 1944 года, когда Советская Армия была уже совсем близко и партизаны должны были вот-вот с ней соединиться, попал в засаду. Подросток отстреливался до последнего патрона. Когда у Марата осталась одна граната, он подпустил врагов поближе и выдернул чеку…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смертно стал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ероем Советского Союз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Рисунок 3" descr="http://gazeta.aif.ru/data/mags/kids/143/pics/22_01_03.jpg"/>
          <p:cNvPicPr/>
          <p:nvPr/>
        </p:nvPicPr>
        <p:blipFill>
          <a:blip r:embed="rId1"/>
          <a:stretch/>
        </p:blipFill>
        <p:spPr>
          <a:xfrm>
            <a:off x="214200" y="214200"/>
            <a:ext cx="2162160" cy="2810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43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429080"/>
            <a:ext cx="2338560" cy="17859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14200" y="3143160"/>
            <a:ext cx="214308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ат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0200" y="214200"/>
            <a:ext cx="64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 свои 12 лет , тогда пятиклассник Шепетовской школы, стал разведчиком в партизанском отряде. Он бесстрашно пробирался в расположение вражеских войск, добывал для партизан ценные сведения о постах охраны железнодорожных станций, военных складах, дислокации вражеских подразделений. Не скрывал своей радости, когда взрослые брали его с собой на боевую операцию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 счету героя шесть взорванных эшелонов врага, множество успешных засад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Он погиб в 14 лет в неравном бою с фашистами. К тому времени Валя  уже носил на груди ордена Ленина и Отечественной войны I степени, медаль «Партизану Отечественной войны» II степени. Такие награды сделали бы честь даже командиру партизанского соединени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смертно присвоено звание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ероя Советского Союз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Рисунок 3" descr="http://gazeta.aif.ru/data/mags/kids/143/pics/22_01_05.jpg"/>
          <p:cNvPicPr/>
          <p:nvPr/>
        </p:nvPicPr>
        <p:blipFill>
          <a:blip r:embed="rId1"/>
          <a:stretch/>
        </p:blipFill>
        <p:spPr>
          <a:xfrm>
            <a:off x="214200" y="285840"/>
            <a:ext cx="2143080" cy="2809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47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4500720"/>
            <a:ext cx="2151000" cy="16430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214200" y="3214800"/>
            <a:ext cx="21430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лентин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786040" y="356760"/>
            <a:ext cx="6143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Ленинградская школьница летом 1941 года поехала на каникулы к бабушке в Белоруссию. Там ее и застала война. Спустя несколько месяцев Зина вступила в подпольную организацию «Юные патриоты». Потом стала разведчицей в партизанском отряде имени Ворошилова. Девочка отличалась бесстрашием, смекалкой и никогда не унывала. Однажды ее арестовали. Прямых улик, что она партизанка, у врагов не было. Возможно, все обошлось бы, если бы её не опознал предатель. Ее долго и жестоко пытали. </a:t>
            </a:r>
            <a:r>
              <a:rPr b="1" lang="en-US" sz="20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 одном из допросов Зина выхватила у следователя пистолет и застрелила его и еще двух охранников. Пыталась убежать, но у измученной пытками девочки не хватило сил. Ее схватили и вскоре </a:t>
            </a:r>
            <a:r>
              <a:rPr b="1" lang="ru-RU" sz="1900" spc="-1" strike="noStrike">
                <a:solidFill>
                  <a:srgbClr val="002060"/>
                </a:solidFill>
                <a:latin typeface="Cambria"/>
              </a:rPr>
              <a:t>казнили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Cambria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мертно присвоено зва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Героя Советского Союз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0" name="Рисунок 3" descr="http://gazeta.aif.ru/data/mags/kids/143/pics/22_01_04.jpg"/>
          <p:cNvPicPr/>
          <p:nvPr/>
        </p:nvPicPr>
        <p:blipFill>
          <a:blip r:embed="rId1"/>
          <a:stretch/>
        </p:blipFill>
        <p:spPr>
          <a:xfrm>
            <a:off x="214200" y="428760"/>
            <a:ext cx="241956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51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428760" y="4357800"/>
            <a:ext cx="2338200" cy="178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142920" y="3429000"/>
            <a:ext cx="27147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инаида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рт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Заголовок 1"/>
          <p:cNvGrpSpPr/>
          <p:nvPr/>
        </p:nvGrpSpPr>
        <p:grpSpPr>
          <a:xfrm>
            <a:off x="907920" y="268200"/>
            <a:ext cx="7785360" cy="1158840"/>
            <a:chOff x="907920" y="268200"/>
            <a:chExt cx="7785360" cy="1158840"/>
          </a:xfrm>
        </p:grpSpPr>
        <p:pic>
          <p:nvPicPr>
            <p:cNvPr id="2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7920" y="268200"/>
              <a:ext cx="7785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0000"/>
                  </a:solidFill>
                  <a:latin typeface="Calibri"/>
                </a:rPr>
                <a:t>Имена пионеров-героев, которым было присвоено звание Героя Советского Союза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Содержимое 3" descr="http://gazeta.aif.ru/data/mags/kids/143/pics/22_01_02.jpg"/>
          <p:cNvPicPr/>
          <p:nvPr/>
        </p:nvPicPr>
        <p:blipFill>
          <a:blip r:embed="rId2"/>
          <a:stretch/>
        </p:blipFill>
        <p:spPr>
          <a:xfrm>
            <a:off x="214200" y="1643040"/>
            <a:ext cx="2000520" cy="255600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  <p:pic>
        <p:nvPicPr>
          <p:cNvPr id="257" name="Рисунок 4" descr="http://gazeta.aif.ru/data/mags/kids/143/pics/22_01_03.jpg"/>
          <p:cNvPicPr/>
          <p:nvPr/>
        </p:nvPicPr>
        <p:blipFill>
          <a:blip r:embed="rId3"/>
          <a:stretch/>
        </p:blipFill>
        <p:spPr>
          <a:xfrm>
            <a:off x="2357280" y="2786040"/>
            <a:ext cx="2000520" cy="23814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258" name="Рисунок 5" descr="http://gazeta.aif.ru/data/mags/kids/143/pics/22_01_04.jpg"/>
          <p:cNvPicPr/>
          <p:nvPr/>
        </p:nvPicPr>
        <p:blipFill>
          <a:blip r:embed="rId4"/>
          <a:stretch/>
        </p:blipFill>
        <p:spPr>
          <a:xfrm>
            <a:off x="4714920" y="2786040"/>
            <a:ext cx="2071800" cy="235764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259" name="Рисунок 6" descr="http://gazeta.aif.ru/data/mags/kids/143/pics/22_01_05.jpg"/>
          <p:cNvPicPr/>
          <p:nvPr/>
        </p:nvPicPr>
        <p:blipFill>
          <a:blip r:embed="rId5"/>
          <a:stretch/>
        </p:blipFill>
        <p:spPr>
          <a:xfrm>
            <a:off x="6929280" y="1643040"/>
            <a:ext cx="2000520" cy="25560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sp>
        <p:nvSpPr>
          <p:cNvPr id="260" name="TextBox 7"/>
          <p:cNvSpPr/>
          <p:nvPr/>
        </p:nvSpPr>
        <p:spPr>
          <a:xfrm>
            <a:off x="214200" y="4357800"/>
            <a:ext cx="200052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ё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Го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357280" y="528624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786200" y="528624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ина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рт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6929280" y="43578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але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о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285640" y="285840"/>
            <a:ext cx="6643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Их судьбы похожи, как капли воды. Прерванная войной учеба, клятва мстить оккупантам до последнего вздоха, партизанские будни, разведывательные рейды по вражеским тылам, засады, взрывы эшелонов… Разве что смерть была разной. Кому-то выпадала прилюдная казнь, кому-то выстрел в затылок в глухом подвале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Была  партизанкой-разведчицей. Выведывала расположение вражеских батарей, считала машины, двигавшиеся по большаку в сторону фронта, запоминала, какие поезда, с каким грузом приходят на станцию Пустошка. Лару выдал предатель. Гестаповцы не делали скидок на возраст — после бесплодного допроса девочку расстреляли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Это случилось 4 ноября 1943 года. Посмертно наградили орденом Отечественной войны I степен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Рисунок 3" descr="http://gazeta.aif.ru/data/mags/kids/143/pics/22_01_15.jpg"/>
          <p:cNvPicPr/>
          <p:nvPr/>
        </p:nvPicPr>
        <p:blipFill>
          <a:blip r:embed="rId1"/>
          <a:stretch/>
        </p:blipFill>
        <p:spPr>
          <a:xfrm>
            <a:off x="214200" y="285840"/>
            <a:ext cx="2105280" cy="2809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266" name="Picture 2" descr="J:\пионерыгерои\орден отеч. войны.jpg"/>
          <p:cNvPicPr/>
          <p:nvPr/>
        </p:nvPicPr>
        <p:blipFill>
          <a:blip r:embed="rId2"/>
          <a:stretch/>
        </p:blipFill>
        <p:spPr>
          <a:xfrm>
            <a:off x="500040" y="4071960"/>
            <a:ext cx="1763640" cy="18572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285840" y="3214800"/>
            <a:ext cx="192888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ихе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7:23Z</dcterms:created>
  <dc:creator>Лера</dc:creator>
  <dc:description/>
  <dc:language>en-US</dc:language>
  <cp:lastModifiedBy>Admin</cp:lastModifiedBy>
  <dcterms:modified xsi:type="dcterms:W3CDTF">2010-04-04T11:14:22Z</dcterms:modified>
  <cp:revision>54</cp:revision>
  <dc:subject/>
  <dc:title>8 февраля – День юного героя- антифашиста</dc:title>
</cp:coreProperties>
</file>