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9EC-879C-4184-9B73-EF8E3301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0ED-AEB8-49F9-91A8-412EB9B5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953F-DCD5-4E52-BFEB-F588783F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5571-DE6C-45E1-836F-72E47597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8C1A-6EAD-4652-8EC5-BFA3D251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FD72-47CC-40F7-B855-65AAF434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3E94-B306-4FF9-8080-E72C4E81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9B08-DC78-4648-B4C7-A9748E7D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05F3-AF6F-4121-B8AB-36583614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637B-3EC9-404F-8D17-C5DE50A0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913E-E5B9-40FA-A3A7-922E6582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5920-2FE4-4C49-B6C2-A29A2BC5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FAF2-729A-43F4-9E98-F816C72B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6C06-02B0-4E34-9A42-2BFFF74D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7FCF-A81F-4125-8064-3E5F1CFF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A7DB-3192-4D8B-A730-BB036AE3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2383-2FB5-43DD-9669-DA7E479E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D0B3E-6D09-436F-BFBB-8DED6611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E53FF-4FB6-4AF2-88D6-B5C98793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E3735-4830-4A36-A5D0-C1045DCC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01C9B-FF63-4390-B132-BC811DE2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A1B62-3F52-4197-B966-FB3CAB02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5CCA-58A9-4F42-9505-9808E5F8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C5F30-0CF5-4CF6-BC24-37604F1A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CC733-5DD3-4EE1-A8B9-ACF9EE7D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6C705-B63E-45D1-9252-4EEBD8F1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90114-9BFB-4D2E-91AB-0602F4B4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397FF-A117-46CA-BA55-E942EBD5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B7EF0-8205-4517-9B01-A9DD0AC7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1C15F-0982-4147-B0EA-A297CFB6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4F54E-1D1F-4776-BEDC-53100325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B9EEF-F7B9-4393-9863-537DB577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B9951-1036-48A3-AFDF-66B2C6C4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88BE-298D-478C-B4AC-02B936A1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A7582-E82F-470F-92BA-14B9ADC9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7A977-D9E8-4424-9753-24FE0169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C8A1E-CC02-4695-83D3-7473CB09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E1B94-CFC1-4E03-A4C7-955DD5A9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522CF-C0E4-40BA-9ADD-6A608AA7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5A52B-C2A3-4555-B74B-3517F9C6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A11B7-0C3E-4300-B19D-DB943DB4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28D95-91FF-49A1-8D03-A609BFA8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2807D-0BC5-42A3-B285-591E074C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CF669-A1FD-4463-8E3A-25AA9363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AF24-FDB7-40A6-9655-5ACF2362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7DF13-6C9D-4AA9-BA8E-C881F30E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A0DE3-00D0-466F-B71E-B531D615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022F9-5BCC-49A1-AA79-092C3636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C6072-0120-4ED9-A130-EFE6D9AC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13DF7-69EF-4BFF-94E3-515D0A3F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E21B9-1AE5-470E-B6F7-9FD525B5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EDA38-1693-4F14-B372-CACB5D1F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AFA1E-50BE-404A-B96F-385ADEB7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FC8B7-2ABB-4E1B-958B-3CCC4778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3F6D0-C219-44EE-8952-7594FD06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04F9-A6A9-449E-AFB3-D40DCF98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4FA1A-3267-437C-A0A6-1E691594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A77-15E5-4D3E-9E2E-70097A7A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672D-FB2C-48E8-BC16-5815488E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58E2-38DD-4555-8CAB-A894B2E5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7089-D23E-4EB6-9ED3-05AFAADD309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A8D3-BC18-4C87-8B38-34736389B39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FD49-C30B-488E-82B2-1E2A1AEA4C2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26C7-FA2C-4B66-A9AA-5D212A85D96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0616-8714-43A2-88C8-1ED31B8DFCF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57120" y="1142640"/>
            <a:ext cx="8329680" cy="18334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Классный час, посвящённый Дню юного героя-антифашиста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2642760" y="285840"/>
            <a:ext cx="62866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О нем рассказывали легенды: как водил за нос целый отряд гитлеровцев, выслеживающих партизан в крымских каменоломнях; как проскальзывал тенью мимо усиленных постов врага; как мог запомнить с точностью до одного солдата численность сразу нескольких гитлеровских подразделений, расположенных в разных местах…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Он был любимцем партизан, их общим сыном. Но война есть война, она не щадит ни взрослых, ни детей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Юный разведчик погиб, подорвавшись на фашистской мине, когда возвращался с очередного задания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омандующий Крымским фронтом, узнав о его гибели, отдал приказ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наградить посмертно юного патриота орденом Красного Знамени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9" name="Рисунок 3" descr="http://gazeta.aif.ru/data/mags/kids/143/pics/22_01_10.jpg"/>
          <p:cNvPicPr/>
          <p:nvPr/>
        </p:nvPicPr>
        <p:blipFill>
          <a:blip r:embed="rId1"/>
          <a:stretch/>
        </p:blipFill>
        <p:spPr>
          <a:xfrm>
            <a:off x="214200" y="500040"/>
            <a:ext cx="2381400" cy="278136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270" name="Picture 2" descr="J:\пионерыгерои\орден красного знамени.png"/>
          <p:cNvPicPr/>
          <p:nvPr/>
        </p:nvPicPr>
        <p:blipFill>
          <a:blip r:embed="rId2"/>
          <a:stretch/>
        </p:blipFill>
        <p:spPr>
          <a:xfrm>
            <a:off x="785880" y="4714920"/>
            <a:ext cx="1371600" cy="15825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3429000"/>
            <a:ext cx="192852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олод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уби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0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000"/>
                            </p:stCondLst>
                            <p:childTnLst>
                              <p:par>
                                <p:cTn id="2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х жизнь и подвиг стали сюжетами для фильмов. Назовите их имена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3" name="Содержимое 3" descr="http://gazeta.aif.ru/data/mags/kids/143/pics/22_01_10.jpg"/>
          <p:cNvPicPr/>
          <p:nvPr/>
        </p:nvPicPr>
        <p:blipFill>
          <a:blip r:embed="rId1"/>
          <a:stretch/>
        </p:blipFill>
        <p:spPr>
          <a:xfrm>
            <a:off x="1571760" y="1714680"/>
            <a:ext cx="2381040" cy="27810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274" name="Рисунок 4" descr="http://gazeta.aif.ru/data/mags/kids/143/pics/22_01_15.jpg"/>
          <p:cNvPicPr/>
          <p:nvPr/>
        </p:nvPicPr>
        <p:blipFill>
          <a:blip r:embed="rId2"/>
          <a:stretch/>
        </p:blipFill>
        <p:spPr>
          <a:xfrm>
            <a:off x="5500800" y="1714680"/>
            <a:ext cx="2104920" cy="28098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sp>
        <p:nvSpPr>
          <p:cNvPr id="275" name="TextBox 5"/>
          <p:cNvSpPr/>
          <p:nvPr/>
        </p:nvSpPr>
        <p:spPr>
          <a:xfrm>
            <a:off x="1857240" y="4786200"/>
            <a:ext cx="192888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олод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уби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6"/>
          <p:cNvSpPr/>
          <p:nvPr/>
        </p:nvSpPr>
        <p:spPr>
          <a:xfrm>
            <a:off x="5643720" y="4786200"/>
            <a:ext cx="192852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Л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ихе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евочка из блокадного Ленинград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428640" y="1447920"/>
            <a:ext cx="542916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Она жила в блокадном Ленинграде. Умирая от голода,  отдавала последние крошки хлеба другим людям, из последних сил носила песок и воду на городские чердаки, чтобы было чем тушить зажигательные бомбы.  Вела дневник, в котором рассказывала о том, как умирала от голода, холода, болезней ее семья. Последняя страничка дневника осталась недописанной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9" name="Picture 3" descr="http://im8-tub.yandex.net/i?id=21150795&amp;tov=8"/>
          <p:cNvPicPr/>
          <p:nvPr/>
        </p:nvPicPr>
        <p:blipFill>
          <a:blip r:embed="rId1"/>
          <a:stretch/>
        </p:blipFill>
        <p:spPr>
          <a:xfrm>
            <a:off x="428760" y="1428840"/>
            <a:ext cx="3112920" cy="2357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http://im3-tub.yandex.net/i?id=22706766&amp;tov=3"/>
          <p:cNvPicPr/>
          <p:nvPr/>
        </p:nvPicPr>
        <p:blipFill>
          <a:blip r:embed="rId2"/>
          <a:stretch/>
        </p:blipFill>
        <p:spPr>
          <a:xfrm>
            <a:off x="428760" y="4429080"/>
            <a:ext cx="3081240" cy="2071800"/>
          </a:xfrm>
          <a:prstGeom prst="rect">
            <a:avLst/>
          </a:prstGeom>
          <a:ln w="0">
            <a:noFill/>
          </a:ln>
        </p:spPr>
      </p:pic>
      <p:sp>
        <p:nvSpPr>
          <p:cNvPr id="281" name="TextBox 5"/>
          <p:cNvSpPr/>
          <p:nvPr/>
        </p:nvSpPr>
        <p:spPr>
          <a:xfrm>
            <a:off x="1071720" y="3500280"/>
            <a:ext cx="192852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Та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Савич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очему 8 февраля стало Днём юного героя-антифашиста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3" name="Содержимое 3" descr="http://gazeta.aif.ru/data/mags/kids/143/pics/22_01_06.jpg"/>
          <p:cNvPicPr/>
          <p:nvPr/>
        </p:nvPicPr>
        <p:blipFill>
          <a:blip r:embed="rId1"/>
          <a:stretch/>
        </p:blipFill>
        <p:spPr>
          <a:xfrm>
            <a:off x="4643280" y="1285920"/>
            <a:ext cx="1643400" cy="200016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4" descr="http://gazeta.aif.ru/data/mags/kids/143/pics/22_01_07.jpg"/>
          <p:cNvPicPr/>
          <p:nvPr/>
        </p:nvPicPr>
        <p:blipFill>
          <a:blip r:embed="rId2"/>
          <a:stretch/>
        </p:blipFill>
        <p:spPr>
          <a:xfrm>
            <a:off x="642960" y="4000680"/>
            <a:ext cx="1571760" cy="207144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5" descr="http://gazeta.aif.ru/data/mags/kids/143/pics/22_01_08.jpg"/>
          <p:cNvPicPr/>
          <p:nvPr/>
        </p:nvPicPr>
        <p:blipFill>
          <a:blip r:embed="rId3"/>
          <a:stretch/>
        </p:blipFill>
        <p:spPr>
          <a:xfrm>
            <a:off x="2500200" y="1357200"/>
            <a:ext cx="1643040" cy="185760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6" descr="http://gazeta.aif.ru/data/mags/kids/143/pics/22_01_09.jpg"/>
          <p:cNvPicPr/>
          <p:nvPr/>
        </p:nvPicPr>
        <p:blipFill>
          <a:blip r:embed="rId4"/>
          <a:stretch/>
        </p:blipFill>
        <p:spPr>
          <a:xfrm>
            <a:off x="2643120" y="4000680"/>
            <a:ext cx="1428840" cy="200016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7" descr="http://gazeta.aif.ru/data/mags/kids/143/pics/22_01_11.jpg"/>
          <p:cNvPicPr/>
          <p:nvPr/>
        </p:nvPicPr>
        <p:blipFill>
          <a:blip r:embed="rId5"/>
          <a:stretch/>
        </p:blipFill>
        <p:spPr>
          <a:xfrm>
            <a:off x="285840" y="1143000"/>
            <a:ext cx="1500120" cy="192888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8" descr="http://gazeta.aif.ru/data/mags/kids/143/pics/22_01_12.jpg"/>
          <p:cNvPicPr/>
          <p:nvPr/>
        </p:nvPicPr>
        <p:blipFill>
          <a:blip r:embed="rId6"/>
          <a:stretch/>
        </p:blipFill>
        <p:spPr>
          <a:xfrm>
            <a:off x="4714920" y="4000680"/>
            <a:ext cx="1428840" cy="207144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9" descr="http://gazeta.aif.ru/data/mags/kids/143/pics/22_01_13.jpg"/>
          <p:cNvPicPr/>
          <p:nvPr/>
        </p:nvPicPr>
        <p:blipFill>
          <a:blip r:embed="rId7"/>
          <a:stretch/>
        </p:blipFill>
        <p:spPr>
          <a:xfrm>
            <a:off x="6858000" y="1000080"/>
            <a:ext cx="1500120" cy="214308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10" descr="http://gazeta.aif.ru/data/mags/kids/143/pics/22_01_16.jpg"/>
          <p:cNvPicPr/>
          <p:nvPr/>
        </p:nvPicPr>
        <p:blipFill>
          <a:blip r:embed="rId8"/>
          <a:stretch/>
        </p:blipFill>
        <p:spPr>
          <a:xfrm>
            <a:off x="6786720" y="3929040"/>
            <a:ext cx="1643040" cy="2143080"/>
          </a:xfrm>
          <a:prstGeom prst="rect">
            <a:avLst/>
          </a:prstGeom>
          <a:ln w="0">
            <a:noFill/>
          </a:ln>
        </p:spPr>
      </p:pic>
      <p:sp>
        <p:nvSpPr>
          <p:cNvPr id="291" name="TextBox 13"/>
          <p:cNvSpPr/>
          <p:nvPr/>
        </p:nvSpPr>
        <p:spPr>
          <a:xfrm>
            <a:off x="214200" y="3143160"/>
            <a:ext cx="185760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Са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овалё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4"/>
          <p:cNvSpPr/>
          <p:nvPr/>
        </p:nvSpPr>
        <p:spPr>
          <a:xfrm>
            <a:off x="2357280" y="3214800"/>
            <a:ext cx="185760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Га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омл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5"/>
          <p:cNvSpPr/>
          <p:nvPr/>
        </p:nvSpPr>
        <p:spPr>
          <a:xfrm>
            <a:off x="4572000" y="3214800"/>
            <a:ext cx="185724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асилий Короб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6"/>
          <p:cNvSpPr/>
          <p:nvPr/>
        </p:nvSpPr>
        <p:spPr>
          <a:xfrm>
            <a:off x="6715080" y="3214800"/>
            <a:ext cx="185760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ар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ро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7"/>
          <p:cNvSpPr/>
          <p:nvPr/>
        </p:nvSpPr>
        <p:spPr>
          <a:xfrm>
            <a:off x="357120" y="6000840"/>
            <a:ext cx="185760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ит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Хом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8"/>
          <p:cNvSpPr/>
          <p:nvPr/>
        </p:nvSpPr>
        <p:spPr>
          <a:xfrm>
            <a:off x="2428920" y="6000840"/>
            <a:ext cx="1857240" cy="11912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Ю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Бондар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9"/>
          <p:cNvSpPr/>
          <p:nvPr/>
        </p:nvSpPr>
        <p:spPr>
          <a:xfrm>
            <a:off x="4572000" y="6000840"/>
            <a:ext cx="185724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укове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0"/>
          <p:cNvSpPr/>
          <p:nvPr/>
        </p:nvSpPr>
        <p:spPr>
          <a:xfrm>
            <a:off x="6572160" y="6000840"/>
            <a:ext cx="185760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Ш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об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6000"/>
                            </p:stCondLst>
                            <p:childTnLst>
                              <p:par>
                                <p:cTn id="3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8000"/>
                            </p:stCondLst>
                            <p:childTnLst>
                              <p:par>
                                <p:cTn id="3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42600" y="3200040"/>
            <a:ext cx="7929720" cy="34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Cambria"/>
              </a:rPr>
              <a:t>Мы рассказали лишь о немногих из тех, кто, не дожив до своего совершеннолетия, отдал жизнь в борьбе с врагом. Тысячи, десятки тысяч мальчишек и девчонок пожертвовали собой ради победы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Cambria"/>
              </a:rPr>
              <a:t>В городе Курске работает единственный в своем роде музей, где собраны уникальные сведения о судьбах детей войны. За сорок лет сотрудникам музея удалось установить более 10 тысяч имен сынов и дочерей полков и юных партизан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mbria"/>
              </a:rPr>
              <a:t>Есть совершенно потрясающие человеческие истории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ечная  память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6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8 февраля – День юного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героя- антифашист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1071720" y="6429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ионеры- герои Великой Отечественной войны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57120" y="1447560"/>
            <a:ext cx="850104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огда началась война, на защиту России поднялись тысячи мальчиков и девочек, твоих ровесников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ни порой делали то,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что не под силу было сильным мужчинам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Что руководило ими в ту грозную пору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Тяга к приключениям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тветственность за судьбу своей страны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Ненависть к оккупантам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Наверное, всё вместе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ни совершили истинный подви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И мы не можем не вспомнить имена юных патриотов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499840" y="214200"/>
            <a:ext cx="63579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0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0" lang="ru-RU" sz="1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en-US" sz="14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Он рос обыкновенным деревенским парнишкой. Когда немецкие захватчики заняли его родную деревню Лукино, что в Ленинградской области, он собрал на местах боев несколько винтовок, раздобыл у фашистов два мешка гранат, чтобы передать их партизанам. И сам остался в партизанском отряде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1" lang="en-US" sz="20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Воевал наравне со взрослыми. В свои десять с небольшим лет он в боях с оккупантами лично уничтожил 78 немецких солдат и офицеров, подорвал 9 автомашин с боеприпасами. Он участвовал в 27 боевых операциях, взрыве 2 железнодорожных и 12 шоссейных мостов. 15 августа 1942 года юный партизан взорвал немецкую легковую машину, в которой находился важный гитлеровский генерал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Aharoni"/>
              </a:rPr>
              <a:t>Погиб весной 1943 года в неравном бою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Aharon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Aharoni"/>
              </a:rPr>
              <a:t>Посмертно ему присвоено звание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Aharoni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Aharoni"/>
              </a:rPr>
              <a:t>Героя Советского Союза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8" name="Рисунок 3" descr="http://gazeta.aif.ru/data/mags/kids/143/pics/22_01_02.jpg"/>
          <p:cNvPicPr/>
          <p:nvPr/>
        </p:nvPicPr>
        <p:blipFill>
          <a:blip r:embed="rId1"/>
          <a:stretch/>
        </p:blipFill>
        <p:spPr>
          <a:xfrm>
            <a:off x="285840" y="214200"/>
            <a:ext cx="2181240" cy="281016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239" name="Picture 2" descr="J:\пионерыгерои\герой ссср.jpg"/>
          <p:cNvPicPr/>
          <p:nvPr/>
        </p:nvPicPr>
        <p:blipFill>
          <a:blip r:embed="rId2"/>
          <a:stretch/>
        </p:blipFill>
        <p:spPr>
          <a:xfrm>
            <a:off x="214200" y="4286160"/>
            <a:ext cx="2338560" cy="1785960"/>
          </a:xfrm>
          <a:prstGeom prst="rect">
            <a:avLst/>
          </a:prstGeom>
          <a:ln w="0">
            <a:noFill/>
          </a:ln>
        </p:spPr>
      </p:pic>
      <p:sp>
        <p:nvSpPr>
          <p:cNvPr id="240" name="TextBox 5"/>
          <p:cNvSpPr/>
          <p:nvPr/>
        </p:nvSpPr>
        <p:spPr>
          <a:xfrm>
            <a:off x="214200" y="3214800"/>
            <a:ext cx="2214720" cy="36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Лёня Гол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5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2499840" y="214200"/>
            <a:ext cx="62866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Perpetua"/>
              </a:rPr>
              <a:t>    </a:t>
            </a:r>
            <a:r>
              <a:rPr b="1" lang="en-US" sz="20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Cambria"/>
              </a:rPr>
              <a:t>Белорусскому школьнику было чуть больше тринадцати лет, когда он ушел к партизанам вместе со своей сестрой. Он стал разведчиком. Пробирался во вражеские гарнизоны, высматривал, где расположены немецкие посты, штабы, склады с боеприпасами. Сведения, которые он доставлял в отряд, помогали партизанам наносить врагу большие потери. Как и Голиков, взрывал мосты, пускал под откос вражеские эшелоны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Cambria"/>
              </a:rPr>
              <a:t>В мае 1944 года, когда Советская Армия была уже совсем близко и партизаны должны были вот-вот с ней соединиться, попал в засаду. Подросток отстреливался до последнего патрона. Когда у Марата осталась одна граната, он подпустил врагов поближе и выдернул чеку…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Посмертно стал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Героем Советского Союза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2" name="Рисунок 3" descr="http://gazeta.aif.ru/data/mags/kids/143/pics/22_01_03.jpg"/>
          <p:cNvPicPr/>
          <p:nvPr/>
        </p:nvPicPr>
        <p:blipFill>
          <a:blip r:embed="rId1"/>
          <a:stretch/>
        </p:blipFill>
        <p:spPr>
          <a:xfrm>
            <a:off x="214200" y="214200"/>
            <a:ext cx="2162160" cy="281016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243" name="Picture 2" descr="J:\пионерыгерои\герой ссср.jpg"/>
          <p:cNvPicPr/>
          <p:nvPr/>
        </p:nvPicPr>
        <p:blipFill>
          <a:blip r:embed="rId2"/>
          <a:stretch/>
        </p:blipFill>
        <p:spPr>
          <a:xfrm>
            <a:off x="214200" y="4429080"/>
            <a:ext cx="2338560" cy="1785960"/>
          </a:xfrm>
          <a:prstGeom prst="rect">
            <a:avLst/>
          </a:prstGeom>
          <a:ln w="0">
            <a:noFill/>
          </a:ln>
        </p:spPr>
      </p:pic>
      <p:sp>
        <p:nvSpPr>
          <p:cNvPr id="244" name="TextBox 5"/>
          <p:cNvSpPr/>
          <p:nvPr/>
        </p:nvSpPr>
        <p:spPr>
          <a:xfrm>
            <a:off x="214200" y="3143160"/>
            <a:ext cx="2143080" cy="36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арат</a:t>
            </a: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аз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500200" y="214200"/>
            <a:ext cx="64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В свои 12 лет , тогда пятиклассник Шепетовской школы, стал разведчиком в партизанском отряде. Он бесстрашно пробирался в расположение вражеских войск, добывал для партизан ценные сведения о постах охраны железнодорожных станций, военных складах, дислокации вражеских подразделений. Не скрывал своей радости, когда взрослые брали его с собой на боевую операцию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1" lang="en-US" sz="20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На счету героя шесть взорванных эшелонов врага, множество успешных засад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Он погиб в 14 лет в неравном бою с фашистами. К тому времени Валя  уже носил на груди ордена Ленина и Отечественной войны I степени, медаль «Партизану Отечественной войны» II степени. Такие награды сделали бы честь даже командиру партизанского соединения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Посмертно присвоено звание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       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Героя Советского Союза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6" name="Рисунок 3" descr="http://gazeta.aif.ru/data/mags/kids/143/pics/22_01_05.jpg"/>
          <p:cNvPicPr/>
          <p:nvPr/>
        </p:nvPicPr>
        <p:blipFill>
          <a:blip r:embed="rId1"/>
          <a:stretch/>
        </p:blipFill>
        <p:spPr>
          <a:xfrm>
            <a:off x="214200" y="285840"/>
            <a:ext cx="2143080" cy="280980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247" name="Picture 2" descr="J:\пионерыгерои\герой ссср.jpg"/>
          <p:cNvPicPr/>
          <p:nvPr/>
        </p:nvPicPr>
        <p:blipFill>
          <a:blip r:embed="rId2"/>
          <a:stretch/>
        </p:blipFill>
        <p:spPr>
          <a:xfrm>
            <a:off x="214200" y="4500720"/>
            <a:ext cx="2151000" cy="1643040"/>
          </a:xfrm>
          <a:prstGeom prst="rect">
            <a:avLst/>
          </a:prstGeom>
          <a:ln w="0">
            <a:noFill/>
          </a:ln>
        </p:spPr>
      </p:pic>
      <p:sp>
        <p:nvSpPr>
          <p:cNvPr id="248" name="TextBox 5"/>
          <p:cNvSpPr/>
          <p:nvPr/>
        </p:nvSpPr>
        <p:spPr>
          <a:xfrm>
            <a:off x="214200" y="3214800"/>
            <a:ext cx="214308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алентин</a:t>
            </a: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о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2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786040" y="356760"/>
            <a:ext cx="61437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Ленинградская школьница летом 1941 года поехала на каникулы к бабушке в Белоруссию. Там ее и застала война. Спустя несколько месяцев Зина вступила в подпольную организацию «Юные патриоты». Потом стала разведчицей в партизанском отряде имени Ворошилова. Девочка отличалась бесстрашием, смекалкой и никогда не унывала. Однажды ее арестовали. Прямых улик, что она партизанка, у врагов не было. Возможно, все обошлось бы, если бы её не опознал предатель. Ее долго и жестоко пытали. </a:t>
            </a:r>
            <a:r>
              <a:rPr b="1" lang="en-US" sz="20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На одном из допросов Зина выхватила у следователя пистолет и застрелила его и еще двух охранников. Пыталась убежать, но у измученной пытками девочки не хватило сил. Ее схватили и вскоре </a:t>
            </a:r>
            <a:r>
              <a:rPr b="1" lang="ru-RU" sz="1900" spc="-1" strike="noStrike">
                <a:solidFill>
                  <a:srgbClr val="002060"/>
                </a:solidFill>
                <a:latin typeface="Cambria"/>
              </a:rPr>
              <a:t>казнили. 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Cambria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смертно присвоено звани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Героя Советского Союза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0" name="Рисунок 3" descr="http://gazeta.aif.ru/data/mags/kids/143/pics/22_01_04.jpg"/>
          <p:cNvPicPr/>
          <p:nvPr/>
        </p:nvPicPr>
        <p:blipFill>
          <a:blip r:embed="rId1"/>
          <a:stretch/>
        </p:blipFill>
        <p:spPr>
          <a:xfrm>
            <a:off x="214200" y="428760"/>
            <a:ext cx="2419560" cy="28098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251" name="Picture 2" descr="J:\пионерыгерои\герой ссср.jpg"/>
          <p:cNvPicPr/>
          <p:nvPr/>
        </p:nvPicPr>
        <p:blipFill>
          <a:blip r:embed="rId2"/>
          <a:stretch/>
        </p:blipFill>
        <p:spPr>
          <a:xfrm>
            <a:off x="428760" y="4357800"/>
            <a:ext cx="2338200" cy="17859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142920" y="3429000"/>
            <a:ext cx="2714760" cy="36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Зинаида</a:t>
            </a: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орт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800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Заголовок 1"/>
          <p:cNvGrpSpPr/>
          <p:nvPr/>
        </p:nvGrpSpPr>
        <p:grpSpPr>
          <a:xfrm>
            <a:off x="907920" y="268200"/>
            <a:ext cx="7785360" cy="1158840"/>
            <a:chOff x="907920" y="268200"/>
            <a:chExt cx="7785360" cy="1158840"/>
          </a:xfrm>
        </p:grpSpPr>
        <p:pic>
          <p:nvPicPr>
            <p:cNvPr id="25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907920" y="268200"/>
              <a:ext cx="77853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914400" y="2746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0000"/>
                  </a:solidFill>
                  <a:latin typeface="Calibri"/>
                </a:rPr>
                <a:t>Имена пионеров-героев, которым было присвоено звание Героя Советского Союза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" name="Содержимое 3" descr="http://gazeta.aif.ru/data/mags/kids/143/pics/22_01_02.jpg"/>
          <p:cNvPicPr/>
          <p:nvPr/>
        </p:nvPicPr>
        <p:blipFill>
          <a:blip r:embed="rId2"/>
          <a:stretch/>
        </p:blipFill>
        <p:spPr>
          <a:xfrm>
            <a:off x="214200" y="1643040"/>
            <a:ext cx="2000520" cy="2556000"/>
          </a:xfrm>
          <a:prstGeom prst="rect">
            <a:avLst/>
          </a:prstGeom>
          <a:ln w="12600">
            <a:solidFill>
              <a:srgbClr val="c00000"/>
            </a:solidFill>
            <a:miter/>
          </a:ln>
        </p:spPr>
      </p:pic>
      <p:pic>
        <p:nvPicPr>
          <p:cNvPr id="257" name="Рисунок 4" descr="http://gazeta.aif.ru/data/mags/kids/143/pics/22_01_03.jpg"/>
          <p:cNvPicPr/>
          <p:nvPr/>
        </p:nvPicPr>
        <p:blipFill>
          <a:blip r:embed="rId3"/>
          <a:stretch/>
        </p:blipFill>
        <p:spPr>
          <a:xfrm>
            <a:off x="2357280" y="2786040"/>
            <a:ext cx="2000520" cy="238140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  <p:pic>
        <p:nvPicPr>
          <p:cNvPr id="258" name="Рисунок 5" descr="http://gazeta.aif.ru/data/mags/kids/143/pics/22_01_04.jpg"/>
          <p:cNvPicPr/>
          <p:nvPr/>
        </p:nvPicPr>
        <p:blipFill>
          <a:blip r:embed="rId4"/>
          <a:stretch/>
        </p:blipFill>
        <p:spPr>
          <a:xfrm>
            <a:off x="4714920" y="2786040"/>
            <a:ext cx="2071800" cy="235764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  <p:pic>
        <p:nvPicPr>
          <p:cNvPr id="259" name="Рисунок 6" descr="http://gazeta.aif.ru/data/mags/kids/143/pics/22_01_05.jpg"/>
          <p:cNvPicPr/>
          <p:nvPr/>
        </p:nvPicPr>
        <p:blipFill>
          <a:blip r:embed="rId5"/>
          <a:stretch/>
        </p:blipFill>
        <p:spPr>
          <a:xfrm>
            <a:off x="6929280" y="1643040"/>
            <a:ext cx="2000520" cy="255600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  <p:sp>
        <p:nvSpPr>
          <p:cNvPr id="260" name="TextBox 7"/>
          <p:cNvSpPr/>
          <p:nvPr/>
        </p:nvSpPr>
        <p:spPr>
          <a:xfrm>
            <a:off x="214200" y="4357800"/>
            <a:ext cx="200052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Лё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Гол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2357280" y="5286240"/>
            <a:ext cx="192888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ар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аз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4786200" y="5286240"/>
            <a:ext cx="192888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Зина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орт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6929280" y="4357800"/>
            <a:ext cx="192888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ален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о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2285640" y="285840"/>
            <a:ext cx="66438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Их судьбы похожи, как капли воды. Прерванная войной учеба, клятва мстить оккупантам до последнего вздоха, партизанские будни, разведывательные рейды по вражеским тылам, засады, взрывы эшелонов… Разве что смерть была разной. Кому-то выпадала прилюдная казнь, кому-то выстрел в затылок в глухом подвале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Была  партизанкой-разведчицей. Выведывала расположение вражеских батарей, считала машины, двигавшиеся по большаку в сторону фронта, запоминала, какие поезда, с каким грузом приходят на станцию Пустошка. Лару выдал предатель. Гестаповцы не делали скидок на возраст — после бесплодного допроса девочку расстреляли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Это случилось 4 ноября 1943 года. Посмертно наградили орденом Отечественной войны I степени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5" name="Рисунок 3" descr="http://gazeta.aif.ru/data/mags/kids/143/pics/22_01_15.jpg"/>
          <p:cNvPicPr/>
          <p:nvPr/>
        </p:nvPicPr>
        <p:blipFill>
          <a:blip r:embed="rId1"/>
          <a:stretch/>
        </p:blipFill>
        <p:spPr>
          <a:xfrm>
            <a:off x="214200" y="285840"/>
            <a:ext cx="2105280" cy="28098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266" name="Picture 2" descr="J:\пионерыгерои\орден отеч. войны.jpg"/>
          <p:cNvPicPr/>
          <p:nvPr/>
        </p:nvPicPr>
        <p:blipFill>
          <a:blip r:embed="rId2"/>
          <a:stretch/>
        </p:blipFill>
        <p:spPr>
          <a:xfrm>
            <a:off x="500040" y="4071960"/>
            <a:ext cx="1763640" cy="18572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5"/>
          <p:cNvSpPr/>
          <p:nvPr/>
        </p:nvSpPr>
        <p:spPr>
          <a:xfrm>
            <a:off x="285840" y="3214800"/>
            <a:ext cx="192888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Л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ихе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8:37:23Z</dcterms:created>
  <dc:creator>Лера</dc:creator>
  <dc:description/>
  <dc:language>en-US</dc:language>
  <cp:lastModifiedBy>Admin</cp:lastModifiedBy>
  <dcterms:modified xsi:type="dcterms:W3CDTF">2010-04-04T11:14:22Z</dcterms:modified>
  <cp:revision>54</cp:revision>
  <dc:subject/>
  <dc:title>8 февраля – День юного героя- антифашиста</dc:title>
</cp:coreProperties>
</file>