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E5E-3D91-435D-A17A-0F1B93D9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948-D8CE-4B0C-AC2D-BBD39136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D36-7F85-4637-B6CD-2B5E3074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057-820C-47FA-A195-26F8C06D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1EBC-F179-4BF4-81C8-98DAB11C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8E7B-C0C1-48FA-A056-07B27B43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E407-A405-4B2B-8FF1-46FC1CB1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79B4-3C6D-4A11-9C6A-87CEF3D3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51A6-6520-4E41-A1ED-E9CB0E4E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B2E8-1BD9-434F-A6DD-A1CD933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FD24-794D-4FF0-B850-F8B734EC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F69-410B-4CA7-A0E8-5D5209AC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6221-CED2-49B6-9DC0-986FD802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D720-861D-4F25-9172-630E2AE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3F6E-5535-4338-BAAD-E7916E6A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FC6E-169B-4BD3-AA9E-68E499A3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EBEA-D65D-4493-BCEA-C62BAAEF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8FF-2889-46CE-A47D-A55C4F88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77D-1595-4D9D-8737-4EEBEB7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525-27F0-43C8-B474-96FF684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D45-678B-45EF-8E89-BDD683D2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6F2-4767-483B-B4C8-474C05E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ABE-39AC-40F0-9B1E-F78845B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2FD-E453-4772-9171-3B6CF0A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95E4-17C4-4514-AED8-C803EB05CC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5486-4978-4EC3-83B3-5672B1C86F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92;&#1080;&#1083;&#1080;&#1085;.wav" TargetMode="External"/><Relationship Id="rId2" Type="http://schemas.microsoft.com/office/2007/relationships/media" Target="file:///tmp/home/.config/libreoffice/4/user/gallery/&#1092;&#1080;&#1083;&#1080;&#1085;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ерегите лес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Содержимое 3" descr="1074.jpg"/>
          <p:cNvPicPr/>
          <p:nvPr/>
        </p:nvPicPr>
        <p:blipFill>
          <a:blip r:embed="rId1"/>
          <a:stretch/>
        </p:blipFill>
        <p:spPr>
          <a:xfrm>
            <a:off x="990720" y="1371600"/>
            <a:ext cx="73152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Лес – это наше богатство!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Содержимое 3" descr="f_29489.jpg"/>
          <p:cNvPicPr/>
          <p:nvPr/>
        </p:nvPicPr>
        <p:blipFill>
          <a:blip r:embed="rId1"/>
          <a:stretch/>
        </p:blipFill>
        <p:spPr>
          <a:xfrm>
            <a:off x="457200" y="685800"/>
            <a:ext cx="8236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ес – это дом для всех    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лесных жител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4" descr="Dog&amp;Wolf13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2209680"/>
            <a:ext cx="4038480" cy="2824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Рисунок4"/>
          <p:cNvPicPr/>
          <p:nvPr/>
        </p:nvPicPr>
        <p:blipFill>
          <a:blip r:embed="rId2"/>
          <a:stretch/>
        </p:blipFill>
        <p:spPr>
          <a:xfrm>
            <a:off x="5029200" y="2209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10080" y="5029200"/>
            <a:ext cx="31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0560" y="510552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о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Рисунок2"/>
          <p:cNvPicPr/>
          <p:nvPr/>
        </p:nvPicPr>
        <p:blipFill>
          <a:blip r:embed="rId4"/>
          <a:stretch/>
        </p:blipFill>
        <p:spPr>
          <a:xfrm>
            <a:off x="304920" y="380880"/>
            <a:ext cx="4114800" cy="358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Рисунок2"/>
          <p:cNvPicPr/>
          <p:nvPr/>
        </p:nvPicPr>
        <p:blipFill>
          <a:blip r:embed="rId5"/>
          <a:stretch/>
        </p:blipFill>
        <p:spPr>
          <a:xfrm>
            <a:off x="4413240" y="3124080"/>
            <a:ext cx="4730760" cy="3587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239960" y="2422440"/>
            <a:ext cx="187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ле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4600" y="3718080"/>
            <a:ext cx="148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с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6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798089_dddddddddddddddd.jpg"/>
          <p:cNvPicPr/>
          <p:nvPr/>
        </p:nvPicPr>
        <p:blipFill>
          <a:blip r:embed="rId1"/>
          <a:stretch/>
        </p:blipFill>
        <p:spPr>
          <a:xfrm>
            <a:off x="609480" y="304920"/>
            <a:ext cx="7950240" cy="5962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ес – бережет реки. 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Лес – это кладовая орехов, ягод, грибов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4" descr="Рисунок18"/>
          <p:cNvPicPr/>
          <p:nvPr/>
        </p:nvPicPr>
        <p:blipFill>
          <a:blip r:embed="rId1"/>
          <a:stretch/>
        </p:blipFill>
        <p:spPr>
          <a:xfrm>
            <a:off x="4724280" y="3639960"/>
            <a:ext cx="4267440" cy="321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Рисунок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1219320"/>
            <a:ext cx="45720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вила поведения в лесу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829160"/>
            <a:ext cx="7809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оставлять мусор в лесу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 ломать ветки и дерев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 разорять птичьи гнезда и муравейник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 разжигать костры, беречь лес от пож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4:30:09Z</dcterms:created>
  <dc:creator>ирина</dc:creator>
  <dc:description/>
  <dc:language>en-US</dc:language>
  <cp:lastModifiedBy>ирина</cp:lastModifiedBy>
  <dcterms:modified xsi:type="dcterms:W3CDTF">2013-04-07T11:16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