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9A4-4117-4714-9465-9322D074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2A2-26B7-4104-B869-2625667A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6B1-17C1-44D4-9023-40EC03BB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8B0-6185-4876-836E-1BCA9AD3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0181-5985-455C-A671-C704FDEB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82ED-F658-40A9-A51B-85C5B6BB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69BC-FCE4-49E4-AF0D-779A2B11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C564-3558-44C6-87C9-5B8FDF13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5F50-33DD-4868-9197-0D88682A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3445-A70D-43AB-8199-2EDD341D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CC18-5F32-44A9-8459-F3271030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C43-508B-4AC2-9984-1F04F49A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1E89-651A-4996-A041-A368EAC3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5CB0-932F-40FE-BFE6-CB4B9CCB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A34F-9556-4B42-9827-F135B2C8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21C5-D727-477B-9BC2-6334CB73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06A3-E557-488E-B2AC-28B3B8DC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F76-1393-4FA4-A52E-F432BD99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332-26F1-4E6D-9E2F-D071058B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D84-1AAD-4ECD-BB41-C3EB73FB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E0A-28A4-4536-BCAA-BA7C1818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B0B-FC57-4C82-8082-69DB2102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166-EC71-44A7-AF2E-DECB48C8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F27-4946-4049-A7F2-28250366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A403-A7BD-474F-9362-D9565E3F3F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B06A-7A78-4AD2-80D4-9F50C67EF4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92;&#1080;&#1083;&#1080;&#1085;.wav" TargetMode="External"/><Relationship Id="rId2" Type="http://schemas.microsoft.com/office/2007/relationships/media" Target="file:///tmp/home/.config/libreoffice/4/user/gallery/&#1092;&#1080;&#1083;&#1080;&#1085;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ерегите лес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Содержимое 3" descr="1074.jpg"/>
          <p:cNvPicPr/>
          <p:nvPr/>
        </p:nvPicPr>
        <p:blipFill>
          <a:blip r:embed="rId1"/>
          <a:stretch/>
        </p:blipFill>
        <p:spPr>
          <a:xfrm>
            <a:off x="990720" y="1371600"/>
            <a:ext cx="73152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Лес – это наше богатство!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Содержимое 3" descr="f_29489.jpg"/>
          <p:cNvPicPr/>
          <p:nvPr/>
        </p:nvPicPr>
        <p:blipFill>
          <a:blip r:embed="rId1"/>
          <a:stretch/>
        </p:blipFill>
        <p:spPr>
          <a:xfrm>
            <a:off x="457200" y="685800"/>
            <a:ext cx="82360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ес – это дом для всех     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лесных жител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4" descr="Dog&amp;Wolf13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2209680"/>
            <a:ext cx="4038480" cy="2824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Рисунок4"/>
          <p:cNvPicPr/>
          <p:nvPr/>
        </p:nvPicPr>
        <p:blipFill>
          <a:blip r:embed="rId2"/>
          <a:stretch/>
        </p:blipFill>
        <p:spPr>
          <a:xfrm>
            <a:off x="5029200" y="22096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410080" y="5029200"/>
            <a:ext cx="31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бе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0560" y="5105520"/>
            <a:ext cx="114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л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сов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Рисунок2"/>
          <p:cNvPicPr/>
          <p:nvPr/>
        </p:nvPicPr>
        <p:blipFill>
          <a:blip r:embed="rId4"/>
          <a:stretch/>
        </p:blipFill>
        <p:spPr>
          <a:xfrm>
            <a:off x="304920" y="380880"/>
            <a:ext cx="4114800" cy="358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Рисунок2"/>
          <p:cNvPicPr/>
          <p:nvPr/>
        </p:nvPicPr>
        <p:blipFill>
          <a:blip r:embed="rId5"/>
          <a:stretch/>
        </p:blipFill>
        <p:spPr>
          <a:xfrm>
            <a:off x="4413240" y="3124080"/>
            <a:ext cx="4730760" cy="3587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239960" y="2422440"/>
            <a:ext cx="187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ле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4600" y="3718080"/>
            <a:ext cx="148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с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6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7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3" descr="798089_dddddddddddddddd.jpg"/>
          <p:cNvPicPr/>
          <p:nvPr/>
        </p:nvPicPr>
        <p:blipFill>
          <a:blip r:embed="rId1"/>
          <a:stretch/>
        </p:blipFill>
        <p:spPr>
          <a:xfrm>
            <a:off x="609480" y="304920"/>
            <a:ext cx="7950240" cy="59626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ес – бережет реки. 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Лес – это кладовая орехов, ягод, грибов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4" descr="Рисунок18"/>
          <p:cNvPicPr/>
          <p:nvPr/>
        </p:nvPicPr>
        <p:blipFill>
          <a:blip r:embed="rId1"/>
          <a:stretch/>
        </p:blipFill>
        <p:spPr>
          <a:xfrm>
            <a:off x="4724280" y="3639960"/>
            <a:ext cx="4267440" cy="3218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Рисунок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52280" y="1219320"/>
            <a:ext cx="45720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авила поведения в лесу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829160"/>
            <a:ext cx="7809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оставлять мусор в лесу.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е ломать ветки и дерев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е разорять птичьи гнезда и муравейник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е разжигать костры, беречь лес от пожа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14:30:09Z</dcterms:created>
  <dc:creator>ирина</dc:creator>
  <dc:description/>
  <dc:language>en-US</dc:language>
  <cp:lastModifiedBy>ирина</cp:lastModifiedBy>
  <dcterms:modified xsi:type="dcterms:W3CDTF">2013-04-07T11:16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