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7B7-A3C7-4296-A2B1-BB00A62A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162-1500-4042-8651-26A2934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C4B-3231-4456-9B2D-5C4ABF1C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A41-EA64-415F-B178-CDB76378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209-1AE7-4CED-BA9E-53E7955C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3CF-4EFF-449C-8A29-A3A72DB9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9E6-A09D-4CCD-AF5A-B3AB53E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DC92-3252-4889-819D-CE20CCF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380-C79B-42AD-BE51-E7DC0928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94A-DD39-4005-BA52-FEF007B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0EE8-B0D8-4F4A-B9E4-4E51913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379-0729-4EFA-A878-A7186F46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C3EF-F434-4760-8B95-2D68E27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3B6C-0930-417F-BF8C-B6343C7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610-5F7B-4B63-BD7F-53FFDD10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1FC-210A-472F-864A-47EA312E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9F5D-A09C-4CBB-B053-5F3E9073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1AB-DAC1-4C33-90D8-44D3D71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AAB-0CFF-4DBF-8829-058CF9A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725-6A02-4FF8-B289-4477398A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7B2-7A13-4EF1-96BD-87F6D84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BED-E4BE-4BE8-B4C2-76B94DF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496-10D4-4D54-B6DB-919F1B1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55C-8ED3-481D-B5C9-BCDA6F1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816-C265-41B3-BA87-405A5AC1C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3DB4-B056-42DB-80C1-840445F3E4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763120" cy="63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66"/>
                </a:solidFill>
                <a:latin typeface="Arial Black"/>
              </a:rPr>
              <a:t>Клуб Весёлых Математиков</a:t>
            </a:r>
            <a:br>
              <a:rPr sz="8000"/>
            </a:br>
            <a:r>
              <a:rPr b="1" i="1" lang="ru-RU" sz="8000" spc="-1" strike="noStrike">
                <a:solidFill>
                  <a:srgbClr val="003399"/>
                </a:solidFill>
                <a:latin typeface="Arial"/>
              </a:rPr>
              <a:t>«Смекай, считай, отгадывай»</a:t>
            </a:r>
            <a:br>
              <a:rPr sz="70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2_md_wht"/>
          <p:cNvPicPr/>
          <p:nvPr/>
        </p:nvPicPr>
        <p:blipFill>
          <a:blip r:embed="rId1"/>
          <a:stretch/>
        </p:blipFill>
        <p:spPr>
          <a:xfrm>
            <a:off x="7848720" y="5105520"/>
            <a:ext cx="1033200" cy="140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9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3399"/>
                </a:solidFill>
                <a:latin typeface="Monotype Corsiva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GA395"/>
          <p:cNvPicPr/>
          <p:nvPr/>
        </p:nvPicPr>
        <p:blipFill>
          <a:blip r:embed="rId1"/>
          <a:stretch/>
        </p:blipFill>
        <p:spPr>
          <a:xfrm>
            <a:off x="6858000" y="380880"/>
            <a:ext cx="2133720" cy="209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GB195"/>
          <p:cNvPicPr/>
          <p:nvPr/>
        </p:nvPicPr>
        <p:blipFill>
          <a:blip r:embed="rId2"/>
          <a:stretch/>
        </p:blipFill>
        <p:spPr>
          <a:xfrm>
            <a:off x="4572000" y="533520"/>
            <a:ext cx="2057400" cy="20556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9"/>
          <p:cNvSpPr txBox="1"/>
          <p:nvPr/>
        </p:nvSpPr>
        <p:spPr>
          <a:xfrm>
            <a:off x="685800" y="35812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0 л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04920" y="3200400"/>
            <a:ext cx="83055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2л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304920" y="304920"/>
            <a:ext cx="8839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0рона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80880" y="3048120"/>
            <a:ext cx="85345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3на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2280" y="-304920"/>
            <a:ext cx="853452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3ж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ят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Капитанов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362320" y="2590920"/>
            <a:ext cx="44956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4191120" y="25909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6248520" y="25909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6248520" y="57150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362320" y="4038480"/>
            <a:ext cx="609480" cy="60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2362320" y="57150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Шест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«Смекалистых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An00790_"/>
          <p:cNvPicPr/>
          <p:nvPr/>
        </p:nvPicPr>
        <p:blipFill>
          <a:blip r:embed="rId1"/>
          <a:stretch/>
        </p:blipFill>
        <p:spPr>
          <a:xfrm>
            <a:off x="3124080" y="2743200"/>
            <a:ext cx="365292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4" descr="b1"/>
          <p:cNvPicPr/>
          <p:nvPr/>
        </p:nvPicPr>
        <p:blipFill>
          <a:blip r:embed="rId1"/>
          <a:stretch/>
        </p:blipFill>
        <p:spPr>
          <a:xfrm>
            <a:off x="762120" y="1447920"/>
            <a:ext cx="3614760" cy="513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1m3"/>
          <p:cNvPicPr/>
          <p:nvPr/>
        </p:nvPicPr>
        <p:blipFill>
          <a:blip r:embed="rId2"/>
          <a:stretch/>
        </p:blipFill>
        <p:spPr>
          <a:xfrm>
            <a:off x="5486400" y="2971800"/>
            <a:ext cx="3200400" cy="274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2 класс «А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команда «КРУГ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Arial"/>
              </a:rPr>
              <a:t>2 класс «Б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Arial"/>
              </a:rPr>
              <a:t>команда «КВАДРА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2 класс «В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оманда «ДВАЖДЫ ДВ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f1"/>
          <p:cNvPicPr/>
          <p:nvPr/>
        </p:nvPicPr>
        <p:blipFill>
          <a:blip r:embed="rId1"/>
          <a:stretch/>
        </p:blipFill>
        <p:spPr>
          <a:xfrm>
            <a:off x="30492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if2"/>
          <p:cNvPicPr/>
          <p:nvPr/>
        </p:nvPicPr>
        <p:blipFill>
          <a:blip r:embed="rId2"/>
          <a:stretch/>
        </p:blipFill>
        <p:spPr>
          <a:xfrm>
            <a:off x="304920" y="2133720"/>
            <a:ext cx="97452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if3"/>
          <p:cNvPicPr/>
          <p:nvPr/>
        </p:nvPicPr>
        <p:blipFill>
          <a:blip r:embed="rId3"/>
          <a:stretch/>
        </p:blipFill>
        <p:spPr>
          <a:xfrm>
            <a:off x="228600" y="42670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ерв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«Разминк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Monotype Corsiva"/>
              </a:rPr>
              <a:t>«Весёлые» задачи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070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Втор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Счётная маши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3520" y="262188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83 – 17 = 21</a:t>
            </a:r>
            <a:r>
              <a:rPr b="0" lang="ru-RU" sz="1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38080" y="4448880"/>
            <a:ext cx="7925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99 – 81 = 81</a:t>
            </a:r>
            <a:r>
              <a:rPr b="0" lang="ru-RU" sz="1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Втор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9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Счётная маши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762120" y="2362320"/>
            <a:ext cx="1089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38 – 17 = 21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57200" y="464832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99 – 18 = 81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Трети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Раз! Два! Три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аз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ч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по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ска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рняжк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1H"/>
          <p:cNvPicPr/>
          <p:nvPr/>
        </p:nvPicPr>
        <p:blipFill>
          <a:blip r:embed="rId1"/>
          <a:stretch/>
        </p:blipFill>
        <p:spPr>
          <a:xfrm>
            <a:off x="3808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but"/>
          <p:cNvPicPr/>
          <p:nvPr/>
        </p:nvPicPr>
        <p:blipFill>
          <a:blip r:embed="rId2"/>
          <a:stretch/>
        </p:blipFill>
        <p:spPr>
          <a:xfrm>
            <a:off x="7543800" y="2666880"/>
            <a:ext cx="9716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914400" y="4800600"/>
            <a:ext cx="119556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Четвёрт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61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Математическ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россворд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Пятый конкур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Капитанов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1"/>
          <p:cNvSpPr/>
          <p:nvPr/>
        </p:nvSpPr>
        <p:spPr>
          <a:xfrm>
            <a:off x="2590920" y="2514600"/>
            <a:ext cx="40384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 Black"/>
              </a:rPr>
              <a:t>Игра </a:t>
            </a:r>
            <a:br>
              <a:rPr sz="4400"/>
            </a:b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«Зашифрованное слово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80000"/>
              </a:lnSpc>
              <a:spcBef>
                <a:spcPts val="5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0" spc="-1" strike="noStrike">
                <a:solidFill>
                  <a:srgbClr val="ffffff"/>
                </a:solidFill>
                <a:latin typeface="Monotype Corsiva"/>
              </a:rPr>
              <a:t>Про100р</a:t>
            </a:r>
            <a:endParaRPr b="0" lang="en-US" sz="2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7T04:3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