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A5D-881F-4F63-ACE6-A1DC6792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6E2-0F40-496B-A43E-DAC3CAE1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7D0-FB1C-4EBD-AB2E-3A3B96D3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64C-E17B-410F-A774-F5EF9D01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1A3E-3FF8-44D6-92EE-81C9F635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0D5-27D4-4734-B046-1B7B0186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5ABF-07C3-4A9C-B108-9DFF970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19D6-4F5A-42D0-A755-1D6F9966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008-9832-4AC4-97AF-EE5E04C9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5488-E269-4DB9-A846-23EC13F2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1DD3-BFDF-4F36-8612-9564101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70D-E38D-4467-BB6B-CE46DF71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1679-5488-42D6-BF3B-97B3AB7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C4BA-4589-4D01-8141-0207B595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450E-066F-4E87-B967-A3A9806D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1F23-5C96-4245-A70F-D61B943D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7BF-B56F-43C9-9AD1-809CDC2C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92D-127A-4D7E-AAA0-688CA5FA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832-F46F-4B6F-AEC2-D11E0875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80A-1AE6-4A27-9E23-5361F660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95E-8CB5-4899-B9C9-A0B5FB1E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5DA-13F2-46C9-903F-B1F5B580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C62-C78F-4863-BA1C-0226AB2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7C7-0892-4FEE-99C7-DC76944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91F9-8658-4E47-8139-9C31E77FD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0EAF-C00E-453A-B275-21449102BD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763120" cy="63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66"/>
                </a:solidFill>
                <a:latin typeface="Arial Black"/>
              </a:rPr>
              <a:t>Клуб Весёлых Математиков</a:t>
            </a:r>
            <a:br>
              <a:rPr sz="8000"/>
            </a:br>
            <a:r>
              <a:rPr b="1" i="1" lang="ru-RU" sz="8000" spc="-1" strike="noStrike">
                <a:solidFill>
                  <a:srgbClr val="003399"/>
                </a:solidFill>
                <a:latin typeface="Arial"/>
              </a:rPr>
              <a:t>«Смекай, считай, отгадывай»</a:t>
            </a:r>
            <a:br>
              <a:rPr sz="7000"/>
            </a:b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2_md_wht"/>
          <p:cNvPicPr/>
          <p:nvPr/>
        </p:nvPicPr>
        <p:blipFill>
          <a:blip r:embed="rId1"/>
          <a:stretch/>
        </p:blipFill>
        <p:spPr>
          <a:xfrm>
            <a:off x="7848720" y="5105520"/>
            <a:ext cx="1033200" cy="1409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9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3399"/>
                </a:solidFill>
                <a:latin typeface="Monotype Corsiva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50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GA395"/>
          <p:cNvPicPr/>
          <p:nvPr/>
        </p:nvPicPr>
        <p:blipFill>
          <a:blip r:embed="rId1"/>
          <a:stretch/>
        </p:blipFill>
        <p:spPr>
          <a:xfrm>
            <a:off x="6858000" y="380880"/>
            <a:ext cx="2133720" cy="209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GB195"/>
          <p:cNvPicPr/>
          <p:nvPr/>
        </p:nvPicPr>
        <p:blipFill>
          <a:blip r:embed="rId2"/>
          <a:stretch/>
        </p:blipFill>
        <p:spPr>
          <a:xfrm>
            <a:off x="4572000" y="533520"/>
            <a:ext cx="2057400" cy="20556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9"/>
          <p:cNvSpPr txBox="1"/>
          <p:nvPr/>
        </p:nvSpPr>
        <p:spPr>
          <a:xfrm>
            <a:off x="685800" y="35812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00 л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04920" y="3200400"/>
            <a:ext cx="83055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2л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304920" y="304920"/>
            <a:ext cx="8839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0рона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80880" y="3048120"/>
            <a:ext cx="85345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3на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52280" y="-304920"/>
            <a:ext cx="853452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3ж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Пяты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Капитанов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362320" y="2590920"/>
            <a:ext cx="44956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4191120" y="25909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6248520" y="25909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6248520" y="57150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2362320" y="4038480"/>
            <a:ext cx="609480" cy="60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2362320" y="57150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Шесто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«Смекалистых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An00790_"/>
          <p:cNvPicPr/>
          <p:nvPr/>
        </p:nvPicPr>
        <p:blipFill>
          <a:blip r:embed="rId1"/>
          <a:stretch/>
        </p:blipFill>
        <p:spPr>
          <a:xfrm>
            <a:off x="3124080" y="2743200"/>
            <a:ext cx="365292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Arial Black"/>
              </a:rPr>
              <a:t>Спасибо за внимание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4" descr="b1"/>
          <p:cNvPicPr/>
          <p:nvPr/>
        </p:nvPicPr>
        <p:blipFill>
          <a:blip r:embed="rId1"/>
          <a:stretch/>
        </p:blipFill>
        <p:spPr>
          <a:xfrm>
            <a:off x="762120" y="1447920"/>
            <a:ext cx="3614760" cy="513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1m3"/>
          <p:cNvPicPr/>
          <p:nvPr/>
        </p:nvPicPr>
        <p:blipFill>
          <a:blip r:embed="rId2"/>
          <a:stretch/>
        </p:blipFill>
        <p:spPr>
          <a:xfrm>
            <a:off x="5486400" y="2971800"/>
            <a:ext cx="3200400" cy="274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2 класс «А» -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команда «КРУГ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Arial"/>
              </a:rPr>
              <a:t>2 класс «Б» -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Arial"/>
              </a:rPr>
              <a:t>команда «КВАДРАТ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2 класс «В» -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оманда «ДВАЖДЫ ДВ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if1"/>
          <p:cNvPicPr/>
          <p:nvPr/>
        </p:nvPicPr>
        <p:blipFill>
          <a:blip r:embed="rId1"/>
          <a:stretch/>
        </p:blipFill>
        <p:spPr>
          <a:xfrm>
            <a:off x="30492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if2"/>
          <p:cNvPicPr/>
          <p:nvPr/>
        </p:nvPicPr>
        <p:blipFill>
          <a:blip r:embed="rId2"/>
          <a:stretch/>
        </p:blipFill>
        <p:spPr>
          <a:xfrm>
            <a:off x="304920" y="2133720"/>
            <a:ext cx="97452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if3"/>
          <p:cNvPicPr/>
          <p:nvPr/>
        </p:nvPicPr>
        <p:blipFill>
          <a:blip r:embed="rId3"/>
          <a:stretch/>
        </p:blipFill>
        <p:spPr>
          <a:xfrm>
            <a:off x="228600" y="42670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Первы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«Разминк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Monotype Corsiva"/>
              </a:rPr>
              <a:t>«Весёлые» задачи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070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Второ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Счётная маши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3520" y="262188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83 – 17 = 21</a:t>
            </a:r>
            <a:r>
              <a:rPr b="0" lang="ru-RU" sz="1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38080" y="4448880"/>
            <a:ext cx="7925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99 – 81 = 81</a:t>
            </a:r>
            <a:r>
              <a:rPr b="0" lang="ru-RU" sz="1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Второ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9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Счётная машин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762120" y="2362320"/>
            <a:ext cx="1089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38 – 17 = 21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57200" y="464832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99 – 18 = 81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Трети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«Раз! Два! Три!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аз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ч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по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ска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Д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рняжк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р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1H"/>
          <p:cNvPicPr/>
          <p:nvPr/>
        </p:nvPicPr>
        <p:blipFill>
          <a:blip r:embed="rId1"/>
          <a:stretch/>
        </p:blipFill>
        <p:spPr>
          <a:xfrm>
            <a:off x="3808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but"/>
          <p:cNvPicPr/>
          <p:nvPr/>
        </p:nvPicPr>
        <p:blipFill>
          <a:blip r:embed="rId2"/>
          <a:stretch/>
        </p:blipFill>
        <p:spPr>
          <a:xfrm>
            <a:off x="7543800" y="2666880"/>
            <a:ext cx="9716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914400" y="4800600"/>
            <a:ext cx="1195560" cy="1523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Black"/>
              </a:rPr>
              <a:t>Четвёртый конкур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61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Математическ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россворд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Пятый конкурс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Капитанов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1"/>
          <p:cNvSpPr/>
          <p:nvPr/>
        </p:nvSpPr>
        <p:spPr>
          <a:xfrm>
            <a:off x="2590920" y="2514600"/>
            <a:ext cx="40384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 Black"/>
              </a:rPr>
              <a:t>Игра </a:t>
            </a:r>
            <a:br>
              <a:rPr sz="4400"/>
            </a:b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«Зашифрованное слово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80000"/>
              </a:lnSpc>
              <a:spcBef>
                <a:spcPts val="5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0" spc="-1" strike="noStrike">
                <a:solidFill>
                  <a:srgbClr val="ffffff"/>
                </a:solidFill>
                <a:latin typeface="Monotype Corsiva"/>
              </a:rPr>
              <a:t>Про100р</a:t>
            </a:r>
            <a:endParaRPr b="0" lang="en-US" sz="2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7T04:3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