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C58A21E-817A-4569-9391-E1A69BCBF18A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CBCEA0B-BBE9-4FA5-8839-D6F472F14DFD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14F4464-93D6-4E03-A685-E79564D31781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1BD6C4A-05F6-408F-9068-1166AA6226E9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D13-4515-41D0-8458-607F584B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C7A-4E3C-41FB-9C1F-E12425B7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A9B-3BFC-45CB-B8E3-97F64042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F92-5286-4E3E-9FFC-6282FAB1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C65F-D45C-4FB1-BDEA-2FF97694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8A6B-CA5C-41BA-B046-87AD92D9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4C7F-991C-4E20-BF90-4A7C3688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86B6-B544-46A5-AD6E-A633DDFD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1302-7528-4417-92E8-9347D8A5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5FA2-CDB9-4900-98BE-003DE234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4BF4-0807-4FE9-9402-7585200A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FBD-9E6A-4AA0-823E-E3A1AE7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C860-2EF6-4534-8288-C9A5465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D97B-49B1-4B5A-813B-B684AA7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4256-FC31-4F4F-9353-9453AE6B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880C-031C-4AAA-8502-24B983E6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03E8-1F81-46FF-857E-9B3AD459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C7B8-F11F-4D90-A8F8-8BBFBBCA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A75A-A546-48F5-B6FB-2D70F7F1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D4B03-A027-4F0F-B93C-1112870E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5E2D-8F16-4DF1-AB9F-B0BDB94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5CE5-E318-4FBC-B9AC-AA48D74B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2D9-7D15-43E8-A9B5-4A518E1E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4EF4-076B-41DE-837B-854A541E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287B-9231-4F74-9555-C03A4770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FDA1-4E8E-4859-9D56-D2A7A273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0734-3898-43C2-A7BB-527FEA2B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8A10-7BD4-457E-9361-E982F232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FD6C-16A8-4BC0-91C7-7278275E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E38A-A4AD-49A6-949A-790DA5F8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68416-F408-420B-A4C9-C2B99EB6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8D516-A004-4538-8F52-2400540A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E781-D7C8-4A3D-BDAE-F83AE059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C07-6D9E-4029-9277-4F814386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3C5C-E3EC-43C2-9335-C0648A58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48296-E659-43DE-AF4C-EC5C03DF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927B-0C4F-44BB-A12F-9A79163E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09EF-2AB6-42AC-A363-34C62758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9346-46A4-44AC-853D-D491AEB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9B2F-413D-4B45-B10A-A01E189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3868-BCAD-4A5E-AEC8-96EA175E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DECE6-53EB-45E0-A18B-70EA85D7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F7870-2203-4E15-B02A-1E1C5BA8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9BF8-9939-442A-9311-078F305E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F5B-8603-4F57-9B87-3B6480F7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B8002-EEF6-4577-9D2C-430741DE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1666F-3118-45BD-82D8-F372649B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5A4D-9E3F-4703-BAB7-7CB6DA91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0DB4D-1061-46A0-9451-DA4059E2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AB113-3682-4818-87DE-526F8E65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19D49-9B82-4A4F-BE66-25181E0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35804-F9C8-4B9E-8977-225C987F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2F266-D6BD-44CE-A265-BAC4F4F8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CA55D-8D15-4347-84B0-8745A1AA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00F85-EFFA-46A6-A2AD-AA02C1BA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661-DEED-4386-8C97-7A12A07E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172C-EB3F-4EFC-8AFF-709C33ED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C72-2B67-471E-B5C4-F7E71BCA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F29-942E-40FF-96EE-056FC55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B4D-88FB-4031-BF83-5E0C844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86B8-632F-4FFD-8312-2E7AB8C64FA9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8D21-4110-42CB-9DDA-6B03315DC5CE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868F-3859-4682-B5B9-D53311D42592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EE4-1862-4F37-8C65-40A30DCBA29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E0E3-B097-4ADF-BCD7-56596FA4E45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-18108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 Unicode MS"/>
              </a:rPr>
              <a:t>Личностно-адаптивная компетенция современного педаго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312840" y="3141720"/>
            <a:ext cx="7127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  <a:ea typeface="Arial Unicode MS"/>
              </a:rPr>
              <a:t>Ум заключается не только в знании, но и в умении применять знания на де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  <a:ea typeface="Arial Unicode MS"/>
              </a:rPr>
              <a:t>Аристот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1"/>
          <p:cNvSpPr/>
          <p:nvPr/>
        </p:nvSpPr>
        <p:spPr>
          <a:xfrm>
            <a:off x="-871560" y="5589720"/>
            <a:ext cx="4572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Учитель начальных класс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                    </a:t>
            </a: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Гудовская А.А</a:t>
            </a:r>
            <a:r>
              <a:rPr b="0" lang="ru-RU" sz="1800" spc="-1" strike="noStrike">
                <a:solidFill>
                  <a:srgbClr val="0066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755640" y="189000"/>
            <a:ext cx="7416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  <a:ea typeface="Arial Unicode MS"/>
              </a:rPr>
              <a:t>Профессиональное самовоспитание, самообразование, самоорганизация и самовыражение 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основные условия для формирования компетентности и авторитета педагог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Каждый педагог знает, что жизнь в современном мире требует обрести способность перестраиваться, быть открытым по отношению к развивающейся ситуаци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Для педагога, призванного живо реагировать на социальные изменения, защитная позиция, нежелание движения означают полное или частичное выпадение из профессионального поля, что лишает его уверенности и надежност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бращение в сложных ситуациях к прошлому опыту продуктивно лишь с целью извлечения из него способов собственных достижений успех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Эмоциональная, поведенческая,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интеллектуальная гибкость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дают педагогу возможность учитывать многообразие индивидуальных характеров, мнений, позиц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179280" y="189000"/>
            <a:ext cx="878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выделить следующие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возможности практической реализации способов оптимизации учебного процесса при использовании ИК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ое решение образовательных, воспитательных и развивающих задач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ка каждому обучающемуся конкретных задач в зависимости от его способностей, мотивации, уровня подготов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 обучаемых навыков самостоятельного овладения знаниями, развитие навыков поиска, сбора и обработки информации в сети Интерн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ирование положительной мотивации учения за счёт интегрирования всех форм наглядности, осуществления учебной деятельности с немедленной обратной связью и развитой системой помо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179280" y="314280"/>
            <a:ext cx="864072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информационных технологий помогает стимулировать творческую активность обучающихся. Результаты творческой деятельности ребят могут быть использованы учителями как иллюстративный, наглядный материал к урокам. Создание компьютерных презентаций способствуют развитию эстетической, общекультурной, коммуникативной, ценностно-смысловой, информационной компетенц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мультимедиа на уроках, несомненно, оказывает содействие развитию личности ученика, который комфортно будет чувствовать себя в условиях информационного обще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учителя становится профессионально необходимым научиться совмещать собственный преподавательский почерк с теми техническими возможностями, которые предоставляют новые информационные технологии и вряд ли возможно движение в обратную сторо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108000" y="260280"/>
            <a:ext cx="8856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облема повышения профессиональной компетентности учителя может быть решена следующими путям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курсы повышения квалифик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участие в работе семинаров и научно-практических конферен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инновационная де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участие в деятельности районных, школьных методических объедин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участие в профессиональных конкур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подготовка учащихся к олимпиадам и конкурса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проектная деятельность и презентация результатов урочной и внеурочн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формирование, обобщение и распространение эффективного педагогического опы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чтение конкретных педагогических периодических изданий, методической, педагогической и предметной литера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обзор в Интернете информации по преподаваемому предмету, педагогике, психологии, педагогических технолог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выполнение упражнений, тестов, других заданий повышенной сложности или нестандартной фор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посещение учебных занятий своих коллег и проведение открытых уроков для последующего анализа со стороны коллег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организация кружковой и внеклассной деятельности по предмет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изучение информационно-компьютерных технолог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Учитель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 - всегда активная, творческая личность. Пробуждать интересы, вести учащихся за собой может только человек с развитой волей, где личной активности отводится решающее место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едагогическое руководство детским коллективом обязывает учителя быть изобретательным, сообразительным, настойчивым, всегда готовым к самостоятельному разрешению любых ситуаций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Педагог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 - образец для подражания, побуждающий учащихся следовать за ним в ногу со временем, равняться на доступный для подражания образец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Овальная выноска 3"/>
          <p:cNvSpPr/>
          <p:nvPr/>
        </p:nvSpPr>
        <p:spPr>
          <a:xfrm>
            <a:off x="96840" y="34920"/>
            <a:ext cx="8182080" cy="3313080"/>
          </a:xfrm>
          <a:prstGeom prst="wedgeEllipseCallout">
            <a:avLst>
              <a:gd name="adj1" fmla="val 46972"/>
              <a:gd name="adj2" fmla="val 47634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971640" y="549360"/>
            <a:ext cx="710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Как никто не может дать другому того, чего не имеет сам, так не может развивать, воспитывать и образовывать других тот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то сам не является развитым, воспитанным и образованны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. Дистерв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rcRect l="27619" t="7366" r="39242" b="7942"/>
          <a:stretch/>
        </p:blipFill>
        <p:spPr>
          <a:xfrm>
            <a:off x="7416720" y="2708280"/>
            <a:ext cx="1557360" cy="39798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4" descr=""/>
          <p:cNvPicPr/>
          <p:nvPr/>
        </p:nvPicPr>
        <p:blipFill>
          <a:blip r:embed="rId2"/>
          <a:stretch/>
        </p:blipFill>
        <p:spPr>
          <a:xfrm>
            <a:off x="1917720" y="3333600"/>
            <a:ext cx="3744720" cy="3463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5" descr=""/>
          <p:cNvPicPr/>
          <p:nvPr/>
        </p:nvPicPr>
        <p:blipFill>
          <a:blip r:embed="rId3"/>
          <a:srcRect l="0" t="0" r="53781" b="0"/>
          <a:stretch/>
        </p:blipFill>
        <p:spPr>
          <a:xfrm>
            <a:off x="1187280" y="3352680"/>
            <a:ext cx="1656000" cy="33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50920" y="298440"/>
            <a:ext cx="871380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РОФЕССИОНАЛИЗМ ПЕДАГОГА РАССМАТРИВАЕТСЯ СЕГОДНЯ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КАК УСЛОВИЕ ДОСТИЖЕНИЯ СОВРЕМЕННОГО КАЧЕСТВА ОБРАЗ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395280" y="335772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Чуткие, внимательные и восприимчив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интересам школьников и всему новому учителя-ключевая особен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ой школы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2427120" y="5548320"/>
            <a:ext cx="57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ая образовательная стратег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79280" y="189000"/>
            <a:ext cx="8640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840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  <a:ea typeface="Arial Unicode MS"/>
              </a:rPr>
              <a:t>Компет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осведомленность, авторитетность, обладание компетенцией, знаниями, позволяющими судить о чем-либо, качество человека, обладающего всесторонними знаниями; это системное проявление знаний, умений, способностей и личностных качеств, позволяющих успешно решать функциональные задачи, составляющие сущность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840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Arial"/>
                <a:ea typeface="Arial Unicode MS"/>
              </a:rPr>
              <a:t>Компетен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руг вопросов, в которых кто-нибудь хорошо осведомлен; круг чьих-либо полномочий, пр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-17640" y="191880"/>
            <a:ext cx="89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 Unicode MS"/>
              </a:rPr>
              <a:t>Личностно-адаптивные компетен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684360" y="95004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новую информацию и коммуникативные технолог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думывать новые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являть гибкость, оказавшись лицом к лицу с быстрыми пер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Быть упорным и стойким перед трудност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Быть подготовленным к самообразованию и само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1116000" y="478080"/>
            <a:ext cx="777708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 Unicode MS"/>
              </a:rPr>
              <a:t>ПРОФЕССИОНАЛЬНЫЕ КАЧЕСТВА ПЕДАГ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нтерес и любовь к дет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Увлеченность педагогической деятель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Дисциплинирова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сихолого-педагогическая зрелость и наблюда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едагогический т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едагогический оптим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едагогическое вообра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ганизаторские способ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239760" y="44280"/>
            <a:ext cx="8929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  <a:ea typeface="Arial Unicode MS"/>
              </a:rPr>
              <a:t>Самообраз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– это целенаправленная познавательная деятельность, управляемая самой личностью; приобретение систематических знаний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й-либо области н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существляется доброво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существляется сознатель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ланируется, управляется и контролируется самим челове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еобходимо для совершенствования каких-либо кач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 навы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430200" y="-4428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  <a:ea typeface="Arial Unicode MS"/>
              </a:rPr>
              <a:t>Направления само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430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фессиональное (предмет препода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сихолого-педагогическое и психологичес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Методическ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Эстетичес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В области ИКТ –технологий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В области охраны здоровь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литическ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Языков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ca3c"/>
                </a:solidFill>
                <a:uFillTx/>
                <a:latin typeface="Arial"/>
                <a:ea typeface="Arial Unicode MS"/>
              </a:rPr>
              <a:t>Значение самообразования для профессиональной компетентности учит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вышение качества преподавания предм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Готовность к педагогическому творчеств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фессиональный и карьерный р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Создание имиджа современного учителя –  новатора, учителя-мастера, учителя-наставн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Соответствие учителя требованиям  общества и государ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324000" y="15840"/>
            <a:ext cx="842472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Самоорганизация деятельности преподавателя складывается из 2-х част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ЧА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едагогическая деятельность: подготовка, организация, анализ профессиональной деятельности (прогнозирование, планирование, подготовка), самоанали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ЧА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вышение педагогической культу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ст внутреннего потенциала, педагогическое масте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я квалификации: участие в семинарах, конференциях, открытые занятия, самообразование, саморазвитие, курсы повышения квалификации, публик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4:03:00Z</dcterms:created>
  <dc:creator>Admin</dc:creator>
  <dc:description/>
  <dc:language>en-US</dc:language>
  <cp:lastModifiedBy>alagood@mail.ru</cp:lastModifiedBy>
  <dcterms:modified xsi:type="dcterms:W3CDTF">2019-01-05T15:58:48Z</dcterms:modified>
  <cp:revision>100</cp:revision>
  <dc:subject/>
  <dc:title>Профессиональная компетентность педагогов: возможности, механизмы, проблемы</dc:title>
</cp:coreProperties>
</file>