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5040" cy="12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DB400CBF-D843-4FE9-8AFF-9DB1861EBD8E}" type="slidenum">
              <a:rPr b="0" lang="ru-RU" sz="1200" spc="-1" strike="noStrike">
                <a:solidFill>
                  <a:srgbClr val="000000"/>
                </a:solidFill>
                <a:latin typeface="Garamond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29D40279-A710-4FE4-8ABF-EBE717BA7927}" type="slidenum">
              <a:rPr b="0" lang="ru-RU" sz="1200" spc="-1" strike="noStrike">
                <a:solidFill>
                  <a:srgbClr val="000000"/>
                </a:solidFill>
                <a:latin typeface="Garamond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09FCF716-9FB8-4DA4-B6C9-7BA6A6652170}" type="slidenum">
              <a:rPr b="0" lang="ru-RU" sz="1200" spc="-1" strike="noStrike">
                <a:solidFill>
                  <a:srgbClr val="000000"/>
                </a:solidFill>
                <a:latin typeface="Garamond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C29BA427-0490-45F1-9121-2FDBF0A185E8}" type="slidenum">
              <a:rPr b="0" lang="ru-RU" sz="1200" spc="-1" strike="noStrike">
                <a:solidFill>
                  <a:srgbClr val="000000"/>
                </a:solidFill>
                <a:latin typeface="Garamond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E456-7C8F-4DD6-A3C3-FB9D70A54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386B-5C25-4EA7-8524-639324F97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9931-BC99-4ECA-B7CC-DBB830E2C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1DFD-D17F-4179-B7A7-0CC955DBA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86E53-0302-4709-9D84-A189540B9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267F7-BE01-43F9-9114-4A6B5348D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AD090-2A47-4858-A7AF-2C1465E65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97CFE-E1E2-4271-8211-5B4DD0124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DBB26-0D95-4E57-B74C-D20EC2782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93C00-ADE0-4BF0-AB54-B7A697C2B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196D6-253B-4E67-8B4B-4343FD0E3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02F6-0A4F-4E53-A930-E48722194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11A55-695D-419C-806C-112518618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8CA08-9EDD-4044-8A9E-F968D628A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EC1F9-E54F-4913-AE12-0221492A2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81F08-2E23-4A82-8C87-9BBEEC6BF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A833D-C488-4CD4-80DF-9805D0BE2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7E07D-C789-48A9-84CA-520929704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BC1AF-0FD0-4994-A4D2-75022B214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F9A48-ECD9-417A-A725-02575C05C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9CCCD-4656-4C35-8DEF-00BBD1DD7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EBEEC-7909-4C76-9DFA-EBF3C0F36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C24A-CB09-4052-8C63-A01F1A6B6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368A3-2B23-4E30-A8BE-8BCA10473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280DE-9D73-41B2-B451-3EEAE5B3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1551A-8B3A-4CB6-B3D2-B9FCB221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A1FF6-5E8E-4991-8023-E75E05033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32605-14CF-4142-B2AA-1C879E73A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F3DAF-6A53-4FE7-825F-703AD120C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84E70-1654-4055-B6D4-0EB1332D6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FA855-81F9-4E5C-8E6A-87949C843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96ED0-3C2D-4A52-9DC6-175691F16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936F7-E6AF-4A9C-B2CB-F8646386B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3B41-D263-43D0-9456-3959C8146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D5E53-385E-4CDA-A375-DBC38D27D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E3B12-EA14-45D9-AE96-2C6E4702A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5E6A0-6C62-4CDE-9719-D7D045DF0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51E21-E30C-48F3-9AA3-D974E7E2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E5007-129D-4C3B-87D8-BD612F93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E4B7C-85CD-44FC-8557-5EF1DA5B4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90B07-2937-4284-A348-546BD96C0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4A709-D6A4-43E4-B287-214A6A9AC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2C318-A8E9-4E43-ADF9-07F2C9DC3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D57EE-7E80-4CC3-B893-FA1F86EC6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BD4B-98BE-4C2C-9576-59D7F566C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7AD25-719D-4C91-8D86-D9EF38B15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62EBD4-9705-42AA-A0D0-B1DC430F0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2D9C38-0204-41E7-AD2F-79AFF257F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D505B1-C71F-4660-81C9-3F77B4BB9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5D0678-DCC1-4AA0-AEC3-11B8A1049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E29A5-EFDB-41D7-B415-335AF692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8DAB04-BBE2-4F32-99F1-86EB09973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D91A01-EBEB-4047-9454-6CC4274A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07B5C6-96DE-48C9-91F0-0CE300855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23CF2A-7A7C-4EB8-BF4B-B667B56ED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A690-2668-4A7C-B5FD-F1278377D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92F65C-02F4-4DEA-84FB-DF1CCAE36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D824-42FF-40F7-A6C1-93CD3463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F95E-6C70-47E8-93A6-D9721FFFC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EFBE-183E-4E4B-9024-916A2DF81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623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2219F-9331-46DD-A15E-3CD434981958}" type="slidenum">
              <a:rPr b="0" lang="ru-RU" sz="8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42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DAD66-278E-4AA4-91B3-74D7E98396D5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94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D0707-D180-4084-B06C-7D9FD037FA99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46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6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1B01C-6E70-4303-99F4-26C2750AC0A3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00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0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E2D09-0656-4337-A165-EA34F8A45259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1"/>
          <p:cNvSpPr/>
          <p:nvPr/>
        </p:nvSpPr>
        <p:spPr>
          <a:xfrm>
            <a:off x="-181080" y="549360"/>
            <a:ext cx="777240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Arial"/>
                <a:ea typeface="Arial Unicode MS"/>
              </a:rPr>
              <a:t>Личностно-адаптивная компетенция современного педагог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2"/>
          <p:cNvSpPr/>
          <p:nvPr/>
        </p:nvSpPr>
        <p:spPr>
          <a:xfrm>
            <a:off x="312840" y="3141720"/>
            <a:ext cx="7127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cc"/>
                </a:solidFill>
                <a:latin typeface="Arial"/>
                <a:ea typeface="Arial Unicode MS"/>
              </a:rPr>
              <a:t>Ум заключается не только в знании, но и в умении применять знания на дел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cc"/>
                </a:solidFill>
                <a:latin typeface="Arial"/>
                <a:ea typeface="Arial Unicode MS"/>
              </a:rPr>
              <a:t>Аристотел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Прямоугольник 1"/>
          <p:cNvSpPr/>
          <p:nvPr/>
        </p:nvSpPr>
        <p:spPr>
          <a:xfrm>
            <a:off x="-871560" y="5589720"/>
            <a:ext cx="457200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rebuchet MS"/>
              </a:rPr>
              <a:t>Учитель начальных классов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rebuchet MS"/>
              </a:rPr>
              <a:t>                    </a:t>
            </a:r>
            <a:r>
              <a:rPr b="0" lang="ru-RU" sz="1800" spc="-1" strike="noStrike">
                <a:solidFill>
                  <a:srgbClr val="7030a0"/>
                </a:solidFill>
                <a:latin typeface="Trebuchet MS"/>
              </a:rPr>
              <a:t>Гудовская А.А</a:t>
            </a:r>
            <a:r>
              <a:rPr b="0" lang="ru-RU" sz="1800" spc="-1" strike="noStrike">
                <a:solidFill>
                  <a:srgbClr val="0066cc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1"/>
          <p:cNvSpPr/>
          <p:nvPr/>
        </p:nvSpPr>
        <p:spPr>
          <a:xfrm>
            <a:off x="755640" y="189000"/>
            <a:ext cx="741672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cc"/>
                </a:solidFill>
                <a:latin typeface="Arial"/>
                <a:ea typeface="Arial Unicode MS"/>
              </a:rPr>
              <a:t>Профессиональное самовоспитание, самообразование, самоорганизация и самовыражение -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это основные условия для формирования компетентности и авторитета педагог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64216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Каждый педагог знает, что жизнь в современном мире требует обрести способность перестраиваться, быть открытым по отношению к развивающейся ситуации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Для педагога, призванного живо реагировать на социальные изменения, защитная позиция, нежелание движения означают полное или частичное выпадение из профессионального поля, что лишает его уверенности и надежности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Обращение в сложных ситуациях к прошлому опыту продуктивно лишь с целью извлечения из него способов собственных достижений успеха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Эмоциональная, поведенческая,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  <a:ea typeface="Arial"/>
              </a:rPr>
              <a:t>интеллектуальная гибкость </a:t>
            </a: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дают педагогу возможность учитывать многообразие индивидуальных характеров, мнений, позиций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Прямоугольник 1"/>
          <p:cNvSpPr/>
          <p:nvPr/>
        </p:nvSpPr>
        <p:spPr>
          <a:xfrm>
            <a:off x="179280" y="189000"/>
            <a:ext cx="878544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ожно выделить следующие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  <a:ea typeface="Arial"/>
              </a:rPr>
              <a:t>возможности практической реализации способов оптимизации учебного процесса при использовании ИКТ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омплексное решение образовательных, воспитательных и развивающих задач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становка каждому обучающемуся конкретных задач в зависимости от его способностей, мотивации, уровня подготовк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Формирование у обучаемых навыков самостоятельного овладения знаниями, развитие навыков поиска, сбора и обработки информации в сети Интернет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тимулирование положительной мотивации учения за счёт интегрирования всех форм наглядности, осуществления учебной деятельности с немедленной обратной связью и развитой системой помощ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Прямоугольник 1"/>
          <p:cNvSpPr/>
          <p:nvPr/>
        </p:nvSpPr>
        <p:spPr>
          <a:xfrm>
            <a:off x="179280" y="314280"/>
            <a:ext cx="8640720" cy="65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спользование информационных технологий помогает стимулировать творческую активность обучающихся. Результаты творческой деятельности ребят могут быть использованы учителями как иллюстративный, наглядный материал к урокам. Создание компьютерных презентаций способствуют развитию эстетической, общекультурной, коммуникативной, ценностно-смысловой, информационной компетенци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спользование мультимедиа на уроках, несомненно, оказывает содействие развитию личности ученика, который комфортно будет чувствовать себя в условиях информационного обществ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ля учителя становится профессионально необходимым научиться совмещать собственный преподавательский почерк с теми техническими возможностями, которые предоставляют новые информационные технологии и вряд ли возможно движение в обратную сторон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Прямоугольник 1"/>
          <p:cNvSpPr/>
          <p:nvPr/>
        </p:nvSpPr>
        <p:spPr>
          <a:xfrm>
            <a:off x="108000" y="260280"/>
            <a:ext cx="88567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Проблема повышения профессиональной компетентности учителя может быть решена следующими путям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-курсы повышения квалификаци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-участие в работе семинаров и научно-практических конференци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-инновационная деятельность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-участие в деятельности районных, школьных методических объединени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-участие в профессиональных конкурсах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-подготовка учащихся к олимпиадам и конкурса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-проектная деятельность и презентация результатов урочной и внеурочной деятельност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-формирование, обобщение и распространение эффективного педагогического опыт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-чтение конкретных педагогических периодических изданий, методической, педагогической и предметной литературы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-обзор в Интернете информации по преподаваемому предмету, педагогике, психологии, педагогических технологий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-выполнение упражнений, тестов, других заданий повышенной сложности или нестандартной формы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-посещение учебных занятий своих коллег и проведение открытых уроков для последующего анализа со стороны коллег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-организация кружковой и внеклассной деятельности по предмету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-изучение информационно-компьютерных технолог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56908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70c0"/>
                </a:solidFill>
                <a:latin typeface="Arial"/>
                <a:ea typeface="Arial"/>
              </a:rPr>
              <a:t>Учитель</a:t>
            </a:r>
            <a:r>
              <a:rPr b="0" lang="ru-RU" sz="2600" spc="-1" strike="noStrike">
                <a:solidFill>
                  <a:srgbClr val="404040"/>
                </a:solidFill>
                <a:latin typeface="Arial"/>
                <a:ea typeface="Arial"/>
              </a:rPr>
              <a:t> - всегда активная, творческая личность. Пробуждать интересы, вести учащихся за собой может только человек с развитой волей, где личной активности отводится решающее место.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Arial"/>
                <a:ea typeface="Arial"/>
              </a:rPr>
              <a:t>Педагогическое руководство детским коллективом обязывает учителя быть изобретательным, сообразительным, настойчивым, всегда готовым к самостоятельному разрешению любых ситуаций.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70c0"/>
                </a:solidFill>
                <a:latin typeface="Arial"/>
                <a:ea typeface="Arial"/>
              </a:rPr>
              <a:t>Педагог</a:t>
            </a:r>
            <a:r>
              <a:rPr b="0" lang="ru-RU" sz="2600" spc="-1" strike="noStrike">
                <a:solidFill>
                  <a:srgbClr val="404040"/>
                </a:solidFill>
                <a:latin typeface="Arial"/>
                <a:ea typeface="Arial"/>
              </a:rPr>
              <a:t> - образец для подражания, побуждающий учащихся следовать за ним в ногу со временем, равняться на доступный для подражания образец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Овальная выноска 3"/>
          <p:cNvSpPr/>
          <p:nvPr/>
        </p:nvSpPr>
        <p:spPr>
          <a:xfrm>
            <a:off x="96840" y="34920"/>
            <a:ext cx="8182080" cy="3313080"/>
          </a:xfrm>
          <a:prstGeom prst="wedgeEllipseCallout">
            <a:avLst>
              <a:gd name="adj1" fmla="val 46972"/>
              <a:gd name="adj2" fmla="val 47634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971640" y="549360"/>
            <a:ext cx="7103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«Как никто не может дать другому того, чего не имеет сам, так не может развивать, воспитывать и образовывать других тот, 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то сам не является развитым, воспитанным и образованным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А. Дистерве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4" name="Рисунок 1" descr=""/>
          <p:cNvPicPr/>
          <p:nvPr/>
        </p:nvPicPr>
        <p:blipFill>
          <a:blip r:embed="rId1"/>
          <a:srcRect l="27619" t="7366" r="39242" b="7942"/>
          <a:stretch/>
        </p:blipFill>
        <p:spPr>
          <a:xfrm>
            <a:off x="7416720" y="2708280"/>
            <a:ext cx="1557360" cy="3979800"/>
          </a:xfrm>
          <a:prstGeom prst="rect">
            <a:avLst/>
          </a:prstGeom>
          <a:ln w="0">
            <a:noFill/>
          </a:ln>
        </p:spPr>
      </p:pic>
      <p:pic>
        <p:nvPicPr>
          <p:cNvPr id="285" name="Рисунок 4" descr=""/>
          <p:cNvPicPr/>
          <p:nvPr/>
        </p:nvPicPr>
        <p:blipFill>
          <a:blip r:embed="rId2"/>
          <a:stretch/>
        </p:blipFill>
        <p:spPr>
          <a:xfrm>
            <a:off x="1917720" y="3333600"/>
            <a:ext cx="3744720" cy="3463920"/>
          </a:xfrm>
          <a:prstGeom prst="rect">
            <a:avLst/>
          </a:prstGeom>
          <a:ln w="0">
            <a:noFill/>
          </a:ln>
        </p:spPr>
      </p:pic>
      <p:pic>
        <p:nvPicPr>
          <p:cNvPr id="286" name="Рисунок 5" descr=""/>
          <p:cNvPicPr/>
          <p:nvPr/>
        </p:nvPicPr>
        <p:blipFill>
          <a:blip r:embed="rId3"/>
          <a:srcRect l="0" t="0" r="53781" b="0"/>
          <a:stretch/>
        </p:blipFill>
        <p:spPr>
          <a:xfrm>
            <a:off x="1187280" y="3352680"/>
            <a:ext cx="1656000" cy="331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1"/>
          <p:cNvSpPr/>
          <p:nvPr/>
        </p:nvSpPr>
        <p:spPr>
          <a:xfrm>
            <a:off x="250920" y="298440"/>
            <a:ext cx="8713800" cy="26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  <a:ea typeface="Arial"/>
              </a:rPr>
              <a:t>ПРОФЕССИОНАЛИЗМ ПЕДАГОГА РАССМАТРИВАЕТСЯ СЕГОДНЯ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  <a:ea typeface="Arial"/>
              </a:rPr>
              <a:t>КАК УСЛОВИЕ ДОСТИЖЕНИЯ СОВРЕМЕННОГО КАЧЕСТВА ОБРАЗОВАНИ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2"/>
          <p:cNvSpPr/>
          <p:nvPr/>
        </p:nvSpPr>
        <p:spPr>
          <a:xfrm>
            <a:off x="395280" y="3357720"/>
            <a:ext cx="8424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«Чуткие, внимательные и восприимчивы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 интересам школьников и всему новому учителя-ключевая особенност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овременной школы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2427120" y="5548320"/>
            <a:ext cx="570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циональная образовательная стратег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Picture 4" descr=""/>
          <p:cNvPicPr/>
          <p:nvPr/>
        </p:nvPicPr>
        <p:blipFill>
          <a:blip r:embed="rId1"/>
          <a:stretch/>
        </p:blipFill>
        <p:spPr>
          <a:xfrm>
            <a:off x="0" y="3141720"/>
            <a:ext cx="9144000" cy="7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179280" y="189000"/>
            <a:ext cx="8640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8400">
              <a:lnSpc>
                <a:spcPct val="15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1" lang="ru-RU" sz="2400" spc="-1" strike="noStrike" u="sng">
                <a:solidFill>
                  <a:srgbClr val="0070c0"/>
                </a:solidFill>
                <a:uFillTx/>
                <a:latin typeface="Arial"/>
                <a:ea typeface="Arial Unicode MS"/>
              </a:rPr>
              <a:t>Компетент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– осведомленность, авторитетность, обладание компетенцией, знаниями, позволяющими судить о чем-либо, качество человека, обладающего всесторонними знаниями; это системное проявление знаний, умений, способностей и личностных качеств, позволяющих успешно решать функциональные задачи, составляющие сущность профессиональной деятель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8400">
              <a:lnSpc>
                <a:spcPct val="15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1" lang="ru-RU" sz="2400" spc="-1" strike="noStrike" u="sng">
                <a:solidFill>
                  <a:srgbClr val="0070c0"/>
                </a:solidFill>
                <a:uFillTx/>
                <a:latin typeface="Arial"/>
                <a:ea typeface="Arial Unicode MS"/>
              </a:rPr>
              <a:t>Компетенц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круг вопросов, в которых кто-нибудь хорошо осведомлен; круг чьих-либо полномочий, пра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1"/>
          <p:cNvSpPr/>
          <p:nvPr/>
        </p:nvSpPr>
        <p:spPr>
          <a:xfrm>
            <a:off x="-17640" y="191880"/>
            <a:ext cx="896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  <a:ea typeface="Arial Unicode MS"/>
              </a:rPr>
              <a:t>Личностно-адаптивные компетен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Rectangle 2"/>
          <p:cNvSpPr/>
          <p:nvPr/>
        </p:nvSpPr>
        <p:spPr>
          <a:xfrm>
            <a:off x="684360" y="950040"/>
            <a:ext cx="7272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Использовать новую информацию и коммуникативные технолог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Придумывать новые реш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Проявлять гибкость, оказавшись лицом к лицу с быстрыми перемен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Быть упорным и стойким перед трудностя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Быть подготовленным к самообразованию и самоорганиз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"/>
          <p:cNvSpPr/>
          <p:nvPr/>
        </p:nvSpPr>
        <p:spPr>
          <a:xfrm>
            <a:off x="1116000" y="478080"/>
            <a:ext cx="7777080" cy="65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  <a:ea typeface="Arial Unicode MS"/>
              </a:rPr>
              <a:t>ПРОФЕССИОНАЛЬНЫЕ КАЧЕСТВА ПЕДАГОГ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Интерес и любовь к детя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Увлеченность педагогической деятельность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Дисциплинирован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Психолого-педагогическая зрелость и наблюдатель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Педагогический так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Педагогический оптимиз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Педагогическое воображ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Организаторские способ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xt Box 2"/>
          <p:cNvSpPr/>
          <p:nvPr/>
        </p:nvSpPr>
        <p:spPr>
          <a:xfrm>
            <a:off x="239760" y="44280"/>
            <a:ext cx="892980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cc"/>
                </a:solidFill>
                <a:latin typeface="Arial"/>
                <a:ea typeface="Arial Unicode MS"/>
              </a:rPr>
              <a:t>Самообразова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– это целенаправленная познавательная деятельность, управляемая самой личностью; приобретение систематических знаний 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какой-либо области нау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Осуществляется доброволь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Осуществляется сознательн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Планируется, управляется и контролируется самим человек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Необходимо для совершенствования каких-либо качест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и навык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1"/>
          <p:cNvSpPr/>
          <p:nvPr/>
        </p:nvSpPr>
        <p:spPr>
          <a:xfrm>
            <a:off x="430200" y="-44280"/>
            <a:ext cx="822960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cc"/>
                </a:solidFill>
                <a:latin typeface="Arial"/>
                <a:ea typeface="Arial Unicode MS"/>
              </a:rPr>
              <a:t>Направления самообразов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ext Box 2"/>
          <p:cNvSpPr/>
          <p:nvPr/>
        </p:nvSpPr>
        <p:spPr>
          <a:xfrm>
            <a:off x="43020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Профессиональное (предмет преподавания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Психолого-педагогическое и психологическо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Методическо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Эстетическо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В области ИКТ –технологий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В области охраны здоровь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Политическо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Языково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33333">
                                          <p:val>
                                            <p:strVal val="90"/>
                                          </p:val>
                                        </p:tav>
                                        <p:tav tm="66666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33333">
                                          <p:val>
                                            <p:strVal val="90"/>
                                          </p:val>
                                        </p:tav>
                                        <p:tav tm="66666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33333">
                                          <p:val>
                                            <p:strVal val="90"/>
                                          </p:val>
                                        </p:tav>
                                        <p:tav tm="66666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33333">
                                          <p:val>
                                            <p:strVal val="90"/>
                                          </p:val>
                                        </p:tav>
                                        <p:tav tm="66666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33333">
                                          <p:val>
                                            <p:strVal val="90"/>
                                          </p:val>
                                        </p:tav>
                                        <p:tav tm="66666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33333">
                                          <p:val>
                                            <p:strVal val="90"/>
                                          </p:val>
                                        </p:tav>
                                        <p:tav tm="66666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33333">
                                          <p:val>
                                            <p:strVal val="90"/>
                                          </p:val>
                                        </p:tav>
                                        <p:tav tm="66666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33333">
                                          <p:val>
                                            <p:strVal val="90"/>
                                          </p:val>
                                        </p:tav>
                                        <p:tav tm="66666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99ca3c"/>
                </a:solidFill>
                <a:uFillTx/>
                <a:latin typeface="Arial"/>
                <a:ea typeface="Arial Unicode MS"/>
              </a:rPr>
              <a:t>Значение самообразования для профессиональной компетентности учител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2"/>
          <p:cNvSpPr/>
          <p:nvPr/>
        </p:nvSpPr>
        <p:spPr>
          <a:xfrm>
            <a:off x="4572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 Unicode MS"/>
              </a:rPr>
              <a:t>Повышение качества преподавания предмет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 Unicode MS"/>
              </a:rPr>
              <a:t>Готовность к педагогическому творчеств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 Unicode MS"/>
              </a:rPr>
              <a:t>Профессиональный и карьерный рос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 Unicode MS"/>
              </a:rPr>
              <a:t>Создание имиджа современного учителя –  новатора, учителя-мастера, учителя-наставник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 Unicode MS"/>
              </a:rPr>
              <a:t>Соответствие учителя требованиям  общества и государств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Прямоугольник 1"/>
          <p:cNvSpPr/>
          <p:nvPr/>
        </p:nvSpPr>
        <p:spPr>
          <a:xfrm>
            <a:off x="324000" y="15840"/>
            <a:ext cx="8424720" cy="589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  <a:ea typeface="Arial"/>
              </a:rPr>
              <a:t>Самоорганизация деятельности преподавателя складывается из 2-х частей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 ЧАСТЬ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педагогическая деятельность: подготовка, организация, анализ профессиональной деятельности (прогнозирование, планирование, подготовка), самоанализ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2 ЧАСТЬ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повышение педагогической культуры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ост внутреннего потенциала, педагогическое мастерств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вышения квалификации: участие в семинарах, конференциях, открытые занятия, самообразование, саморазвитие, курсы повышения квалификации, публикаци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3T14:03:00Z</dcterms:created>
  <dc:creator>Admin</dc:creator>
  <dc:description/>
  <dc:language>en-US</dc:language>
  <cp:lastModifiedBy>alagood@mail.ru</cp:lastModifiedBy>
  <dcterms:modified xsi:type="dcterms:W3CDTF">2019-01-05T15:58:48Z</dcterms:modified>
  <cp:revision>100</cp:revision>
  <dc:subject/>
  <dc:title>Профессиональная компетентность педагогов: возможности, механизмы, проблемы</dc:title>
</cp:coreProperties>
</file>