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27F9-D1F2-440F-9E89-7A7B5375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7C65-7D21-4B37-986B-232CFC45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9082-E363-4BF8-994A-02223C119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687B-D6DF-42ED-AB18-D848246AF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6CF4-5221-45ED-932E-D2F14CE0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F165-D0AD-4FC8-892F-0216DCF3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2949-CBFB-43D4-8DC4-C1835ACB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13D7-1F4B-47DE-8BC3-224A6F7F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1809-CF86-47BA-9FF8-A83DF012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843B-5139-4E09-A7EA-9ADBA9B4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1C3C-0019-41BE-94D1-5A6C24DC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80C0-F6C3-46DD-8672-61692AF6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525C-731B-4F41-964A-BE15B2FF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4C4D-599A-47C5-AF0A-342A463F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EC1E-11F1-4D15-8D3F-4B18990E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CE00-834D-4FB6-83D0-C390BDBD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081E-1C72-465F-AA3D-27447FDE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378E-A0F0-459C-A044-7DB31CE8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2C69-FE1C-4DF3-B1B9-D8AB63DB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F3CE-EC25-42B6-BF34-3FFB7FA0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3B51-3167-45AD-A14C-12AC58B3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99DB-5CC1-485C-80C4-B92B0C81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685D-B79D-4F8A-8D90-8A516B11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CFEF-106F-49A6-81BE-C377A7D5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89F6-6470-47A5-9662-D8532018F1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CD66-74D7-4DF0-A06F-66DC583BFD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85122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Личностные достижения обучающихся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07640" y="5229000"/>
            <a:ext cx="6782040" cy="11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икитина Марина Николае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Игровой конкурс по естествознанию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«Человек и природа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2843280" cy="2014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67280" y="1844640"/>
            <a:ext cx="2843280" cy="2013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059280" y="4508640"/>
            <a:ext cx="2771640" cy="1962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rcRect l="27683" t="0" r="25097" b="0"/>
          <a:stretch/>
        </p:blipFill>
        <p:spPr>
          <a:xfrm>
            <a:off x="324000" y="4437000"/>
            <a:ext cx="1403280" cy="2104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rcRect l="31729" t="0" r="0" b="28070"/>
          <a:stretch/>
        </p:blipFill>
        <p:spPr>
          <a:xfrm>
            <a:off x="7308720" y="4365720"/>
            <a:ext cx="140976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онкурс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«Русский медвежонок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2225520" cy="3146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203640" y="2205000"/>
            <a:ext cx="2065320" cy="2917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rcRect l="0" t="0" r="0" b="49291"/>
          <a:stretch/>
        </p:blipFill>
        <p:spPr>
          <a:xfrm>
            <a:off x="5940360" y="2133720"/>
            <a:ext cx="30322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Лыжня Росс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3467160" cy="4896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3467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6T09:33:59Z</dcterms:created>
  <dc:creator>hi</dc:creator>
  <dc:description/>
  <dc:language>en-US</dc:language>
  <cp:lastModifiedBy>hi</cp:lastModifiedBy>
  <dcterms:modified xsi:type="dcterms:W3CDTF">2019-01-06T10:04:33Z</dcterms:modified>
  <cp:revision>2</cp:revision>
  <dc:subject/>
  <dc:title>Личностные достижения обучающихся</dc:title>
</cp:coreProperties>
</file>