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0B1-75C1-434D-AC96-223D8ECF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0E3-961A-4A89-BE66-79479115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5C2-C900-4E93-9EDE-D6DD950A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8BA-0E88-4078-8AC9-31A3BA65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1D42-68CE-4867-AE54-04856129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B62C-54B5-49FE-852C-BF0628F2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6BAE-F34F-4FB8-A442-D817D190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879B-D69C-4701-BDEF-AF38E2D5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7E1A-3AC7-4D70-B074-B3A8A7A4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3540-AC3B-4742-A371-101B4D63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DE70-A36F-4040-B125-1CA1D7CC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43A-ECD9-46D2-87A8-155FB33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249B-00F2-4E92-B043-1000B555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00A1-B544-43E8-B32F-6414530F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8A0C-4027-40B4-B71A-7246C41A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AAF3-E549-40A3-AC61-61DE2510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8602-4E21-4B59-8FDF-0C1E4872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C16-D149-4841-8048-68069AA0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D96-93E3-4655-A7E2-4E4583E6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97A-E91D-4CAD-9154-562CBCB9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AA9-D055-4620-9724-AEB0DF0A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DF1-4A29-40AC-B8C0-E3C854C5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1B4-11A3-45B0-9C5B-044378DC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7F7-6885-4FDD-9B37-80822B1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59BA-6019-472D-9D15-03629619C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43B1-FD1E-476A-9DA7-9AA7E24C5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2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Личностные достижения обучающихс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07640" y="5229000"/>
            <a:ext cx="678204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итина Марина 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Игровой конкурс по естествознанию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Человек и природ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843280" cy="201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2843280" cy="2013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2771640" cy="196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27683" t="0" r="25097" b="0"/>
          <a:stretch/>
        </p:blipFill>
        <p:spPr>
          <a:xfrm>
            <a:off x="324000" y="4437000"/>
            <a:ext cx="1403280" cy="21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31729" t="0" r="0" b="28070"/>
          <a:stretch/>
        </p:blipFill>
        <p:spPr>
          <a:xfrm>
            <a:off x="7308720" y="4365720"/>
            <a:ext cx="14097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нкурс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Русский медвежонок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225520" cy="3146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2065320" cy="2917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0" t="0" r="0" b="49291"/>
          <a:stretch/>
        </p:blipFill>
        <p:spPr>
          <a:xfrm>
            <a:off x="5940360" y="2133720"/>
            <a:ext cx="30322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ыжня Ро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467160" cy="489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467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6T09:33:59Z</dcterms:created>
  <dc:creator>hi</dc:creator>
  <dc:description/>
  <dc:language>en-US</dc:language>
  <cp:lastModifiedBy>hi</cp:lastModifiedBy>
  <dcterms:modified xsi:type="dcterms:W3CDTF">2019-01-06T10:04:33Z</dcterms:modified>
  <cp:revision>2</cp:revision>
  <dc:subject/>
  <dc:title>Личностные достижения обучающихся</dc:title>
</cp:coreProperties>
</file>