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5.jpeg" ContentType="image/jpeg"/>
  <Override PartName="/ppt/media/image18.gif" ContentType="image/gif"/>
  <Override PartName="/ppt/media/image17.gif" ContentType="image/gif"/>
  <Override PartName="/ppt/media/image11.wmf" ContentType="image/x-wmf"/>
  <Override PartName="/ppt/media/image3.png" ContentType="image/png"/>
  <Override PartName="/ppt/media/image16.wmf" ContentType="image/x-wm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10.wmf" ContentType="image/x-wmf"/>
  <Override PartName="/ppt/media/image4.gif" ContentType="image/gif"/>
  <Override PartName="/ppt/media/image12.wmf" ContentType="image/x-wmf"/>
  <Override PartName="/ppt/media/image9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974-B935-4EA5-8E77-7602F98B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5D2-3AC3-43A8-856B-A2ABB4EF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3A0-FE6E-409A-A63F-74CA8DD5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3E5-5E32-4285-A424-EB887858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7F3-479A-4FB3-BFFA-D8144566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FDD-A9B7-4B48-AFAC-08F30FB9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1D6-86CD-4D71-B843-FDC45761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C86-6A74-46F3-884F-FB569E9A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CB7-649C-4173-858D-7073F776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9B3-EB99-4FF1-8AC7-840B97F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B3B-B8A7-4020-9402-66B952D0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6AB-3099-4629-AA77-33F52523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8CE-5FE9-42B7-9C16-27529FB51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2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025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ягкий знак – особый зн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360" y="501300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Чтение  1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book"/>
          <p:cNvPicPr/>
          <p:nvPr/>
        </p:nvPicPr>
        <p:blipFill>
          <a:blip r:embed="rId2"/>
          <a:stretch/>
        </p:blipFill>
        <p:spPr>
          <a:xfrm>
            <a:off x="2987640" y="1862280"/>
            <a:ext cx="28796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ве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ем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г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ы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ы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933800" y="692280"/>
            <a:ext cx="264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Жёлу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с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аленд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ртф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етра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ро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апель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1763640" y="476280"/>
            <a:ext cx="2737080" cy="6248520"/>
            <a:chOff x="1763640" y="476280"/>
            <a:chExt cx="2737080" cy="6248520"/>
          </a:xfrm>
        </p:grpSpPr>
        <p:sp>
          <p:nvSpPr>
            <p:cNvPr id="119" name="AutoShape 7"/>
            <p:cNvSpPr/>
            <p:nvPr/>
          </p:nvSpPr>
          <p:spPr>
            <a:xfrm>
              <a:off x="1763640" y="1905120"/>
              <a:ext cx="273708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8" descr="en00685_"/>
            <p:cNvPicPr/>
            <p:nvPr/>
          </p:nvPicPr>
          <p:blipFill>
            <a:blip r:embed="rId2"/>
            <a:stretch/>
          </p:blipFill>
          <p:spPr>
            <a:xfrm>
              <a:off x="2466360" y="4756320"/>
              <a:ext cx="198684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pe00014_"/>
            <p:cNvPicPr/>
            <p:nvPr/>
          </p:nvPicPr>
          <p:blipFill>
            <a:blip r:embed="rId3"/>
            <a:stretch/>
          </p:blipFill>
          <p:spPr>
            <a:xfrm>
              <a:off x="2296080" y="476280"/>
              <a:ext cx="1589400" cy="145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484000" y="1241280"/>
            <a:ext cx="497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ень – де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гонь – ого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ень – пе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Уголь – уго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верь – звер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кунь – оку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Боль – боль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онь - ко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250920" y="404640"/>
            <a:ext cx="8784720" cy="6048360"/>
            <a:chOff x="250920" y="404640"/>
            <a:chExt cx="8784720" cy="6048360"/>
          </a:xfrm>
        </p:grpSpPr>
        <p:grpSp>
          <p:nvGrpSpPr>
            <p:cNvPr id="125" name="Group 6"/>
            <p:cNvGrpSpPr/>
            <p:nvPr/>
          </p:nvGrpSpPr>
          <p:grpSpPr>
            <a:xfrm>
              <a:off x="401400" y="404640"/>
              <a:ext cx="1292400" cy="1009800"/>
              <a:chOff x="401400" y="404640"/>
              <a:chExt cx="1292400" cy="1009800"/>
            </a:xfrm>
          </p:grpSpPr>
          <p:sp>
            <p:nvSpPr>
              <p:cNvPr id="126" name="Freeform 7"/>
              <p:cNvSpPr/>
              <p:nvPr/>
            </p:nvSpPr>
            <p:spPr>
              <a:xfrm flipH="1">
                <a:off x="1465200" y="852840"/>
                <a:ext cx="135720" cy="1666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"/>
              <p:cNvSpPr/>
              <p:nvPr/>
            </p:nvSpPr>
            <p:spPr>
              <a:xfrm flipH="1">
                <a:off x="650880" y="1182960"/>
                <a:ext cx="1028160" cy="2113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9"/>
              <p:cNvSpPr/>
              <p:nvPr/>
            </p:nvSpPr>
            <p:spPr>
              <a:xfrm flipH="1">
                <a:off x="401400" y="404640"/>
                <a:ext cx="1292400" cy="10098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 flipH="1">
                <a:off x="447120" y="813240"/>
                <a:ext cx="219240" cy="5212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1"/>
              <p:cNvSpPr/>
              <p:nvPr/>
            </p:nvSpPr>
            <p:spPr>
              <a:xfrm flipH="1">
                <a:off x="1062000" y="423720"/>
                <a:ext cx="404640" cy="3247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 flipH="1">
                <a:off x="1243440" y="435240"/>
                <a:ext cx="82800" cy="1929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3"/>
              <p:cNvSpPr/>
              <p:nvPr/>
            </p:nvSpPr>
            <p:spPr>
              <a:xfrm flipH="1">
                <a:off x="1148040" y="507960"/>
                <a:ext cx="73440" cy="964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4"/>
              <p:cNvSpPr/>
              <p:nvPr/>
            </p:nvSpPr>
            <p:spPr>
              <a:xfrm flipH="1">
                <a:off x="1117080" y="520560"/>
                <a:ext cx="67680" cy="824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5"/>
              <p:cNvSpPr/>
              <p:nvPr/>
            </p:nvSpPr>
            <p:spPr>
              <a:xfrm flipH="1">
                <a:off x="1097280" y="537480"/>
                <a:ext cx="55800" cy="529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"/>
              <p:cNvSpPr/>
              <p:nvPr/>
            </p:nvSpPr>
            <p:spPr>
              <a:xfrm flipH="1">
                <a:off x="979200" y="537480"/>
                <a:ext cx="322560" cy="383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7"/>
              <p:cNvSpPr/>
              <p:nvPr/>
            </p:nvSpPr>
            <p:spPr>
              <a:xfrm flipH="1">
                <a:off x="1005840" y="550080"/>
                <a:ext cx="57240" cy="1022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8"/>
              <p:cNvSpPr/>
              <p:nvPr/>
            </p:nvSpPr>
            <p:spPr>
              <a:xfrm flipH="1">
                <a:off x="1082160" y="554400"/>
                <a:ext cx="54360" cy="457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9"/>
              <p:cNvSpPr/>
              <p:nvPr/>
            </p:nvSpPr>
            <p:spPr>
              <a:xfrm flipH="1">
                <a:off x="1324800" y="576720"/>
                <a:ext cx="99360" cy="853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0"/>
              <p:cNvSpPr/>
              <p:nvPr/>
            </p:nvSpPr>
            <p:spPr>
              <a:xfrm flipH="1">
                <a:off x="1370160" y="604440"/>
                <a:ext cx="70560" cy="601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1"/>
              <p:cNvSpPr/>
              <p:nvPr/>
            </p:nvSpPr>
            <p:spPr>
              <a:xfrm flipH="1">
                <a:off x="1171080" y="693000"/>
                <a:ext cx="104760" cy="1022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2"/>
              <p:cNvSpPr/>
              <p:nvPr/>
            </p:nvSpPr>
            <p:spPr>
              <a:xfrm flipH="1">
                <a:off x="1322640" y="737640"/>
                <a:ext cx="105840" cy="892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3"/>
              <p:cNvSpPr/>
              <p:nvPr/>
            </p:nvSpPr>
            <p:spPr>
              <a:xfrm flipH="1">
                <a:off x="1223280" y="764280"/>
                <a:ext cx="20160" cy="165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4"/>
              <p:cNvSpPr/>
              <p:nvPr/>
            </p:nvSpPr>
            <p:spPr>
              <a:xfrm flipH="1">
                <a:off x="1337400" y="793800"/>
                <a:ext cx="17280" cy="151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5"/>
              <p:cNvSpPr/>
              <p:nvPr/>
            </p:nvSpPr>
            <p:spPr>
              <a:xfrm flipH="1">
                <a:off x="1301760" y="820440"/>
                <a:ext cx="35280" cy="489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6"/>
              <p:cNvSpPr/>
              <p:nvPr/>
            </p:nvSpPr>
            <p:spPr>
              <a:xfrm flipH="1">
                <a:off x="912600" y="827280"/>
                <a:ext cx="72000" cy="658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7"/>
              <p:cNvSpPr/>
              <p:nvPr/>
            </p:nvSpPr>
            <p:spPr>
              <a:xfrm flipH="1">
                <a:off x="1178640" y="876600"/>
                <a:ext cx="19080" cy="108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8"/>
              <p:cNvSpPr/>
              <p:nvPr/>
            </p:nvSpPr>
            <p:spPr>
              <a:xfrm flipH="1">
                <a:off x="1377720" y="888840"/>
                <a:ext cx="181080" cy="158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9"/>
              <p:cNvSpPr/>
              <p:nvPr/>
            </p:nvSpPr>
            <p:spPr>
              <a:xfrm flipH="1">
                <a:off x="867600" y="893160"/>
                <a:ext cx="299520" cy="1760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0"/>
              <p:cNvSpPr/>
              <p:nvPr/>
            </p:nvSpPr>
            <p:spPr>
              <a:xfrm flipH="1">
                <a:off x="516240" y="925560"/>
                <a:ext cx="134640" cy="2955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1"/>
              <p:cNvSpPr/>
              <p:nvPr/>
            </p:nvSpPr>
            <p:spPr>
              <a:xfrm flipH="1">
                <a:off x="1488600" y="961920"/>
                <a:ext cx="21600" cy="266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2"/>
              <p:cNvSpPr/>
              <p:nvPr/>
            </p:nvSpPr>
            <p:spPr>
              <a:xfrm flipH="1">
                <a:off x="789840" y="1229400"/>
                <a:ext cx="326880" cy="403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3"/>
              <p:cNvSpPr/>
              <p:nvPr/>
            </p:nvSpPr>
            <p:spPr>
              <a:xfrm flipH="1">
                <a:off x="902880" y="1275840"/>
                <a:ext cx="213840" cy="262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4"/>
              <p:cNvSpPr/>
              <p:nvPr/>
            </p:nvSpPr>
            <p:spPr>
              <a:xfrm flipH="1">
                <a:off x="482040" y="782640"/>
                <a:ext cx="1165680" cy="4438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Picture 35" descr="pe01821_"/>
            <p:cNvPicPr/>
            <p:nvPr/>
          </p:nvPicPr>
          <p:blipFill>
            <a:blip r:embed="rId2"/>
            <a:stretch/>
          </p:blipFill>
          <p:spPr>
            <a:xfrm>
              <a:off x="7337160" y="4353120"/>
              <a:ext cx="169848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6" descr="pe02310_"/>
            <p:cNvPicPr/>
            <p:nvPr/>
          </p:nvPicPr>
          <p:blipFill>
            <a:blip r:embed="rId3"/>
            <a:stretch/>
          </p:blipFill>
          <p:spPr>
            <a:xfrm>
              <a:off x="250920" y="4605120"/>
              <a:ext cx="1431720" cy="157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5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035440" y="202896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тар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08160" y="202896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тарен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054520" y="27082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о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927960" y="270828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ов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053440" y="342900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ис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071240" y="342900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ист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069800" y="422100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ел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053080" y="42210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ел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2126880" y="494172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и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143600" y="50133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ин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24784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197800" y="573408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расны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4214520" y="573408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расн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320560" y="1209600"/>
            <a:ext cx="163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а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аш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д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е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Лю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ст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21964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285440" y="1197000"/>
            <a:ext cx="253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ас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аш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д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т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ет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Люс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ст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0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ягкий знак – разделительный зна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0" y="2332080"/>
            <a:ext cx="31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т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ы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м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SAMPLE2"/>
          <p:cNvPicPr/>
          <p:nvPr/>
        </p:nvPicPr>
        <p:blipFill>
          <a:blip r:embed="rId2"/>
          <a:stretch/>
        </p:blipFill>
        <p:spPr>
          <a:xfrm>
            <a:off x="324000" y="1413000"/>
            <a:ext cx="3743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904680" y="2349360"/>
            <a:ext cx="665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 Простоквашино  живё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се хозяйство там вед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дрес точный я не знаю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о фамилия – морск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исьмо Дяде Федору от Матрос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6" descr="cat34"/>
          <p:cNvPicPr/>
          <p:nvPr/>
        </p:nvPicPr>
        <p:blipFill>
          <a:blip r:embed="rId2"/>
          <a:stretch/>
        </p:blipFill>
        <p:spPr>
          <a:xfrm>
            <a:off x="971640" y="26208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орогой Дядя Фёдо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Живём мы здесь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арик очень доволен, что у него 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удка. Радостный такой. Глаза свет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к уго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 прошлой неделе сру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анку.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к раз вовремя. Печкин захвор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парился раз шест      и стал здор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енки со двора мы с Шариком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брали. Весной сделаем грядки редки.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У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чен   Печкин из неё салат люб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446520" y="1268280"/>
            <a:ext cx="968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042920" y="2349360"/>
            <a:ext cx="1733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го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70160" y="3357720"/>
            <a:ext cx="1407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ань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135600" y="4292640"/>
            <a:ext cx="1264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97800" y="4797360"/>
            <a:ext cx="1561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ень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156360" y="5300640"/>
            <a:ext cx="165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дьк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326880" y="5734080"/>
            <a:ext cx="1233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4" descr="ag00052_"/>
          <p:cNvPicPr/>
          <p:nvPr/>
        </p:nvPicPr>
        <p:blipFill>
          <a:blip r:embed="rId2"/>
          <a:stretch/>
        </p:blipFill>
        <p:spPr>
          <a:xfrm>
            <a:off x="6804000" y="2492280"/>
            <a:ext cx="2195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9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4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9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роч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едведь спит в берлог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Рысь охотится на мелких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вер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усь – домашняя пти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онь пашет зем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лень – лесной зв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арась – речная ры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book"/>
          <p:cNvPicPr/>
          <p:nvPr/>
        </p:nvPicPr>
        <p:blipFill>
          <a:blip r:embed="rId2"/>
          <a:stretch/>
        </p:blipFill>
        <p:spPr>
          <a:xfrm>
            <a:off x="6372360" y="4076640"/>
            <a:ext cx="21603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9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 ле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Трещит на морозе 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едведь спит в берлог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аяц залез на п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обежал по тропе зв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а дереве спит ры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обежал рысью ол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Лось остановился у корму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2627280" y="2349360"/>
            <a:ext cx="6244560" cy="3363480"/>
            <a:chOff x="2627280" y="2349360"/>
            <a:chExt cx="6244560" cy="3363480"/>
          </a:xfrm>
        </p:grpSpPr>
        <p:pic>
          <p:nvPicPr>
            <p:cNvPr id="200" name="Picture 6" descr="bd07213_"/>
            <p:cNvPicPr/>
            <p:nvPr/>
          </p:nvPicPr>
          <p:blipFill>
            <a:blip r:embed="rId2"/>
            <a:stretch/>
          </p:blipFill>
          <p:spPr>
            <a:xfrm>
              <a:off x="7201080" y="2349360"/>
              <a:ext cx="167076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AutoShape 7"/>
            <p:cNvSpPr/>
            <p:nvPr/>
          </p:nvSpPr>
          <p:spPr>
            <a:xfrm>
              <a:off x="2627280" y="5311080"/>
              <a:ext cx="5310720" cy="40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3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331200" y="3860640"/>
            <a:ext cx="867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Буква Р перевернулась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ягким знаком обернулас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1619280" y="692280"/>
            <a:ext cx="273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12"/>
          <p:cNvSpPr txBox="1"/>
          <p:nvPr/>
        </p:nvSpPr>
        <p:spPr>
          <a:xfrm>
            <a:off x="5940360" y="620640"/>
            <a:ext cx="2737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325080" y="333360"/>
            <a:ext cx="32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Бол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Боль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Заболе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52360" y="476280"/>
            <a:ext cx="352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ол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олёны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ол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81800" y="2276640"/>
            <a:ext cx="372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ыл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ыльны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Запылил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21964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05620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757440" y="0"/>
            <a:ext cx="330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Лен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Лени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ленит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5940000" y="5084640"/>
            <a:ext cx="14436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0d7bfbb42edcbbc148491e5164e3ef67"/>
          <p:cNvPicPr/>
          <p:nvPr/>
        </p:nvPicPr>
        <p:blipFill>
          <a:blip r:embed="rId2"/>
          <a:stretch/>
        </p:blipFill>
        <p:spPr>
          <a:xfrm>
            <a:off x="5148360" y="2801880"/>
            <a:ext cx="38512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39640" y="182232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ильный моро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льга надела паль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евочка взяла конь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на идёт на школьный кат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Там мальчики быстро скользят по ль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Большому морозу их не испуг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коло катка ольха и е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 ольхе снегир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616920" y="6350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 кат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"/>
          <p:cNvGrpSpPr/>
          <p:nvPr/>
        </p:nvGrpSpPr>
        <p:grpSpPr>
          <a:xfrm>
            <a:off x="2556000" y="3860640"/>
            <a:ext cx="4468680" cy="1722600"/>
            <a:chOff x="2556000" y="3860640"/>
            <a:chExt cx="4468680" cy="1722600"/>
          </a:xfrm>
        </p:grpSpPr>
        <p:pic>
          <p:nvPicPr>
            <p:cNvPr id="216" name="Picture 5" descr="bd07213_"/>
            <p:cNvPicPr/>
            <p:nvPr/>
          </p:nvPicPr>
          <p:blipFill>
            <a:blip r:embed="rId2"/>
            <a:stretch/>
          </p:blipFill>
          <p:spPr>
            <a:xfrm>
              <a:off x="5832360" y="3860640"/>
              <a:ext cx="119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AutoShape 6"/>
            <p:cNvSpPr/>
            <p:nvPr/>
          </p:nvSpPr>
          <p:spPr>
            <a:xfrm>
              <a:off x="2556000" y="5182920"/>
              <a:ext cx="3816360" cy="40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7" descr="book"/>
          <p:cNvPicPr/>
          <p:nvPr/>
        </p:nvPicPr>
        <p:blipFill>
          <a:blip r:embed="rId3"/>
          <a:stretch/>
        </p:blipFill>
        <p:spPr>
          <a:xfrm>
            <a:off x="2050920" y="1700280"/>
            <a:ext cx="2233800" cy="20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06"/>
          <p:cNvPicPr/>
          <p:nvPr/>
        </p:nvPicPr>
        <p:blipFill>
          <a:blip r:embed="rId4"/>
          <a:stretch/>
        </p:blipFill>
        <p:spPr>
          <a:xfrm>
            <a:off x="7236000" y="162864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06"/>
          <p:cNvPicPr/>
          <p:nvPr/>
        </p:nvPicPr>
        <p:blipFill>
          <a:blip r:embed="rId5"/>
          <a:stretch/>
        </p:blipFill>
        <p:spPr>
          <a:xfrm>
            <a:off x="611280" y="1557360"/>
            <a:ext cx="1214280" cy="122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06"/>
          <p:cNvPicPr/>
          <p:nvPr/>
        </p:nvPicPr>
        <p:blipFill>
          <a:blip r:embed="rId6"/>
          <a:stretch/>
        </p:blipFill>
        <p:spPr>
          <a:xfrm>
            <a:off x="4067280" y="3357720"/>
            <a:ext cx="121284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j0232054"/>
          <p:cNvPicPr/>
          <p:nvPr/>
        </p:nvPicPr>
        <p:blipFill>
          <a:blip r:embed="rId2"/>
          <a:stretch/>
        </p:blipFill>
        <p:spPr>
          <a:xfrm>
            <a:off x="5076720" y="2349360"/>
            <a:ext cx="3468960" cy="360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j0232723"/>
          <p:cNvPicPr/>
          <p:nvPr/>
        </p:nvPicPr>
        <p:blipFill>
          <a:blip r:embed="rId3"/>
          <a:stretch/>
        </p:blipFill>
        <p:spPr>
          <a:xfrm>
            <a:off x="250920" y="4221000"/>
            <a:ext cx="4048200" cy="213372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latin typeface="Monotype Corsiva"/>
              </a:rPr>
              <a:t>Спасибо за урок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11280" y="177336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Это очень важный зна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Без него нельзя ника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и пробегать целый ден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и найти под клёном т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Scan0134"/>
          <p:cNvPicPr/>
          <p:nvPr/>
        </p:nvPicPr>
        <p:blipFill>
          <a:blip r:embed="rId2"/>
          <a:stretch/>
        </p:blipFill>
        <p:spPr>
          <a:xfrm>
            <a:off x="3452760" y="0"/>
            <a:ext cx="55832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79800" y="1138320"/>
            <a:ext cx="637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 лужку он важно брод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Из воды сухим выход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осит красные ботин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арит мягкие пери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809280" y="4010040"/>
            <a:ext cx="256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Г у с 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684360" y="5229360"/>
            <a:ext cx="576000" cy="50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2195640" y="5229360"/>
            <a:ext cx="576000" cy="5047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1403280" y="5229360"/>
            <a:ext cx="576360" cy="504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843280" y="522936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205080" y="6021360"/>
            <a:ext cx="52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ажный гусь пла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ягкий знак – хитрый зн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ягкий знак – хитры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 назвать его ник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н не произнос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о в слово часто прос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чему у дома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у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евратился сразу в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ез пожара, просто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буква мягки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72"/>
          <p:cNvPicPr/>
          <p:nvPr/>
        </p:nvPicPr>
        <p:blipFill>
          <a:blip r:embed="rId2"/>
          <a:stretch/>
        </p:blipFill>
        <p:spPr>
          <a:xfrm>
            <a:off x="6156360" y="393372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ЯНВАРЬ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374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f0688"/>
                </a:solidFill>
                <a:latin typeface="Arial"/>
              </a:rPr>
              <a:t>Мы</a:t>
            </a:r>
            <a:r>
              <a:rPr b="0" lang="ru-RU" sz="4400" spc="-1" strike="noStrike">
                <a:solidFill>
                  <a:srgbClr val="0f0688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f0688"/>
                </a:solidFill>
                <a:latin typeface="Arial"/>
              </a:rPr>
              <a:t>чит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j0232054"/>
          <p:cNvPicPr/>
          <p:nvPr/>
        </p:nvPicPr>
        <p:blipFill>
          <a:blip r:embed="rId2"/>
          <a:stretch/>
        </p:blipFill>
        <p:spPr>
          <a:xfrm>
            <a:off x="6300720" y="260280"/>
            <a:ext cx="1595520" cy="16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68360" y="2492280"/>
          <a:ext cx="8137440" cy="1584360"/>
        </p:xfrm>
        <a:graphic>
          <a:graphicData uri="http://schemas.openxmlformats.org/drawingml/2006/table">
            <a:tbl>
              <a:tblPr/>
              <a:tblGrid>
                <a:gridCol w="503280"/>
                <a:gridCol w="360360"/>
                <a:gridCol w="431640"/>
                <a:gridCol w="504720"/>
                <a:gridCol w="432000"/>
                <a:gridCol w="358920"/>
                <a:gridCol w="360360"/>
                <a:gridCol w="360360"/>
                <a:gridCol w="299880"/>
                <a:gridCol w="376200"/>
                <a:gridCol w="378000"/>
                <a:gridCol w="376200"/>
                <a:gridCol w="377640"/>
                <a:gridCol w="378000"/>
                <a:gridCol w="477720"/>
                <a:gridCol w="360360"/>
                <a:gridCol w="293760"/>
                <a:gridCol w="376200"/>
                <a:gridCol w="376200"/>
                <a:gridCol w="379440"/>
                <a:gridCol w="37620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73"/>
          <p:cNvSpPr/>
          <p:nvPr/>
        </p:nvSpPr>
        <p:spPr>
          <a:xfrm>
            <a:off x="611280" y="2565360"/>
            <a:ext cx="4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4"/>
          <p:cNvSpPr/>
          <p:nvPr/>
        </p:nvSpPr>
        <p:spPr>
          <a:xfrm>
            <a:off x="1042920" y="256536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5"/>
          <p:cNvSpPr/>
          <p:nvPr/>
        </p:nvSpPr>
        <p:spPr>
          <a:xfrm>
            <a:off x="1763640" y="2637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1403280" y="26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7"/>
          <p:cNvSpPr/>
          <p:nvPr/>
        </p:nvSpPr>
        <p:spPr>
          <a:xfrm>
            <a:off x="1835280" y="3429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8"/>
          <p:cNvSpPr/>
          <p:nvPr/>
        </p:nvSpPr>
        <p:spPr>
          <a:xfrm>
            <a:off x="270036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9"/>
          <p:cNvSpPr/>
          <p:nvPr/>
        </p:nvSpPr>
        <p:spPr>
          <a:xfrm>
            <a:off x="2987640" y="263700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0"/>
          <p:cNvSpPr/>
          <p:nvPr/>
        </p:nvSpPr>
        <p:spPr>
          <a:xfrm>
            <a:off x="3348000" y="2637000"/>
            <a:ext cx="3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1"/>
          <p:cNvSpPr/>
          <p:nvPr/>
        </p:nvSpPr>
        <p:spPr>
          <a:xfrm>
            <a:off x="3708360" y="26370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2"/>
          <p:cNvSpPr/>
          <p:nvPr/>
        </p:nvSpPr>
        <p:spPr>
          <a:xfrm>
            <a:off x="414036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3"/>
          <p:cNvSpPr/>
          <p:nvPr/>
        </p:nvSpPr>
        <p:spPr>
          <a:xfrm>
            <a:off x="450072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4"/>
          <p:cNvSpPr/>
          <p:nvPr/>
        </p:nvSpPr>
        <p:spPr>
          <a:xfrm>
            <a:off x="485928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5"/>
          <p:cNvSpPr/>
          <p:nvPr/>
        </p:nvSpPr>
        <p:spPr>
          <a:xfrm>
            <a:off x="521964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6"/>
          <p:cNvSpPr/>
          <p:nvPr/>
        </p:nvSpPr>
        <p:spPr>
          <a:xfrm>
            <a:off x="558000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7"/>
          <p:cNvSpPr/>
          <p:nvPr/>
        </p:nvSpPr>
        <p:spPr>
          <a:xfrm>
            <a:off x="6012000" y="263700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"/>
          <p:cNvSpPr/>
          <p:nvPr/>
        </p:nvSpPr>
        <p:spPr>
          <a:xfrm>
            <a:off x="6443640" y="26370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9"/>
          <p:cNvSpPr/>
          <p:nvPr/>
        </p:nvSpPr>
        <p:spPr>
          <a:xfrm>
            <a:off x="4427640" y="342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0"/>
          <p:cNvSpPr/>
          <p:nvPr/>
        </p:nvSpPr>
        <p:spPr>
          <a:xfrm>
            <a:off x="5219640" y="3429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1"/>
          <p:cNvSpPr/>
          <p:nvPr/>
        </p:nvSpPr>
        <p:spPr>
          <a:xfrm>
            <a:off x="5580000" y="3429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2"/>
          <p:cNvSpPr/>
          <p:nvPr/>
        </p:nvSpPr>
        <p:spPr>
          <a:xfrm>
            <a:off x="6443640" y="34290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3"/>
          <p:cNvSpPr/>
          <p:nvPr/>
        </p:nvSpPr>
        <p:spPr>
          <a:xfrm>
            <a:off x="234000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4"/>
          <p:cNvSpPr/>
          <p:nvPr/>
        </p:nvSpPr>
        <p:spPr>
          <a:xfrm>
            <a:off x="6172200" y="3994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5"/>
          <p:cNvSpPr/>
          <p:nvPr/>
        </p:nvSpPr>
        <p:spPr>
          <a:xfrm>
            <a:off x="5940360" y="3429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6"/>
          <p:cNvSpPr/>
          <p:nvPr/>
        </p:nvSpPr>
        <p:spPr>
          <a:xfrm>
            <a:off x="478800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7"/>
          <p:cNvSpPr/>
          <p:nvPr/>
        </p:nvSpPr>
        <p:spPr>
          <a:xfrm>
            <a:off x="468360" y="342900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8"/>
          <p:cNvSpPr/>
          <p:nvPr/>
        </p:nvSpPr>
        <p:spPr>
          <a:xfrm>
            <a:off x="900000" y="342900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9"/>
          <p:cNvSpPr/>
          <p:nvPr/>
        </p:nvSpPr>
        <p:spPr>
          <a:xfrm>
            <a:off x="1258920" y="342900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0"/>
          <p:cNvSpPr/>
          <p:nvPr/>
        </p:nvSpPr>
        <p:spPr>
          <a:xfrm>
            <a:off x="2268360" y="3429000"/>
            <a:ext cx="3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1"/>
          <p:cNvSpPr/>
          <p:nvPr/>
        </p:nvSpPr>
        <p:spPr>
          <a:xfrm>
            <a:off x="1192680" y="494172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f0688"/>
                </a:solidFill>
                <a:latin typeface="Arial"/>
              </a:rPr>
              <a:t>Чтение – лучшее у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2"/>
          <p:cNvSpPr/>
          <p:nvPr/>
        </p:nvSpPr>
        <p:spPr>
          <a:xfrm>
            <a:off x="6012000" y="443700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365E-006 L 0.23247 -0.15175 E">
                                      <p:cBhvr>
                                        <p:cTn id="40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836720" y="189000"/>
            <a:ext cx="47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Угол - уг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051280" y="981000"/>
            <a:ext cx="434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Мел - м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93080" y="1773360"/>
            <a:ext cx="516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Шест - ше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269080" y="2492280"/>
            <a:ext cx="406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Тол - т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556720" y="3213000"/>
            <a:ext cx="360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Ел – ел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835280" y="4149720"/>
            <a:ext cx="487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Брат - бр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20364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051640" y="5013360"/>
            <a:ext cx="48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Стал - ста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09"/>
          <p:cNvPicPr/>
          <p:nvPr/>
        </p:nvPicPr>
        <p:blipFill>
          <a:blip r:embed="rId2"/>
          <a:stretch/>
        </p:blipFill>
        <p:spPr>
          <a:xfrm>
            <a:off x="7308720" y="3068640"/>
            <a:ext cx="15843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Тень, тень, потитен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о дворе стоит плет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ели звери под плетен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охвалялися весь д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122"/>
          <p:cNvPicPr/>
          <p:nvPr/>
        </p:nvPicPr>
        <p:blipFill>
          <a:blip r:embed="rId2"/>
          <a:stretch/>
        </p:blipFill>
        <p:spPr>
          <a:xfrm>
            <a:off x="5651640" y="5589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122"/>
          <p:cNvPicPr/>
          <p:nvPr/>
        </p:nvPicPr>
        <p:blipFill>
          <a:blip r:embed="rId3"/>
          <a:stretch/>
        </p:blipFill>
        <p:spPr>
          <a:xfrm>
            <a:off x="7308720" y="2133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22"/>
          <p:cNvPicPr/>
          <p:nvPr/>
        </p:nvPicPr>
        <p:blipFill>
          <a:blip r:embed="rId4"/>
          <a:stretch/>
        </p:blipFill>
        <p:spPr>
          <a:xfrm>
            <a:off x="4500720" y="982800"/>
            <a:ext cx="1079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7445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ель, мель, мель – мы жевали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    карам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ерь, верь, верь – я совсем не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    страшный зв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Ась, ась, ась, ась – по реке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лывёт кара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сь, ось, ось – выше мячик в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ебо брос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29:05Z</dcterms:created>
  <dc:creator>Apple</dc:creator>
  <dc:description/>
  <dc:language>en-US</dc:language>
  <cp:lastModifiedBy>Home</cp:lastModifiedBy>
  <dcterms:modified xsi:type="dcterms:W3CDTF">2019-01-06T10:00:12Z</dcterms:modified>
  <cp:revision>6</cp:revision>
  <dc:subject/>
  <dc:title>Мягкий знак – особый знак</dc:title>
</cp:coreProperties>
</file>