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B5C-E995-40A6-947A-1DBDD83C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138-3ECD-460F-A314-D436532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79C-FB6C-4274-8958-53B3B635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585-3BFC-48BB-99AB-A2CD2588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7BD-4820-4D17-B15B-4E9FA24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180-A0D7-4E20-8412-18F0B9C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E7D-5154-4E7C-94CD-4029BF9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BA5-DBBD-4612-949B-F509AD6A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5A7-F024-4DF9-8750-F461A32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AF5-20D6-43AE-8703-E4C220BA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44D-2ECB-4415-9820-9AC39A6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806-090B-4C99-8E29-617B447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EFB-D09C-4F18-87E1-79FA531CC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36360" y="450720"/>
            <a:ext cx="92534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3749760" y="2236680"/>
            <a:ext cx="5308560" cy="2773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C:\Users\12\Documents\проект социаольные сети\соцсети.png"/>
          <p:cNvPicPr/>
          <p:nvPr/>
        </p:nvPicPr>
        <p:blipFill>
          <a:blip r:embed="rId3"/>
          <a:stretch/>
        </p:blipFill>
        <p:spPr>
          <a:xfrm>
            <a:off x="281160" y="2206800"/>
            <a:ext cx="3584520" cy="3870000"/>
          </a:xfrm>
          <a:prstGeom prst="rect">
            <a:avLst/>
          </a:prstGeom>
          <a:ln w="0">
            <a:noFill/>
          </a:ln>
        </p:spPr>
      </p:pic>
      <p:pic>
        <p:nvPicPr>
          <p:cNvPr id="44" name="FLESH  SPACE - Pleasure or Madness.mp3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0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826920" y="800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вы пользуетесь социальными сетями чаще всего (место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4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611280" y="7394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чалось ли такое, что вы не успевали выполнить важное задание (домашнюю работу, поручение) из-за долгого времяпрепровожд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611280" y="80064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гли бы вы успешно учиться без помощи Интерн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92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611280" y="92232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гли бы вы успешно саморазвиваться без помощи Интерн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611280" y="1044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часто вы выходите в сеть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11280" y="61704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чего вы, в основном, пользуетесь социальными сет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Диаграмма 3"/>
          <p:cNvGraphicFramePr/>
          <p:nvPr/>
        </p:nvGraphicFramePr>
        <p:xfrm>
          <a:off x="1560600" y="2160720"/>
          <a:ext cx="6352920" cy="41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160720"/>
                    <a:ext cx="6352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"/>
          <p:cNvSpPr/>
          <p:nvPr/>
        </p:nvSpPr>
        <p:spPr>
          <a:xfrm>
            <a:off x="611280" y="67860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ете ли вы социальные сети всемирным злом, «наркотиком», «плохой» тенденци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611280" y="517680"/>
            <a:ext cx="828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ияет ли социальная сеть на ваши поступки в реальной жизни (отношение к людям, покупки, участие в митингах и т.д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611280" y="62748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группы вам более интересны в социальной с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http://review-it.ru/_pu/4/90497674.jpg"/>
          <p:cNvPicPr/>
          <p:nvPr/>
        </p:nvPicPr>
        <p:blipFill>
          <a:blip r:embed="rId1"/>
          <a:stretch/>
        </p:blipFill>
        <p:spPr>
          <a:xfrm>
            <a:off x="395280" y="333360"/>
            <a:ext cx="7272360" cy="513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s://im0-tub-ru.yandex.net/i?id=a7e8816c4a865dba9234f91b77042c1e&amp;n=33&amp;h=215&amp;w=157"/>
          <p:cNvPicPr/>
          <p:nvPr/>
        </p:nvPicPr>
        <p:blipFill>
          <a:blip r:embed="rId2"/>
          <a:stretch/>
        </p:blipFill>
        <p:spPr>
          <a:xfrm>
            <a:off x="6516720" y="3357720"/>
            <a:ext cx="2417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бота в групп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981000"/>
            <a:ext cx="8642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Вспомните свое детство. Какие главные развлечения у вас всплывают в памяти? Какими играми Вы были увлечены? Как организовывали свободное время? 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Сформулируйте и запишите на листах бумаги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5968"/>
                </a:solidFill>
                <a:latin typeface="Calibri"/>
              </a:rPr>
              <a:t>C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оставьте от группы общий спи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«Досуг моего детст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для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267920"/>
            <a:ext cx="864072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Мошен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анар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Разглашение персональ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Киберпреследование (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</a:rPr>
              <a:t>рассылка оскорбительных сообщений и эл. писем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едофи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наркотических и психотропных веще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суиц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ыделяют 3 вида суици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46836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емонстра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507672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ффе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771640" y="4797360"/>
            <a:ext cx="37450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сти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низ 7"/>
          <p:cNvSpPr/>
          <p:nvPr/>
        </p:nvSpPr>
        <p:spPr>
          <a:xfrm>
            <a:off x="2195640" y="1628640"/>
            <a:ext cx="720720" cy="936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8"/>
          <p:cNvSpPr/>
          <p:nvPr/>
        </p:nvSpPr>
        <p:spPr>
          <a:xfrm>
            <a:off x="6372360" y="1700280"/>
            <a:ext cx="720720" cy="865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низ 9"/>
          <p:cNvSpPr/>
          <p:nvPr/>
        </p:nvSpPr>
        <p:spPr>
          <a:xfrm>
            <a:off x="4284720" y="1628640"/>
            <a:ext cx="718920" cy="2952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Untitled-1color"/>
          <p:cNvPicPr/>
          <p:nvPr/>
        </p:nvPicPr>
        <p:blipFill>
          <a:blip r:embed="rId2"/>
          <a:stretch/>
        </p:blipFill>
        <p:spPr>
          <a:xfrm>
            <a:off x="2556000" y="1557360"/>
            <a:ext cx="3663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Основные причины суици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1. Неблагополучные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2. Школьны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3. Ст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4. Любов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5.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Сайты глобальной сети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Это группы со словам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КИТ «Киты плывут вверх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Космический кит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Белый кит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Китовой журнал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Море китов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Океан китов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Летающий кит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Бабочки – т.к. они живут один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f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214200"/>
            <a:ext cx="6572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8773269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ая группа содержит изображение человека, совершающего суицид через самоповешение, а также материалы, посвященные самоубийству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9783915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священа "спортивному повешению", пропаганде суицида среди несовершеннолетних ради развлечения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1419218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священа обсуждению суицида, пропаганде суицида сред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2067096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Самоубийство за и против". Содержит пропаганду самоубийства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2581215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Задумывающиеся о самоубийстве". Содержит пропаганду самоубийства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123797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Наша смерть должна быть запланированной и безболезненной". Содержит пропаганду самоубийств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12\Desktop\проект о интернет  зависимости_1\опасные соц.группы\опасно.png"/>
          <p:cNvPicPr/>
          <p:nvPr/>
        </p:nvPicPr>
        <p:blipFill>
          <a:blip r:embed="rId1"/>
          <a:stretch/>
        </p:blipFill>
        <p:spPr>
          <a:xfrm>
            <a:off x="6572160" y="285840"/>
            <a:ext cx="2300400" cy="184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5" name="Picture 3" descr="C:\Users\12\Desktop\проект о интернет  зависимости_1\опасные соц.группы\суицид.png"/>
          <p:cNvPicPr/>
          <p:nvPr/>
        </p:nvPicPr>
        <p:blipFill>
          <a:blip r:embed="rId2"/>
          <a:stretch/>
        </p:blipFill>
        <p:spPr>
          <a:xfrm>
            <a:off x="6429240" y="2571840"/>
            <a:ext cx="2428920" cy="186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6" name="Picture 4" descr="C:\Users\12\Desktop\проект о интернет  зависимости_1\опасные соц.группы\суицид2.png"/>
          <p:cNvPicPr/>
          <p:nvPr/>
        </p:nvPicPr>
        <p:blipFill>
          <a:blip r:embed="rId3"/>
          <a:stretch/>
        </p:blipFill>
        <p:spPr>
          <a:xfrm>
            <a:off x="6429240" y="4857840"/>
            <a:ext cx="2328840" cy="1770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Box 5"/>
          <p:cNvSpPr/>
          <p:nvPr/>
        </p:nvSpPr>
        <p:spPr>
          <a:xfrm>
            <a:off x="3441600" y="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пасны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Характерные при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46836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ов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507672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веден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2771640" y="4797360"/>
            <a:ext cx="37450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иту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низ 7"/>
          <p:cNvSpPr/>
          <p:nvPr/>
        </p:nvSpPr>
        <p:spPr>
          <a:xfrm>
            <a:off x="2195640" y="1628640"/>
            <a:ext cx="720720" cy="936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8"/>
          <p:cNvSpPr/>
          <p:nvPr/>
        </p:nvSpPr>
        <p:spPr>
          <a:xfrm>
            <a:off x="6372360" y="1700280"/>
            <a:ext cx="720720" cy="865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9"/>
          <p:cNvSpPr/>
          <p:nvPr/>
        </p:nvSpPr>
        <p:spPr>
          <a:xfrm>
            <a:off x="4284720" y="1628640"/>
            <a:ext cx="718920" cy="2952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веты помогут изменить ситуацию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267920"/>
            <a:ext cx="864072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внимательно выслушайте подрост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цените серьезность намерений и чувств ребен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цените глубину эмоционального кризис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внимательно отнеситесь ко всем, даже самым незначительным обидам и жалоб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е бойтесь прямо спросить, не думают ли он или она о самоубийств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Анкетирование родител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05264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ждение вашего ребёнка было желан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каждый день его целуете, говорите ласковые слова или шутите с н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с ним каждый вечер разговариваете по душам и обсуждаете прожитый им ден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 в неделю проводите с ним досуг (кино, концерт, театр, посещение родственников, поход на лыжах и т.д.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обсуждаете с ним создавшиеся семейные проблемы, ситуации, пл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обсуждаете с ним его имидж, моду, манеру одева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его друзей (чем они занимаются, где живут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Анкетирование родител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628640"/>
            <a:ext cx="856908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в курсе о его время провождении, хобби, занят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в курсе его влюблённости, симпат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о его недругах, недоброжелателях, враг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, какой его любимый предмет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кто у него любимый учитель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, какой у него самый нелюбимый учитель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первым идёте на примирение, разгово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не оскорбляете и не унижаете своего ребён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-171360"/>
            <a:ext cx="5627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Салки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Казаки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-разбойник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Прятк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Глухой телефон»..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чтение интересных кни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photo.7ya.ru/ph/2009/8/29/1251564266144.jpg"/>
          <p:cNvPicPr/>
          <p:nvPr/>
        </p:nvPicPr>
        <p:blipFill>
          <a:blip r:embed="rId1"/>
          <a:stretch/>
        </p:blipFill>
        <p:spPr>
          <a:xfrm>
            <a:off x="539640" y="3554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s://deltajones.files.wordpress.com/2015/04/tag.jpg"/>
          <p:cNvPicPr/>
          <p:nvPr/>
        </p:nvPicPr>
        <p:blipFill>
          <a:blip r:embed="rId2"/>
          <a:stretch/>
        </p:blipFill>
        <p:spPr>
          <a:xfrm>
            <a:off x="5292720" y="4508640"/>
            <a:ext cx="3189240" cy="211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s://im3-tub-ru.yandex.net/i?id=2a52be05b6265b16cc53377224b1144f&amp;n=33&amp;h=215&amp;w=382"/>
          <p:cNvPicPr/>
          <p:nvPr/>
        </p:nvPicPr>
        <p:blipFill>
          <a:blip r:embed="rId3"/>
          <a:stretch/>
        </p:blipFill>
        <p:spPr>
          <a:xfrm>
            <a:off x="5076720" y="26028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innerdrive.ru/photos/igra-v-slomannyy-telefon-dlya-detey-67420-large.jpg"/>
          <p:cNvPicPr/>
          <p:nvPr/>
        </p:nvPicPr>
        <p:blipFill>
          <a:blip r:embed="rId4"/>
          <a:stretch/>
        </p:blipFill>
        <p:spPr>
          <a:xfrm>
            <a:off x="6156360" y="2492280"/>
            <a:ext cx="2671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250920" y="2916360"/>
            <a:ext cx="8643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 уделяйте как можно больше внимания сво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2" descr=""/>
          <p:cNvPicPr/>
          <p:nvPr/>
        </p:nvPicPr>
        <p:blipFill>
          <a:blip r:embed="rId1"/>
          <a:stretch/>
        </p:blipFill>
        <p:spPr>
          <a:xfrm>
            <a:off x="2951280" y="1206360"/>
            <a:ext cx="3071520" cy="14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8869320" cy="26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ttp://im0-tub-ru.yandex.net/i?id=64303121-60-72"/>
          <p:cNvPicPr/>
          <p:nvPr/>
        </p:nvPicPr>
        <p:blipFill>
          <a:blip r:embed="rId2"/>
          <a:stretch/>
        </p:blipFill>
        <p:spPr>
          <a:xfrm>
            <a:off x="3121200" y="3352680"/>
            <a:ext cx="3365280" cy="503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static.zebra.lt/files/200907/M3qFRvfK.jpg"/>
          <p:cNvPicPr/>
          <p:nvPr/>
        </p:nvPicPr>
        <p:blipFill>
          <a:blip r:embed="rId2"/>
          <a:stretch/>
        </p:blipFill>
        <p:spPr>
          <a:xfrm>
            <a:off x="684360" y="476280"/>
            <a:ext cx="51814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http://www.manosveikata.lt/resources/_catalog/1-kid-ipad.jpg"/>
          <p:cNvPicPr/>
          <p:nvPr/>
        </p:nvPicPr>
        <p:blipFill>
          <a:blip r:embed="rId3"/>
          <a:stretch/>
        </p:blipFill>
        <p:spPr>
          <a:xfrm>
            <a:off x="395280" y="3933720"/>
            <a:ext cx="363708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http://www.primmarketing.ru/img/news/2010/08/04/socmir/pic640.jpg"/>
          <p:cNvPicPr/>
          <p:nvPr/>
        </p:nvPicPr>
        <p:blipFill>
          <a:blip r:embed="rId4"/>
          <a:stretch/>
        </p:blipFill>
        <p:spPr>
          <a:xfrm>
            <a:off x="6516720" y="1916280"/>
            <a:ext cx="243036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http://thelib.ru/books/00/15/22/00152252/i_004.jpg"/>
          <p:cNvPicPr/>
          <p:nvPr/>
        </p:nvPicPr>
        <p:blipFill>
          <a:blip r:embed="rId5"/>
          <a:stretch/>
        </p:blipFill>
        <p:spPr>
          <a:xfrm>
            <a:off x="6156360" y="333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concreteplayground.com.au/_snacks/wp-content/uploads/2013/04/digitaladdict.jpg"/>
          <p:cNvPicPr/>
          <p:nvPr/>
        </p:nvPicPr>
        <p:blipFill>
          <a:blip r:embed="rId6"/>
          <a:stretch/>
        </p:blipFill>
        <p:spPr>
          <a:xfrm>
            <a:off x="4427640" y="4005360"/>
            <a:ext cx="41180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бота в групп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980640"/>
            <a:ext cx="8713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бсудите в группах и зафиксируйте на листах бумаги плюсы и минусы пользования компьютером и Сетью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324000" y="3716280"/>
            <a:ext cx="849600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3200" spc="-1" strike="noStrike" u="sng">
                <a:solidFill>
                  <a:srgbClr val="254061"/>
                </a:solidFill>
                <a:uFillTx/>
                <a:latin typeface="Arial"/>
              </a:rPr>
              <a:t>Вывод: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Интернет является прекрасным источником для новых знаний, помогает в учебе, занимает досуг. Но, в то же время, Сеть таит в себе много опас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 статисти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628280"/>
            <a:ext cx="8642160" cy="387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Среди детей в возрасте от 12 – 16 лет , Интернет используют 8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95% подростков выходят в Интернет с домашних компью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50% выходят в Интернет, в то время, когда находятся дома о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68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ремени в день, обычно, вы проводите в сети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Для чего вы, в основном, используете сеть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76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регистрированы ли вы хотя бы в одной социальной с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26:59Z</dcterms:created>
  <dc:creator>Наталья</dc:creator>
  <dc:description/>
  <dc:language>en-US</dc:language>
  <cp:lastModifiedBy>Марина</cp:lastModifiedBy>
  <dcterms:modified xsi:type="dcterms:W3CDTF">2019-01-06T19:36:04Z</dcterms:modified>
  <cp:revision>125</cp:revision>
  <dc:subject/>
  <dc:title>Слайд 1</dc:title>
</cp:coreProperties>
</file>