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B26B-2968-40C5-8331-F91312EA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142-5799-4357-BD1F-4C9CF5C6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17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6191-C01A-419D-961A-B170D802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2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65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2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65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23ED-8665-4C7A-B227-20956E04A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0173-F7C0-45D8-90D4-ADB9ACF1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28003-0C7D-4AFC-89D0-4DD3D1EE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D251-59DF-4F05-B77D-5BF45095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B950-07E5-4FA0-A75E-AAE144B76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EB68-9A87-4ACE-B9F3-61AD2C80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00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B88A-8B3D-4D86-A39B-5DCF20122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FF0C-1332-444F-888B-351349D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3146-8448-45DD-B054-12DA331C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17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DADC-D147-4370-A8F5-13D79960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2078-AFE3-4C2B-8FE9-B36AFAD4B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00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6594-6C9A-49AA-B964-A3072FE2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17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8CA9-1CC0-4261-A4B3-ABAB02CD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272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6516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002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272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6516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E061-4FCE-4404-BA9C-0E38EEEC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20F-1CB6-4B4F-9552-0C4D4444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E38B-23CA-4E70-81C7-EECC4FB0F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1E18-4318-45D8-83A1-96B8F59C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747-0CB2-4A3F-BB1F-A92629FF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CD01-0960-4F13-BDB0-2DDB2B3B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1732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11E4-2DB6-4F7B-A88F-2684A7EC4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732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D95D-FE4A-48EE-8E56-B5E06ECA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34D04-90D3-451E-9DC6-E83A4196F9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63AAF-BB3F-47B6-99C7-27F556E40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77640" y="2693880"/>
            <a:ext cx="84582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spcBef>
                <a:spcPts val="7500"/>
              </a:spcBef>
              <a:spcAft>
                <a:spcPts val="7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dffff"/>
                </a:solidFill>
                <a:latin typeface="Arial"/>
                <a:ea typeface="Times New Roman"/>
              </a:rPr>
              <a:t>Тема</a:t>
            </a:r>
            <a:r>
              <a:rPr b="1" lang="ru-RU" sz="3000" spc="-1" strike="noStrike">
                <a:solidFill>
                  <a:srgbClr val="f42e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356000" y="577368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95280" y="2492280"/>
            <a:ext cx="835344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ПРОЕКТ «МИР ДЕЯТЕЛЬНОСТИ (МИД)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 формированию общеучебных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рганизационно-рефлексивных умений и связанных с ними способностей и личностных качеств у учащихс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1−4 классов начальной школы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32000" y="5084280"/>
            <a:ext cx="2949840" cy="4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Лазаре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466560" y="663480"/>
            <a:ext cx="8209080" cy="18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.С. Лазарев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тановление и развитие учебной деятельности в развивающем обучении» // В сб. «Развивающее образование: Нерешенные проблемы развивающего образования».– М., с.50–5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11280" y="2637000"/>
            <a:ext cx="7893000" cy="113004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«Формирование учебной деятельности требует постановки и решения учебных задач особого рода – задач на освоение метазнаний о способах познания»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611280" y="3933720"/>
            <a:ext cx="7893000" cy="1923480"/>
          </a:xfrm>
          <a:prstGeom prst="rect">
            <a:avLst/>
          </a:prstGeom>
          <a:solidFill>
            <a:srgbClr val="ffd39b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Сколько бы разных знаний по учебным предметам не построили учащиеся, сами они не построят универсальный способ действий … Это означает, что должны ставиться учебные задачи, результатом которых будет освоение обобщенных способов планирования и реализации познавательных действий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596360" y="981000"/>
            <a:ext cx="1258560" cy="13683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"/>
          <p:cNvSpPr/>
          <p:nvPr/>
        </p:nvSpPr>
        <p:spPr>
          <a:xfrm>
            <a:off x="250920" y="189000"/>
            <a:ext cx="849636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Программа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надпредметного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547640" y="1413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ир деятель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287280" y="278136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54240" indent="-1254240"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Цель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здание теоретического фундамента для формирования общеучебных и деятельностных умений и связанных с ними способностей и личностных качест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50920" y="189000"/>
            <a:ext cx="849636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Программа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cc"/>
                </a:solidFill>
                <a:latin typeface="Arial"/>
              </a:rPr>
              <a:t>надпредметного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547640" y="141300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Arial"/>
              </a:rPr>
              <a:t>«Мир деятельност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Смайлик весёлый"/>
          <p:cNvPicPr/>
          <p:nvPr/>
        </p:nvPicPr>
        <p:blipFill>
          <a:blip r:embed="rId1"/>
          <a:stretch/>
        </p:blipFill>
        <p:spPr>
          <a:xfrm>
            <a:off x="7596360" y="981000"/>
            <a:ext cx="1258560" cy="13683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>
            <a:off x="250920" y="189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Arial"/>
              </a:rPr>
              <a:t>Программа</a:t>
            </a:r>
            <a:r>
              <a:rPr b="0" lang="ru-RU" sz="3600" spc="-1" strike="noStrike">
                <a:solidFill>
                  <a:srgbClr val="3333cc"/>
                </a:solidFill>
                <a:latin typeface="Arial"/>
              </a:rPr>
              <a:t> надпредметного кур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619280" y="83664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Мир деятельност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50920" y="1773360"/>
            <a:ext cx="68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 содержательно-методические лин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1280" y="234936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организационно-рефлекс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7"/>
          <p:cNvSpPr/>
          <p:nvPr/>
        </p:nvSpPr>
        <p:spPr>
          <a:xfrm flipV="1">
            <a:off x="395280" y="2276280"/>
            <a:ext cx="6408720" cy="6120"/>
          </a:xfrm>
          <a:prstGeom prst="line">
            <a:avLst/>
          </a:prstGeom>
          <a:ln w="28440">
            <a:solidFill>
              <a:srgbClr val="003e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11280" y="28494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коммуникатив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611280" y="335448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познавательна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611280" y="385776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►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3e00"/>
                </a:solidFill>
                <a:latin typeface="Arial"/>
                <a:ea typeface="Arial"/>
              </a:rPr>
              <a:t>ценностна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remove" presetClass="emph" presetID="15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2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hsl" dir="cw">
                                      <p:cBhvr>
                                        <p:cTn id="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826920" y="839880"/>
            <a:ext cx="7632720" cy="2303280"/>
          </a:xfrm>
          <a:prstGeom prst="rect">
            <a:avLst/>
          </a:prstGeom>
          <a:solidFill>
            <a:srgbClr val="ffffdd"/>
          </a:soli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Из программы «Столичное образование − 5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Целевые индикаторы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− </a:t>
            </a:r>
            <a:r>
              <a:rPr b="1" lang="ru-RU" sz="2200" spc="-1" strike="noStrike">
                <a:solidFill>
                  <a:srgbClr val="ce8263"/>
                </a:solidFill>
                <a:latin typeface="Arial"/>
              </a:rPr>
              <a:t>полный переход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начальной школы всех ОУ Москвы на образовательные программы, обеспечивающие </a:t>
            </a:r>
            <a:r>
              <a:rPr b="1" lang="ru-RU" sz="2200" spc="-1" strike="noStrike">
                <a:solidFill>
                  <a:srgbClr val="ce8263"/>
                </a:solidFill>
                <a:latin typeface="Arial"/>
              </a:rPr>
              <a:t>реализацию стандартов нового поколени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e8263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26920" y="3585600"/>
            <a:ext cx="7678800" cy="1970640"/>
          </a:xfrm>
          <a:prstGeom prst="rect">
            <a:avLst/>
          </a:prstGeom>
          <a:solidFill>
            <a:srgbClr val="ffd39b"/>
          </a:solidFill>
          <a:ln cap="sq"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овые стандарты декларируют как основной приоритет системы образования формирование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умения учиться, УУД</a:t>
            </a:r>
            <a:r>
              <a:rPr b="0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Arial"/>
              </a:rPr>
              <a:t>и связанных с ними общих способностей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 не только освоение учащимися конкретных ЗУН в рамках отдельных дисципл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66"/>
                </a:solidFill>
                <a:latin typeface="Arial"/>
              </a:rPr>
              <a:t>3.Выявление места и причины затрудн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82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8231"/>
                </a:solidFill>
                <a:latin typeface="Arial"/>
              </a:rPr>
              <a:t>1.Организовать фиксацию места (шага, операции),где возникло затруд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82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8231"/>
                </a:solidFill>
                <a:latin typeface="Arial"/>
              </a:rPr>
              <a:t>2.Организовать соотнесение своих действий с используемыми эталонами(алгоритмом, понятие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c82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c8231"/>
                </a:solidFill>
                <a:latin typeface="Arial"/>
              </a:rPr>
              <a:t>3.Выявить и зафиксировать во внешней речи причины затруднения- тех конкретных ЗУН, которых не достает для решения исходной задач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33"/>
                </a:solidFill>
                <a:latin typeface="Arial"/>
              </a:rPr>
              <a:t>Рефлексия учебной деятельности на уро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Создать условия для фиксации учащимися соответствия цели и результата учебн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Зафиксировать затруднения, которые пока остались, и способы их преодо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Организовать самооцен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0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0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3T20:45:00Z</dcterms:created>
  <dc:creator>user</dc:creator>
  <dc:description/>
  <dc:language>en-US</dc:language>
  <cp:lastModifiedBy>Светлана</cp:lastModifiedBy>
  <dcterms:modified xsi:type="dcterms:W3CDTF">2019-01-06T15:27:06Z</dcterms:modified>
  <cp:revision>35</cp:revision>
  <dc:subject/>
  <dc:title>тьб</dc:title>
</cp:coreProperties>
</file>