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4C3A-09F7-4939-92FD-B856506C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1F6-BD37-447D-A419-CD3A4A22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73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91E-BE2B-4A30-AD3A-F14F3997D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2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5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2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5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B54-CD8F-464C-B9C0-1C7BAAC7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714A0-17DD-4EDA-A04F-23310A723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03D8-69AC-42E4-9BEE-58243EDE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C2432-87D2-4C1B-9756-904B7C5B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26D3-6A41-46D0-9F75-2D9CCC725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9B52-1727-43B7-AB3D-53F6E883A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0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3972-B835-4060-87D4-DE1547DF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02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340D-F236-4A9D-ABCE-8B75CC77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6E97-C686-4994-8D49-65B6B5E9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73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A13E-7B7C-49F8-9FA4-4C981398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02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FFE3-B87B-4E5F-BBF6-185A5F60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02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022D9-A2D5-48EF-A567-6FE2AD3B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02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73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36AA-E5A1-4C68-87B0-FC061EB33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2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5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02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2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5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26113-96B3-47C3-8EB4-811F055DC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D926-482F-4E12-BB54-A5309CB5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7CC0-B771-4B2C-9AB9-957A6111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A84A-6495-4B0F-A79B-860E18BEF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6837-016B-41CB-B227-F84F8353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64E2-547C-40E5-9A31-50D5E8A7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73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9516-8B8F-4386-899F-AAED3E08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F94-08C5-48A0-A0E0-BDA2A6D7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E1AB-7C9E-4A8D-96C3-90F0F4CC8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CD8B-341C-4A36-A4FF-71262985B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7640" y="26938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spcBef>
                <a:spcPts val="7500"/>
              </a:spcBef>
              <a:spcAft>
                <a:spcPts val="7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dffff"/>
                </a:solidFill>
                <a:latin typeface="Arial"/>
                <a:ea typeface="Times New Roman"/>
              </a:rPr>
              <a:t>Тема</a:t>
            </a:r>
            <a:r>
              <a:rPr b="1" lang="ru-RU" sz="3000" spc="-1" strike="noStrike">
                <a:solidFill>
                  <a:srgbClr val="f42e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356000" y="57736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95280" y="2492280"/>
            <a:ext cx="83534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ОЕКТ «МИР ДЕЯТЕЛЬНОСТИ (МИД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формированию общеучеб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рганизационно-рефлексивных умений и связанных с ними способностей и личностных качеств у учащих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−4 классов начальной школ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2000" y="5084280"/>
            <a:ext cx="294984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азаре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66560" y="663480"/>
            <a:ext cx="82090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.С. Лазарев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тановление и развитие учебной деятельности в развивающем обучении» // В сб. «Развивающее образование: Нерешенные проблемы развивающего образования».– М., с.50–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11280" y="2637000"/>
            <a:ext cx="7893000" cy="11300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Формирование учебной деятельности требует постановки и решения учебных задач особого рода – задач на освоение метазнаний о способах познания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1280" y="3933720"/>
            <a:ext cx="7893000" cy="1923480"/>
          </a:xfrm>
          <a:prstGeom prst="rect">
            <a:avLst/>
          </a:prstGeom>
          <a:solidFill>
            <a:srgbClr val="ffd39b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Сколько бы разных знаний по учебным предметам не построили учащиеся, сами они не построят универсальный способ действий … Это означает, что должны ставиться учебные задачи, результатом которых будет освоение обобщенных способов планирования и реализации познавательных действи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596360" y="981000"/>
            <a:ext cx="1258560" cy="1368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50920" y="189000"/>
            <a:ext cx="849636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Программа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надпредметного к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47640" y="1413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Мир деятельн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87280" y="278136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4240" indent="-125424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здание теоретического фундамента для формирования общеучебных и деятельностных умений и связанных с ними способностей и личностны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50920" y="189000"/>
            <a:ext cx="849636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Программа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надпредметного к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47640" y="1413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Мир деятельн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596360" y="981000"/>
            <a:ext cx="1258560" cy="1368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250920" y="189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Программа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надпредметного к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619280" y="836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Мир деятель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773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одержательно-методические ли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11280" y="234936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рганизационно-рефлекс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 flipV="1">
            <a:off x="395280" y="2276280"/>
            <a:ext cx="6408720" cy="6120"/>
          </a:xfrm>
          <a:prstGeom prst="line">
            <a:avLst/>
          </a:prstGeom>
          <a:ln w="2844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11280" y="28494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коммуник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11280" y="33544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познавате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11280" y="38577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ценност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remove" presetClass="emph" presetID="1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826920" y="839880"/>
            <a:ext cx="7632720" cy="2303280"/>
          </a:xfrm>
          <a:prstGeom prst="rect">
            <a:avLst/>
          </a:prstGeom>
          <a:solidFill>
            <a:srgbClr val="ffffdd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з программы «Столичное образование − 5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ые индикато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ru-RU" sz="2200" spc="-1" strike="noStrike">
                <a:solidFill>
                  <a:srgbClr val="ce8263"/>
                </a:solidFill>
                <a:latin typeface="Arial"/>
              </a:rPr>
              <a:t>полный перехо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чальной школы всех ОУ Москвы на образовательные программы, обеспечивающие </a:t>
            </a:r>
            <a:r>
              <a:rPr b="1" lang="ru-RU" sz="2200" spc="-1" strike="noStrike">
                <a:solidFill>
                  <a:srgbClr val="ce8263"/>
                </a:solidFill>
                <a:latin typeface="Arial"/>
              </a:rPr>
              <a:t>реализацию стандартов нового поко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8263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826920" y="3585600"/>
            <a:ext cx="7678800" cy="1970640"/>
          </a:xfrm>
          <a:prstGeom prst="rect">
            <a:avLst/>
          </a:prstGeom>
          <a:solidFill>
            <a:srgbClr val="ffd39b"/>
          </a:solidFill>
          <a:ln cap="sq"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стандарты декларируют как основной приоритет системы образования формирование </a:t>
            </a: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умения учиться, УУД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и связанных с ними общих способностей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не только освоение учащимися конкретных ЗУН в рамках отдельных дисципл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3.Выявление места и причины затруд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82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8231"/>
                </a:solidFill>
                <a:latin typeface="Arial"/>
              </a:rPr>
              <a:t>1.Организовать фиксацию места (шага, операции),где возникло затруд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82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8231"/>
                </a:solidFill>
                <a:latin typeface="Arial"/>
              </a:rPr>
              <a:t>2.Организовать соотнесение своих действий с используемыми эталонами(алгоритмом, поняти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82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8231"/>
                </a:solidFill>
                <a:latin typeface="Arial"/>
              </a:rPr>
              <a:t>3.Выявить и зафиксировать во внешней речи причины затруднения- тех конкретных ЗУН, которых не достает для решения исходной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Рефлексия учебной деятельности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оздать условия для фиксации учащимися соответствия цели и результата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Зафиксировать затруднения, которые пока остались, и способы их преодо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рганизовать самооце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20:45:00Z</dcterms:created>
  <dc:creator>user</dc:creator>
  <dc:description/>
  <dc:language>en-US</dc:language>
  <cp:lastModifiedBy>Светлана</cp:lastModifiedBy>
  <dcterms:modified xsi:type="dcterms:W3CDTF">2019-01-06T15:27:06Z</dcterms:modified>
  <cp:revision>35</cp:revision>
  <dc:subject/>
  <dc:title>тьб</dc:title>
</cp:coreProperties>
</file>