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E17-398C-43E3-8499-820B7A2E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3CA-0595-4959-ABF7-A51E5D19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3C9-E64F-4A90-A408-62F4B495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66A-E556-4015-ACC5-5BCE5441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095-C4A4-47F1-A1A9-1486A3B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67B-C4DF-4A02-87D9-D0B63ED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7BA-C2D2-4408-A4FF-78FBFBB1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45C-174D-4429-BB0A-1B60FE84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859-6F2A-4ACA-A761-DEAB52D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396-DA1D-4A9D-AEAC-B432A8E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214-C993-47C7-8788-396FEA02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D83-AECF-4001-9679-68BC90D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608-91E9-4C4C-8300-C904D5E82B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26/26316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kiyany.obozrevatel.com/files/28/_Picture_file_path_28974.jpg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kazan.ws/constructor/img/24104.jpg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basik.ru/images/underground_railway/050.jpg" TargetMode="External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riavto.ru/2008/09/17/news_2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n-drive.ru/uploads/downloads/2008-05/1210689955_news_profi_dps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novostivl.ru/files/5573.jpg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echnyafree.ru/upload/iblock/337/212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leontour.com/ufiles/gallery/site_rus/birma/994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indgammers.narod.ru/Korabli/fon-Gymbolt/fon-Gymbolt033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olegasotikov.narod.ru/sir/04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hobbyforyou.ru/pictures/tovar/shop_1126780142_1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astland.ru/ru/images/ships/voskhod/voshod02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alltransport.ru/img/board/water/22558_0_big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elliottwave.ru/uploads/monthly_01_2008/post-152-1200766947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www.izdatelstvo-dorogi.ru/images/tr61.jpg" TargetMode="External"/><Relationship Id="rId9" Type="http://schemas.openxmlformats.org/officeDocument/2006/relationships/image" Target="../media/image20.jpeg"/><Relationship Id="rId10" Type="http://schemas.openxmlformats.org/officeDocument/2006/relationships/hyperlink" Target="http://www.ofmifi.ru/photo/70/HPIM2273.JPG" TargetMode="External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032.radikal.ru/0802/63/a409119e47c8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g-f.photosight.ru/dff/2868711_large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baltic-course.com/rus/transport/files/multi/0808/080805_retro.jpg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videonews.com.ua/i/flv/0809/avto-retro.jpg" TargetMode="External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ld.kp.kiev.ua/readyimages/255482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kolontaewo.ru/catalog/main10/prodpic/1209024141_1192536842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andre.start-info.ru/pub/mypersonalphotos/200801_samara/transport/dscf3239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rashid4ever.narod.ru/avto/gm-man.JPG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thaisuay.net/files/bf5.JPG" TargetMode="External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amos.ru/images/1880_konka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train-photo.ru/data/media/347/DSCF7689_1100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parovoz.com/gallery/RU02/20061206_57112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www.rts.ua/img/forall/Image/Category/9.jpg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probio.io/ru/reference/resort/media/pictures/reference/1831.gif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sannikov.org/foto/pogr/images/9_jpg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www.kartinki2008.ru/shari/slides/527027.jpg" TargetMode="External"/><Relationship Id="rId7" Type="http://schemas.openxmlformats.org/officeDocument/2006/relationships/image" Target="../media/image37.jpeg"/><Relationship Id="rId8" Type="http://schemas.openxmlformats.org/officeDocument/2006/relationships/hyperlink" Target="http://airlines-inform.ru/upload/iblock/b9b/An-2.jpg" TargetMode="External"/><Relationship Id="rId9" Type="http://schemas.openxmlformats.org/officeDocument/2006/relationships/image" Target="../media/image38.jpeg"/><Relationship Id="rId10" Type="http://schemas.openxmlformats.org/officeDocument/2006/relationships/hyperlink" Target="http://www.gidroaviasalon.com/images/ac96/an-14_.jpg" TargetMode="External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не нужно для строительства дома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3840" y="1065240"/>
            <a:ext cx="3319200" cy="221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92480" y="5046840"/>
            <a:ext cx="166680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676920" y="5073480"/>
            <a:ext cx="20289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6861240" y="322416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3959280" y="1341360"/>
            <a:ext cx="25146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4859280" y="5073480"/>
            <a:ext cx="1463760" cy="144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6819840" y="13795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4176720" y="3370320"/>
            <a:ext cx="2305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9"/>
          <a:stretch/>
        </p:blipFill>
        <p:spPr>
          <a:xfrm>
            <a:off x="1968480" y="344016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10"/>
          <a:stretch/>
        </p:blipFill>
        <p:spPr>
          <a:xfrm>
            <a:off x="368280" y="4869000"/>
            <a:ext cx="1295280" cy="16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артинка 75 из 4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620640"/>
            <a:ext cx="3166920" cy="338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артинка 31 из 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620640"/>
            <a:ext cx="4286520" cy="302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116000" y="1159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п о д з е м н ы й –</a:t>
            </a:r>
            <a:r>
              <a:rPr b="1" lang="ru-RU" sz="1600" spc="-1" strike="noStrike">
                <a:solidFill>
                  <a:srgbClr val="b7e7ff"/>
                </a:solidFill>
                <a:latin typeface="Arial"/>
              </a:rPr>
              <a:t>пассажирский, грузовой, специ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9" descr="Картинка 6 из 1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076640"/>
            <a:ext cx="4032360" cy="266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Картинка 25 из 17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3789360"/>
            <a:ext cx="4392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Картинка 16 из 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88116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артинка 1 из 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836640"/>
            <a:ext cx="4537080" cy="257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Картинка 95 из 2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645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1 из 72"/>
          <p:cNvPicPr/>
          <p:nvPr/>
        </p:nvPicPr>
        <p:blipFill>
          <a:blip r:embed="rId7"/>
          <a:stretch/>
        </p:blipFill>
        <p:spPr>
          <a:xfrm>
            <a:off x="4500720" y="3429000"/>
            <a:ext cx="4500360" cy="3089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124000" y="260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с п е ц и а л ь н ы 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843280" y="76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48360" y="5516640"/>
            <a:ext cx="71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419640" y="530064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716360" y="227664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Картинка 68 из 183"/>
          <p:cNvPicPr/>
          <p:nvPr/>
        </p:nvPicPr>
        <p:blipFill>
          <a:blip r:embed="rId1"/>
          <a:stretch/>
        </p:blipFill>
        <p:spPr>
          <a:xfrm>
            <a:off x="4859280" y="3357720"/>
            <a:ext cx="4122720" cy="32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артинка 90 из 183"/>
          <p:cNvPicPr/>
          <p:nvPr/>
        </p:nvPicPr>
        <p:blipFill>
          <a:blip r:embed="rId2"/>
          <a:stretch/>
        </p:blipFill>
        <p:spPr>
          <a:xfrm>
            <a:off x="4427640" y="404640"/>
            <a:ext cx="446544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69 из 183"/>
          <p:cNvPicPr/>
          <p:nvPr/>
        </p:nvPicPr>
        <p:blipFill>
          <a:blip r:embed="rId3"/>
          <a:stretch/>
        </p:blipFill>
        <p:spPr>
          <a:xfrm>
            <a:off x="179280" y="1916280"/>
            <a:ext cx="4321440" cy="3377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076720" y="587700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кран (погрузка тяжёлой техни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227640" y="2708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етоносмес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9280" y="1916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ъёмник (высотные рабо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2fff"/>
                </a:solidFill>
                <a:latin typeface="Arial"/>
              </a:rPr>
              <a:t>Урок окружающего мира </a:t>
            </a:r>
            <a:br>
              <a:rPr sz="3600"/>
            </a:br>
            <a:r>
              <a:rPr b="0" lang="ru-RU" sz="3600" spc="-1" strike="noStrike">
                <a:solidFill>
                  <a:srgbClr val="2f2fff"/>
                </a:solidFill>
                <a:latin typeface="Arial"/>
              </a:rPr>
              <a:t>во 2 классе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3212640"/>
            <a:ext cx="8540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Какой бывает транспор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Картинка 27 из 9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484280"/>
            <a:ext cx="633564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2050920" y="5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т    р   а   н   с  п   о   р   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артинка 34 из 9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43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артинка 41 из 9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284640"/>
            <a:ext cx="45558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7 из 1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404640"/>
            <a:ext cx="4068720" cy="269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артинка 58 из 15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16000" y="2924280"/>
            <a:ext cx="2457360" cy="373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Картинка 118 из 3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789360"/>
            <a:ext cx="3097440" cy="257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а 31 из 36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364500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19 из 3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549360"/>
            <a:ext cx="4248360" cy="287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964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  о  д  н  ы  й -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ассажирский, грузовой , спе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9" descr="Картинка 254 из 36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549360"/>
            <a:ext cx="4176720" cy="291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Картинка 95 из 1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56000" y="2637000"/>
            <a:ext cx="3311280" cy="269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Картинка 25 из 1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60280"/>
            <a:ext cx="424836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Картинка 23 из 1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60280"/>
            <a:ext cx="435780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а 60 из 1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3213000"/>
            <a:ext cx="4248360" cy="302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артинка 146 из 1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3213000"/>
            <a:ext cx="42498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199 из 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а 72 из 9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76280"/>
            <a:ext cx="4049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75 из 91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3500280"/>
            <a:ext cx="40687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1547640" y="11592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115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н а з е м н ы 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Картинка 127 из 3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573360"/>
            <a:ext cx="3456000" cy="301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Картинка 30 из 15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2421000"/>
            <a:ext cx="24814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5 из 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5280" y="26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Картинка 13 из 1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60280"/>
            <a:ext cx="4429080" cy="313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артинка 48 из 91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500280"/>
            <a:ext cx="4176720" cy="316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артинка 68 из 911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3573360"/>
            <a:ext cx="442764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артинка 69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0920" y="3860640"/>
            <a:ext cx="4753080" cy="27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а 38 из 2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559320"/>
            <a:ext cx="3817800" cy="3136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76364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08000" y="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в о з д у ш н ы й –</a:t>
            </a:r>
            <a:r>
              <a:rPr b="1" lang="ru-RU" sz="1800" spc="-1" strike="noStrike">
                <a:solidFill>
                  <a:srgbClr val="b7e7ff"/>
                </a:solidFill>
                <a:latin typeface="Arial"/>
              </a:rPr>
              <a:t>пассажирский, грузовой, спе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Картинка 30 из 120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76500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Картинка 74 из 1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333360"/>
            <a:ext cx="334800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Картинка 106 из 12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1773360"/>
            <a:ext cx="4248000" cy="24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16:43Z</dcterms:created>
  <dc:creator>Учитель</dc:creator>
  <dc:description/>
  <dc:language>en-US</dc:language>
  <cp:lastModifiedBy>Home</cp:lastModifiedBy>
  <dcterms:modified xsi:type="dcterms:W3CDTF">2019-01-06T13:09:24Z</dcterms:modified>
  <cp:revision>21</cp:revision>
  <dc:subject/>
  <dc:title>Слайд 1</dc:title>
</cp:coreProperties>
</file>