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8B9-D129-411B-A3DB-431C5CE3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D7E-A13B-4278-ACCC-152AAD6E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BDC-7B9E-4436-A91E-D82D4172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8A1-434E-42B4-BA7A-48248787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515-3011-451F-B5FF-03BE2945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F1B-1413-4CAF-AFE5-BBE41C56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E3E-3880-4B84-8692-062C43A6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7324-A691-49EE-B959-CE94A10F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1A0-D711-4469-8125-E7679261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A2B-DDD2-4C53-898B-DB77DE9D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236-863D-425E-A116-C77DDC80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291-203E-4425-9A6A-CCDD162C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A4C7-C267-45A1-865E-36BB4539FF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ics.photographer.ru/nonstop/pics/pictures/26/26316.jpg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kiyany.obozrevatel.com/files/28/_Picture_file_path_28974.jpg" TargetMode="External"/><Relationship Id="rId4" Type="http://schemas.openxmlformats.org/officeDocument/2006/relationships/image" Target="../media/image41.jpeg"/><Relationship Id="rId5" Type="http://schemas.openxmlformats.org/officeDocument/2006/relationships/hyperlink" Target="http://kazan.ws/constructor/img/24104.jpg" TargetMode="External"/><Relationship Id="rId6" Type="http://schemas.openxmlformats.org/officeDocument/2006/relationships/image" Target="../media/image42.jpeg"/><Relationship Id="rId7" Type="http://schemas.openxmlformats.org/officeDocument/2006/relationships/hyperlink" Target="http://basik.ru/images/underground_railway/050.jpg" TargetMode="External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ariavto.ru/2008/09/17/news_2.jpg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in-drive.ru/uploads/downloads/2008-05/1210689955_news_profi_dps.jp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novostivl.ru/files/5573.jpg" TargetMode="External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hechnyafree.ru/upload/iblock/337/212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leontour.com/ufiles/gallery/site_rus/birma/994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indgammers.narod.ru/Korabli/fon-Gymbolt/fon-Gymbolt033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olegasotikov.narod.ru/sir/04.JP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hobbyforyou.ru/pictures/tovar/shop_1126780142_1.jp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astland.ru/ru/images/ships/voskhod/voshod02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alltransport.ru/img/board/water/22558_0_big.jpg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elliottwave.ru/uploads/monthly_01_2008/post-152-1200766947.jpg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www.izdatelstvo-dorogi.ru/images/tr61.jpg" TargetMode="External"/><Relationship Id="rId9" Type="http://schemas.openxmlformats.org/officeDocument/2006/relationships/image" Target="../media/image20.jpeg"/><Relationship Id="rId10" Type="http://schemas.openxmlformats.org/officeDocument/2006/relationships/hyperlink" Target="http://www.ofmifi.ru/photo/70/HPIM2273.JPG" TargetMode="External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i032.radikal.ru/0802/63/a409119e47c8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g-f.photosight.ru/dff/2868711_large.jpg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www.baltic-course.com/rus/transport/files/multi/0808/080805_retro.jpg" TargetMode="External"/><Relationship Id="rId7" Type="http://schemas.openxmlformats.org/officeDocument/2006/relationships/image" Target="../media/image24.jpeg"/><Relationship Id="rId8" Type="http://schemas.openxmlformats.org/officeDocument/2006/relationships/hyperlink" Target="http://videonews.com.ua/i/flv/0809/avto-retro.jpg" TargetMode="External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ld.kp.kiev.ua/readyimages/255482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kolontaewo.ru/catalog/main10/prodpic/1209024141_1192536842.jpg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andre.start-info.ru/pub/mypersonalphotos/200801_samara/transport/dscf3239.jpg" TargetMode="External"/><Relationship Id="rId6" Type="http://schemas.openxmlformats.org/officeDocument/2006/relationships/image" Target="../media/image28.jpeg"/><Relationship Id="rId7" Type="http://schemas.openxmlformats.org/officeDocument/2006/relationships/hyperlink" Target="http://rashid4ever.narod.ru/avto/gm-man.JPG" TargetMode="External"/><Relationship Id="rId8" Type="http://schemas.openxmlformats.org/officeDocument/2006/relationships/image" Target="../media/image29.jpeg"/><Relationship Id="rId9" Type="http://schemas.openxmlformats.org/officeDocument/2006/relationships/hyperlink" Target="http://thaisuay.net/files/bf5.JPG" TargetMode="External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zamos.ru/images/1880_konka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train-photo.ru/data/media/347/DSCF7689_1100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www.parovoz.com/gallery/RU02/20061206_57112.jpg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www.rts.ua/img/forall/Image/Category/9.jpg" TargetMode="External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probio.io/ru/reference/resort/media/pictures/reference/1831.gif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www.sannikov.org/foto/pogr/images/9_jpg.jpg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www.kartinki2008.ru/shari/slides/527027.jpg" TargetMode="External"/><Relationship Id="rId7" Type="http://schemas.openxmlformats.org/officeDocument/2006/relationships/image" Target="../media/image37.jpeg"/><Relationship Id="rId8" Type="http://schemas.openxmlformats.org/officeDocument/2006/relationships/hyperlink" Target="http://airlines-inform.ru/upload/iblock/b9b/An-2.jpg" TargetMode="External"/><Relationship Id="rId9" Type="http://schemas.openxmlformats.org/officeDocument/2006/relationships/image" Target="../media/image38.jpeg"/><Relationship Id="rId10" Type="http://schemas.openxmlformats.org/officeDocument/2006/relationships/hyperlink" Target="http://www.gidroaviasalon.com/images/ac96/an-14_.jpg" TargetMode="External"/><Relationship Id="rId11" Type="http://schemas.openxmlformats.org/officeDocument/2006/relationships/image" Target="../media/image39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то не нужно для строительства дома?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3840" y="1065240"/>
            <a:ext cx="3319200" cy="2212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92480" y="5046840"/>
            <a:ext cx="1666800" cy="142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6676920" y="5073480"/>
            <a:ext cx="202896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6861240" y="3224160"/>
            <a:ext cx="1838160" cy="1428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3959280" y="1341360"/>
            <a:ext cx="251460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6"/>
          <a:stretch/>
        </p:blipFill>
        <p:spPr>
          <a:xfrm>
            <a:off x="4859280" y="5073480"/>
            <a:ext cx="1463760" cy="1443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7"/>
          <a:stretch/>
        </p:blipFill>
        <p:spPr>
          <a:xfrm>
            <a:off x="6819840" y="1379520"/>
            <a:ext cx="17906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8"/>
          <a:stretch/>
        </p:blipFill>
        <p:spPr>
          <a:xfrm>
            <a:off x="4176720" y="3370320"/>
            <a:ext cx="230508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9"/>
          <a:stretch/>
        </p:blipFill>
        <p:spPr>
          <a:xfrm>
            <a:off x="1968480" y="344016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10"/>
          <a:stretch/>
        </p:blipFill>
        <p:spPr>
          <a:xfrm>
            <a:off x="368280" y="4869000"/>
            <a:ext cx="1295280" cy="160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Картинка 75 из 4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620640"/>
            <a:ext cx="3166920" cy="338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Картинка 31 из 4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620640"/>
            <a:ext cx="4286520" cy="3024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1116000" y="11592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п о д з е м н ы й –</a:t>
            </a:r>
            <a:r>
              <a:rPr b="1" lang="ru-RU" sz="1600" spc="-1" strike="noStrike">
                <a:solidFill>
                  <a:srgbClr val="b7e7ff"/>
                </a:solidFill>
                <a:latin typeface="Arial"/>
              </a:rPr>
              <a:t>пассажирский, грузовой, специ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9" descr="Картинка 6 из 1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4076640"/>
            <a:ext cx="4032360" cy="2665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Картинка 25 из 17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0720" y="3789360"/>
            <a:ext cx="43923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Картинка 16 из 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836640"/>
            <a:ext cx="3881160" cy="2786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Картинка 1 из 1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836640"/>
            <a:ext cx="4537080" cy="2570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Картинка 95 из 2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3645000"/>
            <a:ext cx="3960720" cy="301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Картинка 1 из 72"/>
          <p:cNvPicPr/>
          <p:nvPr/>
        </p:nvPicPr>
        <p:blipFill>
          <a:blip r:embed="rId7"/>
          <a:stretch/>
        </p:blipFill>
        <p:spPr>
          <a:xfrm>
            <a:off x="4500720" y="3429000"/>
            <a:ext cx="4500360" cy="3089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2124000" y="26028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с п е ц и а л ь н ы 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2843280" y="765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0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5148360" y="5516640"/>
            <a:ext cx="71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0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419640" y="5300640"/>
            <a:ext cx="7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0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4716360" y="2276640"/>
            <a:ext cx="9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0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Картинка 68 из 183"/>
          <p:cNvPicPr/>
          <p:nvPr/>
        </p:nvPicPr>
        <p:blipFill>
          <a:blip r:embed="rId1"/>
          <a:stretch/>
        </p:blipFill>
        <p:spPr>
          <a:xfrm>
            <a:off x="4859280" y="3357720"/>
            <a:ext cx="4122720" cy="3290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Картинка 90 из 183"/>
          <p:cNvPicPr/>
          <p:nvPr/>
        </p:nvPicPr>
        <p:blipFill>
          <a:blip r:embed="rId2"/>
          <a:stretch/>
        </p:blipFill>
        <p:spPr>
          <a:xfrm>
            <a:off x="4427640" y="404640"/>
            <a:ext cx="446544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Картинка 69 из 183"/>
          <p:cNvPicPr/>
          <p:nvPr/>
        </p:nvPicPr>
        <p:blipFill>
          <a:blip r:embed="rId3"/>
          <a:stretch/>
        </p:blipFill>
        <p:spPr>
          <a:xfrm>
            <a:off x="179280" y="1916280"/>
            <a:ext cx="4321440" cy="3377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5076720" y="587700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кран (погрузка тяжёлой техник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227640" y="2708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бетоносмеси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79280" y="1916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ъёмник (высотные работ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2fff"/>
                </a:solidFill>
                <a:latin typeface="Arial"/>
              </a:rPr>
              <a:t>Урок окружающего мира </a:t>
            </a:r>
            <a:br>
              <a:rPr sz="3600"/>
            </a:br>
            <a:r>
              <a:rPr b="0" lang="ru-RU" sz="3600" spc="-1" strike="noStrike">
                <a:solidFill>
                  <a:srgbClr val="2f2fff"/>
                </a:solidFill>
                <a:latin typeface="Arial"/>
              </a:rPr>
              <a:t>во 2 классе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3212640"/>
            <a:ext cx="85406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Какой бывает транспорт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Картинка 27 из 9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484280"/>
            <a:ext cx="6335640" cy="4465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2050920" y="549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b7e7ff"/>
                </a:solidFill>
                <a:latin typeface="Arial"/>
              </a:rPr>
              <a:t>т    р   а   н   с  п   о   р   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Картинка 34 из 9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04640"/>
            <a:ext cx="4392360" cy="266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Картинка 41 из 91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3284640"/>
            <a:ext cx="4555800" cy="316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Картинка 7 из 17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404640"/>
            <a:ext cx="4068720" cy="2698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Картинка 58 из 15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16000" y="2924280"/>
            <a:ext cx="2457360" cy="3738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Картинка 118 из 36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789360"/>
            <a:ext cx="3097440" cy="2577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Картинка 31 из 36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364500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Картинка 119 из 36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9280" y="549360"/>
            <a:ext cx="4248360" cy="2879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3964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в  о  д  н  ы  й - 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ассажирский, грузовой , специ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9" descr="Картинка 254 из 36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43280" y="549360"/>
            <a:ext cx="4176720" cy="2917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Картинка 95 из 10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56000" y="2637000"/>
            <a:ext cx="3311280" cy="269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Картинка 25 из 1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60280"/>
            <a:ext cx="4248360" cy="273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Картинка 23 из 1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260280"/>
            <a:ext cx="4357800" cy="27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Картинка 60 из 15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9280" y="3213000"/>
            <a:ext cx="4248360" cy="302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Картинка 146 из 15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43280" y="3213000"/>
            <a:ext cx="424980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Картинка 199 из 2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549360"/>
            <a:ext cx="4105080" cy="280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Картинка 72 из 91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76280"/>
            <a:ext cx="40496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Картинка 75 из 911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3500280"/>
            <a:ext cx="40687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1547640" y="11592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95280" y="11592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н а з е м н ы 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1" descr="Картинка 127 из 30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3573360"/>
            <a:ext cx="3456000" cy="3017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Картинка 30 из 15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666880" y="2421000"/>
            <a:ext cx="248148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Картинка 5 из 1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95280" y="26028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6" descr="Картинка 13 из 1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60280"/>
            <a:ext cx="4429080" cy="313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Картинка 48 из 911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500280"/>
            <a:ext cx="4176720" cy="3165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Картинка 68 из 911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0" y="3573360"/>
            <a:ext cx="4427640" cy="30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Картинка 69 из 2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90920" y="3860640"/>
            <a:ext cx="4753080" cy="273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а 38 из 28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559320"/>
            <a:ext cx="3817800" cy="3136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1763640" y="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08000" y="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в о з д у ш н ы й –</a:t>
            </a:r>
            <a:r>
              <a:rPr b="1" lang="ru-RU" sz="1800" spc="-1" strike="noStrike">
                <a:solidFill>
                  <a:srgbClr val="b7e7ff"/>
                </a:solidFill>
                <a:latin typeface="Arial"/>
              </a:rPr>
              <a:t>пассажирский, грузовой, специ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2" descr="Картинка 30 из 120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765000"/>
            <a:ext cx="2664000" cy="273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Картинка 74 из 12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6000" y="333360"/>
            <a:ext cx="3348000" cy="1674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Картинка 106 из 12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276720" y="1773360"/>
            <a:ext cx="4248000" cy="24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2:16:43Z</dcterms:created>
  <dc:creator>Учитель</dc:creator>
  <dc:description/>
  <dc:language>en-US</dc:language>
  <cp:lastModifiedBy>Home</cp:lastModifiedBy>
  <dcterms:modified xsi:type="dcterms:W3CDTF">2019-01-06T13:09:24Z</dcterms:modified>
  <cp:revision>21</cp:revision>
  <dc:subject/>
  <dc:title>Слайд 1</dc:title>
</cp:coreProperties>
</file>