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4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7.jpeg" ContentType="image/jpeg"/>
  <Override PartName="/ppt/media/image43.wmf" ContentType="image/x-wmf"/>
  <Override PartName="/ppt/media/image40.jpeg" ContentType="image/jpeg"/>
  <Override PartName="/ppt/media/image13.jpeg" ContentType="image/jpeg"/>
  <Override PartName="/ppt/media/image23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FCDE0-1F3E-4883-B08F-9E11D12B9A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365A6-998C-4AB1-90A4-550FA65F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BAF6-A44D-409A-9B40-629CCAB1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09021-472F-493B-B7EE-05A665882A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8EFEB-BACF-4126-8A8E-8AF0157B0C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8EDDF-12CE-48C5-9256-C6DE6497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EFC1A-E969-42B5-958C-B27FBA0E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8CCE7-3BB0-4C75-A70D-243EBC86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67D7A-73F1-4688-8462-D839D5E3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1B135-07EE-4955-BCF9-9507F8E6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1B7B2-44F7-4F42-910D-FCF26A6F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5418D-9147-41E7-BCFA-55DB6F65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18186-592F-40D4-977B-57C13343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A2404-FE57-4FE2-B884-C25CCC72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E2EE7-B76E-4436-A6BA-C770560B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C0298-7B03-4B46-ABEA-43E6A4C3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5B2A6-BCC5-41B1-B3CC-96599A2DF1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1ABB-1D25-431B-A759-D13C463701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D7D5-52FD-4D90-8B34-2538D5BB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9B3D-9F39-4F7D-B9F5-48AB723E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6C38-77D0-47BF-B71D-D23FF7EA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9A85-5706-47C5-A20E-C982DF0C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6B7F6-3687-4335-9A7A-78E2CACE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6CB2-7C35-4A1B-8D85-6914B691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4956-5E6C-421D-AE13-93733CA8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49D6-5273-47CD-8C18-77D33389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481D-C394-4DD5-9225-9AFB5AC1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9E45-2600-460E-B190-D6B9DFA6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0C7A-8D9A-44CE-AD35-73C189BF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BE56-1A9A-43A1-8D0A-5A827EF0F9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DE82C-9519-4B04-B179-702F9C80D6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D336F-D96F-43AA-8756-87330D63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A8512-0258-44E6-9E93-DF8B3D70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F40A5-71FF-481E-8B88-E791155C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6D091-CB8C-4520-A11B-BDBDFF43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E663B-D7D4-4780-AF76-C3F6CC46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C5FB5F-5884-4B79-A463-C403D7EC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B74A4-92B0-41D4-B7D0-209BF2CB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DD43B-74FD-4D07-8F65-223175F7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19155-0C39-4769-A47F-41CC87B4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F310C-056A-4EC4-9C2C-885BBBD5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FF36F-4987-4AD0-913A-682F28C3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1CD9A-F7C6-436A-A498-C7553968BC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B24868-9229-4235-B6CE-895A795973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E259B-A54F-463B-A463-8F23A0E7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81C5C0-6038-4F5C-B88D-AA75133B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527F41-5893-49C7-BAC6-367E0777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5E5A96-169E-4EB4-A859-4C670EFE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99496D-5143-47A1-B5B9-BCC0A518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2511E6-4F49-4FA5-8AA5-0C4EE4BB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48CBE0-5140-456B-B82D-4DC08F55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D1967B-3363-4752-9580-9B8F9045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D7E4C0-6D70-485C-BC4D-912CA710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76B6B3-58E4-4F38-B387-DD4F139C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98BFEC-E3B0-4E3C-BC9D-FEEA88D7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F6D24-2880-4320-B341-320DED13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E1FD39-1308-4C57-BA7A-98709E071A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80E08-D0F8-494C-9C41-B6B081FD08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06467-A995-4413-8828-F250865D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B02B3-DE8D-4843-A212-30655D91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26603-A7BA-43D1-A0A3-D101BFCF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F9329-61B4-4E78-BEAE-78566D3A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CECCF-A3F9-4D8F-AFF5-59032D98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82DB8-C57C-41AC-8E84-A034852D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7AD1A-D05F-4697-82FC-6D5E5ED5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F61FB-7E18-4CA5-926F-DEC1D749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B4054-1C56-4578-B870-70FF9C24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FA9C6-2471-4505-A61D-97E897FA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7096C-97CF-4878-9B72-74F098A1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B6FDB-E3AA-4A46-A8EC-C7C45EB749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13459-680B-4448-A3BF-90F626E355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F3B70-A82D-478F-8565-52B7A562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E7127-B0BE-4456-8640-84708B53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D3E7C-A7DC-4CD1-A938-E7733C87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0C942-22B0-42B5-AC62-1589CBBB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5C9A2-35CE-403F-9F6A-8C3BF8DD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D863E-AF9B-4BB1-84D0-E0141816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A6471-5381-41D7-BA40-0B3CF501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1EB7AC-6A71-424E-9B5B-D57787BA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AA9987-DC31-4BF4-8C64-421F29C5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9D77B-7CB9-444F-994E-A80987BF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405792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0F961-011D-4947-9649-1AED5E17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4057920"/>
            <a:ext cx="264852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AE87D0-7444-436C-8DC9-AA78375AC3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7920"/>
            <a:ext cx="82263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C68E0-7292-4C5B-A5F7-BF7B8AC7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240"/>
            <a:ext cx="8226360" cy="182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1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32A2A-8A44-4FBA-9676-EC40FE7D592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6.1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AEE0CAD-B8B5-4E2C-B304-CD0A661DF953}" type="slidenum"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3360" cy="18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0200" y="2507760"/>
            <a:ext cx="70833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2000"/>
          </a:bodyPr>
          <a:p>
            <a:pPr marL="10944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109440" indent="-1094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9440" indent="-1094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09440" indent="-1094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09440" indent="-1094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09440" indent="-1094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09440" indent="-1094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6.1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B6F17A6-1773-45DC-AA79-9C85C213B124}" type="slidenum"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34680"/>
            <a:ext cx="40370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14000"/>
          </a:bodyPr>
          <a:p>
            <a:pPr marL="4788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47880" indent="-478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47880" indent="-478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47880" indent="-478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47880" indent="-478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47880" indent="-478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47880" indent="-478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6.1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5A1BB81-B056-4866-957D-89DCE33C87B5}" type="slidenum"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30052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21240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212400" indent="-2124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212400" indent="-2124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212400" indent="-2124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12400" indent="-2124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12400" indent="-2124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12400" indent="-2124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9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6.1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2D3C9DA-48F4-4EF4-8D04-A11ECE79A1A5}" type="slidenum"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4035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5020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250200" indent="-250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250200" indent="-250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250200" indent="-250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50200" indent="-250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50200" indent="-250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50200" indent="-2502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1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6.1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9DF5406-7790-4194-A795-E72D805E36AF}" type="slidenum"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dt" idx="13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6.1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4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90519C4-6FE8-4F08-9C75-F89AF8CDEC79}" type="slidenum"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wmf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6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 rot="720000">
            <a:off x="6508440" y="1619280"/>
            <a:ext cx="2313000" cy="3276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287280" y="2151000"/>
            <a:ext cx="3462480" cy="4905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УБЛИЦИСТИКА ВОЕННЫХ    ЛЕТ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 rot="480000">
            <a:off x="3562200" y="2003400"/>
            <a:ext cx="1906560" cy="27003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 rot="420000">
            <a:off x="3676320" y="2828880"/>
            <a:ext cx="2104920" cy="29815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6"/>
          <a:stretch/>
        </p:blipFill>
        <p:spPr>
          <a:xfrm rot="840000">
            <a:off x="5401800" y="1619280"/>
            <a:ext cx="2105280" cy="29811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7"/>
          <a:stretch/>
        </p:blipFill>
        <p:spPr>
          <a:xfrm rot="840000">
            <a:off x="5546880" y="3274920"/>
            <a:ext cx="2104920" cy="29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2d5a3"/>
                </a:solidFill>
                <a:latin typeface="Times New Roman"/>
              </a:rPr>
              <a:t>КОРРЕСПОНДЕНТ   ГАЗЕТЫ</a:t>
            </a:r>
            <a:br>
              <a:rPr sz="4000"/>
            </a:br>
            <a:r>
              <a:rPr b="1" lang="ru-RU" sz="4000" spc="-1" strike="noStrike">
                <a:solidFill>
                  <a:srgbClr val="e2d5a3"/>
                </a:solidFill>
                <a:latin typeface="Times New Roman"/>
              </a:rPr>
              <a:t> «КРАСНАЯ  ЗВЕЗДА»</a:t>
            </a:r>
            <a:br>
              <a:rPr sz="24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211280" y="4724280"/>
            <a:ext cx="41101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«Что мы защищаем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«Родина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39640" y="1117440"/>
            <a:ext cx="3256200" cy="49644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9640" y="5877000"/>
            <a:ext cx="33847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АЛЕКСЕЙ ТОЛСТ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4211640" y="1484280"/>
            <a:ext cx="458784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УБЛИЦИСТИКА ВОЕННЫХ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1484280"/>
            <a:ext cx="51120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ронтовая иллюст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94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643280" y="1557360"/>
            <a:ext cx="44992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ронтовая  иллюст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945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2725920" cy="38656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3606840" y="2852640"/>
            <a:ext cx="52992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68360" y="333360"/>
            <a:ext cx="82296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УБЛИЦИСТИКА ВОЕННЫХ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11280" y="1197000"/>
            <a:ext cx="468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РОНТОВАЯ   ИЛЛЮСТ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4522680" cy="30956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4371840" y="2421000"/>
            <a:ext cx="4772160" cy="3095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52360" y="5373720"/>
            <a:ext cx="40323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удни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5661000"/>
            <a:ext cx="37432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ца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68360" y="260280"/>
            <a:ext cx="82296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УБЛИЦИСТИКА ВОЕННЫХ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82920" y="1197000"/>
            <a:ext cx="468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РОНТОВАЯ   ИЛЛЮСТ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765600" cy="3951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4427640" y="1989000"/>
            <a:ext cx="4527360" cy="29941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68360" y="5805360"/>
            <a:ext cx="40323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рская  би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59280" y="5013360"/>
            <a:ext cx="37432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орона 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39640" y="333360"/>
            <a:ext cx="82296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УБЛИЦИСТИКА ВОЕННЫХ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11280" y="1197000"/>
            <a:ext cx="468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РОНТОВАЯ   ИЛЛЮСТ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191772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819680" y="2133720"/>
            <a:ext cx="4324320" cy="31240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24000" y="5373720"/>
            <a:ext cx="4032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ерация Баграти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59280" y="5445000"/>
            <a:ext cx="37432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алинградское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272880"/>
            <a:ext cx="914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Кукрыник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2147760" cy="29620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95280" y="4653000"/>
            <a:ext cx="31687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Михаил Куприя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3348000" y="1339920"/>
            <a:ext cx="2654280" cy="18000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276720" y="3213000"/>
            <a:ext cx="2808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орфирий Кры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6732720" y="1700280"/>
            <a:ext cx="1969920" cy="25923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6443640" y="4365720"/>
            <a:ext cx="3132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Николай  Сок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5"/>
          <a:stretch/>
        </p:blipFill>
        <p:spPr>
          <a:xfrm>
            <a:off x="3780000" y="3716280"/>
            <a:ext cx="1636560" cy="2232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348000" y="6093000"/>
            <a:ext cx="29527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амуил Мар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УБЛИЦИСТИКА ВОЕННЫХ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627280" y="8366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ТОГАЗ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252360" y="1123920"/>
            <a:ext cx="2376720" cy="31543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3419640" y="3645000"/>
            <a:ext cx="1939680" cy="29527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6227640" y="1268280"/>
            <a:ext cx="2411640" cy="35686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2987640" y="1557360"/>
            <a:ext cx="3025800" cy="20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68360" y="189000"/>
            <a:ext cx="82296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УБЛИЦИСТИКА ВОЕННЫХ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556000" y="1052640"/>
            <a:ext cx="4039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ТИРИЧЕСКИЕ ЖУРН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3492360" y="1484280"/>
            <a:ext cx="2359080" cy="3181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6661080" y="549360"/>
            <a:ext cx="2195640" cy="29638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0" y="549360"/>
            <a:ext cx="2548080" cy="33843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1116000" y="3164040"/>
            <a:ext cx="2319480" cy="36925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6"/>
          <a:stretch/>
        </p:blipFill>
        <p:spPr>
          <a:xfrm>
            <a:off x="5907240" y="3527280"/>
            <a:ext cx="2409840" cy="32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УБЛИЦИСТИКА ВОЕННЫХ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700360" y="5805360"/>
            <a:ext cx="39592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ередвижная   тип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266920" y="1339920"/>
            <a:ext cx="437688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3860640"/>
            <a:ext cx="40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ЮРИЙ   БОРИСОВИЧ 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 ЛЕВИТ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16000" y="189000"/>
            <a:ext cx="684072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УБЛИЦИСТИКА  ВОЕННЫХ 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427640" y="981000"/>
            <a:ext cx="404172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свобождение Сталинг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3525840" cy="26431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4572000" y="5734080"/>
            <a:ext cx="4398840" cy="6858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3851280" y="2060640"/>
            <a:ext cx="489600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1819440" y="1557360"/>
            <a:ext cx="5516280" cy="4137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7418520" cy="5004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979640" y="907920"/>
            <a:ext cx="5400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Гимн защиты Оте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 rot="1140000">
            <a:off x="6059160" y="1699920"/>
            <a:ext cx="2313000" cy="32763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771480" y="1627200"/>
            <a:ext cx="3462480" cy="49053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ПУБЛИЦИСТИКА ВОЕННЫХ    ЛЕТ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427280" y="4768560"/>
            <a:ext cx="410364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ff00"/>
                </a:solidFill>
                <a:latin typeface="Lucida Sans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акую роль сыграла публицистика в годы войны, каков ее вклад в побед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 rot="840000">
            <a:off x="3913200" y="1522440"/>
            <a:ext cx="1906560" cy="2700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5"/>
          <a:stretch/>
        </p:blipFill>
        <p:spPr>
          <a:xfrm rot="840000">
            <a:off x="4974840" y="1619280"/>
            <a:ext cx="210492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700360" y="282600"/>
            <a:ext cx="3287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Рефл</a:t>
            </a:r>
            <a:r>
              <a:rPr b="1" i="1" lang="ru-RU" sz="40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е</a:t>
            </a:r>
            <a:r>
              <a:rPr b="1" lang="ru-RU" sz="40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1027080"/>
            <a:ext cx="91440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reflexio – обращение 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1. размышление о внутреннем состоянии, самопозн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2. самоанализ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1280" y="2597040"/>
            <a:ext cx="352728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сегодня я узн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я выполнял задан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я поня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я почувствова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я приобре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00720" y="2781360"/>
            <a:ext cx="422424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я смо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еня удивил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урок дал мне для жизн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не захоте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692280"/>
            <a:ext cx="43196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 algn="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А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 algn="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Ираклий Моис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 algn="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Тоид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572000" y="765000"/>
            <a:ext cx="4176720" cy="52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851280" y="1197000"/>
            <a:ext cx="4686120" cy="3384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68360" y="189000"/>
            <a:ext cx="8229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УБЛИЦИСТИКА ВОЕННЫХ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 rot="21060000">
            <a:off x="298080" y="885960"/>
            <a:ext cx="2887560" cy="4298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 rot="21420000">
            <a:off x="2716200" y="1981080"/>
            <a:ext cx="2952720" cy="41817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5580000" y="2637000"/>
            <a:ext cx="285768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611280" y="4724280"/>
            <a:ext cx="748800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73080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308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- Какую роль сыграла публицистика в годы войны, каков ее вклад в побед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944720" y="34920"/>
            <a:ext cx="67690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2d5a3"/>
                </a:solidFill>
                <a:latin typeface="Times New Roman"/>
              </a:rPr>
              <a:t>ВОЕННЫЕ   КОРРЕСПОНД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149720"/>
            <a:ext cx="34560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Война, она такое дело, О ней не вспоминать нельзя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 algn="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.Тимошечк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 algn="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fff00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Военный архи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3564000" y="1484280"/>
            <a:ext cx="5111640" cy="41068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1042920" y="2565360"/>
            <a:ext cx="2722680" cy="1800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89720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ЖАНРЫ </a:t>
            </a: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ПУБЛИЦИСТИКИ </a:t>
            </a:r>
            <a:br>
              <a:rPr sz="41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76360" y="936360"/>
            <a:ext cx="3959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Газетная </a:t>
            </a:r>
            <a:r>
              <a:rPr b="1" lang="ru-RU" sz="2200" spc="-1" strike="noStrike" u="sng">
                <a:solidFill>
                  <a:srgbClr val="ffff00"/>
                </a:solidFill>
                <a:uFillTx/>
                <a:latin typeface="Times New Roman"/>
              </a:rPr>
              <a:t>заметка –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 краткое сообщение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, изложение факта (констатация),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но не анализ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, не рассуждение по этому повод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59280" y="1052640"/>
            <a:ext cx="3951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Газетная </a:t>
            </a:r>
            <a:r>
              <a:rPr b="1" lang="ru-RU" sz="2200" spc="-1" strike="noStrike" u="sng">
                <a:solidFill>
                  <a:srgbClr val="ffff00"/>
                </a:solidFill>
                <a:uFillTx/>
                <a:latin typeface="Times New Roman"/>
              </a:rPr>
              <a:t>статья </a:t>
            </a:r>
            <a:r>
              <a:rPr b="0" lang="ru-RU" sz="2200" spc="-1" strike="noStrike" u="sng">
                <a:solidFill>
                  <a:srgbClr val="ffff00"/>
                </a:solidFill>
                <a:uFillTx/>
                <a:latin typeface="Times New Roman"/>
              </a:rPr>
              <a:t>–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ублицистическое, научно-популярное сочинение небольшого размера,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анализ фактов с авторской оценкой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4360" y="4608360"/>
            <a:ext cx="392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Эссе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произведение, передающе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убъективные впечатления и размышления автор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 тому или иному поводу  и не претендующее на полноту изображения и исчерпывающую трактовку 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03640" y="3456000"/>
            <a:ext cx="403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Хроник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– краткое сообщение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и последовательный рассказ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 текущих событиях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хроника дня, международной жизни, светская хроника, криминальная хрони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2592360"/>
            <a:ext cx="4319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 u="sng">
                <a:solidFill>
                  <a:srgbClr val="ffff00"/>
                </a:solidFill>
                <a:uFillTx/>
                <a:latin typeface="Times New Roman"/>
              </a:rPr>
              <a:t>Памфлет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(Ожегов) - </a:t>
            </a:r>
            <a:br>
              <a:rPr sz="2100"/>
            </a:b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злободневное острое, </a:t>
            </a:r>
            <a:r>
              <a:rPr b="1" lang="ru-RU" sz="2100" spc="-1" strike="noStrike" u="sng">
                <a:solidFill>
                  <a:srgbClr val="ffffff"/>
                </a:solidFill>
                <a:uFillTx/>
                <a:latin typeface="Times New Roman"/>
              </a:rPr>
              <a:t>небольшое произведение обличительного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 u="sng">
                <a:solidFill>
                  <a:srgbClr val="ffffff"/>
                </a:solidFill>
                <a:uFillTx/>
                <a:latin typeface="Times New Roman"/>
              </a:rPr>
              <a:t>политического характера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. Критика носит разоблачительный, уничтожающий характе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227640" y="620640"/>
            <a:ext cx="2460600" cy="2529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468360" y="692280"/>
            <a:ext cx="2303280" cy="23032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ОЕННЫЕ  КОРРЕСПОНДЕНТЫ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2852640"/>
            <a:ext cx="25192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еонид Собол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0360" y="3068640"/>
            <a:ext cx="32036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стантин Сим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3276720" y="1628640"/>
            <a:ext cx="2079360" cy="3095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916360" y="4797360"/>
            <a:ext cx="28796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ександр Фад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539640" y="3332160"/>
            <a:ext cx="2087640" cy="28274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0" y="6165720"/>
            <a:ext cx="29527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дрей Плат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6"/>
          <a:stretch/>
        </p:blipFill>
        <p:spPr>
          <a:xfrm>
            <a:off x="6227640" y="3500280"/>
            <a:ext cx="2076480" cy="2768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5940360" y="6237360"/>
            <a:ext cx="27352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рис Горб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2"/>
          <a:srcRect l="0" t="7521" r="0" b="0"/>
          <a:stretch/>
        </p:blipFill>
        <p:spPr>
          <a:xfrm>
            <a:off x="755640" y="1300320"/>
            <a:ext cx="7704000" cy="55562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24000" y="620640"/>
            <a:ext cx="882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e2d5a3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ОРРЕСПОНДЕНТ   ГАЗ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e2d5a3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ПРАВДА»,  «КРАСНАЯ  ЗВЕЗДА»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27640" y="5300640"/>
            <a:ext cx="4545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69676d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ИХАИЛ   ШОЛО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364000" y="1339920"/>
            <a:ext cx="2959200" cy="48308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788000" y="6093000"/>
            <a:ext cx="39592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МИХАИЛ  ШОЛО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3989160" cy="287964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2d5a3"/>
                </a:solidFill>
                <a:latin typeface="Book Antiqua"/>
              </a:rPr>
              <a:t>КОРРЕСПОНДЕНТ  ГАЗЕТ</a:t>
            </a:r>
            <a:br>
              <a:rPr sz="4000"/>
            </a:br>
            <a:r>
              <a:rPr b="1" lang="ru-RU" sz="4000" spc="-1" strike="noStrike">
                <a:solidFill>
                  <a:srgbClr val="e2d5a3"/>
                </a:solidFill>
                <a:latin typeface="Book Antiqua"/>
              </a:rPr>
              <a:t>«ПРАВДА», «КРАСНАЯ ЗВЕЗДА», «ИЗВЕСТИЯ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468360" y="1757520"/>
            <a:ext cx="3084480" cy="45511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95280" y="4723920"/>
            <a:ext cx="482436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Я принадлежу к поколению европейцев, которое видит не первую войну. Я знаю, как искажает война лицо и душу городов»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6T14:46:35Z</dcterms:created>
  <dc:creator>Андрей Андреев</dc:creator>
  <dc:description/>
  <dc:language>en-US</dc:language>
  <cp:lastModifiedBy/>
  <cp:revision>1</cp:revision>
  <dc:subject/>
  <dc:title/>
</cp:coreProperties>
</file>