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4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7.jpeg" ContentType="image/jpeg"/>
  <Override PartName="/ppt/media/image43.wmf" ContentType="image/x-wmf"/>
  <Override PartName="/ppt/media/image40.jpeg" ContentType="image/jpeg"/>
  <Override PartName="/ppt/media/image13.jpeg" ContentType="image/jpeg"/>
  <Override PartName="/ppt/media/image23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563B7-AB61-4592-BD4C-0B8E565DA1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3684-7043-45B0-9F60-3CFA8E3A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6C03-4BF8-4235-B47F-4D4C7FCD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6048-409D-4868-8200-6CF09C8D6E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38399-FEDB-4D69-A15A-4FAA460E5C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C4C1F-E662-4B11-81B2-D0791AFF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B74C2-BCD4-465F-9A2F-B4A4D4A5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693FE-D7E2-44AF-83F2-C53B9CB4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A37D3-D39D-437E-9ED9-EBD80151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0F49D-2B88-4617-B0E8-898B1E3E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FFA39-D118-426C-B28F-2ECBF56D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9D50-FECC-434D-9EF3-22E0E1B1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BA05F-CF6E-48CF-8094-C2DD4A17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AF0C9-A241-4A6F-B6F7-5C83B338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1C240-1464-49A7-B5E6-2B681942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B652A-B4F1-4120-B65D-C9A86A46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2E526-B8E5-48CB-A73E-B708154CE0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B062-9268-48B8-8608-297C474EE5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2BE1-8BE4-43FB-89F5-9BDD2517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4124-8DA9-4CC4-A65C-5BE7EBCD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C2E8-0F2C-4D5D-AEDE-EA7A3BAE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C862-4FE9-433E-8306-8182C213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3CE79-D717-4AA9-8757-6415FD6A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808B-CCD3-4D4B-BE6C-92813237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F475-69F5-4FFB-9B99-62426463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9670-9735-4658-926D-2B6B8412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155E-C63B-4AB9-B810-4DE58FEF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3279-EBF1-4F34-B734-323A56AA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745F-5A72-4D79-A349-7FB1D8E3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5279-6843-4E04-B287-C0749E71C8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EDE3C-8127-4BEE-9026-FBAAFC025C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4F8D2-5C02-482B-8169-CCAC7C57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CDF33-3F2A-4955-9491-B7CAD294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C7B6D-7070-4343-B2DE-C8822FF6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613B2-4462-4D50-87ED-1ED53E84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9F604-BB1C-473C-97FB-F6241A82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2835A-F63E-43A3-A1B3-EB9B4487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DFEDB-01D4-4C7F-87BA-B38BD36D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04738-15C4-455F-9F1A-A4B2D116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E4509-3276-4937-9D44-EE1041D4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8B1BC-5991-453B-8529-F83FC9CD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EA467-6AD4-4E21-BE41-06518A7F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0D161-71DD-40EA-AA6B-4A80D140B7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9A2A56-D1EF-4878-8560-7F4A450969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0AD88-4689-4ADA-B620-A6AA0CC0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B4E18-2989-4898-A6E6-9426AED5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60627D-0779-451D-A5B2-324C05DD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335532-D78F-480A-8CFF-FF001EB3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E27424-A6A1-4CA8-B1D0-AE0DE86F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542101-01A7-4E0F-AA1C-11166F5B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D3BA0F-4BD9-4143-B15B-9DBD8A0B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40FB8-EC25-4C92-BA36-46E77D35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D4280C-1CC9-458D-9089-7D62A37C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24473C-EF8E-4785-AC87-0AD31B98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D30168-A053-4448-AB17-C5D43F8F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B305C-6F8E-49C3-8EB4-1D826B02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B776D9-BFD0-44F6-9E1C-624CB81582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BF149-38F8-4812-8A68-6F7EB82992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54592-8CB1-49E0-B57C-260FDDBA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7D909-4C2C-4A2A-AFF3-A8771DFB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8E013-B20A-4090-8D04-C4D3FC36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41121-8619-4923-A81D-0512EC27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13E3-9B3C-4008-8655-841B9872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94052-A3E2-40F4-95D8-6C3A62A5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537E6-4242-4D59-8B52-C8A1EAA0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50342-2B28-4C1A-8A4C-3EFB3A9E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7B0C2-B25F-40AA-8292-495D1EA3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7264-5E53-4FC8-AF2B-77F13B17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55965-E499-4891-8B24-0FBE8FEF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9174C-F997-4E59-A641-1ECD086449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015FA-2C6B-4D09-BAB4-A767C1266F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222DE6-0F47-4428-84DB-95EE2C31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CF904-CBE2-4C9D-80A7-E8BFB68F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E99B6-58B0-4852-8ACD-C383C3E1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4046F-3B31-4CF9-B2E4-2B32B856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22B8B9-E13E-4C87-9D54-B9C4316A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A7724-7A12-4720-A95F-3DFCA54C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1ADF1-E2FA-43AB-BBAB-960F9638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8D778-CB24-48FD-9F29-C7718595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ABF740-6BAF-4949-8324-BB217CD2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4E8AC-2201-447B-AECA-D11C6B06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F4947-F689-4986-B351-1B2B1A21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0BE0C7-A8E8-4F59-AD5F-629A6EA63A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1E700-DF58-4C86-B3BC-0962746D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240"/>
            <a:ext cx="8226360" cy="182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1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47847-5EFE-42CC-BA74-A2AB3719458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6.1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7E4AB95-2947-4790-9506-B0A1205CE055}" type="slidenum"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3360" cy="18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0200" y="2507760"/>
            <a:ext cx="70833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2000"/>
          </a:bodyPr>
          <a:p>
            <a:pPr marL="10944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109440" indent="-1094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9440" indent="-1094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09440" indent="-1094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09440" indent="-1094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09440" indent="-1094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09440" indent="-1094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6.1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8FF3724-0E6B-4900-8A98-55349F2F0A09}" type="slidenum"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70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14000"/>
          </a:bodyPr>
          <a:p>
            <a:pPr marL="478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47880" indent="-478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47880" indent="-478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47880" indent="-478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47880" indent="-478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47880" indent="-478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47880" indent="-478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6.1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81C5061-6A30-4B6A-92E9-76C04E18D5F6}" type="slidenum"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30052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1240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212400" indent="-2124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212400" indent="-2124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212400" indent="-2124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12400" indent="-2124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12400" indent="-2124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12400" indent="-2124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9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6.1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36D5AFA-3101-498E-B67F-0A60925C3B7B}" type="slidenum"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4035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020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250200" indent="-250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250200" indent="-250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250200" indent="-250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50200" indent="-250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50200" indent="-250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50200" indent="-250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1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6.1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7A9A6AB-265E-4A9B-BFDF-38B98B5AE02C}" type="slidenum"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dt" idx="13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6.1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4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1DCD9AE-5AA7-4C4F-AC19-5CF8FD3F61C7}" type="slidenum"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wmf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6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 rot="720000">
            <a:off x="6508440" y="1619280"/>
            <a:ext cx="2313000" cy="3276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287280" y="2151000"/>
            <a:ext cx="3462480" cy="4905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БЛИЦИСТИКА ВОЕННЫХ    ЛЕТ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 rot="480000">
            <a:off x="3562200" y="2003400"/>
            <a:ext cx="1906560" cy="2700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 rot="420000">
            <a:off x="3676320" y="2828880"/>
            <a:ext cx="2104920" cy="29815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 rot="840000">
            <a:off x="5401800" y="1619280"/>
            <a:ext cx="2105280" cy="29811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7"/>
          <a:stretch/>
        </p:blipFill>
        <p:spPr>
          <a:xfrm rot="840000">
            <a:off x="5546880" y="3274920"/>
            <a:ext cx="2104920" cy="29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2d5a3"/>
                </a:solidFill>
                <a:latin typeface="Times New Roman"/>
              </a:rPr>
              <a:t>КОРРЕСПОНДЕНТ   ГАЗЕТЫ</a:t>
            </a:r>
            <a:br>
              <a:rPr sz="4000"/>
            </a:br>
            <a:r>
              <a:rPr b="1" lang="ru-RU" sz="4000" spc="-1" strike="noStrike">
                <a:solidFill>
                  <a:srgbClr val="e2d5a3"/>
                </a:solidFill>
                <a:latin typeface="Times New Roman"/>
              </a:rPr>
              <a:t> «КРАСНАЯ  ЗВЕЗДА»</a:t>
            </a: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211280" y="4724280"/>
            <a:ext cx="41101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«Что мы защищаем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«Родина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39640" y="1117440"/>
            <a:ext cx="3256200" cy="49644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9640" y="5877000"/>
            <a:ext cx="33847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АЛЕКСЕЙ ТОЛС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4211640" y="1484280"/>
            <a:ext cx="458784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БЛИЦИСТИКА ВОЕННЫХ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1484280"/>
            <a:ext cx="51120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онтовая иллюст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4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643280" y="1557360"/>
            <a:ext cx="44992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онтовая  иллюст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45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2725920" cy="38656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3606840" y="2852640"/>
            <a:ext cx="52992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68360" y="333360"/>
            <a:ext cx="8229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БЛИЦИСТИКА ВОЕННЫХ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11280" y="1197000"/>
            <a:ext cx="468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ОНТОВАЯ   ИЛЛЮСТ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4522680" cy="30956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371840" y="2421000"/>
            <a:ext cx="4772160" cy="3095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52360" y="5373720"/>
            <a:ext cx="40323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удни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661000"/>
            <a:ext cx="3743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ца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68360" y="260280"/>
            <a:ext cx="8229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БЛИЦИСТИКА ВОЕННЫХ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82920" y="1197000"/>
            <a:ext cx="468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ОНТОВАЯ   ИЛЛЮСТ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765600" cy="3951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4527360" cy="29941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68360" y="5805360"/>
            <a:ext cx="40323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рская  би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59280" y="5013360"/>
            <a:ext cx="3743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рона 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9640" y="333360"/>
            <a:ext cx="8229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БЛИЦИСТИКА ВОЕННЫХ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11280" y="1197000"/>
            <a:ext cx="468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ОНТОВАЯ   ИЛЛЮСТ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191772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819680" y="2133720"/>
            <a:ext cx="4324320" cy="31240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24000" y="5373720"/>
            <a:ext cx="4032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ерация Баграти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59280" y="5445000"/>
            <a:ext cx="3743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линградское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272880"/>
            <a:ext cx="914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Кукрыник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2147760" cy="29620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95280" y="4653000"/>
            <a:ext cx="31687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Михаил Куприя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3348000" y="1339920"/>
            <a:ext cx="2654280" cy="1800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276720" y="3213000"/>
            <a:ext cx="2808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рфирий Кры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6732720" y="1700280"/>
            <a:ext cx="1969920" cy="25923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443640" y="4365720"/>
            <a:ext cx="3132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Николай  Сок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3780000" y="3716280"/>
            <a:ext cx="1636560" cy="2232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348000" y="6093000"/>
            <a:ext cx="29527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уил 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УБЛИЦИСТИКА ВОЕННЫХ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627280" y="8366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ТОГАЗ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252360" y="1123920"/>
            <a:ext cx="2376720" cy="31543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3419640" y="3645000"/>
            <a:ext cx="1939680" cy="29527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6227640" y="1268280"/>
            <a:ext cx="2411640" cy="35686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2987640" y="1557360"/>
            <a:ext cx="302580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68360" y="189000"/>
            <a:ext cx="8229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БЛИЦИСТИКА ВОЕННЫХ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56000" y="1052640"/>
            <a:ext cx="4039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ТИРИЧЕСКИЕ ЖУРН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492360" y="1484280"/>
            <a:ext cx="2359080" cy="3181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6661080" y="549360"/>
            <a:ext cx="2195640" cy="29638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0" y="549360"/>
            <a:ext cx="2548080" cy="33843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1116000" y="3164040"/>
            <a:ext cx="2319480" cy="36925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6"/>
          <a:stretch/>
        </p:blipFill>
        <p:spPr>
          <a:xfrm>
            <a:off x="5907240" y="3527280"/>
            <a:ext cx="2409840" cy="32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УБЛИЦИСТИКА ВОЕННЫХ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700360" y="5805360"/>
            <a:ext cx="3959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ередвижная   тип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266920" y="1339920"/>
            <a:ext cx="43768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3860640"/>
            <a:ext cx="40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ЮРИЙ   БОРИСОВИЧ 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 ЛЕВИТ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16000" y="189000"/>
            <a:ext cx="684072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БЛИЦИСТИКА  ВОЕННЫХ 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427640" y="981000"/>
            <a:ext cx="404172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свобождение Сталинг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4572000" y="5734080"/>
            <a:ext cx="4398840" cy="6858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3851280" y="2060640"/>
            <a:ext cx="48960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819440" y="1557360"/>
            <a:ext cx="5516280" cy="4137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7418520" cy="5004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979640" y="907920"/>
            <a:ext cx="5400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Гимн защиты Оте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 rot="1140000">
            <a:off x="6059160" y="1699920"/>
            <a:ext cx="2313000" cy="32763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771480" y="1627200"/>
            <a:ext cx="3462480" cy="49053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ПУБЛИЦИСТИКА ВОЕННЫХ    ЛЕТ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427280" y="4768560"/>
            <a:ext cx="41036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00"/>
                </a:solidFill>
                <a:latin typeface="Lucida Sans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акую роль сыграла публицистика в годы войны, каков ее вклад в побе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 rot="840000">
            <a:off x="3913200" y="1522440"/>
            <a:ext cx="1906560" cy="2700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 rot="840000">
            <a:off x="4974840" y="1619280"/>
            <a:ext cx="210492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700360" y="282600"/>
            <a:ext cx="3287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Рефл</a:t>
            </a:r>
            <a:r>
              <a:rPr b="1" i="1" lang="ru-RU" sz="40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е</a:t>
            </a:r>
            <a:r>
              <a:rPr b="1" lang="ru-RU" sz="40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027080"/>
            <a:ext cx="91440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reflexio – обращение 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. размышление о внутреннем состоянии, самопозн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2. самоанализ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1280" y="2597040"/>
            <a:ext cx="352728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00720" y="2781360"/>
            <a:ext cx="422424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еня удивил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рок дал мне для жизн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не захоте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692280"/>
            <a:ext cx="43196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А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 algn="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Ираклий Моис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 algn="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Тоид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572000" y="765000"/>
            <a:ext cx="4176720" cy="52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851280" y="1197000"/>
            <a:ext cx="4686120" cy="3384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68360" y="189000"/>
            <a:ext cx="822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БЛИЦИСТИКА ВОЕННЫХ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 rot="21060000">
            <a:off x="298080" y="885960"/>
            <a:ext cx="2887560" cy="4298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 rot="21420000">
            <a:off x="2716200" y="1981080"/>
            <a:ext cx="2952720" cy="41817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5580000" y="2637000"/>
            <a:ext cx="285768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11280" y="4724280"/>
            <a:ext cx="748800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7308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308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- Какую роль сыграла публицистика в годы войны, каков ее вклад в побе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944720" y="34920"/>
            <a:ext cx="67690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2d5a3"/>
                </a:solidFill>
                <a:latin typeface="Times New Roman"/>
              </a:rPr>
              <a:t>ВОЕННЫЕ   КОРРЕСПОНД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149720"/>
            <a:ext cx="34560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ойна, она такое дело, О ней не вспоминать нельзя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 algn="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.Тимошечк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 algn="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оенный архи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564000" y="1484280"/>
            <a:ext cx="5111640" cy="41068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1042920" y="2565360"/>
            <a:ext cx="2722680" cy="1800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89720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ЖАНРЫ </a:t>
            </a: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ПУБЛИЦИСТИКИ </a:t>
            </a:r>
            <a:br>
              <a:rPr sz="41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76360" y="936360"/>
            <a:ext cx="3959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Газетная </a:t>
            </a:r>
            <a:r>
              <a:rPr b="1" lang="ru-RU" sz="2200" spc="-1" strike="noStrike" u="sng">
                <a:solidFill>
                  <a:srgbClr val="ffff00"/>
                </a:solidFill>
                <a:uFillTx/>
                <a:latin typeface="Times New Roman"/>
              </a:rPr>
              <a:t>заметка –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 краткое сообщение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, изложение факта (констатация),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но не анализ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, не рассуждение по этому повод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1052640"/>
            <a:ext cx="3951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Газетная </a:t>
            </a:r>
            <a:r>
              <a:rPr b="1" lang="ru-RU" sz="2200" spc="-1" strike="noStrike" u="sng">
                <a:solidFill>
                  <a:srgbClr val="ffff00"/>
                </a:solidFill>
                <a:uFillTx/>
                <a:latin typeface="Times New Roman"/>
              </a:rPr>
              <a:t>статья </a:t>
            </a:r>
            <a:r>
              <a:rPr b="0" lang="ru-RU" sz="2200" spc="-1" strike="noStrike" u="sng">
                <a:solidFill>
                  <a:srgbClr val="ffff00"/>
                </a:solidFill>
                <a:uFillTx/>
                <a:latin typeface="Times New Roman"/>
              </a:rPr>
              <a:t>–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ублицистическое, научно-популярное сочинение небольшого размера,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анализ фактов с авторской оценкой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4360" y="4608360"/>
            <a:ext cx="392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Эссе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произведение, передающе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убъективные впечатления и размышления автор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 тому или иному поводу  и не претендующее на полноту изображения и исчерпывающую трактовку 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03640" y="3456000"/>
            <a:ext cx="403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Хроник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краткое сообщение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 последовательный рассказ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 текущих событиях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хроника дня, международной жизни, светская хроника, криминальная хрони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2592360"/>
            <a:ext cx="4319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 u="sng">
                <a:solidFill>
                  <a:srgbClr val="ffff00"/>
                </a:solidFill>
                <a:uFillTx/>
                <a:latin typeface="Times New Roman"/>
              </a:rPr>
              <a:t>Памфлет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(Ожегов) - </a:t>
            </a:r>
            <a:br>
              <a:rPr sz="2100"/>
            </a:b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злободневное острое, </a:t>
            </a:r>
            <a:r>
              <a:rPr b="1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небольшое произведение обличительного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политического характера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. Критика носит разоблачительный, уничтожающий характе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227640" y="620640"/>
            <a:ext cx="2460600" cy="252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468360" y="69228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ОЕННЫЕ  КОРРЕСПОНДЕНТЫ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2852640"/>
            <a:ext cx="2519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онид Собо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0360" y="3068640"/>
            <a:ext cx="3203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стантин Сим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3276720" y="1628640"/>
            <a:ext cx="2079360" cy="3095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916360" y="4797360"/>
            <a:ext cx="2879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ександр Фад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539640" y="3332160"/>
            <a:ext cx="2087640" cy="28274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6165720"/>
            <a:ext cx="29527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дрей Пла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6227640" y="3500280"/>
            <a:ext cx="2076480" cy="2768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5940360" y="6237360"/>
            <a:ext cx="2735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рис Горб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rcRect l="0" t="7521" r="0" b="0"/>
          <a:stretch/>
        </p:blipFill>
        <p:spPr>
          <a:xfrm>
            <a:off x="755640" y="1300320"/>
            <a:ext cx="7704000" cy="55562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24000" y="620640"/>
            <a:ext cx="882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e2d5a3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ОРРЕСПОНДЕНТ   ГАЗ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e2d5a3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ПРАВДА»,  «КРАСНАЯ  ЗВЕЗДА»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27640" y="5300640"/>
            <a:ext cx="4545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69676d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ИХАИЛ   ШОЛО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364000" y="1339920"/>
            <a:ext cx="2959200" cy="48308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788000" y="6093000"/>
            <a:ext cx="3959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МИХАИЛ  ШОЛО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3989160" cy="287964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2d5a3"/>
                </a:solidFill>
                <a:latin typeface="Book Antiqua"/>
              </a:rPr>
              <a:t>КОРРЕСПОНДЕНТ  ГАЗЕТ</a:t>
            </a:r>
            <a:br>
              <a:rPr sz="4000"/>
            </a:br>
            <a:r>
              <a:rPr b="1" lang="ru-RU" sz="4000" spc="-1" strike="noStrike">
                <a:solidFill>
                  <a:srgbClr val="e2d5a3"/>
                </a:solidFill>
                <a:latin typeface="Book Antiqua"/>
              </a:rPr>
              <a:t>«ПРАВДА», «КРАСНАЯ ЗВЕЗДА», «ИЗВЕСТИЯ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468360" y="1757520"/>
            <a:ext cx="3084480" cy="45511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95280" y="4723920"/>
            <a:ext cx="482436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Я принадлежу к поколению европейцев, которое видит не первую войну. Я знаю, как искажает война лицо и душу городов»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6T14:46:35Z</dcterms:created>
  <dc:creator>Андрей Андреев</dc:creator>
  <dc:description/>
  <dc:language>en-US</dc:language>
  <cp:lastModifiedBy/>
  <cp:revision>1</cp:revision>
  <dc:subject/>
  <dc:title/>
</cp:coreProperties>
</file>