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6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20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.jpeg" ContentType="image/jpeg"/>
  <Override PartName="/ppt/media/image31.png" ContentType="image/png"/>
  <Override PartName="/ppt/media/image56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695-ACFB-41F2-8A32-58150BE6B5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C11B-65AF-48B5-9C31-361C94F71F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BDB-B5A4-43B2-8D6D-66C07BC4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DB5-31EE-4B43-BC1F-2783E511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174-C4C6-43DD-8210-A8361683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0A9-BA90-44AE-BBF9-37588277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A09-1835-46F7-AF3D-02054DB9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6CB-5950-41F2-B0BB-B39915F0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AD7-AAEF-4191-B5DA-9BEB9AF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76F-17DE-4988-B006-EA02CC19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BC6-DCD3-4909-B10E-E46D0442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A72-056A-4087-BDB4-5236ADA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2A0-6C28-41FF-9A82-266D9B1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140-2603-4EFA-BDAC-CB0E52F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0B73-9DB9-42A8-AEAD-9E6334200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25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857760" y="385776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, вместе и ночной. На конторке чернильница и подсвечник со щипцами…»       И.И.Пущин.Записки о Пушк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85840" y="1000080"/>
            <a:ext cx="25207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1000080"/>
            <a:ext cx="2333880" cy="2800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116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16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116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487880" y="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", картина И. Репина, 19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420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первые годы по окончании Лицея им были написаны стихотворения "Деревня," "Домовому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« К Чаадаеву", ода "Вольность", поэма "Руслан и Людмил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mhtml:file://C:\Documents%20and%20Settings\Admin\Рабочий%20стол\пушкин1\Яндекс.Картинки_%20михайловское3.mht!http://eshka-i.narod.ru/photo48.jpg"/>
          <p:cNvPicPr/>
          <p:nvPr/>
        </p:nvPicPr>
        <p:blipFill>
          <a:blip r:embed="rId1"/>
          <a:stretch/>
        </p:blipFill>
        <p:spPr>
          <a:xfrm>
            <a:off x="214200" y="214200"/>
            <a:ext cx="46119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новое\новое\pushkin_32.jpg"/>
          <p:cNvPicPr/>
          <p:nvPr/>
        </p:nvPicPr>
        <p:blipFill>
          <a:blip r:embed="rId2"/>
          <a:stretch/>
        </p:blipFill>
        <p:spPr>
          <a:xfrm>
            <a:off x="3714840" y="3429000"/>
            <a:ext cx="5257800" cy="3228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4857840" y="21420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разу после окончания Лицея в 1817 году, и вторично в 1819 г. после тяжелой болезни Пушкин приезжал в имение матери с.Михайловское Псков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29040" y="500040"/>
            <a:ext cx="5000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Идеи гражданской свободы нашли отражение и в стихах, и в поведении юного Пушки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"Пушкина надобно сослать в Сибирь: он наводнил Россию возмутительными стихами; вся молодежь наизусть их читает" - таково было решение царя Александра I. Хлопотами друзей вместо Сибири Пушкина сослали на ю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C:\Documents and Settings\Admin\Рабочий стол\пушкин1\pushkin-sea_big_46587152778.jpg"/>
          <p:cNvPicPr/>
          <p:nvPr/>
        </p:nvPicPr>
        <p:blipFill>
          <a:blip r:embed="rId1"/>
          <a:stretch/>
        </p:blipFill>
        <p:spPr>
          <a:xfrm>
            <a:off x="142920" y="357120"/>
            <a:ext cx="3860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429000" y="214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E:\новое\новое\pushkin_10.jpg"/>
          <p:cNvPicPr/>
          <p:nvPr/>
        </p:nvPicPr>
        <p:blipFill>
          <a:blip r:embed="rId1"/>
          <a:stretch/>
        </p:blipFill>
        <p:spPr>
          <a:xfrm>
            <a:off x="285840" y="214200"/>
            <a:ext cx="3071880" cy="301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14200" y="41432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онце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24 года ссылка в родительское имение Михайловское Псков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Пушкин\pushkin_26.jpg"/>
          <p:cNvPicPr/>
          <p:nvPr/>
        </p:nvPicPr>
        <p:blipFill>
          <a:blip r:embed="rId2"/>
          <a:stretch/>
        </p:blipFill>
        <p:spPr>
          <a:xfrm>
            <a:off x="3714840" y="2500200"/>
            <a:ext cx="4976640" cy="361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3571920" y="6072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19640" y="33577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Авто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 селом Михайловским в Псковской губернии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2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32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2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214200" y="381168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Это путешествие по Военно-Грузинской дороге, яркие впечатления и многочисленные встречи с друзьями, участие в военных действиях русской армии, взявшей Арзрум, Пушкин описал в автобиографическом прои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"Путешествие в Арзрум" (182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1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.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C:\Documents and Settings\Admin\Рабочий стол\Пушкин\boldino_02.jpg"/>
          <p:cNvPicPr/>
          <p:nvPr/>
        </p:nvPicPr>
        <p:blipFill>
          <a:blip r:embed="rId1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Пушкин\boldino_01.jpg"/>
          <p:cNvPicPr/>
          <p:nvPr/>
        </p:nvPicPr>
        <p:blipFill>
          <a:blip r:embed="rId2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4143240" y="2858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это время им были созданы"Повести Белкина", "Маленькие трагедии": "Скупой рыцарь", "Моцарт и Сальери", "Каменный гость", "Пир во время чумы", поэма "Домик в Коломне", закончен весь роман "Евгений Онегин" (кроме письма Онегина), повесть "История села Горюхина", "Сказка о попе и работнике его Балде", критические статьи, множество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E:\новое\новое\boldino_21.jpg"/>
          <p:cNvPicPr/>
          <p:nvPr/>
        </p:nvPicPr>
        <p:blipFill>
          <a:blip r:embed="rId1"/>
          <a:stretch/>
        </p:blipFill>
        <p:spPr>
          <a:xfrm>
            <a:off x="428760" y="285840"/>
            <a:ext cx="3697200" cy="59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85840" y="285840"/>
            <a:ext cx="3581280" cy="2428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2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92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92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92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76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76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332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4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04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4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704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204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704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4786200" y="0"/>
            <a:ext cx="4143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Bookman Old Style"/>
              </a:rPr>
              <a:t>Императорский Царскосельский Лицей был создан для образования и воспитания юношества, предназначенного к «важнейшим частям службы Государственной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lide0010_image025"/>
          <p:cNvPicPr/>
          <p:nvPr/>
        </p:nvPicPr>
        <p:blipFill>
          <a:blip r:embed="rId1"/>
          <a:stretch/>
        </p:blipFill>
        <p:spPr>
          <a:xfrm>
            <a:off x="5286240" y="3286080"/>
            <a:ext cx="3651480" cy="34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5356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14200" y="3143160"/>
            <a:ext cx="507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своих правах Лицей приравнивался к российским университетам и находился под особым покровительством Александра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. В Лицей принимали дворянских мальчиков 10-12 лет по результатам вступительных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Home</cp:lastModifiedBy>
  <dcterms:modified xsi:type="dcterms:W3CDTF">2019-01-06T10:04:40Z</dcterms:modified>
  <cp:revision>75</cp:revision>
  <dc:subject/>
  <dc:title>Слайд 1</dc:title>
</cp:coreProperties>
</file>