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6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20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.jpeg" ContentType="image/jpeg"/>
  <Override PartName="/ppt/media/image31.png" ContentType="image/png"/>
  <Override PartName="/ppt/media/image56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BF94-09DD-4084-85AE-0D686652B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12E-7A03-4C6F-A23A-436B7F97C7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DEE-6E27-4DF0-85EB-69BD1F51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F96-626F-4456-88B2-B8EB4287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67-BAE7-453D-89D8-592C3B77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607-62AC-4384-B720-DBDC3DAE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8D-87B0-4D8C-96CE-71AF7B9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4F1-5440-4A66-A1D2-7C0CAB8C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5FF-7E21-48B3-9B45-ABA66BC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513-741D-4038-9F3F-49178D65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60C-E546-4704-95ED-4B9AE635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8D8-13FD-4676-9474-26004D8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572-54F0-454A-8900-9812658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146-2111-4D14-8699-AF54884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448-5E42-49D8-B082-5ED3CF2FC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25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1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2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1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Home</cp:lastModifiedBy>
  <dcterms:modified xsi:type="dcterms:W3CDTF">2019-01-06T10:04:40Z</dcterms:modified>
  <cp:revision>75</cp:revision>
  <dc:subject/>
  <dc:title>Слайд 1</dc:title>
</cp:coreProperties>
</file>