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B0B6-7726-476D-85A4-1E2161B5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942C-CAD2-4C9F-A739-AB0BBD8D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D1A2-157C-43F9-90D7-D9C9FE43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DC1F-0E21-4A09-BE44-630BC922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1F24-083A-4A6C-A54D-9A866416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BEBD-B075-4496-9FD5-7EB45DB4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3CE33-BE4E-43EE-94B4-9F431CC4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D15C3-A5EA-4385-ACBA-529DCB80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D542-2DC0-4561-A767-17CE6074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0D21-6142-4613-B143-5748BB1B5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63FF-5798-4BC7-B5A2-2A07F5FF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5415-E660-4236-A4AE-DF68017D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8EAD-14A4-4DB4-BCAA-50BC7A10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7C56-AB6C-426B-BAFD-F3A28432A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07DB-7D40-4564-9744-97EB4B9A5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20DF-50F7-4349-A269-B859E04D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6E17-4939-43F2-97F0-909D07B3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DAC58-42C2-45ED-A4ED-E0E7FE3B1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A7342-8A0E-41C4-8ECC-DA164D8A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2912B1-B2D4-4776-94D2-C44B8152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459A1-809F-4B0A-81ED-BFBD5D8A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88707-5F45-4314-AE7A-82AA13F7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7C5B-6F5D-44F9-874A-0B0FA397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18594-AED1-4328-B212-E9BB99E4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11697-BB93-4126-AEC8-6A092E1C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7E5ED3-5EA4-4721-99CF-97DB13D2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6E3CB-47D5-427A-A4D8-E3923C0C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246E4E-F629-4330-842F-1B28EDC5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42F8DC-8DDE-4456-9BC9-2269187A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7E8A9-B226-4716-BB89-28FED1EB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DDA07-C9C9-4DE9-B946-E1291B5C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18BBA-36E3-4B93-B33F-02B8531FB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62BE5-A22D-4668-A564-F45E76B1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3F0-9C9F-45B3-935D-759392E7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94438-0C90-419A-AB07-A7AF37BB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80AA9-8B78-4D01-AE32-92F22403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970F7-0F4B-4B9C-987A-3D013EC9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E5FDF-E5EA-43D6-A0B0-A8A93C0D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0E280-76AC-4D20-87B0-C76B0C1C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C0D01-4CC6-4AF1-82A0-BDF1F0C7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9815-92A4-4176-9BFA-125ACA39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79E6BC-2DCA-4D2B-A3AA-1BF9B479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EFE94-0278-4DF0-B523-8F18A715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134-B777-43AE-83D6-F20B082E1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681-71EE-418C-8FAC-53229DDDF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FE59-B0E5-43EA-B7D6-219B484F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BFFB-FC0A-4C1D-B3D2-EFA2D708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A252-6779-4A80-BABF-7C8217B6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609480" y="1142640"/>
            <a:ext cx="10972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09480" y="4508280"/>
            <a:ext cx="10972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32320" y="224964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948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32320" y="4508280"/>
            <a:ext cx="53546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31964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29800" y="224964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0948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31964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8029800" y="4508280"/>
            <a:ext cx="35330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A496-1AE4-456E-ADEE-2D3A8BEF678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a04d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c46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c46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c46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7213680" y="3809880"/>
            <a:ext cx="497844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7213680" y="3896640"/>
            <a:ext cx="497844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7213680" y="4114800"/>
            <a:ext cx="497844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7213680" y="4163400"/>
            <a:ext cx="26208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7213680" y="4199040"/>
            <a:ext cx="26208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7213680" y="3962520"/>
            <a:ext cx="40845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9834480" y="406080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1219212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1219212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8551800" y="3643200"/>
            <a:ext cx="364032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1219212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8940960" y="420696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7213680" y="4205160"/>
            <a:ext cx="172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1093040" y="1080"/>
            <a:ext cx="996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9BB6-4CF9-4EBA-BC8A-2202C0C5562A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8b5d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878184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1D02-8C4F-46E6-B950-101DF8E2D3D2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8778600" y="612720"/>
            <a:ext cx="127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7009920" y="612720"/>
            <a:ext cx="176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10899720" y="1080"/>
            <a:ext cx="1015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962A-6043-4033-9B35-2997F002AAC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данной игровой панели можно ввести собственные категории и значения в бал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опросы и ответы в предоставленных слайд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поле с числовым значением для перехода к соответствующему вопросу, а затем нажмите еще раз для перехода на слайд отве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Нажмите левый треугольник для возвращения на данный слайд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В"/>
          <p:cNvSpPr/>
          <p:nvPr/>
        </p:nvSpPr>
        <p:spPr>
          <a:xfrm rot="16200000">
            <a:off x="-2010240" y="1998360"/>
            <a:ext cx="57499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500" spc="-1" strike="noStrike">
                <a:solidFill>
                  <a:srgbClr val="262626"/>
                </a:solidFill>
                <a:latin typeface="Corbel"/>
              </a:rPr>
              <a:t>Вопрос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левый треугольник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Назад к игре">
            <a:hlinkClick r:id="" action="ppaction://hlinkshowjump?jump=nextslide"/>
          </p:cNvPr>
          <p:cNvSpPr/>
          <p:nvPr/>
        </p:nvSpPr>
        <p:spPr>
          <a:xfrm flipH="1" rot="5400000">
            <a:off x="1122012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В"/>
          <p:cNvSpPr/>
          <p:nvPr/>
        </p:nvSpPr>
        <p:spPr>
          <a:xfrm rot="16200000">
            <a:off x="-2010960" y="1823400"/>
            <a:ext cx="574992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800" spc="-1" strike="noStrike">
                <a:solidFill>
                  <a:srgbClr val="262626"/>
                </a:solidFill>
                <a:latin typeface="Corbel"/>
              </a:rPr>
              <a:t>Ответ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20"/>
          <p:cNvSpPr/>
          <p:nvPr/>
        </p:nvSpPr>
        <p:spPr>
          <a:xfrm>
            <a:off x="0" y="5749920"/>
            <a:ext cx="12192120" cy="110808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азад к игре">
            <a:hlinkClick r:id="rId2" action="ppaction://hlinksldjump"/>
          </p:cNvPr>
          <p:cNvSpPr/>
          <p:nvPr/>
        </p:nvSpPr>
        <p:spPr>
          <a:xfrm rot="16200000">
            <a:off x="168840" y="5941080"/>
            <a:ext cx="795600" cy="685800"/>
          </a:xfrm>
          <a:prstGeom prst="triangle">
            <a:avLst>
              <a:gd name="adj" fmla="val 50000"/>
            </a:avLst>
          </a:prstGeom>
          <a:solidFill>
            <a:srgbClr val="ffffff">
              <a:alpha val="1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Инструкции"/>
          <p:cNvSpPr/>
          <p:nvPr/>
        </p:nvSpPr>
        <p:spPr>
          <a:xfrm>
            <a:off x="12308040" y="0"/>
            <a:ext cx="1852560" cy="6858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ведите вместо заполнителей вопросы и ответы. В нижней части можно добавить для каждого вопроса значение в баллах для спра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7f7f7f"/>
                </a:solidFill>
                <a:latin typeface="Calibri Light"/>
              </a:rPr>
              <a:t>В режиме слайд-шоу нажмите значок треугольника, чтобы вернуться к слайду игровой панел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Прямоугольник 27"/>
          <p:cNvSpPr/>
          <p:nvPr/>
        </p:nvSpPr>
        <p:spPr>
          <a:xfrm>
            <a:off x="0" y="366840"/>
            <a:ext cx="1219212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28"/>
          <p:cNvSpPr/>
          <p:nvPr/>
        </p:nvSpPr>
        <p:spPr>
          <a:xfrm>
            <a:off x="0" y="0"/>
            <a:ext cx="1219212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29"/>
          <p:cNvSpPr/>
          <p:nvPr/>
        </p:nvSpPr>
        <p:spPr>
          <a:xfrm>
            <a:off x="0" y="307800"/>
            <a:ext cx="1219212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30"/>
          <p:cNvSpPr/>
          <p:nvPr/>
        </p:nvSpPr>
        <p:spPr>
          <a:xfrm flipV="1">
            <a:off x="7213680" y="359280"/>
            <a:ext cx="497844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Прямоугольник 31"/>
          <p:cNvSpPr/>
          <p:nvPr/>
        </p:nvSpPr>
        <p:spPr>
          <a:xfrm flipV="1">
            <a:off x="7213680" y="438480"/>
            <a:ext cx="497844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32"/>
          <p:cNvSpPr/>
          <p:nvPr/>
        </p:nvSpPr>
        <p:spPr>
          <a:xfrm>
            <a:off x="7210440" y="496800"/>
            <a:ext cx="408312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33"/>
          <p:cNvSpPr/>
          <p:nvPr/>
        </p:nvSpPr>
        <p:spPr>
          <a:xfrm>
            <a:off x="9831240" y="588960"/>
            <a:ext cx="213372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оугольник 34"/>
          <p:cNvSpPr/>
          <p:nvPr/>
        </p:nvSpPr>
        <p:spPr>
          <a:xfrm>
            <a:off x="12112560" y="-1440"/>
            <a:ext cx="7776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оугольник 35"/>
          <p:cNvSpPr/>
          <p:nvPr/>
        </p:nvSpPr>
        <p:spPr>
          <a:xfrm>
            <a:off x="12058560" y="-1440"/>
            <a:ext cx="3672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36"/>
          <p:cNvSpPr/>
          <p:nvPr/>
        </p:nvSpPr>
        <p:spPr>
          <a:xfrm>
            <a:off x="12033360" y="-1440"/>
            <a:ext cx="1260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Прямоугольник 37"/>
          <p:cNvSpPr/>
          <p:nvPr/>
        </p:nvSpPr>
        <p:spPr>
          <a:xfrm>
            <a:off x="11966400" y="-1440"/>
            <a:ext cx="3672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38"/>
          <p:cNvSpPr/>
          <p:nvPr/>
        </p:nvSpPr>
        <p:spPr>
          <a:xfrm>
            <a:off x="11887200" y="0"/>
            <a:ext cx="7308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39"/>
          <p:cNvSpPr/>
          <p:nvPr/>
        </p:nvSpPr>
        <p:spPr>
          <a:xfrm>
            <a:off x="11831760" y="0"/>
            <a:ext cx="1116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0" y="3371760"/>
            <a:ext cx="12192120" cy="18748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10972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09480" y="2249640"/>
            <a:ext cx="10972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9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8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9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9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747720" y="3522240"/>
            <a:ext cx="1121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rebuchet MS"/>
              </a:rPr>
              <a:t>«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СВОЯ ИГРА»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«Возвышение Афин в 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v</a:t>
            </a: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 веке до н.э. и расцвет демократии»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к главе 9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Урок истории в 5 классе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2" name="Прямоугольник 2"/>
          <p:cNvSpPr/>
          <p:nvPr/>
        </p:nvSpPr>
        <p:spPr>
          <a:xfrm>
            <a:off x="4246560" y="6129360"/>
            <a:ext cx="7945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060720" algn="just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Прямоугольник 1"/>
          <p:cNvSpPr/>
          <p:nvPr/>
        </p:nvSpPr>
        <p:spPr>
          <a:xfrm>
            <a:off x="5913360" y="5713560"/>
            <a:ext cx="6096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Автор :  Хибель Татьяна Сулловна учитель истор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КОУ «Основная общеобразовательная школ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д. Беляево Юхновского района Калуж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2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1746000" y="1469880"/>
            <a:ext cx="9986760" cy="311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ъясните значение слова: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амфор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title"/>
          </p:nvPr>
        </p:nvSpPr>
        <p:spPr>
          <a:xfrm>
            <a:off x="1001880" y="5886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Текст 7"/>
          <p:cNvGrpSpPr/>
          <p:nvPr/>
        </p:nvGrpSpPr>
        <p:grpSpPr>
          <a:xfrm>
            <a:off x="1731960" y="1646280"/>
            <a:ext cx="9069480" cy="2644560"/>
            <a:chOff x="1731960" y="1646280"/>
            <a:chExt cx="9069480" cy="2644560"/>
          </a:xfrm>
        </p:grpSpPr>
        <p:pic>
          <p:nvPicPr>
            <p:cNvPr id="1128" name="Текст 7" descr=""/>
            <p:cNvPicPr/>
            <p:nvPr/>
          </p:nvPicPr>
          <p:blipFill>
            <a:blip r:embed="rId1"/>
            <a:stretch/>
          </p:blipFill>
          <p:spPr>
            <a:xfrm>
              <a:off x="1731960" y="1646280"/>
              <a:ext cx="90694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1795320" y="1859040"/>
              <a:ext cx="8885520" cy="20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eorgia"/>
                </a:rPr>
                <a:t>Сосуд с двумя ручками для вина и масла, кувшин для воды, чаш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0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 type="title"/>
          </p:nvPr>
        </p:nvSpPr>
        <p:spPr>
          <a:xfrm>
            <a:off x="1001880" y="588456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/>
          </p:nvPr>
        </p:nvSpPr>
        <p:spPr>
          <a:xfrm>
            <a:off x="1841040" y="1341360"/>
            <a:ext cx="888516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то такое </a:t>
            </a: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Акрополь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1134" name="Заголовок 3" descr=""/>
          <p:cNvPicPr/>
          <p:nvPr/>
        </p:nvPicPr>
        <p:blipFill>
          <a:blip r:embed="rId1"/>
          <a:stretch/>
        </p:blipFill>
        <p:spPr>
          <a:xfrm>
            <a:off x="785880" y="5815080"/>
            <a:ext cx="818676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5" name="Текст 7"/>
          <p:cNvGrpSpPr/>
          <p:nvPr/>
        </p:nvGrpSpPr>
        <p:grpSpPr>
          <a:xfrm>
            <a:off x="1779480" y="1835280"/>
            <a:ext cx="9010800" cy="2127240"/>
            <a:chOff x="1779480" y="1835280"/>
            <a:chExt cx="9010800" cy="2127240"/>
          </a:xfrm>
        </p:grpSpPr>
        <p:pic>
          <p:nvPicPr>
            <p:cNvPr id="1136" name="Текст 7" descr=""/>
            <p:cNvPicPr/>
            <p:nvPr/>
          </p:nvPicPr>
          <p:blipFill>
            <a:blip r:embed="rId1"/>
            <a:stretch/>
          </p:blipFill>
          <p:spPr>
            <a:xfrm>
              <a:off x="1779480" y="1835280"/>
              <a:ext cx="901080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0000"/>
                  </a:solidFill>
                  <a:latin typeface="Georgia"/>
                </a:rPr>
                <a:t>Холм с крутыми и обрывистыми склонам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title"/>
          </p:nvPr>
        </p:nvSpPr>
        <p:spPr>
          <a:xfrm>
            <a:off x="1001880" y="588456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817640" y="1410840"/>
            <a:ext cx="9594720" cy="28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акие вазы называли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чернофигурными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, а какие –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краснофигурными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title"/>
          </p:nvPr>
        </p:nvSpPr>
        <p:spPr>
          <a:xfrm>
            <a:off x="1001880" y="5886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title"/>
          </p:nvPr>
        </p:nvSpPr>
        <p:spPr>
          <a:xfrm>
            <a:off x="1001880" y="588456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145" name="Picture 7" descr=""/>
          <p:cNvPicPr/>
          <p:nvPr/>
        </p:nvPicPr>
        <p:blipFill>
          <a:blip r:embed="rId1"/>
          <a:stretch/>
        </p:blipFill>
        <p:spPr>
          <a:xfrm>
            <a:off x="1638360" y="1162080"/>
            <a:ext cx="9023400" cy="21272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8" descr=""/>
          <p:cNvPicPr/>
          <p:nvPr/>
        </p:nvPicPr>
        <p:blipFill>
          <a:blip r:embed="rId2"/>
          <a:stretch/>
        </p:blipFill>
        <p:spPr>
          <a:xfrm>
            <a:off x="3608280" y="3292560"/>
            <a:ext cx="1543320" cy="229212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9" descr=""/>
          <p:cNvPicPr/>
          <p:nvPr/>
        </p:nvPicPr>
        <p:blipFill>
          <a:blip r:embed="rId3"/>
          <a:stretch/>
        </p:blipFill>
        <p:spPr>
          <a:xfrm>
            <a:off x="6173640" y="3289320"/>
            <a:ext cx="1743120" cy="229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3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ъясните значение слова: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«стиль»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title"/>
          </p:nvPr>
        </p:nvSpPr>
        <p:spPr>
          <a:xfrm>
            <a:off x="1001880" y="5892840"/>
            <a:ext cx="7968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Текст 7"/>
          <p:cNvGrpSpPr/>
          <p:nvPr/>
        </p:nvGrpSpPr>
        <p:grpSpPr>
          <a:xfrm>
            <a:off x="1779480" y="1779480"/>
            <a:ext cx="9053640" cy="2395800"/>
            <a:chOff x="1779480" y="1779480"/>
            <a:chExt cx="9053640" cy="2395800"/>
          </a:xfrm>
        </p:grpSpPr>
        <p:pic>
          <p:nvPicPr>
            <p:cNvPr id="1153" name="Текст 7" descr=""/>
            <p:cNvPicPr/>
            <p:nvPr/>
          </p:nvPicPr>
          <p:blipFill>
            <a:blip r:embed="rId1"/>
            <a:stretch/>
          </p:blipFill>
          <p:spPr>
            <a:xfrm>
              <a:off x="1779480" y="1779480"/>
              <a:ext cx="9053640" cy="239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Georgia"/>
                </a:rPr>
                <a:t>металлическая или костяная палочка для письма с острым концо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5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/>
          </p:nvPr>
        </p:nvSpPr>
        <p:spPr>
          <a:xfrm>
            <a:off x="333360" y="357120"/>
            <a:ext cx="2098800" cy="914400"/>
          </a:xfrm>
          <a:prstGeom prst="rect">
            <a:avLst/>
          </a:prstGeom>
          <a:solidFill>
            <a:srgbClr val="3e3f68"/>
          </a:solidFill>
          <a:ln w="9360">
            <a:solidFill>
              <a:srgbClr val="3e3f68"/>
            </a:solidFill>
            <a:miter/>
          </a:ln>
        </p:spPr>
        <p:txBody>
          <a:bodyPr anchor="ctr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eorgia"/>
              </a:rPr>
              <a:t>В гаванях афинского порта Пирей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33360" y="151596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1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33360" y="253368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2" action="ppaction://hlinksldjump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333360" y="355140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3" action="ppaction://hlinksldjump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2689200" y="357120"/>
            <a:ext cx="2100240" cy="914400"/>
          </a:xfrm>
          <a:prstGeom prst="rect">
            <a:avLst/>
          </a:prstGeom>
          <a:solidFill>
            <a:srgbClr val="438086"/>
          </a:solidFill>
          <a:ln w="9360">
            <a:solidFill>
              <a:srgbClr val="438086"/>
            </a:solidFill>
            <a:miter/>
          </a:ln>
        </p:spPr>
        <p:txBody>
          <a:bodyPr anchor="ctr">
            <a:normAutofit fontScale="94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городе богини Афины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2689200" y="151596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67afbd"/>
                </a:solidFill>
                <a:uFillTx/>
                <a:latin typeface="Georgia"/>
                <a:hlinkClick r:id="rId4" action="ppaction://hlinksldjump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2689200" y="253368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1" name="PlaceHolder 8"/>
          <p:cNvSpPr>
            <a:spLocks noGrp="1"/>
          </p:cNvSpPr>
          <p:nvPr>
            <p:ph/>
          </p:nvPr>
        </p:nvSpPr>
        <p:spPr>
          <a:xfrm>
            <a:off x="2689200" y="355140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2" name="PlaceHolder 9"/>
          <p:cNvSpPr>
            <a:spLocks noGrp="1"/>
          </p:cNvSpPr>
          <p:nvPr>
            <p:ph/>
          </p:nvPr>
        </p:nvSpPr>
        <p:spPr>
          <a:xfrm>
            <a:off x="5046480" y="357120"/>
            <a:ext cx="2098440" cy="914400"/>
          </a:xfrm>
          <a:prstGeom prst="rect">
            <a:avLst/>
          </a:prstGeom>
          <a:solidFill>
            <a:srgbClr val="a04da3"/>
          </a:solidFill>
          <a:ln w="9360">
            <a:solidFill>
              <a:srgbClr val="a04da3"/>
            </a:solidFill>
            <a:miter/>
          </a:ln>
        </p:spPr>
        <p:txBody>
          <a:bodyPr anchor="ctr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афинских школах и гимнасия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3" name="PlaceHolder 10"/>
          <p:cNvSpPr>
            <a:spLocks noGrp="1"/>
          </p:cNvSpPr>
          <p:nvPr>
            <p:ph/>
          </p:nvPr>
        </p:nvSpPr>
        <p:spPr>
          <a:xfrm>
            <a:off x="5046480" y="1515960"/>
            <a:ext cx="20984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4" name="PlaceHolder 11"/>
          <p:cNvSpPr>
            <a:spLocks noGrp="1"/>
          </p:cNvSpPr>
          <p:nvPr>
            <p:ph/>
          </p:nvPr>
        </p:nvSpPr>
        <p:spPr>
          <a:xfrm>
            <a:off x="5046480" y="2533680"/>
            <a:ext cx="20984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5" name="PlaceHolder 12"/>
          <p:cNvSpPr>
            <a:spLocks noGrp="1"/>
          </p:cNvSpPr>
          <p:nvPr>
            <p:ph/>
          </p:nvPr>
        </p:nvSpPr>
        <p:spPr>
          <a:xfrm>
            <a:off x="5046480" y="3551400"/>
            <a:ext cx="20984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6" name="PlaceHolder 13"/>
          <p:cNvSpPr>
            <a:spLocks noGrp="1"/>
          </p:cNvSpPr>
          <p:nvPr>
            <p:ph/>
          </p:nvPr>
        </p:nvSpPr>
        <p:spPr>
          <a:xfrm>
            <a:off x="7402680" y="357120"/>
            <a:ext cx="2100240" cy="914400"/>
          </a:xfrm>
          <a:prstGeom prst="rect">
            <a:avLst/>
          </a:prstGeom>
          <a:solidFill>
            <a:srgbClr val="c4652d"/>
          </a:solidFill>
          <a:ln w="9360">
            <a:solidFill>
              <a:srgbClr val="c4652d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афинском театр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7" name="PlaceHolder 14"/>
          <p:cNvSpPr>
            <a:spLocks noGrp="1"/>
          </p:cNvSpPr>
          <p:nvPr>
            <p:ph/>
          </p:nvPr>
        </p:nvSpPr>
        <p:spPr>
          <a:xfrm>
            <a:off x="7402680" y="151596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8" name="PlaceHolder 15"/>
          <p:cNvSpPr>
            <a:spLocks noGrp="1"/>
          </p:cNvSpPr>
          <p:nvPr>
            <p:ph/>
          </p:nvPr>
        </p:nvSpPr>
        <p:spPr>
          <a:xfrm>
            <a:off x="7402680" y="253368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9" name="PlaceHolder 16"/>
          <p:cNvSpPr>
            <a:spLocks noGrp="1"/>
          </p:cNvSpPr>
          <p:nvPr>
            <p:ph/>
          </p:nvPr>
        </p:nvSpPr>
        <p:spPr>
          <a:xfrm>
            <a:off x="7402680" y="3551400"/>
            <a:ext cx="210024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0" name="PlaceHolder 17"/>
          <p:cNvSpPr>
            <a:spLocks noGrp="1"/>
          </p:cNvSpPr>
          <p:nvPr>
            <p:ph/>
          </p:nvPr>
        </p:nvSpPr>
        <p:spPr>
          <a:xfrm>
            <a:off x="9759960" y="357120"/>
            <a:ext cx="2098800" cy="914400"/>
          </a:xfrm>
          <a:prstGeom prst="rect">
            <a:avLst/>
          </a:prstGeom>
          <a:solidFill>
            <a:srgbClr val="8b5d3d"/>
          </a:solidFill>
          <a:ln w="9360">
            <a:solidFill>
              <a:srgbClr val="8b5d3d"/>
            </a:solidFill>
            <a:miter/>
          </a:ln>
        </p:spPr>
        <p:txBody>
          <a:bodyPr anchor="ctr">
            <a:normAutofit fontScale="89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финская демократия при Перикле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1" name="PlaceHolder 18"/>
          <p:cNvSpPr>
            <a:spLocks noGrp="1"/>
          </p:cNvSpPr>
          <p:nvPr>
            <p:ph/>
          </p:nvPr>
        </p:nvSpPr>
        <p:spPr>
          <a:xfrm>
            <a:off x="9759960" y="151596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2" name="PlaceHolder 19"/>
          <p:cNvSpPr>
            <a:spLocks noGrp="1"/>
          </p:cNvSpPr>
          <p:nvPr>
            <p:ph/>
          </p:nvPr>
        </p:nvSpPr>
        <p:spPr>
          <a:xfrm>
            <a:off x="9759960" y="253368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3" name="PlaceHolder 20"/>
          <p:cNvSpPr>
            <a:spLocks noGrp="1"/>
          </p:cNvSpPr>
          <p:nvPr>
            <p:ph/>
          </p:nvPr>
        </p:nvSpPr>
        <p:spPr>
          <a:xfrm>
            <a:off x="9759960" y="3551400"/>
            <a:ext cx="2098800" cy="914400"/>
          </a:xfrm>
          <a:prstGeom prst="rect">
            <a:avLst/>
          </a:prstGeom>
          <a:solidFill>
            <a:srgbClr val="6f6f6f"/>
          </a:solidFill>
          <a:ln w="9360">
            <a:solidFill>
              <a:srgbClr val="6f6f6f"/>
            </a:solidFill>
            <a:miter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eorgia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ого в Древней Греции называли педагогами? В чем состояли их обязанности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 type="title"/>
          </p:nvPr>
        </p:nvSpPr>
        <p:spPr>
          <a:xfrm>
            <a:off x="1001880" y="5892840"/>
            <a:ext cx="7968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0" name="Текст 7"/>
          <p:cNvGrpSpPr/>
          <p:nvPr/>
        </p:nvGrpSpPr>
        <p:grpSpPr>
          <a:xfrm>
            <a:off x="2073240" y="1670040"/>
            <a:ext cx="9002880" cy="2341440"/>
            <a:chOff x="2073240" y="1670040"/>
            <a:chExt cx="9002880" cy="2341440"/>
          </a:xfrm>
        </p:grpSpPr>
        <p:pic>
          <p:nvPicPr>
            <p:cNvPr id="1161" name="Текст 7" descr=""/>
            <p:cNvPicPr/>
            <p:nvPr/>
          </p:nvPicPr>
          <p:blipFill>
            <a:blip r:embed="rId1"/>
            <a:stretch/>
          </p:blipFill>
          <p:spPr>
            <a:xfrm>
              <a:off x="2073240" y="1670040"/>
              <a:ext cx="900288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2131920" y="17668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Педагог в переводе с греческого  «сопровождающий ребёнка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Педагог водил мальчика в школу, нёс письменные принадлежности, обучал хорошим манер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3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/>
          </p:nvPr>
        </p:nvSpPr>
        <p:spPr>
          <a:xfrm>
            <a:off x="1841040" y="1523520"/>
            <a:ext cx="8885160" cy="23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то имел виду афинский стратег Перикл, который узнал о том, что какой – то раб сломал ногу, воскликнул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«Вот ещё одним педагогом стало больше!»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title"/>
          </p:nvPr>
        </p:nvSpPr>
        <p:spPr>
          <a:xfrm>
            <a:off x="1001880" y="5892840"/>
            <a:ext cx="796896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8" name="Текст 7"/>
          <p:cNvGrpSpPr/>
          <p:nvPr/>
        </p:nvGrpSpPr>
        <p:grpSpPr>
          <a:xfrm>
            <a:off x="1779480" y="1109520"/>
            <a:ext cx="9010800" cy="3237120"/>
            <a:chOff x="1779480" y="1109520"/>
            <a:chExt cx="9010800" cy="3237120"/>
          </a:xfrm>
        </p:grpSpPr>
        <p:pic>
          <p:nvPicPr>
            <p:cNvPr id="1169" name="Текст 7" descr=""/>
            <p:cNvPicPr/>
            <p:nvPr/>
          </p:nvPicPr>
          <p:blipFill>
            <a:blip r:embed="rId1"/>
            <a:stretch/>
          </p:blipFill>
          <p:spPr>
            <a:xfrm>
              <a:off x="1779480" y="1109520"/>
              <a:ext cx="9010800" cy="323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0" name=""/>
            <p:cNvSpPr/>
            <p:nvPr/>
          </p:nvSpPr>
          <p:spPr>
            <a:xfrm>
              <a:off x="1841400" y="1295280"/>
              <a:ext cx="8885160" cy="269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Древнегреческие педагоги были рабами, которые охраняли и берегли детей 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своих хозяев, наблюдали за ними, сопровождал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 </a:t>
              </a: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В педагоги отбирали тех, кто</a:t>
              </a:r>
              <a:br>
                <a:rPr sz="2800"/>
              </a:b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не мог заниматься другой работой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ProximaNovaMedium"/>
                </a:rPr>
                <a:t>Это и имел в виду Перикл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1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4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ъясните значение слов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Театр и орхестра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 type="title"/>
          </p:nvPr>
        </p:nvSpPr>
        <p:spPr>
          <a:xfrm>
            <a:off x="1001880" y="590220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7" name="Текст 7"/>
          <p:cNvGrpSpPr/>
          <p:nvPr/>
        </p:nvGrpSpPr>
        <p:grpSpPr>
          <a:xfrm>
            <a:off x="1768320" y="1841400"/>
            <a:ext cx="9002880" cy="2260800"/>
            <a:chOff x="1768320" y="1841400"/>
            <a:chExt cx="9002880" cy="2260800"/>
          </a:xfrm>
        </p:grpSpPr>
        <p:pic>
          <p:nvPicPr>
            <p:cNvPr id="1178" name="Текст 7" descr=""/>
            <p:cNvPicPr/>
            <p:nvPr/>
          </p:nvPicPr>
          <p:blipFill>
            <a:blip r:embed="rId1"/>
            <a:stretch/>
          </p:blipFill>
          <p:spPr>
            <a:xfrm>
              <a:off x="1768320" y="1841400"/>
              <a:ext cx="9002880" cy="22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9" name=""/>
            <p:cNvSpPr/>
            <p:nvPr/>
          </p:nvSpPr>
          <p:spPr>
            <a:xfrm>
              <a:off x="1827360" y="1889280"/>
              <a:ext cx="8885160" cy="20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571680" indent="-57168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Татр – по – гречески «место для зрелищ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Орхестра –часть театра, круглая или полукруглая площадка, на которой выступали актёр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71680" indent="-57168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0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title"/>
          </p:nvPr>
        </p:nvSpPr>
        <p:spPr>
          <a:xfrm>
            <a:off x="1001880" y="590544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/>
          </p:nvPr>
        </p:nvSpPr>
        <p:spPr>
          <a:xfrm>
            <a:off x="1841040" y="1797120"/>
            <a:ext cx="888516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Чем прославились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фокл и  Аристофан?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 type="title"/>
          </p:nvPr>
        </p:nvSpPr>
        <p:spPr>
          <a:xfrm>
            <a:off x="1001880" y="590220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1185" name="Picture 5" descr="C:\Users\user\Desktop\даша для фильма\софокл.jpg"/>
          <p:cNvPicPr/>
          <p:nvPr/>
        </p:nvPicPr>
        <p:blipFill>
          <a:blip r:embed="rId1"/>
          <a:stretch/>
        </p:blipFill>
        <p:spPr>
          <a:xfrm>
            <a:off x="1646280" y="1241280"/>
            <a:ext cx="2057400" cy="2808360"/>
          </a:xfrm>
          <a:prstGeom prst="rect">
            <a:avLst/>
          </a:prstGeom>
          <a:ln w="0">
            <a:noFill/>
          </a:ln>
        </p:spPr>
      </p:pic>
      <p:pic>
        <p:nvPicPr>
          <p:cNvPr id="1186" name="Picture 6" descr="C:\Users\user\Desktop\даша для фильма\аристофан.jpg"/>
          <p:cNvPicPr/>
          <p:nvPr/>
        </p:nvPicPr>
        <p:blipFill>
          <a:blip r:embed="rId2"/>
          <a:stretch/>
        </p:blipFill>
        <p:spPr>
          <a:xfrm>
            <a:off x="9509040" y="1076400"/>
            <a:ext cx="2167200" cy="3138480"/>
          </a:xfrm>
          <a:prstGeom prst="rect">
            <a:avLst/>
          </a:prstGeom>
          <a:ln w="0">
            <a:noFill/>
          </a:ln>
        </p:spPr>
      </p:pic>
      <p:sp>
        <p:nvSpPr>
          <p:cNvPr id="1187" name="TextBox 1"/>
          <p:cNvSpPr/>
          <p:nvPr/>
        </p:nvSpPr>
        <p:spPr>
          <a:xfrm>
            <a:off x="1859040" y="4125960"/>
            <a:ext cx="163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фо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Box 2"/>
          <p:cNvSpPr/>
          <p:nvPr/>
        </p:nvSpPr>
        <p:spPr>
          <a:xfrm>
            <a:off x="9699480" y="4346640"/>
            <a:ext cx="178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ристоф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9" name="Текст 7"/>
          <p:cNvGrpSpPr/>
          <p:nvPr/>
        </p:nvGrpSpPr>
        <p:grpSpPr>
          <a:xfrm>
            <a:off x="1779480" y="1828800"/>
            <a:ext cx="9010800" cy="2255760"/>
            <a:chOff x="1779480" y="1828800"/>
            <a:chExt cx="9010800" cy="2255760"/>
          </a:xfrm>
        </p:grpSpPr>
        <p:pic>
          <p:nvPicPr>
            <p:cNvPr id="1190" name="Текст 7" descr=""/>
            <p:cNvPicPr/>
            <p:nvPr/>
          </p:nvPicPr>
          <p:blipFill>
            <a:blip r:embed="rId1"/>
            <a:stretch/>
          </p:blipFill>
          <p:spPr>
            <a:xfrm>
              <a:off x="1779480" y="1828800"/>
              <a:ext cx="9010800" cy="225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1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Софокл, афинский драматург, автор трагедии «Антигона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Аристофан, древнегреческий комедиограф, автор  комедии «Птицы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2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title"/>
          </p:nvPr>
        </p:nvSpPr>
        <p:spPr>
          <a:xfrm>
            <a:off x="1001880" y="590544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/>
          </p:nvPr>
        </p:nvSpPr>
        <p:spPr>
          <a:xfrm>
            <a:off x="1711080" y="1834920"/>
            <a:ext cx="8955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очему посещение театра в Афинах было доступно даже беднейшим гражданам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 type="title"/>
          </p:nvPr>
        </p:nvSpPr>
        <p:spPr>
          <a:xfrm>
            <a:off x="1001880" y="590220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1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7" name="Текст 7"/>
          <p:cNvGrpSpPr/>
          <p:nvPr/>
        </p:nvGrpSpPr>
        <p:grpSpPr>
          <a:xfrm>
            <a:off x="1695600" y="1835280"/>
            <a:ext cx="9277200" cy="2127240"/>
            <a:chOff x="1695600" y="1835280"/>
            <a:chExt cx="9277200" cy="2127240"/>
          </a:xfrm>
        </p:grpSpPr>
        <p:pic>
          <p:nvPicPr>
            <p:cNvPr id="1198" name="Текст 7" descr=""/>
            <p:cNvPicPr/>
            <p:nvPr/>
          </p:nvPicPr>
          <p:blipFill>
            <a:blip r:embed="rId1"/>
            <a:stretch/>
          </p:blipFill>
          <p:spPr>
            <a:xfrm>
              <a:off x="1695600" y="1835280"/>
              <a:ext cx="9277200" cy="21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222222"/>
                  </a:solidFill>
                  <a:latin typeface="Arial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222222"/>
                  </a:solidFill>
                  <a:latin typeface="Arial"/>
                </a:rPr>
                <a:t>Чтобы сделать </a:t>
              </a:r>
              <a:r>
                <a:rPr b="1" lang="ru-RU" sz="2800" spc="-1" strike="noStrike">
                  <a:solidFill>
                    <a:srgbClr val="222222"/>
                  </a:solidFill>
                  <a:latin typeface="Arial"/>
                </a:rPr>
                <a:t>посещение театра</a:t>
              </a:r>
              <a:r>
                <a:rPr b="0" lang="ru-RU" sz="2800" spc="-1" strike="noStrike">
                  <a:solidFill>
                    <a:srgbClr val="222222"/>
                  </a:solidFill>
                  <a:latin typeface="Arial"/>
                </a:rPr>
                <a:t> доступным даже беднейшим гражданам, государство в </a:t>
              </a:r>
              <a:r>
                <a:rPr b="1" lang="ru-RU" sz="2800" spc="-1" strike="noStrike">
                  <a:solidFill>
                    <a:srgbClr val="222222"/>
                  </a:solidFill>
                  <a:latin typeface="Arial"/>
                </a:rPr>
                <a:t>Афинах </a:t>
              </a:r>
              <a:r>
                <a:rPr b="0" lang="ru-RU" sz="2800" spc="-1" strike="noStrike">
                  <a:solidFill>
                    <a:srgbClr val="222222"/>
                  </a:solidFill>
                  <a:latin typeface="Arial"/>
                </a:rPr>
                <a:t>выдавало деньги для покупки входных билето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0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title"/>
          </p:nvPr>
        </p:nvSpPr>
        <p:spPr>
          <a:xfrm>
            <a:off x="1001880" y="590544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4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133640" y="3522240"/>
            <a:ext cx="1082808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rebuchet MS"/>
              </a:rPr>
              <a:t>Вопросы категории 5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/>
          </p:nvPr>
        </p:nvSpPr>
        <p:spPr>
          <a:xfrm>
            <a:off x="1857240" y="1889280"/>
            <a:ext cx="8885520" cy="20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Объясните значение слова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«оратор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Текст 7"/>
          <p:cNvGrpSpPr/>
          <p:nvPr/>
        </p:nvGrpSpPr>
        <p:grpSpPr>
          <a:xfrm>
            <a:off x="1736640" y="1676520"/>
            <a:ext cx="9229680" cy="2620800"/>
            <a:chOff x="1736640" y="1676520"/>
            <a:chExt cx="9229680" cy="2620800"/>
          </a:xfrm>
        </p:grpSpPr>
        <p:pic>
          <p:nvPicPr>
            <p:cNvPr id="1207" name="Текст 7" descr=""/>
            <p:cNvPicPr/>
            <p:nvPr/>
          </p:nvPicPr>
          <p:blipFill>
            <a:blip r:embed="rId1"/>
            <a:stretch/>
          </p:blipFill>
          <p:spPr>
            <a:xfrm>
              <a:off x="1736640" y="1676520"/>
              <a:ext cx="9229680" cy="262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8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Georgia"/>
                </a:rPr>
                <a:t>Человек, умеющий произносит речи, убеждать слушателе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9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 type="title"/>
          </p:nvPr>
        </p:nvSpPr>
        <p:spPr>
          <a:xfrm>
            <a:off x="1001880" y="589248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1841400" y="1872720"/>
            <a:ext cx="101520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акую государственную должность Перикл занимал много лет?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4" name="Текст 7"/>
          <p:cNvGrpSpPr/>
          <p:nvPr/>
        </p:nvGrpSpPr>
        <p:grpSpPr>
          <a:xfrm>
            <a:off x="1719360" y="1835280"/>
            <a:ext cx="9186840" cy="2157120"/>
            <a:chOff x="1719360" y="1835280"/>
            <a:chExt cx="9186840" cy="2157120"/>
          </a:xfrm>
        </p:grpSpPr>
        <p:pic>
          <p:nvPicPr>
            <p:cNvPr id="1215" name="Текст 7" descr=""/>
            <p:cNvPicPr/>
            <p:nvPr/>
          </p:nvPicPr>
          <p:blipFill>
            <a:blip r:embed="rId1"/>
            <a:stretch/>
          </p:blipFill>
          <p:spPr>
            <a:xfrm>
              <a:off x="1719360" y="1835280"/>
              <a:ext cx="918684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6" name=""/>
            <p:cNvSpPr/>
            <p:nvPr/>
          </p:nvSpPr>
          <p:spPr>
            <a:xfrm>
              <a:off x="1841400" y="1873080"/>
              <a:ext cx="8885160" cy="20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Georgia"/>
                </a:rPr>
                <a:t>Пятнадцать раз, начиная с 443 года до н.э. народное собрание выбирало Перикл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 u="sng">
                  <a:solidFill>
                    <a:srgbClr val="000000"/>
                  </a:solidFill>
                  <a:uFillTx/>
                  <a:latin typeface="Georgia"/>
                </a:rPr>
                <a:t>первым стратегом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title"/>
          </p:nvPr>
        </p:nvSpPr>
        <p:spPr>
          <a:xfrm>
            <a:off x="1001880" y="589248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/>
          </p:nvPr>
        </p:nvSpPr>
        <p:spPr>
          <a:xfrm>
            <a:off x="1841040" y="1873080"/>
            <a:ext cx="9595080" cy="25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6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м прославились: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Анаксагор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Фидий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 type="title"/>
          </p:nvPr>
        </p:nvSpPr>
        <p:spPr>
          <a:xfrm>
            <a:off x="1001880" y="58942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2" name="Текст 7"/>
          <p:cNvGrpSpPr/>
          <p:nvPr/>
        </p:nvGrpSpPr>
        <p:grpSpPr>
          <a:xfrm>
            <a:off x="1822320" y="1749600"/>
            <a:ext cx="9210960" cy="2261880"/>
            <a:chOff x="1822320" y="1749600"/>
            <a:chExt cx="9210960" cy="2261880"/>
          </a:xfrm>
        </p:grpSpPr>
        <p:pic>
          <p:nvPicPr>
            <p:cNvPr id="1223" name="Текст 7" descr=""/>
            <p:cNvPicPr/>
            <p:nvPr/>
          </p:nvPicPr>
          <p:blipFill>
            <a:blip r:embed="rId1"/>
            <a:stretch/>
          </p:blipFill>
          <p:spPr>
            <a:xfrm>
              <a:off x="1822320" y="1749600"/>
              <a:ext cx="9210960" cy="226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4" name=""/>
            <p:cNvSpPr/>
            <p:nvPr/>
          </p:nvSpPr>
          <p:spPr>
            <a:xfrm>
              <a:off x="1933560" y="1797120"/>
              <a:ext cx="8885160" cy="20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Анаксагор – учёный, считал, что Солнце и Луна – это не боги, а огромные раскалённые камни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Georgia"/>
                </a:rPr>
                <a:t>Фидий – знаменитый скульпто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buClr>
                  <a:srgbClr val="a04da3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PlaceHolder 1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title"/>
          </p:nvPr>
        </p:nvSpPr>
        <p:spPr>
          <a:xfrm>
            <a:off x="1001880" y="5892480"/>
            <a:ext cx="796896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rebuchet MS"/>
              </a:rPr>
              <a:t>Категория 5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extBox 1" descr=""/>
          <p:cNvPicPr/>
          <p:nvPr/>
        </p:nvPicPr>
        <p:blipFill>
          <a:blip r:embed="rId1"/>
          <a:stretch/>
        </p:blipFill>
        <p:spPr>
          <a:xfrm>
            <a:off x="2646360" y="1322280"/>
            <a:ext cx="5479920" cy="36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/>
          </p:nvPr>
        </p:nvSpPr>
        <p:spPr>
          <a:xfrm>
            <a:off x="1841400" y="1872720"/>
            <a:ext cx="101412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акие два города соединяли 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Длинные стены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title"/>
          </p:nvPr>
        </p:nvSpPr>
        <p:spPr>
          <a:xfrm>
            <a:off x="1001880" y="5913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Афины и Пирей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title"/>
          </p:nvPr>
        </p:nvSpPr>
        <p:spPr>
          <a:xfrm>
            <a:off x="1001880" y="59086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/>
          </p:nvPr>
        </p:nvSpPr>
        <p:spPr>
          <a:xfrm>
            <a:off x="1841400" y="1698120"/>
            <a:ext cx="9831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Кто считался афинским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гражданином?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title"/>
          </p:nvPr>
        </p:nvSpPr>
        <p:spPr>
          <a:xfrm>
            <a:off x="1001880" y="5913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Гражданами по закону считались коренные афиняне, у которых оба родителя – как отец, так и мать – были гражданам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 type="title"/>
          </p:nvPr>
        </p:nvSpPr>
        <p:spPr>
          <a:xfrm>
            <a:off x="1001880" y="59086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/>
          </p:nvPr>
        </p:nvSpPr>
        <p:spPr>
          <a:xfrm>
            <a:off x="1830240" y="1587240"/>
            <a:ext cx="8885520" cy="28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редположите почему не все афиняне могли владеть рабами?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1898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 type="title"/>
          </p:nvPr>
        </p:nvSpPr>
        <p:spPr>
          <a:xfrm>
            <a:off x="1001880" y="591336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 Light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1841040" y="1872720"/>
            <a:ext cx="8885160" cy="2001960"/>
          </a:xfrm>
          <a:prstGeom prst="rect">
            <a:avLst/>
          </a:prstGeom>
          <a:solidFill>
            <a:srgbClr val="3e3f68"/>
          </a:solidFill>
          <a:ln w="0">
            <a:noFill/>
          </a:ln>
        </p:spPr>
        <p:txBody>
          <a:bodyPr anchor="ctr">
            <a:normAutofit fontScale="97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Open Sans"/>
              </a:rPr>
              <a:t>Цены на рабов были значительно выше заработков простых афинян в несколько раз. Поэтому владеть рабами могли только зажиточные и богатые люди, а простой народ сам работал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9109080" y="5900760"/>
            <a:ext cx="285264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 type="title"/>
          </p:nvPr>
        </p:nvSpPr>
        <p:spPr>
          <a:xfrm>
            <a:off x="1001880" y="5908680"/>
            <a:ext cx="79689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Категория 1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/>
  <dcterms:modified xsi:type="dcterms:W3CDTF">2019-01-05T11:09:3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40012069991</vt:lpwstr>
  </property>
</Properties>
</file>