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F66-CF19-4431-A32C-85D61F72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E8D2-AEDC-4FA6-8092-13C4F612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3586-2DA4-402C-8075-7A3EE737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3578-CBA2-4819-8DFD-4A983913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1BFE-F6C6-4C7E-B3AB-CAE64FF1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F5F7-6E85-4E57-AA6F-E703A2C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5EB-E438-4DF2-84FB-10652B52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C910-8CC5-47F3-8803-EF7BC9E2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F424-4529-4C02-8308-6DDF9AB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69C2-0776-43FA-A583-4B626BEB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754F-C185-4377-BADC-E1934960D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443-7B79-40BC-A55A-FAA175E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13DB-BD2A-4894-B91C-12700B15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12786-588B-4EC2-A7B7-96BA2FA3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D3B9-FFC1-4913-B5F8-DB2F814DA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97BE-59C7-4A0B-89A3-6F232DAAC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3FC3-0117-4A22-B20E-434DF4C9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0CADFC-C2FF-425C-96A0-7CC02C3E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539C2B-8C26-46A4-AA95-F087E3E9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29BED-91CC-4E97-98B0-391A1D4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0884D1-51BE-4113-8100-41FE15C4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336104-46FE-4341-B25C-D9A8EF8E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3A15-4F39-4FFA-B643-0C00F66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F137DB-120A-4571-A720-2608ED17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4A9BA-DD52-4715-856E-6C47222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7056A-0BE3-4A30-B53B-A021E12D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16D094-5832-4180-9AF8-83C083C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F665-119E-476B-8567-93F90550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00932-E336-4499-A73E-1DD18CDB5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DFB527-441F-4AA2-8485-69FC33964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08A2B-E16B-4FA4-84C8-37223434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EF27F-7402-4A34-8EDF-A46EE3AA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1C839-5FA3-4C65-9111-22ACD2D9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17D-5A7B-40B2-92BD-4BB3B640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667C3-B477-4A16-AC01-24A8673A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AF92-17D0-4FC8-883D-4EA0E319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96E9-0D31-4804-B06A-205C9C89F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FD9D3-301B-4898-973D-66458C3E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652A-5DA9-497C-AF79-2B4437F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AFE08-BC41-438D-99CF-D0F308B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42131-8094-49D9-A3EF-AAF7EAFD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5CE4-CBF6-45CA-8504-660B57EFB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53FF9-2F5A-4E05-9177-F3C60C9C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F9DA-660E-4103-854C-5E864DE9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3F02-3964-4B6C-8394-12890F375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69C-4C88-45B6-9363-424DF15F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241C-E1EF-4E23-B7F4-B5F9E552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699-101F-430F-B7E3-FE50A35E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29EB-F563-4EF2-9DC0-990754177AE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A1B8-1B7F-4238-A125-5606FB93370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5339-A7B7-4B24-9D93-B40F0475774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7D4A-8EAF-4D38-AFFE-6AD1601DCAD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данной игровой панели можно ввести собственные категории и значения в бал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опросы и ответы в предоставленных слай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поле с числовым значением для перехода к соответствующему вопросу, а затем нажмите еще раз для перехода на слайд от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Нажмите левый треугольник для возвращения на данный слайд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левый треугольник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747720" y="3522240"/>
            <a:ext cx="1121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rebuchet MS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СВОЯ ИГР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«Возвышение Афин в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веке до н.э. и расцвет демократии»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 главе 9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Урок истории в 5 классе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2" name="Прямоугольник 2"/>
          <p:cNvSpPr/>
          <p:nvPr/>
        </p:nvSpPr>
        <p:spPr>
          <a:xfrm>
            <a:off x="4246560" y="6129360"/>
            <a:ext cx="794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60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1"/>
          <p:cNvSpPr/>
          <p:nvPr/>
        </p:nvSpPr>
        <p:spPr>
          <a:xfrm>
            <a:off x="5913360" y="5713560"/>
            <a:ext cx="609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втор :  Хибель Татьяна Сулловна учитель ис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КОУ «Основная общеобразовательн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д. Беляево Юхновского района Калу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2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1746000" y="1469880"/>
            <a:ext cx="9986760" cy="311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а: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амфор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title"/>
          </p:nvPr>
        </p:nvSpPr>
        <p:spPr>
          <a:xfrm>
            <a:off x="1001880" y="5886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Текст 7"/>
          <p:cNvGrpSpPr/>
          <p:nvPr/>
        </p:nvGrpSpPr>
        <p:grpSpPr>
          <a:xfrm>
            <a:off x="1731960" y="1646280"/>
            <a:ext cx="9069480" cy="2644560"/>
            <a:chOff x="1731960" y="1646280"/>
            <a:chExt cx="9069480" cy="2644560"/>
          </a:xfrm>
        </p:grpSpPr>
        <p:pic>
          <p:nvPicPr>
            <p:cNvPr id="1128" name="Текст 7" descr=""/>
            <p:cNvPicPr/>
            <p:nvPr/>
          </p:nvPicPr>
          <p:blipFill>
            <a:blip r:embed="rId1"/>
            <a:stretch/>
          </p:blipFill>
          <p:spPr>
            <a:xfrm>
              <a:off x="1731960" y="1646280"/>
              <a:ext cx="90694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1795320" y="1859040"/>
              <a:ext cx="888552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eorgia"/>
                </a:rPr>
                <a:t>Сосуд с двумя ручками для вина и масла, кувшин для воды, чаш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1841040" y="1341360"/>
            <a:ext cx="888516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то такое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Акропол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4" name="Заголовок 3" descr=""/>
          <p:cNvPicPr/>
          <p:nvPr/>
        </p:nvPicPr>
        <p:blipFill>
          <a:blip r:embed="rId1"/>
          <a:stretch/>
        </p:blipFill>
        <p:spPr>
          <a:xfrm>
            <a:off x="785880" y="5815080"/>
            <a:ext cx="81867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Текст 7"/>
          <p:cNvGrpSpPr/>
          <p:nvPr/>
        </p:nvGrpSpPr>
        <p:grpSpPr>
          <a:xfrm>
            <a:off x="1779480" y="1835280"/>
            <a:ext cx="9010800" cy="2127240"/>
            <a:chOff x="1779480" y="1835280"/>
            <a:chExt cx="9010800" cy="2127240"/>
          </a:xfrm>
        </p:grpSpPr>
        <p:pic>
          <p:nvPicPr>
            <p:cNvPr id="1136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835280"/>
              <a:ext cx="90108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Georgia"/>
                </a:rPr>
                <a:t>Холм с крутыми и обрывистыми склонам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817640" y="1410840"/>
            <a:ext cx="959472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ие вазы называли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чернофигурными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, а какие –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краснофигурными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title"/>
          </p:nvPr>
        </p:nvSpPr>
        <p:spPr>
          <a:xfrm>
            <a:off x="1001880" y="5886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145" name="Picture 7" descr=""/>
          <p:cNvPicPr/>
          <p:nvPr/>
        </p:nvPicPr>
        <p:blipFill>
          <a:blip r:embed="rId1"/>
          <a:stretch/>
        </p:blipFill>
        <p:spPr>
          <a:xfrm>
            <a:off x="1638360" y="1162080"/>
            <a:ext cx="9023400" cy="21272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8" descr=""/>
          <p:cNvPicPr/>
          <p:nvPr/>
        </p:nvPicPr>
        <p:blipFill>
          <a:blip r:embed="rId2"/>
          <a:stretch/>
        </p:blipFill>
        <p:spPr>
          <a:xfrm>
            <a:off x="3608280" y="3292560"/>
            <a:ext cx="1543320" cy="22921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9" descr=""/>
          <p:cNvPicPr/>
          <p:nvPr/>
        </p:nvPicPr>
        <p:blipFill>
          <a:blip r:embed="rId3"/>
          <a:stretch/>
        </p:blipFill>
        <p:spPr>
          <a:xfrm>
            <a:off x="6173640" y="3289320"/>
            <a:ext cx="174312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3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а: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«стиль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Текст 7"/>
          <p:cNvGrpSpPr/>
          <p:nvPr/>
        </p:nvGrpSpPr>
        <p:grpSpPr>
          <a:xfrm>
            <a:off x="1779480" y="1779480"/>
            <a:ext cx="9053640" cy="2395800"/>
            <a:chOff x="1779480" y="1779480"/>
            <a:chExt cx="9053640" cy="2395800"/>
          </a:xfrm>
        </p:grpSpPr>
        <p:pic>
          <p:nvPicPr>
            <p:cNvPr id="1153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779480"/>
              <a:ext cx="9053640" cy="23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металлическая или костяная палочка для письма с острым концо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/>
          </p:nvPr>
        </p:nvSpPr>
        <p:spPr>
          <a:xfrm>
            <a:off x="333360" y="357120"/>
            <a:ext cx="2098800" cy="914400"/>
          </a:xfrm>
          <a:prstGeom prst="rect">
            <a:avLst/>
          </a:prstGeom>
          <a:solidFill>
            <a:srgbClr val="3e3f68"/>
          </a:solidFill>
          <a:ln w="9360">
            <a:solidFill>
              <a:srgbClr val="3e3f68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гаванях афинского порта Пир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33360" y="151596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33360" y="253368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33360" y="355140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2689200" y="357120"/>
            <a:ext cx="2100240" cy="91440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txBody>
          <a:bodyPr anchor="ctr">
            <a:normAutofit fontScale="94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городе богини Афи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689200" y="151596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4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2689200" y="253368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1" name="PlaceHolder 8"/>
          <p:cNvSpPr>
            <a:spLocks noGrp="1"/>
          </p:cNvSpPr>
          <p:nvPr>
            <p:ph/>
          </p:nvPr>
        </p:nvSpPr>
        <p:spPr>
          <a:xfrm>
            <a:off x="2689200" y="355140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PlaceHolder 9"/>
          <p:cNvSpPr>
            <a:spLocks noGrp="1"/>
          </p:cNvSpPr>
          <p:nvPr>
            <p:ph/>
          </p:nvPr>
        </p:nvSpPr>
        <p:spPr>
          <a:xfrm>
            <a:off x="5046480" y="357120"/>
            <a:ext cx="2098440" cy="914400"/>
          </a:xfrm>
          <a:prstGeom prst="rect">
            <a:avLst/>
          </a:prstGeom>
          <a:solidFill>
            <a:srgbClr val="a04da3"/>
          </a:solidFill>
          <a:ln w="9360">
            <a:solidFill>
              <a:srgbClr val="a04da3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афинских школах и гимнасия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10"/>
          <p:cNvSpPr>
            <a:spLocks noGrp="1"/>
          </p:cNvSpPr>
          <p:nvPr>
            <p:ph/>
          </p:nvPr>
        </p:nvSpPr>
        <p:spPr>
          <a:xfrm>
            <a:off x="5046480" y="151596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11"/>
          <p:cNvSpPr>
            <a:spLocks noGrp="1"/>
          </p:cNvSpPr>
          <p:nvPr>
            <p:ph/>
          </p:nvPr>
        </p:nvSpPr>
        <p:spPr>
          <a:xfrm>
            <a:off x="5046480" y="253368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5" name="PlaceHolder 12"/>
          <p:cNvSpPr>
            <a:spLocks noGrp="1"/>
          </p:cNvSpPr>
          <p:nvPr>
            <p:ph/>
          </p:nvPr>
        </p:nvSpPr>
        <p:spPr>
          <a:xfrm>
            <a:off x="5046480" y="355140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PlaceHolder 13"/>
          <p:cNvSpPr>
            <a:spLocks noGrp="1"/>
          </p:cNvSpPr>
          <p:nvPr>
            <p:ph/>
          </p:nvPr>
        </p:nvSpPr>
        <p:spPr>
          <a:xfrm>
            <a:off x="7402680" y="357120"/>
            <a:ext cx="2100240" cy="914400"/>
          </a:xfrm>
          <a:prstGeom prst="rect">
            <a:avLst/>
          </a:prstGeom>
          <a:solidFill>
            <a:srgbClr val="c4652d"/>
          </a:solidFill>
          <a:ln w="9360">
            <a:solidFill>
              <a:srgbClr val="c4652d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афинском театр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14"/>
          <p:cNvSpPr>
            <a:spLocks noGrp="1"/>
          </p:cNvSpPr>
          <p:nvPr>
            <p:ph/>
          </p:nvPr>
        </p:nvSpPr>
        <p:spPr>
          <a:xfrm>
            <a:off x="7402680" y="151596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PlaceHolder 15"/>
          <p:cNvSpPr>
            <a:spLocks noGrp="1"/>
          </p:cNvSpPr>
          <p:nvPr>
            <p:ph/>
          </p:nvPr>
        </p:nvSpPr>
        <p:spPr>
          <a:xfrm>
            <a:off x="7402680" y="253368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16"/>
          <p:cNvSpPr>
            <a:spLocks noGrp="1"/>
          </p:cNvSpPr>
          <p:nvPr>
            <p:ph/>
          </p:nvPr>
        </p:nvSpPr>
        <p:spPr>
          <a:xfrm>
            <a:off x="7402680" y="355140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17"/>
          <p:cNvSpPr>
            <a:spLocks noGrp="1"/>
          </p:cNvSpPr>
          <p:nvPr>
            <p:ph/>
          </p:nvPr>
        </p:nvSpPr>
        <p:spPr>
          <a:xfrm>
            <a:off x="9759960" y="357120"/>
            <a:ext cx="2098800" cy="914400"/>
          </a:xfrm>
          <a:prstGeom prst="rect">
            <a:avLst/>
          </a:prstGeom>
          <a:solidFill>
            <a:srgbClr val="8b5d3d"/>
          </a:solidFill>
          <a:ln w="9360">
            <a:solidFill>
              <a:srgbClr val="8b5d3d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финская демократия при Перикл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18"/>
          <p:cNvSpPr>
            <a:spLocks noGrp="1"/>
          </p:cNvSpPr>
          <p:nvPr>
            <p:ph/>
          </p:nvPr>
        </p:nvSpPr>
        <p:spPr>
          <a:xfrm>
            <a:off x="9759960" y="151596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2" name="PlaceHolder 19"/>
          <p:cNvSpPr>
            <a:spLocks noGrp="1"/>
          </p:cNvSpPr>
          <p:nvPr>
            <p:ph/>
          </p:nvPr>
        </p:nvSpPr>
        <p:spPr>
          <a:xfrm>
            <a:off x="9759960" y="253368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3" name="PlaceHolder 20"/>
          <p:cNvSpPr>
            <a:spLocks noGrp="1"/>
          </p:cNvSpPr>
          <p:nvPr>
            <p:ph/>
          </p:nvPr>
        </p:nvSpPr>
        <p:spPr>
          <a:xfrm>
            <a:off x="9759960" y="355140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ого в Древней Греции называли педагогами? В чем состояли их обязанности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Текст 7"/>
          <p:cNvGrpSpPr/>
          <p:nvPr/>
        </p:nvGrpSpPr>
        <p:grpSpPr>
          <a:xfrm>
            <a:off x="2073240" y="1670040"/>
            <a:ext cx="9002880" cy="2341440"/>
            <a:chOff x="2073240" y="1670040"/>
            <a:chExt cx="9002880" cy="2341440"/>
          </a:xfrm>
        </p:grpSpPr>
        <p:pic>
          <p:nvPicPr>
            <p:cNvPr id="1161" name="Текст 7" descr=""/>
            <p:cNvPicPr/>
            <p:nvPr/>
          </p:nvPicPr>
          <p:blipFill>
            <a:blip r:embed="rId1"/>
            <a:stretch/>
          </p:blipFill>
          <p:spPr>
            <a:xfrm>
              <a:off x="2073240" y="1670040"/>
              <a:ext cx="900288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131920" y="17668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едагог в переводе с греческого  «сопровождающий ребёнк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едагог водил мальчика в школу, нёс письменные принадлежности, обучал хорошим манер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841040" y="1523520"/>
            <a:ext cx="8885160" cy="23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то имел виду афинский стратег Перикл, который узнал о том, что какой – то раб сломал ногу, воскликнул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Вот ещё одним педагогом стало больше!»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Текст 7"/>
          <p:cNvGrpSpPr/>
          <p:nvPr/>
        </p:nvGrpSpPr>
        <p:grpSpPr>
          <a:xfrm>
            <a:off x="1779480" y="1109520"/>
            <a:ext cx="9010800" cy="3237120"/>
            <a:chOff x="1779480" y="1109520"/>
            <a:chExt cx="9010800" cy="3237120"/>
          </a:xfrm>
        </p:grpSpPr>
        <p:pic>
          <p:nvPicPr>
            <p:cNvPr id="1169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109520"/>
              <a:ext cx="9010800" cy="32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1841400" y="1295280"/>
              <a:ext cx="888516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Древнегреческие педагоги были рабами, которые охраняли и берегли детей 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своих хозяев, наблюдали за ними, сопровождал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В педагоги отбирали тех, кто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не мог заниматься другой работой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Это и имел в виду Перик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4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Театр и орхестр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Текст 7"/>
          <p:cNvGrpSpPr/>
          <p:nvPr/>
        </p:nvGrpSpPr>
        <p:grpSpPr>
          <a:xfrm>
            <a:off x="1768320" y="1841400"/>
            <a:ext cx="9002880" cy="2260800"/>
            <a:chOff x="1768320" y="1841400"/>
            <a:chExt cx="9002880" cy="2260800"/>
          </a:xfrm>
        </p:grpSpPr>
        <p:pic>
          <p:nvPicPr>
            <p:cNvPr id="1178" name="Текст 7" descr=""/>
            <p:cNvPicPr/>
            <p:nvPr/>
          </p:nvPicPr>
          <p:blipFill>
            <a:blip r:embed="rId1"/>
            <a:stretch/>
          </p:blipFill>
          <p:spPr>
            <a:xfrm>
              <a:off x="1768320" y="1841400"/>
              <a:ext cx="9002880" cy="22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1827360" y="1889280"/>
              <a:ext cx="888516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Татр – по – гречески «место для зрелищ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Орхестра –часть театра, круглая или полукруглая площадка, на которой выступали актё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841040" y="1797120"/>
            <a:ext cx="888516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Чем прославились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фокл и  Аристофан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185" name="Picture 5" descr="C:\Users\user\Desktop\даша для фильма\софокл.jpg"/>
          <p:cNvPicPr/>
          <p:nvPr/>
        </p:nvPicPr>
        <p:blipFill>
          <a:blip r:embed="rId1"/>
          <a:stretch/>
        </p:blipFill>
        <p:spPr>
          <a:xfrm>
            <a:off x="1646280" y="1241280"/>
            <a:ext cx="2057400" cy="28083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6" descr="C:\Users\user\Desktop\даша для фильма\аристофан.jpg"/>
          <p:cNvPicPr/>
          <p:nvPr/>
        </p:nvPicPr>
        <p:blipFill>
          <a:blip r:embed="rId2"/>
          <a:stretch/>
        </p:blipFill>
        <p:spPr>
          <a:xfrm>
            <a:off x="9509040" y="1076400"/>
            <a:ext cx="2167200" cy="313848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1"/>
          <p:cNvSpPr/>
          <p:nvPr/>
        </p:nvSpPr>
        <p:spPr>
          <a:xfrm>
            <a:off x="1859040" y="412596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о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2"/>
          <p:cNvSpPr/>
          <p:nvPr/>
        </p:nvSpPr>
        <p:spPr>
          <a:xfrm>
            <a:off x="9699480" y="4346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ф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Текст 7"/>
          <p:cNvGrpSpPr/>
          <p:nvPr/>
        </p:nvGrpSpPr>
        <p:grpSpPr>
          <a:xfrm>
            <a:off x="1779480" y="1828800"/>
            <a:ext cx="9010800" cy="2255760"/>
            <a:chOff x="1779480" y="1828800"/>
            <a:chExt cx="9010800" cy="2255760"/>
          </a:xfrm>
        </p:grpSpPr>
        <p:pic>
          <p:nvPicPr>
            <p:cNvPr id="1190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828800"/>
              <a:ext cx="901080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офокл, афинский драматург, автор трагедии «Антигон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Аристофан, древнегреческий комедиограф, автор  комедии «Птиц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1711080" y="1834920"/>
            <a:ext cx="8955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чему посещение театра в Афинах было доступно даже беднейшим граждана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1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Текст 7"/>
          <p:cNvGrpSpPr/>
          <p:nvPr/>
        </p:nvGrpSpPr>
        <p:grpSpPr>
          <a:xfrm>
            <a:off x="1695600" y="1835280"/>
            <a:ext cx="9277200" cy="2127240"/>
            <a:chOff x="1695600" y="1835280"/>
            <a:chExt cx="9277200" cy="2127240"/>
          </a:xfrm>
        </p:grpSpPr>
        <p:pic>
          <p:nvPicPr>
            <p:cNvPr id="1198" name="Текст 7" descr=""/>
            <p:cNvPicPr/>
            <p:nvPr/>
          </p:nvPicPr>
          <p:blipFill>
            <a:blip r:embed="rId1"/>
            <a:stretch/>
          </p:blipFill>
          <p:spPr>
            <a:xfrm>
              <a:off x="1695600" y="1835280"/>
              <a:ext cx="92772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22222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Чтобы сделать </a:t>
              </a:r>
              <a:r>
                <a:rPr b="1" lang="ru-RU" sz="2800" spc="-1" strike="noStrike">
                  <a:solidFill>
                    <a:srgbClr val="222222"/>
                  </a:solidFill>
                  <a:latin typeface="Arial"/>
                </a:rPr>
                <a:t>посещение театра</a:t>
              </a: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 доступным даже беднейшим гражданам, государство в </a:t>
              </a:r>
              <a:r>
                <a:rPr b="1" lang="ru-RU" sz="2800" spc="-1" strike="noStrike">
                  <a:solidFill>
                    <a:srgbClr val="222222"/>
                  </a:solidFill>
                  <a:latin typeface="Arial"/>
                </a:rPr>
                <a:t>Афинах </a:t>
              </a: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выдавало деньги для покупки входных билет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5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1857240" y="1889280"/>
            <a:ext cx="888552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бъясните значение слов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оратор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Текст 7"/>
          <p:cNvGrpSpPr/>
          <p:nvPr/>
        </p:nvGrpSpPr>
        <p:grpSpPr>
          <a:xfrm>
            <a:off x="1736640" y="1676520"/>
            <a:ext cx="9229680" cy="2620800"/>
            <a:chOff x="1736640" y="1676520"/>
            <a:chExt cx="9229680" cy="2620800"/>
          </a:xfrm>
        </p:grpSpPr>
        <p:pic>
          <p:nvPicPr>
            <p:cNvPr id="1207" name="Текст 7" descr=""/>
            <p:cNvPicPr/>
            <p:nvPr/>
          </p:nvPicPr>
          <p:blipFill>
            <a:blip r:embed="rId1"/>
            <a:stretch/>
          </p:blipFill>
          <p:spPr>
            <a:xfrm>
              <a:off x="1736640" y="1676520"/>
              <a:ext cx="922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eorgia"/>
                </a:rPr>
                <a:t>Человек, умеющий произносит речи, убеждать слушателе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1841400" y="1872720"/>
            <a:ext cx="10152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ую государственную должность Перикл занимал много лет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Текст 7"/>
          <p:cNvGrpSpPr/>
          <p:nvPr/>
        </p:nvGrpSpPr>
        <p:grpSpPr>
          <a:xfrm>
            <a:off x="1719360" y="1835280"/>
            <a:ext cx="9186840" cy="2157120"/>
            <a:chOff x="1719360" y="1835280"/>
            <a:chExt cx="9186840" cy="2157120"/>
          </a:xfrm>
        </p:grpSpPr>
        <p:pic>
          <p:nvPicPr>
            <p:cNvPr id="1215" name="Текст 7" descr=""/>
            <p:cNvPicPr/>
            <p:nvPr/>
          </p:nvPicPr>
          <p:blipFill>
            <a:blip r:embed="rId1"/>
            <a:stretch/>
          </p:blipFill>
          <p:spPr>
            <a:xfrm>
              <a:off x="1719360" y="1835280"/>
              <a:ext cx="91868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ятнадцать раз, начиная с 443 года до н.э. народное собрание выбирало Перикл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00"/>
                  </a:solidFill>
                  <a:uFillTx/>
                  <a:latin typeface="Georgia"/>
                </a:rPr>
                <a:t>первым стратего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841040" y="1873080"/>
            <a:ext cx="9595080" cy="25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прославились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наксагор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Фидий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Текст 7"/>
          <p:cNvGrpSpPr/>
          <p:nvPr/>
        </p:nvGrpSpPr>
        <p:grpSpPr>
          <a:xfrm>
            <a:off x="1822320" y="1749600"/>
            <a:ext cx="9210960" cy="2261880"/>
            <a:chOff x="1822320" y="1749600"/>
            <a:chExt cx="9210960" cy="2261880"/>
          </a:xfrm>
        </p:grpSpPr>
        <p:pic>
          <p:nvPicPr>
            <p:cNvPr id="1223" name="Текст 7" descr=""/>
            <p:cNvPicPr/>
            <p:nvPr/>
          </p:nvPicPr>
          <p:blipFill>
            <a:blip r:embed="rId1"/>
            <a:stretch/>
          </p:blipFill>
          <p:spPr>
            <a:xfrm>
              <a:off x="1822320" y="1749600"/>
              <a:ext cx="9210960" cy="22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1933560" y="1797120"/>
              <a:ext cx="888516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Анаксагор – учёный, считал, что Солнце и Луна – это не боги, а огромные раскалённые камн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Фидий – знаменитый скульп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1" descr=""/>
          <p:cNvPicPr/>
          <p:nvPr/>
        </p:nvPicPr>
        <p:blipFill>
          <a:blip r:embed="rId1"/>
          <a:stretch/>
        </p:blipFill>
        <p:spPr>
          <a:xfrm>
            <a:off x="2646360" y="1322280"/>
            <a:ext cx="5479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1841400" y="1872720"/>
            <a:ext cx="101412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ие два города соединяли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линные стены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Афины и Пирей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/>
          </p:nvPr>
        </p:nvSpPr>
        <p:spPr>
          <a:xfrm>
            <a:off x="1841400" y="1698120"/>
            <a:ext cx="9831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то считался афинским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гражданином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ражданами по закону считались коренные афиняне, у которых оба родителя – как отец, так и мать – были гражда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1830240" y="1587240"/>
            <a:ext cx="8885520" cy="28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едположите почему не все афиняне могли владеть рабам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Open Sans"/>
              </a:rPr>
              <a:t>Цены на рабов были значительно выше заработков простых афинян в несколько раз. Поэтому владеть рабами могли только зажиточные и богатые люди, а простой народ сам работ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9-01-05T11:09:3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40012069991</vt:lpwstr>
  </property>
</Properties>
</file>