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07B-ACAF-42FD-9A5F-3AC24017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B555-1C0B-4283-B0A5-3B176A51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630A-2E31-4A0B-BB80-DBA7BD02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CBF-5D98-4C83-984E-68CD8975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0B95-AE33-4A87-9BDB-47F0F38F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965F-A5FC-4278-8A29-1C922F81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7B6A-5B35-4E29-B9E6-8D32248E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9400-B07D-4181-97F0-A1CAB458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E579-47DF-4317-A8FB-25541237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CC22-8BFE-461E-A873-4AFEF6C1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65FE-D655-4802-B875-F65126C5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AB2-78ED-4B5F-96E0-2D0B80C3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E228-D0A3-483C-BF24-66AA007B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B30A-DB81-4A75-A9A8-F43907F6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9BE8-C785-49D4-8DA0-BB4BCCF2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A6C6-D461-450A-8BF6-3570085A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D028-AB07-455C-B8F4-E3921E91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EAD-D2E9-4D3C-80D1-E593DE0A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BE0-8B38-4587-87D7-64D2D337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5C33-BCDB-4673-87FA-9EDD67D3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343E-3705-4414-94F6-D491DFAD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6CC5-E168-47F7-8C41-59038753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DD10-89EA-42FD-91E2-891A96DD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B5E-0777-41DA-8F4F-6500357E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42C3-CFA2-48C2-A004-E09F9926DE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EA9A-1EA2-40B8-B540-A64594EA123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26560" y="2637000"/>
            <a:ext cx="6782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тение слогов, слов, предложений с изученными буквам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95280" y="475920"/>
            <a:ext cx="7772400" cy="17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Урок обучения грамот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а сиди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а сидит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а сидит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белка № 3"/>
          <p:cNvPicPr/>
          <p:nvPr/>
        </p:nvPicPr>
        <p:blipFill>
          <a:blip r:embed="rId1"/>
          <a:stretch/>
        </p:blipFill>
        <p:spPr>
          <a:xfrm>
            <a:off x="611280" y="692280"/>
            <a:ext cx="403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а грызёт орех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а грызёт орех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а грызёт орех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446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бери сло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21488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и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ёл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626920" y="244440"/>
            <a:ext cx="4032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елк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т  пушистая 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дереве сидит бел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ка видит оре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 ма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рёк берёт орех и грызё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53607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Выучи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лый снег. Белый ме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лый сахар тоже бе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вот белка не б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лой даже не бы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Scan0104"/>
          <p:cNvPicPr/>
          <p:nvPr/>
        </p:nvPicPr>
        <p:blipFill>
          <a:blip r:embed="rId1"/>
          <a:stretch/>
        </p:blipFill>
        <p:spPr>
          <a:xfrm>
            <a:off x="684360" y="549360"/>
            <a:ext cx="3816360" cy="5759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асибо за работ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Цели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овершенствовать умения читать слоги, слова и предложения с изученными букв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читься замечать прекрасное вокруг себ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читься любить и беречь прир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Наше настроени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Picture 4" descr="37r3[1]"/>
          <p:cNvPicPr/>
          <p:nvPr/>
        </p:nvPicPr>
        <p:blipFill>
          <a:blip r:embed="rId1"/>
          <a:stretch/>
        </p:blipFill>
        <p:spPr>
          <a:xfrm>
            <a:off x="4500720" y="2581200"/>
            <a:ext cx="2303280" cy="2360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j0293828"/>
          <p:cNvPicPr/>
          <p:nvPr/>
        </p:nvPicPr>
        <p:blipFill>
          <a:blip r:embed="rId2"/>
          <a:stretch/>
        </p:blipFill>
        <p:spPr>
          <a:xfrm>
            <a:off x="900000" y="2852640"/>
            <a:ext cx="17449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М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читае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26920" y="1844640"/>
          <a:ext cx="8007480" cy="1595520"/>
        </p:xfrm>
        <a:graphic>
          <a:graphicData uri="http://schemas.openxmlformats.org/drawingml/2006/table">
            <a:tbl>
              <a:tblPr/>
              <a:tblGrid>
                <a:gridCol w="381240"/>
                <a:gridCol w="382680"/>
                <a:gridCol w="380880"/>
                <a:gridCol w="379440"/>
                <a:gridCol w="380880"/>
                <a:gridCol w="382680"/>
                <a:gridCol w="380880"/>
                <a:gridCol w="382680"/>
                <a:gridCol w="380880"/>
                <a:gridCol w="381240"/>
                <a:gridCol w="380880"/>
                <a:gridCol w="380880"/>
                <a:gridCol w="381240"/>
                <a:gridCol w="382320"/>
                <a:gridCol w="381240"/>
                <a:gridCol w="382320"/>
                <a:gridCol w="381240"/>
                <a:gridCol w="379440"/>
                <a:gridCol w="380880"/>
                <a:gridCol w="382680"/>
                <a:gridCol w="380880"/>
              </a:tblGrid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итаем слог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838080" y="1916280"/>
            <a:ext cx="5246640" cy="41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1054080" y="2131920"/>
            <a:ext cx="5246640" cy="417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WordArt 6"/>
          <p:cNvSpPr txBox="1"/>
          <p:nvPr/>
        </p:nvSpPr>
        <p:spPr>
          <a:xfrm>
            <a:off x="1270080" y="2347920"/>
            <a:ext cx="5246640" cy="417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WordArt 7"/>
          <p:cNvSpPr txBox="1"/>
          <p:nvPr/>
        </p:nvSpPr>
        <p:spPr>
          <a:xfrm>
            <a:off x="1486080" y="2563920"/>
            <a:ext cx="5246640" cy="338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8"/>
          <p:cNvSpPr txBox="1"/>
          <p:nvPr/>
        </p:nvSpPr>
        <p:spPr>
          <a:xfrm>
            <a:off x="1701720" y="2779560"/>
            <a:ext cx="5246640" cy="338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ы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9"/>
          <p:cNvSpPr txBox="1"/>
          <p:nvPr/>
        </p:nvSpPr>
        <p:spPr>
          <a:xfrm>
            <a:off x="1917720" y="2995560"/>
            <a:ext cx="5246640" cy="338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э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итаем слог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826920" y="1989000"/>
            <a:ext cx="4681800" cy="33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042920" y="2205000"/>
            <a:ext cx="4681440" cy="33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1258920" y="2421000"/>
            <a:ext cx="4681440" cy="33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1474920" y="2637000"/>
            <a:ext cx="4681440" cy="33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ы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1690560" y="2852640"/>
            <a:ext cx="4681800" cy="33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и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WordArt 9"/>
          <p:cNvSpPr txBox="1"/>
          <p:nvPr/>
        </p:nvSpPr>
        <p:spPr>
          <a:xfrm>
            <a:off x="1906560" y="3068640"/>
            <a:ext cx="4681440" cy="33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э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вет –ке не пти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-рёк –  не-ве-лич-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х тёп – лый, как грел-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 это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    е    л    к   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5292720" y="4797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7451640" y="479736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6443640" y="4292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H="1">
            <a:off x="5364000" y="4076640"/>
            <a:ext cx="1447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4500720" y="4869000"/>
            <a:ext cx="502920" cy="5047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5148360" y="4869000"/>
            <a:ext cx="503280" cy="5047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5867280" y="4869000"/>
            <a:ext cx="503280" cy="503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6588000" y="4869000"/>
            <a:ext cx="503280" cy="503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7236000" y="4869000"/>
            <a:ext cx="504720" cy="503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 –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ь-чо-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ь- ча- 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-лоч - 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Scan0104"/>
          <p:cNvPicPr/>
          <p:nvPr/>
        </p:nvPicPr>
        <p:blipFill>
          <a:blip r:embed="rId1"/>
          <a:stretch/>
        </p:blipFill>
        <p:spPr>
          <a:xfrm>
            <a:off x="395280" y="765000"/>
            <a:ext cx="3672000" cy="5400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а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6:34:20Z</dcterms:created>
  <dc:creator>Apple</dc:creator>
  <dc:description/>
  <dc:language>en-US</dc:language>
  <cp:lastModifiedBy>Home</cp:lastModifiedBy>
  <dcterms:modified xsi:type="dcterms:W3CDTF">2019-01-06T10:05:14Z</dcterms:modified>
  <cp:revision>5</cp:revision>
  <dc:subject/>
  <dc:title>Урок обучения грамоте</dc:title>
</cp:coreProperties>
</file>