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F61-AF2A-4CBB-925D-9785FFEC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EE0-EBB6-4B09-99A8-F8A16A49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79F-70FA-485B-BCCA-66A5D8AD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1A8-7CCA-4389-BC13-C7BF7EF0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0186-4891-4EB9-8024-B685DEEB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25AB-28D1-4C72-BBB8-321C28AD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17F0-5E63-4265-9019-5DBBF65C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AB3F-49E2-4E30-BEA9-6A77D5D8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1489-013E-40BB-815F-F67E742C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FBF0-DD84-466D-AB1D-94976A1F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5230-BD11-4367-B0A7-5A72E79C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610-68FD-4C5D-9098-9F46358C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86EA-8080-4553-80C7-4C0D4BE7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6B73-C33D-457B-A91D-941172B3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5AFE-CED3-49FE-BB40-6624243F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EB09-002E-47B3-9F15-85E576B1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556E-383C-4230-B327-F4B4A06F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83C-926B-46F8-8B4B-4BCCA457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158-DB93-412F-A0C2-F608436C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80B-257F-44CE-A14A-2D53F02D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C4B-F3AA-4D07-A83D-E7002BF1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9F2-7D06-457C-AE0C-0A5EFA5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D3F-79F9-4510-B353-9DE8C7D3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FE1-86F0-4ECD-995B-E99FB420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2339-5039-4D04-AB7A-9984DD491C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E5C3-D9B5-4E41-A499-FDDE1A0663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26560" y="2637000"/>
            <a:ext cx="6782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ение слогов, слов, предложений с изученными буква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Урок обучения грамот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сид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сидит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сидит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белка № 3"/>
          <p:cNvPicPr/>
          <p:nvPr/>
        </p:nvPicPr>
        <p:blipFill>
          <a:blip r:embed="rId1"/>
          <a:stretch/>
        </p:blipFill>
        <p:spPr>
          <a:xfrm>
            <a:off x="611280" y="692280"/>
            <a:ext cx="403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грызёт орех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грызёт орех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грызёт орех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446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бери сл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21488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и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ёл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26920" y="244440"/>
            <a:ext cx="4032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елк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т  пушистая 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дереве сидит бел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ка видит оре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м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ёк берёт орех и грызё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53607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Выуч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лый снег. Белый ме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лый сахар тоже бе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вот белка не б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лой даже не бы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Scan0104"/>
          <p:cNvPicPr/>
          <p:nvPr/>
        </p:nvPicPr>
        <p:blipFill>
          <a:blip r:embed="rId1"/>
          <a:stretch/>
        </p:blipFill>
        <p:spPr>
          <a:xfrm>
            <a:off x="684360" y="549360"/>
            <a:ext cx="3816360" cy="5759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ибо за работ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Цел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овершенствовать умения читать слоги, слова и предложения с изученными бук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читься замечать прекрасное вокруг с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читься любить и беречь прир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Наше настроени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4" descr="37r3[1]"/>
          <p:cNvPicPr/>
          <p:nvPr/>
        </p:nvPicPr>
        <p:blipFill>
          <a:blip r:embed="rId1"/>
          <a:stretch/>
        </p:blipFill>
        <p:spPr>
          <a:xfrm>
            <a:off x="4500720" y="2581200"/>
            <a:ext cx="2303280" cy="2360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0293828"/>
          <p:cNvPicPr/>
          <p:nvPr/>
        </p:nvPicPr>
        <p:blipFill>
          <a:blip r:embed="rId2"/>
          <a:stretch/>
        </p:blipFill>
        <p:spPr>
          <a:xfrm>
            <a:off x="900000" y="2852640"/>
            <a:ext cx="17449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М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чита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26920" y="1844640"/>
          <a:ext cx="8007480" cy="1595520"/>
        </p:xfrm>
        <a:graphic>
          <a:graphicData uri="http://schemas.openxmlformats.org/drawingml/2006/table">
            <a:tbl>
              <a:tblPr/>
              <a:tblGrid>
                <a:gridCol w="381240"/>
                <a:gridCol w="382680"/>
                <a:gridCol w="380880"/>
                <a:gridCol w="379440"/>
                <a:gridCol w="380880"/>
                <a:gridCol w="382680"/>
                <a:gridCol w="380880"/>
                <a:gridCol w="382680"/>
                <a:gridCol w="380880"/>
                <a:gridCol w="381240"/>
                <a:gridCol w="380880"/>
                <a:gridCol w="380880"/>
                <a:gridCol w="381240"/>
                <a:gridCol w="382320"/>
                <a:gridCol w="381240"/>
                <a:gridCol w="382320"/>
                <a:gridCol w="381240"/>
                <a:gridCol w="379440"/>
                <a:gridCol w="380880"/>
                <a:gridCol w="382680"/>
                <a:gridCol w="380880"/>
              </a:tblGrid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итаем сло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838080" y="1916280"/>
            <a:ext cx="5246640" cy="41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1054080" y="2131920"/>
            <a:ext cx="5246640" cy="417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1270080" y="2347920"/>
            <a:ext cx="5246640" cy="417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1486080" y="2563920"/>
            <a:ext cx="5246640" cy="33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1701720" y="2779560"/>
            <a:ext cx="5246640" cy="33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ы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1917720" y="2995560"/>
            <a:ext cx="5246640" cy="33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э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итаем сло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826920" y="1989000"/>
            <a:ext cx="468180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042920" y="2205000"/>
            <a:ext cx="468144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1258920" y="2421000"/>
            <a:ext cx="468144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1474920" y="2637000"/>
            <a:ext cx="468144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ы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1690560" y="2852640"/>
            <a:ext cx="468180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и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906560" y="3068640"/>
            <a:ext cx="468144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э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вет –ке не пти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-рёк –  не-ве-лич-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х тёп – лый, как грел-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это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    е    л    к   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292720" y="4797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7451640" y="47973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6443640" y="4292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364000" y="4076640"/>
            <a:ext cx="144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4500720" y="4869000"/>
            <a:ext cx="502920" cy="504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5148360" y="4869000"/>
            <a:ext cx="503280" cy="504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5867280" y="4869000"/>
            <a:ext cx="503280" cy="503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6588000" y="4869000"/>
            <a:ext cx="503280" cy="503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7236000" y="4869000"/>
            <a:ext cx="504720" cy="503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 –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ь-чо-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ь- ча- 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-лоч - 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Scan0104"/>
          <p:cNvPicPr/>
          <p:nvPr/>
        </p:nvPicPr>
        <p:blipFill>
          <a:blip r:embed="rId1"/>
          <a:stretch/>
        </p:blipFill>
        <p:spPr>
          <a:xfrm>
            <a:off x="395280" y="765000"/>
            <a:ext cx="3672000" cy="540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34:20Z</dcterms:created>
  <dc:creator>Apple</dc:creator>
  <dc:description/>
  <dc:language>en-US</dc:language>
  <cp:lastModifiedBy>Home</cp:lastModifiedBy>
  <dcterms:modified xsi:type="dcterms:W3CDTF">2019-01-06T10:05:14Z</dcterms:modified>
  <cp:revision>5</cp:revision>
  <dc:subject/>
  <dc:title>Урок обучения грамоте</dc:title>
</cp:coreProperties>
</file>