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052A-321A-4E1A-A0A5-745E8125F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6872-3FF6-47FA-ABAE-65D63A45E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4474-E183-46E4-8316-5D54420AF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D86A-7BC5-4783-AD6C-F2F0B7F78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74E36-ED23-4EC1-BE5F-E3BFD0EC4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D9E88-E02A-4FFD-936E-D72A54CA5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34DEC-AE8D-456A-9DEA-67728FBA1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FD204-729D-47B1-9A51-239F4EF62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324FA-5301-4C59-A62A-DFB749DB3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2CD4F-4A4B-4101-8800-D31240928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2326D-B148-4E03-8E19-E5E370BD3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7D3E-BD33-4C91-945F-73C7E8F29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14F32-E14B-44D7-B35D-A442D2B80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3AA55-18CB-424B-BFBB-21D4198F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8DADC-1F2A-4CCB-9B8C-FC3532C12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5C50F-4A2C-499F-9634-2F6968A33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1F0DA-5CCA-4AE3-85B1-8FF52442D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4681-5756-45FF-B358-966A26E91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061F-1D43-4427-B0EB-436EFD6A5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C86F-8706-4CE6-9E9F-13380EB80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A5FA-B775-4098-8D3C-B1F261007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4F74-4332-4FF4-9C03-4D2504313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AC5B-73F5-4369-A550-921CFDE6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0E1E-6C73-4671-8934-4581A503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8C570-76DF-4713-8598-1BCB829C8A6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4C8BE-7231-477B-BA6E-78D790CB1BC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Arial"/>
              </a:rPr>
              <a:t>Big Ben</a:t>
            </a:r>
            <a:endParaRPr b="0" lang="en-US" sz="9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me fac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2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638320" y="151920"/>
            <a:ext cx="350532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lock on the tower is also huge. Each of the four clockfaces is 7 metres wid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hour hands are about 3 metres long and the minute hands are about 4 metres lo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7" descr="Big"/>
          <p:cNvPicPr/>
          <p:nvPr/>
        </p:nvPicPr>
        <p:blipFill>
          <a:blip r:embed="rId1"/>
          <a:stretch/>
        </p:blipFill>
        <p:spPr>
          <a:xfrm>
            <a:off x="152280" y="838080"/>
            <a:ext cx="5867640" cy="495324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4" descr="big-ben"/>
          <p:cNvPicPr/>
          <p:nvPr/>
        </p:nvPicPr>
        <p:blipFill>
          <a:blip r:embed="rId1"/>
          <a:stretch/>
        </p:blipFill>
        <p:spPr>
          <a:xfrm>
            <a:off x="380880" y="30492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6" descr="london"/>
          <p:cNvPicPr/>
          <p:nvPr/>
        </p:nvPicPr>
        <p:blipFill>
          <a:blip r:embed="rId2"/>
          <a:stretch/>
        </p:blipFill>
        <p:spPr>
          <a:xfrm>
            <a:off x="4952880" y="380880"/>
            <a:ext cx="3200400" cy="24386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0815acc85758017a66c8c2bcc19bd455"/>
          <p:cNvPicPr/>
          <p:nvPr/>
        </p:nvPicPr>
        <p:blipFill>
          <a:blip r:embed="rId3"/>
          <a:stretch/>
        </p:blipFill>
        <p:spPr>
          <a:xfrm>
            <a:off x="3048120" y="3352680"/>
            <a:ext cx="3962160" cy="312444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4" descr="london_sight_6_3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32448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4" descr="london_big_ben5"/>
          <p:cNvPicPr/>
          <p:nvPr/>
        </p:nvPicPr>
        <p:blipFill>
          <a:blip r:embed="rId1"/>
          <a:stretch/>
        </p:blipFill>
        <p:spPr>
          <a:xfrm>
            <a:off x="304920" y="228600"/>
            <a:ext cx="8610480" cy="640080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2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33526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72200" y="250920"/>
            <a:ext cx="2819520" cy="63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very ear, millions of tourists come to London to see and listen to Big Ben. But, what exactly is Big Be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7" descr="0207_london_2"/>
          <p:cNvPicPr/>
          <p:nvPr/>
        </p:nvPicPr>
        <p:blipFill>
          <a:blip r:embed="rId2"/>
          <a:stretch/>
        </p:blipFill>
        <p:spPr>
          <a:xfrm>
            <a:off x="152280" y="838080"/>
            <a:ext cx="6019920" cy="472464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4" descr="44520726_1243791149_1"/>
          <p:cNvPicPr/>
          <p:nvPr/>
        </p:nvPicPr>
        <p:blipFill>
          <a:blip r:embed="rId1"/>
          <a:stretch/>
        </p:blipFill>
        <p:spPr>
          <a:xfrm>
            <a:off x="304920" y="380880"/>
            <a:ext cx="8610480" cy="594360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75960"/>
          </a:xfrm>
          <a:prstGeom prst="rect">
            <a:avLst/>
          </a:prstGeom>
          <a:noFill/>
          <a:ln w="0">
            <a:noFill/>
          </a:ln>
        </p:spPr>
        <p:txBody>
          <a:bodyPr tIns="30240" bIns="3024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1920" y="228600"/>
            <a:ext cx="43434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st people think that Big Ben is the tall clock tower that stands above the Houses of Parliament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ll no! Big Ben is not the clock tower. It is one of the huge bells inside the tow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7" descr="widescreen_208-preview"/>
          <p:cNvPicPr/>
          <p:nvPr/>
        </p:nvPicPr>
        <p:blipFill>
          <a:blip r:embed="rId1"/>
          <a:stretch/>
        </p:blipFill>
        <p:spPr>
          <a:xfrm>
            <a:off x="4419720" y="1219320"/>
            <a:ext cx="4649760" cy="370044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4" descr="622"/>
          <p:cNvPicPr/>
          <p:nvPr/>
        </p:nvPicPr>
        <p:blipFill>
          <a:blip r:embed="rId1"/>
          <a:stretch/>
        </p:blipFill>
        <p:spPr>
          <a:xfrm>
            <a:off x="304920" y="228600"/>
            <a:ext cx="8610480" cy="640080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 rot="10800000">
            <a:off x="457200" y="202680"/>
            <a:ext cx="8229600" cy="74880"/>
          </a:xfrm>
          <a:prstGeom prst="rect">
            <a:avLst/>
          </a:prstGeom>
          <a:noFill/>
          <a:ln w="0">
            <a:noFill/>
          </a:ln>
        </p:spPr>
        <p:txBody>
          <a:bodyPr tIns="29160" bIns="291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-360" y="3686040"/>
            <a:ext cx="8915400" cy="28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ts name comes from the bell’s commissioner of works, Sir Benjamin Hall, or Ben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tower is 98 metres high. The bell inside the tower is 14 tons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14" descr="Картинки по запросу bells of big ben"/>
          <p:cNvPicPr/>
          <p:nvPr/>
        </p:nvPicPr>
        <p:blipFill>
          <a:blip r:embed="rId1"/>
          <a:stretch/>
        </p:blipFill>
        <p:spPr>
          <a:xfrm>
            <a:off x="0" y="0"/>
            <a:ext cx="5905440" cy="368604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4" descr="0_42fbd_23f01c9a_XL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0080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2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51920" y="304920"/>
            <a:ext cx="43434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he clock on the tower is also huge. Each of the four clockfaces is 7 metres wide.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he hour hands are about 3 metres long and the minute hands are about 4 metres long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7" descr="1253441257_big-ben"/>
          <p:cNvPicPr/>
          <p:nvPr/>
        </p:nvPicPr>
        <p:blipFill>
          <a:blip r:embed="rId1"/>
          <a:stretch/>
        </p:blipFill>
        <p:spPr>
          <a:xfrm>
            <a:off x="4648320" y="914400"/>
            <a:ext cx="4267080" cy="521172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4" descr="engl_11_big_ben"/>
          <p:cNvPicPr/>
          <p:nvPr/>
        </p:nvPicPr>
        <p:blipFill>
          <a:blip r:embed="rId1"/>
          <a:stretch/>
        </p:blipFill>
        <p:spPr>
          <a:xfrm>
            <a:off x="228600" y="152280"/>
            <a:ext cx="8763120" cy="647712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ulia</cp:lastModifiedBy>
  <dcterms:modified xsi:type="dcterms:W3CDTF">2017-02-05T18:26:10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