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6BF-DD0B-4396-808A-487B8804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0596-2DE8-461B-800C-3CFE9C30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D7AA-D213-41BF-AD88-D77F4C75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3DF-1215-4032-8962-A82C2FB9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2F96-B08C-428E-B22B-9C1161F6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945F-9A91-49F7-9F9F-47920A43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ACB9-0699-4FC3-A993-7225BBCB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26D1-402E-49B3-803A-BFF38CB6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C288-D90C-4D60-9042-DA7CCF65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0DEC-FE0F-4609-A115-54761294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1DA3-92BF-4955-8F4E-944498E2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0F8-BAF8-4A67-8F6D-95328374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DF57-2E12-4B47-8457-AFF480D6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27B3-74C3-4BC9-B011-4FEFE1EF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9B32-3866-45FC-AE00-8BCD0B60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8798-FAFC-462D-A0C4-CD58FF15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08F2-0055-4084-8577-BF164F39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AB37-796D-4E28-9858-B964C153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6F89-EFB9-49FB-A74A-BB1A7914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3DD-B3D3-44EE-9ACD-BD05CBD4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7EC-8902-48E6-A245-AB516BCC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A74E-619B-455F-A579-DAF7449C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F648-826B-4A33-A3C7-744EE1B3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DA70-1047-4933-BA74-BF7D1FC8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1D2E-FBA9-465A-83BE-DA377DA74F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7B9D-B816-4521-A883-E7B71D054B3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Arial"/>
              </a:rPr>
              <a:t>Big Ben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fa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2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38320" y="151920"/>
            <a:ext cx="35053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lock on the tower is also huge. Each of the four clockfaces is 7 metres wi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ur hands are about 3 metres long and the minute hands are about 4 metres l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Big"/>
          <p:cNvPicPr/>
          <p:nvPr/>
        </p:nvPicPr>
        <p:blipFill>
          <a:blip r:embed="rId1"/>
          <a:stretch/>
        </p:blipFill>
        <p:spPr>
          <a:xfrm>
            <a:off x="152280" y="838080"/>
            <a:ext cx="5867640" cy="49532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big-ben"/>
          <p:cNvPicPr/>
          <p:nvPr/>
        </p:nvPicPr>
        <p:blipFill>
          <a:blip r:embed="rId1"/>
          <a:stretch/>
        </p:blipFill>
        <p:spPr>
          <a:xfrm>
            <a:off x="380880" y="304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london"/>
          <p:cNvPicPr/>
          <p:nvPr/>
        </p:nvPicPr>
        <p:blipFill>
          <a:blip r:embed="rId2"/>
          <a:stretch/>
        </p:blipFill>
        <p:spPr>
          <a:xfrm>
            <a:off x="4952880" y="380880"/>
            <a:ext cx="3200400" cy="2438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0815acc85758017a66c8c2bcc19bd455"/>
          <p:cNvPicPr/>
          <p:nvPr/>
        </p:nvPicPr>
        <p:blipFill>
          <a:blip r:embed="rId3"/>
          <a:stretch/>
        </p:blipFill>
        <p:spPr>
          <a:xfrm>
            <a:off x="3048120" y="3352680"/>
            <a:ext cx="3962160" cy="31244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london_sight_6_3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london_big_ben5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2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33526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72200" y="250920"/>
            <a:ext cx="2819520" cy="63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y ear, millions of tourists come to London to see and listen to Big Ben. But, what exactly is Big B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7" descr="0207_london_2"/>
          <p:cNvPicPr/>
          <p:nvPr/>
        </p:nvPicPr>
        <p:blipFill>
          <a:blip r:embed="rId2"/>
          <a:stretch/>
        </p:blipFill>
        <p:spPr>
          <a:xfrm>
            <a:off x="152280" y="838080"/>
            <a:ext cx="601992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44520726_1243791149_1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75960"/>
          </a:xfrm>
          <a:prstGeom prst="rect">
            <a:avLst/>
          </a:prstGeom>
          <a:noFill/>
          <a:ln w="0">
            <a:noFill/>
          </a:ln>
        </p:spPr>
        <p:txBody>
          <a:bodyPr tIns="30240" bIns="3024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228600"/>
            <a:ext cx="4343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people think that Big Ben is the tall clock tower that stands above the Houses of Parliamen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l no! Big Ben is not the clock tower. It is one of the huge bells inside the tow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7" descr="widescreen_208-preview"/>
          <p:cNvPicPr/>
          <p:nvPr/>
        </p:nvPicPr>
        <p:blipFill>
          <a:blip r:embed="rId1"/>
          <a:stretch/>
        </p:blipFill>
        <p:spPr>
          <a:xfrm>
            <a:off x="4419720" y="1219320"/>
            <a:ext cx="4649760" cy="37004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622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202680"/>
            <a:ext cx="8229600" cy="74880"/>
          </a:xfrm>
          <a:prstGeom prst="rect">
            <a:avLst/>
          </a:prstGeom>
          <a:noFill/>
          <a:ln w="0">
            <a:noFill/>
          </a:ln>
        </p:spPr>
        <p:txBody>
          <a:bodyPr tIns="29160" bIns="291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360" y="3686040"/>
            <a:ext cx="891540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s name comes from the bell’s commissioner of works, Sir Benjamin Hall, or Be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wer is 98 metres high. The bell inside the tower is 14 to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4" descr="Картинки по запросу bells of big ben"/>
          <p:cNvPicPr/>
          <p:nvPr/>
        </p:nvPicPr>
        <p:blipFill>
          <a:blip r:embed="rId1"/>
          <a:stretch/>
        </p:blipFill>
        <p:spPr>
          <a:xfrm>
            <a:off x="0" y="0"/>
            <a:ext cx="5905440" cy="36860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0_42fbd_23f01c9a_XL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2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304920"/>
            <a:ext cx="4343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clock on the tower is also huge. Each of the four clockfaces is 7 metres wide.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hour hands are about 3 metres long and the minute hands are about 4 metres long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1253441257_big-ben"/>
          <p:cNvPicPr/>
          <p:nvPr/>
        </p:nvPicPr>
        <p:blipFill>
          <a:blip r:embed="rId1"/>
          <a:stretch/>
        </p:blipFill>
        <p:spPr>
          <a:xfrm>
            <a:off x="4648320" y="914400"/>
            <a:ext cx="4267080" cy="52117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engl_11_big_ben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64771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ulia</cp:lastModifiedBy>
  <dcterms:modified xsi:type="dcterms:W3CDTF">2017-02-05T18:26:1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