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586CE-9C49-403E-8B5D-CE8151B255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493AE-F5F8-4E27-B46B-C55B0616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8C027-35C9-40E3-AB7A-F0643847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5D42E-E26D-416F-83D1-CBFEA0B8C9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938DE-42E4-467F-B4D6-D257AFD65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593E6-F109-46EB-9D3F-A9768D89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99AD1-5242-4066-AD2C-4AE439D1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EC397-F713-478F-BF80-9A66BB64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C67F9-389F-47C7-828A-4E77C9BA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738B6-C1C2-4162-A39B-BECC2F72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372A3-3E39-4A2C-8002-D1BE2F8D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66B63-3444-4D8B-9B53-D0B31312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FF1A1-DF0C-4CFE-8F5A-56F09DDE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6B065-B3C1-4C27-A484-E530BF47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34F9D-5A05-4DE8-92BC-09A81727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3E409-1872-4964-A798-307AB78C0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F6D56-602F-47DD-A440-5988698B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52869-4E82-4BB9-8783-AC918FD2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4455E-D3C4-49A3-9C4C-1A91E667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5BEE4-0570-40A4-87C6-79B6FA3F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71FC3-F5FF-4834-A887-3B6DE7CE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7C498-F015-4E69-8E19-581D323B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5807F-2116-44EC-A64A-5682C7DB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CC082-7234-43F8-A5DE-A5726A49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8001000" y="0"/>
            <a:ext cx="1143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>
                  <a:alpha val="82352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" descr="glabal"/>
          <p:cNvPicPr/>
          <p:nvPr/>
        </p:nvPicPr>
        <p:blipFill>
          <a:blip r:embed="rId2"/>
          <a:stretch/>
        </p:blipFill>
        <p:spPr>
          <a:xfrm>
            <a:off x="380880" y="152280"/>
            <a:ext cx="816120" cy="83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E55E-3E9A-422E-9497-27457ABB26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3366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96160"/>
          </a:xfrm>
          <a:prstGeom prst="rect">
            <a:avLst/>
          </a:prstGeom>
          <a:ln w="0">
            <a:noFill/>
          </a:ln>
        </p:spPr>
      </p:pic>
      <p:sp>
        <p:nvSpPr>
          <p:cNvPr id="45" name="Freeform 9"/>
          <p:cNvSpPr/>
          <p:nvPr/>
        </p:nvSpPr>
        <p:spPr>
          <a:xfrm>
            <a:off x="0" y="0"/>
            <a:ext cx="4114800" cy="6858000"/>
          </a:xfrm>
          <a:prstGeom prst="pie">
            <a:avLst/>
          </a:prstGeom>
          <a:gradFill rotWithShape="0">
            <a:gsLst>
              <a:gs pos="0">
                <a:srgbClr val="ff9900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s003"/>
          <p:cNvPicPr/>
          <p:nvPr/>
        </p:nvPicPr>
        <p:blipFill>
          <a:blip r:embed="rId3"/>
          <a:stretch/>
        </p:blipFill>
        <p:spPr>
          <a:xfrm>
            <a:off x="8001000" y="41911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10"/>
          <p:cNvSpPr/>
          <p:nvPr/>
        </p:nvSpPr>
        <p:spPr>
          <a:xfrm>
            <a:off x="609480" y="4114800"/>
            <a:ext cx="7848720" cy="2286000"/>
          </a:xfrm>
          <a:prstGeom prst="roundRect">
            <a:avLst>
              <a:gd name="adj" fmla="val 16667"/>
            </a:avLst>
          </a:prstGeom>
          <a:solidFill>
            <a:srgbClr val="3366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-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5"/>
          </p:nvPr>
        </p:nvSpPr>
        <p:spPr>
          <a:xfrm>
            <a:off x="66290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80C7-4F10-4BAF-AD35-C4030A5FF2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419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rge Washingt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787 George Washington took part in a “constitutional convention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357200" y="35712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789 George Washington was elected President of the U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786040" y="1857240"/>
            <a:ext cx="3143160" cy="4267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1360" y="285840"/>
            <a:ext cx="761508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rrect the mistakes Washington’s biograph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00040" y="157176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 February 1732 – George Washington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65- he was chosen to be the head of the colonist’s ar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73- George Washington took part in a “constitutional convention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75-1776- G. Washington lead a peaceful life on his e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71360" y="285840"/>
            <a:ext cx="761508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rrect the mistakes Washington’s biograph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00040" y="157176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81- America won the war against S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83- the British government decided to make the Americans pay tax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87- Washington took an active part in the first and second Continental Cong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89- G. Washington was elected President of Great Brit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irst president of the USA             G. Washington was born on                  22 February 1732 into the family of a rich Virginia landown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5786280" y="3000240"/>
            <a:ext cx="2467080" cy="3245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071360" y="1428480"/>
            <a:ext cx="73292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his early twenties he took part in the war which the British Empire was fighting against France for the new territories in Americ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386000" y="285840"/>
            <a:ext cx="77580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765 the British government decided to make the Americans pay tax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00120" y="1785960"/>
            <a:ext cx="609624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071360" y="1571400"/>
            <a:ext cx="754380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773 The Boston Tea Party became the first in a line of events that led America to separate finally from British Emp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214280" y="213840"/>
            <a:ext cx="77868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774 G. Washington represented the state of Virginia in the first Continental Con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643040" y="2071800"/>
            <a:ext cx="5934240" cy="4076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785880" y="2071440"/>
            <a:ext cx="757224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775-1776 Washington took an active part in the first and second Continental Congresses and he was chosen to be the head of the colonist’s ar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714680" y="285480"/>
            <a:ext cx="68292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781 America won the war against Great Brit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11327" t="25003" r="23047" b="12499"/>
          <a:stretch/>
        </p:blipFill>
        <p:spPr>
          <a:xfrm>
            <a:off x="2214720" y="2286000"/>
            <a:ext cx="4000320" cy="2857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rcRect l="11327" t="25003" r="23047" b="10940"/>
          <a:stretch/>
        </p:blipFill>
        <p:spPr>
          <a:xfrm>
            <a:off x="1500120" y="1643040"/>
            <a:ext cx="6000840" cy="4394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285560" y="1999800"/>
            <a:ext cx="682956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1783 Peace with Great Britain was sign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0T11:58:31Z</dcterms:created>
  <dc:creator>Бакшаевы</dc:creator>
  <dc:description/>
  <dc:language>en-US</dc:language>
  <cp:lastModifiedBy>Admin</cp:lastModifiedBy>
  <dcterms:modified xsi:type="dcterms:W3CDTF">2017-01-16T17:54:42Z</dcterms:modified>
  <cp:revision>18</cp:revision>
  <dc:subject/>
  <dc:title>New York, New York…..</dc:title>
</cp:coreProperties>
</file>