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4C5E0-918D-4F8A-BA31-C7F104DB64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BC543-23D5-45ED-A20C-82BD8B36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E9FEB-4CA4-4993-9B59-F0B68ED5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6A8EE-6708-4A0E-92E8-8D3D3E0068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C2D1F-BCA3-4BEB-A147-5D7B014B7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BCF26-B819-48F6-B65F-012881F6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7287F-8A86-4D78-83EB-992B6312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CD074-ABBA-4531-A927-7BFE8F3C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170BA-1DCD-4480-A360-E7C444BF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60DCC-CBB6-4B8C-B551-4C184F37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34E8B9-13D4-4C8D-B32A-69CBBB94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B3876-AC2F-4E0E-998C-41DD0704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45EB4-A2B9-4A8E-B76E-FDFE3836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3728C-DD74-47C1-AFAE-07F9FD18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B1489-EF01-4C5F-847C-3DAF503D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3D8EC-0F86-41A3-80FD-68294B1F3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D7DDF-7227-42C4-A922-A3F36B647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D823D-6592-4DA6-A4BB-197BEC45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B048C-5BD4-4810-AB30-646548A2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E3437-E04B-4122-B76A-3AF54F465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5C10E-8026-4A64-9A80-260B8BB86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6363B-0428-4154-82CF-D828065C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65237-F827-4831-AA72-4525BE3B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37832-E06F-4135-A527-90E61E34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8001000" y="0"/>
            <a:ext cx="1143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>
                  <a:alpha val="82352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" descr="glabal"/>
          <p:cNvPicPr/>
          <p:nvPr/>
        </p:nvPicPr>
        <p:blipFill>
          <a:blip r:embed="rId2"/>
          <a:stretch/>
        </p:blipFill>
        <p:spPr>
          <a:xfrm>
            <a:off x="380880" y="152280"/>
            <a:ext cx="816120" cy="83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5895-2976-4A98-8B6A-8836D11091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3366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96160"/>
          </a:xfrm>
          <a:prstGeom prst="rect">
            <a:avLst/>
          </a:prstGeom>
          <a:ln w="0">
            <a:noFill/>
          </a:ln>
        </p:spPr>
      </p:pic>
      <p:sp>
        <p:nvSpPr>
          <p:cNvPr id="45" name="Freeform 9"/>
          <p:cNvSpPr/>
          <p:nvPr/>
        </p:nvSpPr>
        <p:spPr>
          <a:xfrm>
            <a:off x="0" y="0"/>
            <a:ext cx="4114800" cy="6858000"/>
          </a:xfrm>
          <a:prstGeom prst="pie">
            <a:avLst/>
          </a:prstGeom>
          <a:gradFill rotWithShape="0">
            <a:gsLst>
              <a:gs pos="0">
                <a:srgbClr val="ff9900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s003"/>
          <p:cNvPicPr/>
          <p:nvPr/>
        </p:nvPicPr>
        <p:blipFill>
          <a:blip r:embed="rId3"/>
          <a:stretch/>
        </p:blipFill>
        <p:spPr>
          <a:xfrm>
            <a:off x="8001000" y="41911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10"/>
          <p:cNvSpPr/>
          <p:nvPr/>
        </p:nvSpPr>
        <p:spPr>
          <a:xfrm>
            <a:off x="609480" y="4114800"/>
            <a:ext cx="7848720" cy="2286000"/>
          </a:xfrm>
          <a:prstGeom prst="roundRect">
            <a:avLst>
              <a:gd name="adj" fmla="val 16667"/>
            </a:avLst>
          </a:prstGeom>
          <a:solidFill>
            <a:srgbClr val="33669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-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4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5"/>
          </p:nvPr>
        </p:nvSpPr>
        <p:spPr>
          <a:xfrm>
            <a:off x="66290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B315-8B79-4FDC-9918-CA7965BC24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419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rge Washingt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787 George Washington took part in a “constitutional convention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357200" y="35712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789 George Washington was elected President of the U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2786040" y="1857240"/>
            <a:ext cx="3143160" cy="4267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71360" y="285840"/>
            <a:ext cx="761508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rrect the mistakes Washington’s biograph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00040" y="157176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 February 1732 – George Washington 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65- he was chosen to be the head of the colonist’s ar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73- George Washington took part in a “constitutional convention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75-1776- G. Washington lead a peaceful life on his e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71360" y="285840"/>
            <a:ext cx="761508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rrect the mistakes Washington’s biograph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00040" y="157176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81- America won the war against Sp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83- the British government decided to make the Americans pay tax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87- Washington took an active part in the first and second Continental Cong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89- G. Washington was elected President of Great Brit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irst president of the USA             G. Washington was born on                  22 February 1732 into the family of a rich Virginia landown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5786280" y="3000240"/>
            <a:ext cx="2467080" cy="3245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071360" y="1428480"/>
            <a:ext cx="73292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his early twenties he took part in the war which the British Empire was fighting against France for the new territories in Americ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386000" y="285840"/>
            <a:ext cx="77580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765 the British government decided to make the Americans pay tax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00120" y="1785960"/>
            <a:ext cx="609624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071360" y="1571400"/>
            <a:ext cx="754380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773 The Boston Tea Party became the first in a line of events that led America to separate finally from British Emp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214280" y="213840"/>
            <a:ext cx="77868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774 G. Washington represented the state of Virginia in the first Continental Con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643040" y="2071800"/>
            <a:ext cx="5934240" cy="4076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785880" y="2071440"/>
            <a:ext cx="757224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775-1776 Washington took an active part in the first and second Continental Congresses and he was chosen to be the head of the colonist’s ar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714680" y="285480"/>
            <a:ext cx="68292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781 America won the war against Great Brit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rcRect l="11327" t="25003" r="23047" b="12499"/>
          <a:stretch/>
        </p:blipFill>
        <p:spPr>
          <a:xfrm>
            <a:off x="2214720" y="2286000"/>
            <a:ext cx="4000320" cy="2857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2"/>
          <a:srcRect l="11327" t="25003" r="23047" b="10940"/>
          <a:stretch/>
        </p:blipFill>
        <p:spPr>
          <a:xfrm>
            <a:off x="1500120" y="1643040"/>
            <a:ext cx="6000840" cy="4394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285560" y="1999800"/>
            <a:ext cx="682956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1783 Peace with Great Britain was sign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0T11:58:31Z</dcterms:created>
  <dc:creator>Бакшаевы</dc:creator>
  <dc:description/>
  <dc:language>en-US</dc:language>
  <cp:lastModifiedBy>Admin</cp:lastModifiedBy>
  <dcterms:modified xsi:type="dcterms:W3CDTF">2017-01-16T17:54:42Z</dcterms:modified>
  <cp:revision>18</cp:revision>
  <dc:subject/>
  <dc:title>New York, New York…..</dc:title>
</cp:coreProperties>
</file>