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547E-7C03-455E-B9A8-ED114662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E43D-15D1-43C0-85EE-495C55A5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27A4-7B06-4F47-853B-E52DF1DA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D80-B216-4A22-951A-DD70363C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438-56E7-4B83-89C6-324FAD05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729-A3C1-4883-9556-62F4BE0F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42F5-DC7A-43FD-B175-04F1F397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BAB-2A0D-4EF9-A758-AA102FCB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15C-EA8F-4CA4-BA92-F2B5F84D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131F-BE77-40B4-8F06-58C3BB04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90FD-023A-43F2-A834-99F6DA53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68D0-4764-4AF9-9FA8-56117F03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2D32-ACDF-4C0B-BCE7-5C23B36703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98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амообразование учителя как условие личностного и профессионального рост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живет, пока учи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.Д.Ушин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900000" y="33336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ниципальное автономное общеобразовательное учрежд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мназия № 69 имени С.Есенина г.Липец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332000" y="6308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ступление зам.директора по УВР И.С.Митряхи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одуктивность самообразова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ребность в собственном развит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крытость для измен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уманистическая направлен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ворческое сотрудничеств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увство удовлетворен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ность к рефлекс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Рефлексивная позиц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684360" y="3068640"/>
            <a:ext cx="3743280" cy="1655640"/>
          </a:xfrm>
          <a:prstGeom prst="octagon">
            <a:avLst>
              <a:gd name="adj" fmla="val 29287"/>
            </a:avLst>
          </a:prstGeom>
          <a:solidFill>
            <a:srgbClr val="00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1-ый рефлексивный сло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исследовательская час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критическая час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нормативная ча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6012000" y="1700280"/>
            <a:ext cx="2232000" cy="1295280"/>
          </a:xfrm>
          <a:prstGeom prst="octagon">
            <a:avLst>
              <a:gd name="adj" fmla="val 29287"/>
            </a:avLst>
          </a:prstGeom>
          <a:solidFill>
            <a:srgbClr val="00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2-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ефлексив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сл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6084720" y="3357720"/>
            <a:ext cx="2232360" cy="1295280"/>
          </a:xfrm>
          <a:prstGeom prst="octagon">
            <a:avLst>
              <a:gd name="adj" fmla="val 29287"/>
            </a:avLst>
          </a:prstGeom>
          <a:solidFill>
            <a:srgbClr val="00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3-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ефлексив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сл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156360" y="5013360"/>
            <a:ext cx="2232000" cy="1295280"/>
          </a:xfrm>
          <a:prstGeom prst="octagon">
            <a:avLst>
              <a:gd name="adj" fmla="val 29287"/>
            </a:avLst>
          </a:prstGeom>
          <a:solidFill>
            <a:srgbClr val="00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4-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ефлексив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сл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6" name="AutoShape 8"/>
          <p:cNvCxnSpPr>
            <a:stCxn id="92" idx="2"/>
            <a:endCxn id="93" idx="3"/>
          </p:cNvCxnSpPr>
          <p:nvPr/>
        </p:nvCxnSpPr>
        <p:spPr>
          <a:xfrm flipV="1">
            <a:off x="4427280" y="2347560"/>
            <a:ext cx="1585080" cy="155016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" name="Line 9"/>
          <p:cNvSpPr/>
          <p:nvPr/>
        </p:nvSpPr>
        <p:spPr>
          <a:xfrm>
            <a:off x="7093080" y="2997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709308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фессиональное развит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1916280"/>
            <a:ext cx="2808360" cy="2016000"/>
          </a:xfrm>
          <a:prstGeom prst="diamond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т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новл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5724360" y="1989000"/>
            <a:ext cx="2808360" cy="2016360"/>
          </a:xfrm>
          <a:prstGeom prst="diamond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ализ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3203640" y="3860640"/>
            <a:ext cx="2808360" cy="2016360"/>
          </a:xfrm>
          <a:prstGeom prst="diamond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AutoShape 8"/>
          <p:cNvSpPr/>
          <p:nvPr/>
        </p:nvSpPr>
        <p:spPr>
          <a:xfrm rot="2684400">
            <a:off x="2771280" y="3573000"/>
            <a:ext cx="1152720" cy="72072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AutoShape 9"/>
          <p:cNvSpPr/>
          <p:nvPr/>
        </p:nvSpPr>
        <p:spPr>
          <a:xfrm rot="18748200">
            <a:off x="5399640" y="3608640"/>
            <a:ext cx="1081080" cy="72072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362800" cy="15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Tahoma"/>
              </a:rPr>
              <a:t>Стадии </a:t>
            </a:r>
            <a:br>
              <a:rPr sz="4000"/>
            </a:br>
            <a:r>
              <a:rPr b="1" lang="ru-RU" sz="4000" spc="-1" strike="noStrike">
                <a:solidFill>
                  <a:srgbClr val="00ccff"/>
                </a:solidFill>
                <a:latin typeface="Tahoma"/>
              </a:rPr>
              <a:t>профессионального развит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тадия «выживания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тадия адаптации и активного усвоения методических рекомендац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тадия зрел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тадия временного кризиса и самоанализ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тадия нового саморазвития, или профессиональной стагн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Этапы самообразов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ение тео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ичная апробация инноваций в практи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монстрация педагогических умений в организации образовательного проце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бщение опыта, определение путей по повышению мастер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амообразование строитс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жедневная работа с информаци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ение педагогических новшест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ние психологии современных школь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елание твори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а – удовольств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оставляющие процесса самообразовани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79280" y="2205000"/>
            <a:ext cx="3168720" cy="381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ит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зуч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пробир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блюд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нализир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вор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851280" y="1700280"/>
            <a:ext cx="5113440" cy="5157720"/>
          </a:xfrm>
          <a:custGeom>
            <a:avLst/>
            <a:gdLst>
              <a:gd name="textAreaLeft" fmla="*/ 249480 w 5113440"/>
              <a:gd name="textAreaRight" fmla="*/ 4863960 w 5113440"/>
              <a:gd name="textAreaTop" fmla="*/ 249480 h 5157720"/>
              <a:gd name="textAreaBottom" fmla="*/ 4908240 h 5157720"/>
            </a:gdLst>
            <a:ahLst/>
            <a:rect l="textAreaLeft" t="textAreaTop" r="textAreaRight" b="textAreaBottom"/>
            <a:pathLst>
              <a:path w="21600" h="21787">
                <a:moveTo>
                  <a:pt x="3600" y="0"/>
                </a:moveTo>
                <a:arcTo wR="3600" hR="3600" stAng="16200000" swAng="-5400000"/>
                <a:lnTo>
                  <a:pt x="0" y="18187"/>
                </a:lnTo>
                <a:arcTo wR="3600" hR="3600" stAng="10800000" swAng="-5400000"/>
                <a:lnTo>
                  <a:pt x="18000" y="217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ение и внедре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вых пед.технолог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заимопосещение уроко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мен опыт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оанализ рабо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ес к события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ой жиз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ние психолог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педагоги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останавливать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достигнут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3419640" y="4005360"/>
            <a:ext cx="3585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одернизация современного образова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900000" y="2276640"/>
            <a:ext cx="7632720" cy="865080"/>
          </a:xfrm>
          <a:prstGeom prst="roundRect">
            <a:avLst>
              <a:gd name="adj" fmla="val 16667"/>
            </a:avLst>
          </a:prstGeom>
          <a:solidFill>
            <a:srgbClr val="7aeb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Индивидуальный образовательный маршру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395280" y="3213000"/>
            <a:ext cx="8532720" cy="865440"/>
          </a:xfrm>
          <a:prstGeom prst="roundRect">
            <a:avLst>
              <a:gd name="adj" fmla="val 16667"/>
            </a:avLst>
          </a:prstGeom>
          <a:solidFill>
            <a:srgbClr val="7aeb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Самостоятельность и непрерывность образ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Oval 6"/>
          <p:cNvSpPr/>
          <p:nvPr/>
        </p:nvSpPr>
        <p:spPr>
          <a:xfrm>
            <a:off x="250920" y="4508640"/>
            <a:ext cx="2087640" cy="143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Потребно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личности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общ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Oval 7"/>
          <p:cNvSpPr/>
          <p:nvPr/>
        </p:nvSpPr>
        <p:spPr>
          <a:xfrm>
            <a:off x="2340000" y="4941720"/>
            <a:ext cx="223200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Расшир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образовательн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простран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Oval 8"/>
          <p:cNvSpPr/>
          <p:nvPr/>
        </p:nvSpPr>
        <p:spPr>
          <a:xfrm>
            <a:off x="4643280" y="4941720"/>
            <a:ext cx="2087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Вариатив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Oval 9"/>
          <p:cNvSpPr/>
          <p:nvPr/>
        </p:nvSpPr>
        <p:spPr>
          <a:xfrm>
            <a:off x="6804000" y="4581360"/>
            <a:ext cx="2087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Методическ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обеспеч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3564000" y="4076640"/>
            <a:ext cx="100800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4572000" y="4076640"/>
            <a:ext cx="93672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Line 12"/>
          <p:cNvSpPr/>
          <p:nvPr/>
        </p:nvSpPr>
        <p:spPr>
          <a:xfrm flipH="1">
            <a:off x="1692000" y="4076640"/>
            <a:ext cx="2808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4572000" y="4076640"/>
            <a:ext cx="2952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4"/>
          <p:cNvSpPr/>
          <p:nvPr/>
        </p:nvSpPr>
        <p:spPr>
          <a:xfrm>
            <a:off x="611280" y="4005360"/>
            <a:ext cx="7954920" cy="18000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рофессиональные компетен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468360" y="1125360"/>
            <a:ext cx="2446200" cy="1873440"/>
          </a:xfrm>
          <a:prstGeom prst="octagon">
            <a:avLst>
              <a:gd name="adj" fmla="val 2928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дерниз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3419640" y="404640"/>
            <a:ext cx="2446200" cy="1873440"/>
          </a:xfrm>
          <a:prstGeom prst="octagon">
            <a:avLst>
              <a:gd name="adj" fmla="val 2928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ци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ультур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цес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AutoShape 20"/>
          <p:cNvSpPr/>
          <p:nvPr/>
        </p:nvSpPr>
        <p:spPr>
          <a:xfrm>
            <a:off x="6156360" y="1268280"/>
            <a:ext cx="2446200" cy="1873440"/>
          </a:xfrm>
          <a:prstGeom prst="octagon">
            <a:avLst>
              <a:gd name="adj" fmla="val 2928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в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кол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учающих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4572000" y="2276640"/>
            <a:ext cx="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23"/>
          <p:cNvSpPr/>
          <p:nvPr/>
        </p:nvSpPr>
        <p:spPr>
          <a:xfrm flipH="1">
            <a:off x="4642920" y="2852640"/>
            <a:ext cx="172908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24"/>
          <p:cNvSpPr/>
          <p:nvPr/>
        </p:nvSpPr>
        <p:spPr>
          <a:xfrm>
            <a:off x="2627280" y="2781360"/>
            <a:ext cx="18734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4"/>
          <p:cNvSpPr/>
          <p:nvPr/>
        </p:nvSpPr>
        <p:spPr>
          <a:xfrm>
            <a:off x="324000" y="333360"/>
            <a:ext cx="3456000" cy="792000"/>
          </a:xfrm>
          <a:custGeom>
            <a:avLst/>
            <a:gdLst>
              <a:gd name="textAreaLeft" fmla="*/ 93240 w 3456000"/>
              <a:gd name="textAreaRight" fmla="*/ 3362760 w 345600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9422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0622" y="21600"/>
                </a:lnTo>
                <a:arcTo wR="3600" hR="3600" stAng="10800000" swAng="5400000"/>
                <a:lnTo>
                  <a:pt x="94222" y="3600"/>
                </a:lnTo>
                <a:arcTo wR="3600" hR="3600" stAng="5400000" swAng="5400000"/>
                <a:close/>
              </a:path>
            </a:pathLst>
          </a:custGeom>
          <a:solidFill>
            <a:srgbClr val="3399ff"/>
          </a:solidFill>
          <a:ln w="9360">
            <a:solidFill>
              <a:srgbClr val="7aeb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Уче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258920" y="1413000"/>
            <a:ext cx="3456000" cy="792000"/>
          </a:xfrm>
          <a:custGeom>
            <a:avLst/>
            <a:gdLst>
              <a:gd name="textAreaLeft" fmla="*/ 93240 w 3456000"/>
              <a:gd name="textAreaRight" fmla="*/ 3362760 w 345600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9422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0622" y="21600"/>
                </a:lnTo>
                <a:arcTo wR="3600" hR="3600" stAng="10800000" swAng="5400000"/>
                <a:lnTo>
                  <a:pt x="94222" y="3600"/>
                </a:lnTo>
                <a:arcTo wR="3600" hR="3600" stAng="5400000" swAng="5400000"/>
                <a:close/>
              </a:path>
            </a:pathLst>
          </a:custGeom>
          <a:solidFill>
            <a:srgbClr val="3399ff"/>
          </a:solidFill>
          <a:ln w="9360">
            <a:solidFill>
              <a:srgbClr val="7aeb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Пробл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3132000" y="3573360"/>
            <a:ext cx="3456000" cy="792360"/>
          </a:xfrm>
          <a:custGeom>
            <a:avLst/>
            <a:gdLst>
              <a:gd name="textAreaLeft" fmla="*/ 93240 w 3456000"/>
              <a:gd name="textAreaRight" fmla="*/ 3362760 w 345600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9417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0579" y="21600"/>
                </a:lnTo>
                <a:arcTo wR="3600" hR="3600" stAng="10800000" swAng="5400000"/>
                <a:lnTo>
                  <a:pt x="94179" y="3600"/>
                </a:lnTo>
                <a:arcTo wR="3600" hR="3600" stAng="5400000" swAng="5400000"/>
                <a:close/>
              </a:path>
            </a:pathLst>
          </a:custGeom>
          <a:solidFill>
            <a:srgbClr val="3399ff"/>
          </a:solidFill>
          <a:ln w="9360">
            <a:solidFill>
              <a:srgbClr val="7aeb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Интере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2195640" y="2492280"/>
            <a:ext cx="3456000" cy="792360"/>
          </a:xfrm>
          <a:custGeom>
            <a:avLst/>
            <a:gdLst>
              <a:gd name="textAreaLeft" fmla="*/ 93240 w 3456000"/>
              <a:gd name="textAreaRight" fmla="*/ 3362760 w 345600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9417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0579" y="21600"/>
                </a:lnTo>
                <a:arcTo wR="3600" hR="3600" stAng="10800000" swAng="5400000"/>
                <a:lnTo>
                  <a:pt x="94179" y="3600"/>
                </a:lnTo>
                <a:arcTo wR="3600" hR="3600" stAng="5400000" swAng="5400000"/>
                <a:close/>
              </a:path>
            </a:pathLst>
          </a:custGeom>
          <a:solidFill>
            <a:srgbClr val="3399ff"/>
          </a:solidFill>
          <a:ln w="9360">
            <a:solidFill>
              <a:srgbClr val="7aeb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Потреб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3780000" y="4653000"/>
            <a:ext cx="3889080" cy="936720"/>
          </a:xfrm>
          <a:custGeom>
            <a:avLst/>
            <a:gdLst>
              <a:gd name="textAreaLeft" fmla="*/ 110160 w 3889080"/>
              <a:gd name="textAreaRight" fmla="*/ 3778920 w 3889080"/>
              <a:gd name="textAreaTop" fmla="*/ 110160 h 936720"/>
              <a:gd name="textAreaBottom" fmla="*/ 826560 h 936720"/>
            </a:gdLst>
            <a:ahLst/>
            <a:rect l="textAreaLeft" t="textAreaTop" r="textAreaRight" b="textAreaBottom"/>
            <a:pathLst>
              <a:path w="8965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053" y="21600"/>
                </a:lnTo>
                <a:arcTo wR="3600" hR="3600" stAng="10800000" swAng="5400000"/>
                <a:lnTo>
                  <a:pt x="89653" y="3600"/>
                </a:lnTo>
                <a:arcTo wR="3600" hR="3600" stAng="5400000" swAng="5400000"/>
                <a:close/>
              </a:path>
            </a:pathLst>
          </a:custGeom>
          <a:solidFill>
            <a:srgbClr val="3399ff"/>
          </a:solidFill>
          <a:ln w="9360">
            <a:solidFill>
              <a:srgbClr val="7aeb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Психологическ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особе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5364000" y="5877000"/>
            <a:ext cx="3456000" cy="792000"/>
          </a:xfrm>
          <a:custGeom>
            <a:avLst/>
            <a:gdLst>
              <a:gd name="textAreaLeft" fmla="*/ 93240 w 3456000"/>
              <a:gd name="textAreaRight" fmla="*/ 3362760 w 345600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9422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0622" y="21600"/>
                </a:lnTo>
                <a:arcTo wR="3600" hR="3600" stAng="10800000" swAng="5400000"/>
                <a:lnTo>
                  <a:pt x="94222" y="3600"/>
                </a:lnTo>
                <a:arcTo wR="3600" hR="3600" stAng="5400000" swAng="5400000"/>
                <a:close/>
              </a:path>
            </a:pathLst>
          </a:custGeom>
          <a:solidFill>
            <a:srgbClr val="3399ff"/>
          </a:solidFill>
          <a:ln w="9360">
            <a:solidFill>
              <a:srgbClr val="7aeb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Учит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AutoShape 10"/>
          <p:cNvSpPr/>
          <p:nvPr/>
        </p:nvSpPr>
        <p:spPr>
          <a:xfrm rot="21163800">
            <a:off x="3850920" y="549360"/>
            <a:ext cx="1006560" cy="1224000"/>
          </a:xfrm>
          <a:custGeom>
            <a:avLst/>
            <a:gdLst>
              <a:gd name="textAreaLeft" fmla="*/ 134640 w 1006560"/>
              <a:gd name="textAreaRight" fmla="*/ 871920 w 1006560"/>
              <a:gd name="textAreaTop" fmla="*/ 243000 h 1224000"/>
              <a:gd name="textAreaBottom" fmla="*/ 9151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82" stAng="-5400000" swAng="5400000"/>
                <a:lnTo>
                  <a:pt x="21600" y="11855"/>
                </a:lnTo>
                <a:arcTo wR="21600" hR="8582" stAng="0" swAng="2119578"/>
                <a:lnTo>
                  <a:pt x="10562" y="20504"/>
                </a:lnTo>
                <a:lnTo>
                  <a:pt x="0" y="18800"/>
                </a:lnTo>
                <a:lnTo>
                  <a:pt x="10562" y="14903"/>
                </a:lnTo>
                <a:lnTo>
                  <a:pt x="10562" y="16067"/>
                </a:lnTo>
                <a:arcTo wR="21600" hR="8582" stAng="2119578" swAng="-1854776"/>
                <a:lnTo>
                  <a:pt x="21204" y="10218"/>
                </a:lnTo>
                <a:arcTo wR="21600" hR="8582" stAng="-264801" swAng="-5135199"/>
                <a:close/>
              </a:path>
              <a:path fill="darkenLess" w="21600" h="21600">
                <a:moveTo>
                  <a:pt x="0" y="0"/>
                </a:moveTo>
                <a:arcTo wR="21600" hR="8582" stAng="-5400000" swAng="5400000"/>
                <a:lnTo>
                  <a:pt x="21600" y="11855"/>
                </a:lnTo>
                <a:arcTo wR="21600" hR="8582" stAng="0" swAng="-264801"/>
                <a:lnTo>
                  <a:pt x="21204" y="10218"/>
                </a:lnTo>
                <a:arcTo wR="21600" hR="8582" stAng="-264801" swAng="-5135199"/>
                <a:close/>
              </a:path>
            </a:pathLst>
          </a:custGeom>
          <a:solidFill>
            <a:srgbClr val="7aeb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AutoShape 11"/>
          <p:cNvSpPr/>
          <p:nvPr/>
        </p:nvSpPr>
        <p:spPr>
          <a:xfrm rot="19759800">
            <a:off x="4952520" y="1474560"/>
            <a:ext cx="927360" cy="1504800"/>
          </a:xfrm>
          <a:custGeom>
            <a:avLst/>
            <a:gdLst>
              <a:gd name="textAreaLeft" fmla="*/ 124200 w 927360"/>
              <a:gd name="textAreaRight" fmla="*/ 803160 w 927360"/>
              <a:gd name="textAreaTop" fmla="*/ 310680 h 1504800"/>
              <a:gd name="textAreaBottom" fmla="*/ 1066320 h 150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23" stAng="-5400000" swAng="5400000"/>
                <a:lnTo>
                  <a:pt x="21600" y="10845"/>
                </a:lnTo>
                <a:arcTo wR="21600" hR="8923" stAng="0" swAng="3824190"/>
                <a:lnTo>
                  <a:pt x="4314" y="21420"/>
                </a:lnTo>
                <a:lnTo>
                  <a:pt x="0" y="18806"/>
                </a:lnTo>
                <a:lnTo>
                  <a:pt x="4314" y="15832"/>
                </a:lnTo>
                <a:lnTo>
                  <a:pt x="4314" y="17665"/>
                </a:lnTo>
                <a:arcTo wR="21600" hR="8923" stAng="3824190" swAng="-3670450"/>
                <a:lnTo>
                  <a:pt x="21474" y="9884"/>
                </a:lnTo>
                <a:arcTo wR="21600" hR="8923" stAng="-153740" swAng="-5246260"/>
                <a:close/>
              </a:path>
              <a:path fill="darkenLess" w="21600" h="21600">
                <a:moveTo>
                  <a:pt x="0" y="0"/>
                </a:moveTo>
                <a:arcTo wR="21600" hR="8923" stAng="-5400000" swAng="5400000"/>
                <a:lnTo>
                  <a:pt x="21600" y="10845"/>
                </a:lnTo>
                <a:arcTo wR="21600" hR="8923" stAng="0" swAng="-153740"/>
                <a:lnTo>
                  <a:pt x="21474" y="9884"/>
                </a:lnTo>
                <a:arcTo wR="21600" hR="8923" stAng="-153740" swAng="-5246260"/>
                <a:close/>
              </a:path>
            </a:pathLst>
          </a:custGeom>
          <a:solidFill>
            <a:srgbClr val="7aeb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AutoShape 15"/>
          <p:cNvSpPr/>
          <p:nvPr/>
        </p:nvSpPr>
        <p:spPr>
          <a:xfrm rot="19759800">
            <a:off x="5867280" y="2565000"/>
            <a:ext cx="927360" cy="1505160"/>
          </a:xfrm>
          <a:custGeom>
            <a:avLst/>
            <a:gdLst>
              <a:gd name="textAreaLeft" fmla="*/ 124200 w 927360"/>
              <a:gd name="textAreaRight" fmla="*/ 803160 w 927360"/>
              <a:gd name="textAreaTop" fmla="*/ 310680 h 1505160"/>
              <a:gd name="textAreaBottom" fmla="*/ 1066680 h 150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23" stAng="-5400000" swAng="5400000"/>
                <a:lnTo>
                  <a:pt x="21600" y="10845"/>
                </a:lnTo>
                <a:arcTo wR="21600" hR="8923" stAng="0" swAng="3824190"/>
                <a:lnTo>
                  <a:pt x="4314" y="21420"/>
                </a:lnTo>
                <a:lnTo>
                  <a:pt x="0" y="18806"/>
                </a:lnTo>
                <a:lnTo>
                  <a:pt x="4314" y="15832"/>
                </a:lnTo>
                <a:lnTo>
                  <a:pt x="4314" y="17665"/>
                </a:lnTo>
                <a:arcTo wR="21600" hR="8923" stAng="3824190" swAng="-3670450"/>
                <a:lnTo>
                  <a:pt x="21474" y="9884"/>
                </a:lnTo>
                <a:arcTo wR="21600" hR="8923" stAng="-153740" swAng="-5246260"/>
                <a:close/>
              </a:path>
              <a:path fill="darkenLess" w="21600" h="21600">
                <a:moveTo>
                  <a:pt x="0" y="0"/>
                </a:moveTo>
                <a:arcTo wR="21600" hR="8923" stAng="-5400000" swAng="5400000"/>
                <a:lnTo>
                  <a:pt x="21600" y="10845"/>
                </a:lnTo>
                <a:arcTo wR="21600" hR="8923" stAng="0" swAng="-153740"/>
                <a:lnTo>
                  <a:pt x="21474" y="9884"/>
                </a:lnTo>
                <a:arcTo wR="21600" hR="8923" stAng="-153740" swAng="-5246260"/>
                <a:close/>
              </a:path>
            </a:pathLst>
          </a:custGeom>
          <a:solidFill>
            <a:srgbClr val="7aeb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AutoShape 16"/>
          <p:cNvSpPr/>
          <p:nvPr/>
        </p:nvSpPr>
        <p:spPr>
          <a:xfrm rot="19759800">
            <a:off x="6954480" y="3610080"/>
            <a:ext cx="1019160" cy="1923840"/>
          </a:xfrm>
          <a:custGeom>
            <a:avLst/>
            <a:gdLst>
              <a:gd name="textAreaLeft" fmla="*/ 136440 w 1019160"/>
              <a:gd name="textAreaRight" fmla="*/ 882720 w 1019160"/>
              <a:gd name="textAreaTop" fmla="*/ 397080 h 1923840"/>
              <a:gd name="textAreaBottom" fmla="*/ 1363320 h 19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23" stAng="-5400000" swAng="5400000"/>
                <a:lnTo>
                  <a:pt x="21600" y="10845"/>
                </a:lnTo>
                <a:arcTo wR="21600" hR="8923" stAng="0" swAng="3824190"/>
                <a:lnTo>
                  <a:pt x="4314" y="21420"/>
                </a:lnTo>
                <a:lnTo>
                  <a:pt x="0" y="18806"/>
                </a:lnTo>
                <a:lnTo>
                  <a:pt x="4314" y="15832"/>
                </a:lnTo>
                <a:lnTo>
                  <a:pt x="4314" y="17665"/>
                </a:lnTo>
                <a:arcTo wR="21600" hR="8923" stAng="3824190" swAng="-3670450"/>
                <a:lnTo>
                  <a:pt x="21474" y="9884"/>
                </a:lnTo>
                <a:arcTo wR="21600" hR="8923" stAng="-153740" swAng="-5246260"/>
                <a:close/>
              </a:path>
              <a:path fill="darkenLess" w="21600" h="21600">
                <a:moveTo>
                  <a:pt x="0" y="0"/>
                </a:moveTo>
                <a:arcTo wR="21600" hR="8923" stAng="-5400000" swAng="5400000"/>
                <a:lnTo>
                  <a:pt x="21600" y="10845"/>
                </a:lnTo>
                <a:arcTo wR="21600" hR="8923" stAng="0" swAng="-153740"/>
                <a:lnTo>
                  <a:pt x="21474" y="9884"/>
                </a:lnTo>
                <a:arcTo wR="21600" hR="8923" stAng="-153740" swAng="-5246260"/>
                <a:close/>
              </a:path>
            </a:pathLst>
          </a:custGeom>
          <a:solidFill>
            <a:srgbClr val="7aeb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AutoShape 17"/>
          <p:cNvSpPr/>
          <p:nvPr/>
        </p:nvSpPr>
        <p:spPr>
          <a:xfrm rot="19759800">
            <a:off x="7884720" y="5013000"/>
            <a:ext cx="927000" cy="1504800"/>
          </a:xfrm>
          <a:custGeom>
            <a:avLst/>
            <a:gdLst>
              <a:gd name="textAreaLeft" fmla="*/ 124200 w 927000"/>
              <a:gd name="textAreaRight" fmla="*/ 802800 w 927000"/>
              <a:gd name="textAreaTop" fmla="*/ 303480 h 1504800"/>
              <a:gd name="textAreaBottom" fmla="*/ 1070640 h 150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1" stAng="-5400000" swAng="5400000"/>
                <a:lnTo>
                  <a:pt x="21600" y="11010"/>
                </a:lnTo>
                <a:arcTo wR="21600" hR="8711" stAng="0" swAng="2506172"/>
                <a:lnTo>
                  <a:pt x="8889" y="20828"/>
                </a:lnTo>
                <a:lnTo>
                  <a:pt x="0" y="18572"/>
                </a:lnTo>
                <a:lnTo>
                  <a:pt x="8889" y="14771"/>
                </a:lnTo>
                <a:lnTo>
                  <a:pt x="8889" y="16650"/>
                </a:lnTo>
                <a:arcTo wR="21600" hR="8711" stAng="2506172" swAng="-2321786"/>
                <a:lnTo>
                  <a:pt x="21411" y="9861"/>
                </a:lnTo>
                <a:arcTo wR="21600" hR="8711" stAng="-184386" swAng="-5215614"/>
                <a:close/>
              </a:path>
              <a:path fill="darkenLess" w="21600" h="21600">
                <a:moveTo>
                  <a:pt x="0" y="0"/>
                </a:moveTo>
                <a:arcTo wR="21600" hR="8711" stAng="-5400000" swAng="5400000"/>
                <a:lnTo>
                  <a:pt x="21600" y="11010"/>
                </a:lnTo>
                <a:arcTo wR="21600" hR="8711" stAng="0" swAng="-184386"/>
                <a:lnTo>
                  <a:pt x="21411" y="9861"/>
                </a:lnTo>
                <a:arcTo wR="21600" hR="8711" stAng="-184386" swAng="-5215614"/>
                <a:close/>
              </a:path>
            </a:pathLst>
          </a:custGeom>
          <a:solidFill>
            <a:srgbClr val="7aeb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Компетенции учите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84000" y="198900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формацион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циа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льтурологиче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муникатив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ологиче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4"/>
          <p:cNvSpPr/>
          <p:nvPr/>
        </p:nvSpPr>
        <p:spPr>
          <a:xfrm>
            <a:off x="1187280" y="549360"/>
            <a:ext cx="6985080" cy="1079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циально-экономическая ситу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Oval 5"/>
          <p:cNvSpPr/>
          <p:nvPr/>
        </p:nvSpPr>
        <p:spPr>
          <a:xfrm>
            <a:off x="3203640" y="2565360"/>
            <a:ext cx="3097080" cy="79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1116000" y="4365720"/>
            <a:ext cx="7273800" cy="1873080"/>
          </a:xfrm>
          <a:prstGeom prst="roundRect">
            <a:avLst>
              <a:gd name="adj" fmla="val 32968"/>
            </a:avLst>
          </a:prstGeom>
          <a:solidFill>
            <a:srgbClr val="7aebf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«Готовность достойно встречать кажду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профессиональную ситуацию, бы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готовым к переподготовк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в быстро меняющихся услов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4356000" y="1628640"/>
            <a:ext cx="647640" cy="936720"/>
          </a:xfrm>
          <a:prstGeom prst="downArrow">
            <a:avLst>
              <a:gd name="adj1" fmla="val 50000"/>
              <a:gd name="adj2" fmla="val 36159"/>
            </a:avLst>
          </a:prstGeom>
          <a:solidFill>
            <a:srgbClr val="7aeb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4356000" y="3357720"/>
            <a:ext cx="647640" cy="1008000"/>
          </a:xfrm>
          <a:prstGeom prst="downArrow">
            <a:avLst>
              <a:gd name="adj1" fmla="val 50000"/>
              <a:gd name="adj2" fmla="val 38911"/>
            </a:avLst>
          </a:prstGeom>
          <a:solidFill>
            <a:srgbClr val="7aeb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607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5ffff"/>
                </a:solidFill>
                <a:uFillTx/>
                <a:latin typeface="Tahoma"/>
              </a:rPr>
              <a:t>САМООБРАЗОВАНИЕ 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целенаправленная познавательная деятельность, управляемая самой личностью; приобретение систематических знаний в какой-либо области науки, техники, культуры, политической жизни и т.п. В основе самообразования - интерес занимающегося в органическом сочетании с самостоятельным изучением материала.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амообразование - потребност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29242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яется добровольн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вляется самим человеко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ознается учителем ее необходим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амообразо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2411280" y="2133720"/>
            <a:ext cx="4392720" cy="1152360"/>
          </a:xfrm>
          <a:prstGeom prst="roundRect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ворчеств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403280" y="4941720"/>
            <a:ext cx="6408720" cy="1152720"/>
          </a:xfrm>
          <a:prstGeom prst="roundRect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флекс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1979640" y="3573360"/>
            <a:ext cx="5184720" cy="1152720"/>
          </a:xfrm>
          <a:prstGeom prst="roundRect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пы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7"/>
          <p:cNvSpPr/>
          <p:nvPr/>
        </p:nvSpPr>
        <p:spPr>
          <a:xfrm rot="5400000">
            <a:off x="4319640" y="1520640"/>
            <a:ext cx="504720" cy="432000"/>
          </a:xfrm>
          <a:prstGeom prst="pi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8:24:34Z</dcterms:created>
  <dc:creator>Ирина</dc:creator>
  <dc:description/>
  <dc:language>en-US</dc:language>
  <cp:lastModifiedBy>ВАаЛ</cp:lastModifiedBy>
  <dcterms:modified xsi:type="dcterms:W3CDTF">2019-01-07T15:19:11Z</dcterms:modified>
  <cp:revision>3</cp:revision>
  <dc:subject/>
  <dc:title>Самообразование учителя как условие личностного и профессионального роста</dc:title>
</cp:coreProperties>
</file>