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3E0-8EB7-4925-94CB-BFA709DB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DEB-C6BC-44B7-B2EE-6678E481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968-8FF4-435A-AE0A-4878A140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BDF-8BDB-48A6-9E5B-0FE8C29C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C042-6247-43D5-A98B-E00B667A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BA4F-026D-47A4-ADEA-168DD379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AE92-1ABC-44A2-974E-841F2A77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FC59-DF83-490E-A0ED-B36BFFA6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F492-0227-48C2-97B0-28F63A90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25FF-33C8-470E-982C-06CB7012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B523-4912-4D54-B611-F85A2289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057-7B6C-44FF-812C-642877C6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A69B-8AAD-40E3-A153-9F808911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D193-D55E-43FD-9B7F-BE4CF293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BB08-D6DB-4FB1-95DD-42C3559B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5C03-1D59-4E5B-800C-92126CA6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CBCE-A882-49A7-833A-B827581B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124-B859-4EAB-8FEE-BC8B799D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770-CA05-4FAB-9109-1CC4EC98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F23-3E60-463E-9957-ADBBA66F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988-69AD-4CDA-B910-A99BC06A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61A-6878-43FD-A1AC-D7CF7457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C98-2667-4B7F-BB81-6C57A57E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5418-BBA3-4A67-A69D-2CDF88C5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28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5E21-A7B1-4F5A-80B5-25FC69FE562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28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4192-BAAC-4647-A547-4EE7059A0599}" type="slidenum">
              <a:rPr b="0" lang="ru-RU" sz="1200" spc="-1" strike="noStrike">
                <a:solidFill>
                  <a:srgbClr val="0033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a2500"/>
                </a:solidFill>
                <a:latin typeface="Garamond"/>
              </a:rPr>
              <a:t>РАЗВИТИЕ </a:t>
            </a:r>
            <a:br>
              <a:rPr sz="4000"/>
            </a:br>
            <a:r>
              <a:rPr b="1" lang="ru-RU" sz="4000" spc="-1" strike="noStrike">
                <a:solidFill>
                  <a:srgbClr val="9a2500"/>
                </a:solidFill>
                <a:latin typeface="Garamond"/>
              </a:rPr>
              <a:t>СОЦИАЛЬНОГО ПАРТНЁРСТВА</a:t>
            </a:r>
            <a:br>
              <a:rPr sz="4000"/>
            </a:br>
            <a:r>
              <a:rPr b="1" lang="ru-RU" sz="1100" spc="-1" strike="noStrike">
                <a:solidFill>
                  <a:srgbClr val="9a2500"/>
                </a:solidFill>
                <a:latin typeface="Garamond"/>
              </a:rPr>
              <a:t>  </a:t>
            </a:r>
            <a:br>
              <a:rPr sz="4000"/>
            </a:br>
            <a:r>
              <a:rPr b="1" lang="ru-RU" sz="800" spc="-1" strike="noStrike">
                <a:solidFill>
                  <a:srgbClr val="006600"/>
                </a:solidFill>
                <a:latin typeface="Garamond"/>
              </a:rPr>
              <a:t>  </a:t>
            </a:r>
            <a:br>
              <a:rPr sz="4000"/>
            </a:b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КАК  </a:t>
            </a:r>
            <a:br>
              <a:rPr sz="2800"/>
            </a:br>
            <a:r>
              <a:rPr b="1" lang="ru-RU" sz="2800" spc="-1" strike="noStrike">
                <a:solidFill>
                  <a:srgbClr val="006100"/>
                </a:solidFill>
                <a:latin typeface="Garamond"/>
              </a:rPr>
              <a:t>ИННОВАЦИОННОГО  НАПРАВЛЕНИЯ </a:t>
            </a:r>
            <a:r>
              <a:rPr b="1" lang="ru-RU" sz="2400" spc="-1" strike="noStrike">
                <a:solidFill>
                  <a:srgbClr val="003300"/>
                </a:solidFill>
                <a:latin typeface="Garamond"/>
              </a:rPr>
              <a:t>ВОСПИТАТЕЛЬНЫХ СИСТЕМ ОБРАЗОВАТЕЛЬНЫХ ОРГАНИЗАЦИЙ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И </a:t>
            </a:r>
            <a:br>
              <a:rPr sz="2800"/>
            </a:br>
            <a:r>
              <a:rPr b="1" lang="ru-RU" sz="2800" spc="-1" strike="noStrike">
                <a:solidFill>
                  <a:srgbClr val="006100"/>
                </a:solidFill>
                <a:latin typeface="Garamond"/>
              </a:rPr>
              <a:t>СРЕДСТВО ПОВЫШЕНИЯ КАЧЕСТВА </a:t>
            </a: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ОБРАЗОВАНИЯ</a:t>
            </a:r>
            <a:endParaRPr b="0" lang="en-US" sz="28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057040" y="52574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МО классных руководителей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2 апреля 2017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82800"/>
                </a:solidFill>
                <a:uFillTx/>
                <a:latin typeface="Garamond"/>
              </a:rPr>
              <a:t>УСЛОВИЯ</a:t>
            </a: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    УСПЕШНОГО 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СОЦИАЛЬНОГО    ПАРТНЁРСТВА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3712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Развитие организационной культуры партнеров и культуры партнерских отношений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Эффективная система контроля, в том числе в области финансирования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Широкое информационное обеспечение деятельности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Функционирование механизма саморазвития партнерских организаций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Сформированная стратегия организаций, предполагающая именно партнерские взаимоотношения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82800"/>
                </a:solidFill>
                <a:uFillTx/>
                <a:latin typeface="Garamond"/>
              </a:rPr>
              <a:t>СОСТСТАВЛЯЮЩИЕ   КОМПОНЕНТЫ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СТРАТЕГИИ  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СОЦИАЛЬНОГО  ПАРТНЁРСТВА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905120"/>
            <a:ext cx="84582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aramond"/>
              </a:rPr>
              <a:t>Партнерское мышление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aramond"/>
              </a:rPr>
              <a:t>Взаимное дополнение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aramond"/>
              </a:rPr>
              <a:t>Долевое участие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aramond"/>
              </a:rPr>
              <a:t>Разнообразие форм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6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16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82800"/>
                </a:solidFill>
                <a:uFillTx/>
                <a:latin typeface="Garamond"/>
              </a:rPr>
              <a:t>УРОВНИ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СОЦИАЛЬНОГО   ПАРТНЁРСТВА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240" y="15998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На основе развития отношений: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НАЧАЛЬНЫЙ, СРЕДНИЙ, ВЫСШИЙ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На основе охвата субъектов                       (по масштабности):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НУТРИ КОЛЛЕКТИВА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НУТРИ СИСТЕМЫ ОБРАЗОВАНИЯ,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С ДРУГИМИ  СОЦИАЛЬНЫМИ  ИНСТИТУТАМИ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052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2.   Из опыта социального партнёрства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(Бугурусланское отделение ВДОО «Интелеект будущего»: Людмила Валерьевна Т.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Бугурусланский краеведческий музей: Евгения Владимировна М.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Центральная библиотека: Ольга Леонидовна  И.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0520" y="10666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3.   Содержание и стиль взаимодействия партнёров. Подходы к развитию социального партнёрства в сфере образования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(МБОУ СОШ имени М.И.Калинина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0520" y="10666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4.   Формы социального партнёрства в сфере образования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          </a:t>
            </a: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(МБОУ СОШ №2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ЦЕЛЬ   </a:t>
            </a:r>
            <a:br>
              <a:rPr sz="3200"/>
            </a:br>
            <a:r>
              <a:rPr b="1" lang="ru-RU" sz="3600" spc="-1" strike="noStrike">
                <a:solidFill>
                  <a:srgbClr val="003300"/>
                </a:solidFill>
                <a:latin typeface="Garamond"/>
              </a:rPr>
              <a:t>ИЗУЧИТЬ </a:t>
            </a:r>
            <a:br>
              <a:rPr sz="3600"/>
            </a:br>
            <a:r>
              <a:rPr b="1" lang="ru-RU" sz="3600" spc="-1" strike="noStrike">
                <a:solidFill>
                  <a:srgbClr val="003300"/>
                </a:solidFill>
                <a:latin typeface="Garamond"/>
              </a:rPr>
              <a:t>ОСНОВНЫЕ ХАРАКТЕРИСТИКИ, </a:t>
            </a:r>
            <a:br>
              <a:rPr sz="3600"/>
            </a:br>
            <a:r>
              <a:rPr b="1" lang="ru-RU" sz="3600" spc="-1" strike="noStrike">
                <a:solidFill>
                  <a:srgbClr val="003300"/>
                </a:solidFill>
                <a:latin typeface="Garamond"/>
              </a:rPr>
              <a:t>ЗАДАЧИ, </a:t>
            </a:r>
            <a:br>
              <a:rPr sz="3600"/>
            </a:br>
            <a:r>
              <a:rPr b="1" lang="ru-RU" sz="3600" spc="-1" strike="noStrike">
                <a:solidFill>
                  <a:srgbClr val="003300"/>
                </a:solidFill>
                <a:latin typeface="Garamond"/>
              </a:rPr>
              <a:t>ПРИНЦИПЫ  И  ФОРМЫ </a:t>
            </a:r>
            <a:br>
              <a:rPr sz="3600"/>
            </a:br>
            <a:r>
              <a:rPr b="1" lang="ru-RU" sz="3600" spc="-1" strike="noStrike">
                <a:solidFill>
                  <a:srgbClr val="003300"/>
                </a:solidFill>
                <a:latin typeface="Garamond"/>
              </a:rPr>
              <a:t>СОЦИАЛЬНОГО ПАРТНЁРСТВА,</a:t>
            </a: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 СПОСОБСТВУЮЩИЕ ПОЛУЧЕНИЮ ЭФФЕКТИВНОГО ВОСПИТАТЕЛЬНОГО РЕЗУЛЬТАТА.</a:t>
            </a:r>
            <a:r>
              <a:rPr b="1" lang="ru-RU" sz="2800" spc="-1" strike="noStrike">
                <a:solidFill>
                  <a:srgbClr val="a828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a828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ПЛАН  РАБОТЫ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52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1.   У</a:t>
            </a: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сл</a:t>
            </a:r>
            <a:r>
              <a:rPr b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овия, необходимые для реализации успешного социального партнёрства. Составляющие компоненты стратегии социального партнёрства в сфере образования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73040" indent="-4730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(МАОУ «Гимназия №1»,Нина Николаевна Ш.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2.   Из опыта социального партнёрства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73040" indent="-4730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(Бугурусланское отделение ВДОО «Интелеект будущего»: Людмила Валерьевна Т.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73040" indent="-4730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Бугурусланский краеведческий музей: Евгения Владимировна М.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73040" indent="-4730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Центральная библиотека: Ольга Леонидовна  И.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ПЛАН  РАБОТЫ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520" y="10666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3.   Содержание и стиль взаимодействия партнёров. Подходы к развитию социального партнёрства в сфере образования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(МБОУ СОШ имени М.И.Калинина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4.   Формы социального партнёрства в сфере образования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          </a:t>
            </a:r>
            <a:r>
              <a:rPr b="0" i="1" lang="ru-RU" sz="2800" spc="-1" strike="noStrike">
                <a:solidFill>
                  <a:srgbClr val="003300"/>
                </a:solidFill>
                <a:latin typeface="Garamond"/>
                <a:ea typeface="Times New Roman"/>
              </a:rPr>
              <a:t>(МБОУ СОШ №2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СОЦИАЛЬНОЕ   ПАРТНЁРСТВО –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СИСТЕМА  ВЗАИМОДЕЙСТВИЯ </a:t>
            </a:r>
            <a:br>
              <a:rPr sz="2800"/>
            </a:br>
            <a:r>
              <a:rPr b="1" lang="ru-RU" sz="4000" spc="-1" strike="noStrike">
                <a:solidFill>
                  <a:srgbClr val="003300"/>
                </a:solidFill>
                <a:latin typeface="Garamond"/>
              </a:rPr>
              <a:t>образовательной организации с представителями окружающего социума</a:t>
            </a:r>
            <a:r>
              <a:rPr b="0" lang="ru-RU" sz="4000" spc="-1" strike="noStrike">
                <a:solidFill>
                  <a:srgbClr val="003300"/>
                </a:solidFill>
                <a:latin typeface="Garamond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a828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ГЛАВНЫЕ 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 СОЦИАЛЬНЫЕ  ПАРТНЁРЫ </a:t>
            </a:r>
            <a:br>
              <a:rPr sz="2800"/>
            </a:br>
            <a:r>
              <a:rPr b="1" lang="ru-RU" sz="2800" spc="-1" strike="noStrike">
                <a:solidFill>
                  <a:srgbClr val="a82800"/>
                </a:solidFill>
                <a:latin typeface="Garamond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-РОДИТЕЛИ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-</a:t>
            </a:r>
            <a:r>
              <a:rPr b="1" lang="ru-RU" sz="3200" spc="-1" strike="noStrike">
                <a:solidFill>
                  <a:srgbClr val="003300"/>
                </a:solidFill>
                <a:latin typeface="Garamond"/>
              </a:rPr>
              <a:t>ПРЕДСТАВИТЕЛИ сторонних учреждений, организаций и предприятий</a:t>
            </a:r>
            <a:r>
              <a:rPr b="0" lang="ru-RU" sz="3200" spc="-1" strike="noStrike">
                <a:solidFill>
                  <a:srgbClr val="003300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82800"/>
                </a:solidFill>
                <a:uFillTx/>
                <a:latin typeface="Garamond"/>
              </a:rPr>
              <a:t>РЕЗУЛЬТАТ</a:t>
            </a: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СОЦИАЛЬНОГО    ПАРТНЁРСТВА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-  </a:t>
            </a:r>
            <a:r>
              <a:rPr b="1" lang="ru-RU" sz="3200" spc="-1" strike="noStrike">
                <a:solidFill>
                  <a:srgbClr val="003300"/>
                </a:solidFill>
                <a:latin typeface="Garamond"/>
              </a:rPr>
              <a:t>создание благоприятных условий для самореализации учащихся путем взаимодействия и сотрудничества всех сторон, участвующих в процессе воспитания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ЦЕЛЬ 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СОЦИАЛЬНОГО  ПАРТЁРСТВА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aramond"/>
              </a:rPr>
              <a:t>обеспечение единого подхода к реализации государственной политики и стратегии развития школы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aramond"/>
              </a:rPr>
              <a:t>организация мониторинга деятельности школы по комплексу вопросов (пожарная безопасность, Роспотребнадзор, выполнение государственного стандарта и др.)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aramond"/>
              </a:rPr>
              <a:t>обеспечение скоординированной деятельности по реализации городских и школьных комплексных программ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aramond"/>
              </a:rPr>
              <a:t>взаимодействие в разработке и реализации педагогических инноваций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Garamond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82800"/>
                </a:solidFill>
                <a:uFillTx/>
                <a:latin typeface="Garamond"/>
              </a:rPr>
              <a:t>ЗАДАЧИ </a:t>
            </a: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СОЦИАЛЬНОГО   ПАРТНЁРСТВА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привлечение ресурсов общества для развития образовательной сферы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направление ресурсов образования на развитие совместной деятельности любого образовательного учреждения, его общественной самоорганизации и самоуправления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накопление и передача жизненного опыта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aramond"/>
              </a:rPr>
              <a:t>…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20:05:35Z</dcterms:created>
  <dc:creator>Win</dc:creator>
  <dc:description/>
  <dc:language>en-US</dc:language>
  <cp:lastModifiedBy>Нина</cp:lastModifiedBy>
  <dcterms:modified xsi:type="dcterms:W3CDTF">2018-11-25T10:36:56Z</dcterms:modified>
  <cp:revision>1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