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A99F-CDDC-4170-B388-087E5F0F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367-721E-46B0-A56E-B4D80C09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362-4687-4E24-A8A7-6008AFC5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1DF8-84A3-4CEC-9074-38A99D90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F8BB-86DC-49BC-933A-0313E3C2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8022-CB2B-4350-83C1-94B38407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1661-A40F-4AD1-8DEF-EB265C0E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0AC3-2712-4FC9-B199-8AC397E4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114C-2CC5-4407-9887-E083D241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4BB7-9F04-4149-8EE6-CBF7FF7D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A2BA-D721-4E88-8CF7-6BAC06E4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778E-32CF-4CF7-9B39-4DBE0CD6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636B-7ED4-41F9-8338-26B60457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EFE5-4C2B-457D-AAEB-47A28E9E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D86B-9EDF-4E26-87B2-5DD9242A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116D-151B-4D6D-BA16-6F59F902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40C2-F37D-4186-8919-BB1828AB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0F3D-90B6-4495-BC10-33AC1AE7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A66-39C8-4081-821B-BD862165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C72-B5FF-4F40-90A7-EF89892C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90D-1ED1-4279-8261-21B23CA5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5769-F16D-4399-8257-E5D416FC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8264-D6CB-443B-BF37-B0D95AB6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55D-CCD4-47D5-B724-F4FFAF27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28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4A2D-1D4E-4CDA-BEE7-6068AE610CA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28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36C8-1C51-451F-B0ED-5364A101F29B}" type="slidenum">
              <a:rPr b="0" lang="ru-RU" sz="1200" spc="-1" strike="noStrike">
                <a:solidFill>
                  <a:srgbClr val="0033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a2500"/>
                </a:solidFill>
                <a:latin typeface="Garamond"/>
              </a:rPr>
              <a:t>РАЗВИТИЕ </a:t>
            </a:r>
            <a:br>
              <a:rPr sz="4000"/>
            </a:br>
            <a:r>
              <a:rPr b="1" lang="ru-RU" sz="4000" spc="-1" strike="noStrike">
                <a:solidFill>
                  <a:srgbClr val="9a2500"/>
                </a:solidFill>
                <a:latin typeface="Garamond"/>
              </a:rPr>
              <a:t>СОЦИАЛЬНОГО ПАРТНЁРСТВА</a:t>
            </a:r>
            <a:br>
              <a:rPr sz="4000"/>
            </a:br>
            <a:r>
              <a:rPr b="1" lang="ru-RU" sz="1100" spc="-1" strike="noStrike">
                <a:solidFill>
                  <a:srgbClr val="9a2500"/>
                </a:solidFill>
                <a:latin typeface="Garamond"/>
              </a:rPr>
              <a:t>  </a:t>
            </a:r>
            <a:br>
              <a:rPr sz="4000"/>
            </a:br>
            <a:r>
              <a:rPr b="1" lang="ru-RU" sz="800" spc="-1" strike="noStrike">
                <a:solidFill>
                  <a:srgbClr val="006600"/>
                </a:solidFill>
                <a:latin typeface="Garamond"/>
              </a:rPr>
              <a:t>  </a:t>
            </a:r>
            <a:br>
              <a:rPr sz="4000"/>
            </a:b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КАК  </a:t>
            </a:r>
            <a:br>
              <a:rPr sz="2800"/>
            </a:br>
            <a:r>
              <a:rPr b="1" lang="ru-RU" sz="2800" spc="-1" strike="noStrike">
                <a:solidFill>
                  <a:srgbClr val="006100"/>
                </a:solidFill>
                <a:latin typeface="Garamond"/>
              </a:rPr>
              <a:t>ИННОВАЦИОННОГО  НАПРАВЛЕНИЯ </a:t>
            </a:r>
            <a:r>
              <a:rPr b="1" lang="ru-RU" sz="2400" spc="-1" strike="noStrike">
                <a:solidFill>
                  <a:srgbClr val="003300"/>
                </a:solidFill>
                <a:latin typeface="Garamond"/>
              </a:rPr>
              <a:t>ВОСПИТАТЕЛЬНЫХ СИСТЕМ ОБРАЗОВАТЕЛЬНЫХ ОРГАНИЗАЦИЙ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И </a:t>
            </a:r>
            <a:br>
              <a:rPr sz="2800"/>
            </a:br>
            <a:r>
              <a:rPr b="1" lang="ru-RU" sz="2800" spc="-1" strike="noStrike">
                <a:solidFill>
                  <a:srgbClr val="006100"/>
                </a:solidFill>
                <a:latin typeface="Garamond"/>
              </a:rPr>
              <a:t>СРЕДСТВО ПОВЫШЕНИЯ КАЧЕСТВА </a:t>
            </a: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ОБРАЗОВАНИЯ</a:t>
            </a:r>
            <a:endParaRPr b="0" lang="en-US" sz="28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057040" y="52574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МО классных руководителей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2 апреля 2017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82800"/>
                </a:solidFill>
                <a:uFillTx/>
                <a:latin typeface="Garamond"/>
              </a:rPr>
              <a:t>УСЛОВИЯ</a:t>
            </a: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    УСПЕШНОГО </a:t>
            </a:r>
            <a:br>
              <a:rPr sz="3200"/>
            </a:b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СОЦИАЛЬНОГО    ПАРТНЁРСТВА</a:t>
            </a:r>
            <a:endParaRPr b="0" lang="en-US" sz="3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3712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Развитие организационной культуры партнеров и культуры партнерских отношений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Эффективная система контроля, в том числе в области финансирования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Широкое информационное обеспечение деятельности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Функционирование механизма саморазвития партнерских организаций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Сформированная стратегия организаций, предполагающая именно партнерские взаимоотношения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82800"/>
                </a:solidFill>
                <a:uFillTx/>
                <a:latin typeface="Garamond"/>
              </a:rPr>
              <a:t>СОСТСТАВЛЯЮЩИЕ   КОМПОНЕНТЫ</a:t>
            </a:r>
            <a:br>
              <a:rPr sz="3200"/>
            </a:b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СТРАТЕГИИ  </a:t>
            </a:r>
            <a:br>
              <a:rPr sz="3200"/>
            </a:b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СОЦИАЛЬНОГО  ПАРТНЁРСТВА</a:t>
            </a:r>
            <a:endParaRPr b="0" lang="en-US" sz="3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905120"/>
            <a:ext cx="84582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Garamond"/>
              </a:rPr>
              <a:t>Партнерское мышление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Garamond"/>
              </a:rPr>
              <a:t>Взаимное дополнение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Garamond"/>
              </a:rPr>
              <a:t>Долевое участие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Garamond"/>
              </a:rPr>
              <a:t>Разнообразие форм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6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16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82800"/>
                </a:solidFill>
                <a:uFillTx/>
                <a:latin typeface="Garamond"/>
              </a:rPr>
              <a:t>УРОВНИ</a:t>
            </a:r>
            <a:br>
              <a:rPr sz="3200"/>
            </a:b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СОЦИАЛЬНОГО   ПАРТНЁРСТВА</a:t>
            </a:r>
            <a:endParaRPr b="0" lang="en-US" sz="3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240" y="15998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На основе развития отношений: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НАЧАЛЬНЫЙ, СРЕДНИЙ, ВЫСШИЙ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На основе охвата субъектов                       (по масштабности):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НУТРИ КОЛЛЕКТИВА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НУТРИ СИСТЕМЫ ОБРАЗОВАНИЯ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С ДРУГИМИ  СОЦИАЛЬНЫМИ  ИНСТИТУТАМИ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0520" y="10666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2.   Из опыта социального партнёрства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(Бугурусланское отделение ВДОО «Интелеект будущего»: Людмила Валерьевна Т.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Бугурусланский краеведческий музей: Евгения Владимировна М.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Центральная библиотека: Ольга Леонидовна  И.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0520" y="106668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3.   Содержание и стиль взаимодействия партнёров. Подходы к развитию социального партнёрства в сфере образования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      </a:t>
            </a: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(МБОУ СОШ имени М.И.Калинина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80520" y="106668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4.   Формы социального партнёрства в сфере образования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          </a:t>
            </a: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(МБОУ СОШ №2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ЦЕЛЬ   </a:t>
            </a:r>
            <a:br>
              <a:rPr sz="3200"/>
            </a:br>
            <a:r>
              <a:rPr b="1" lang="ru-RU" sz="3600" spc="-1" strike="noStrike">
                <a:solidFill>
                  <a:srgbClr val="003300"/>
                </a:solidFill>
                <a:latin typeface="Garamond"/>
              </a:rPr>
              <a:t>ИЗУЧИТЬ </a:t>
            </a:r>
            <a:br>
              <a:rPr sz="3600"/>
            </a:br>
            <a:r>
              <a:rPr b="1" lang="ru-RU" sz="3600" spc="-1" strike="noStrike">
                <a:solidFill>
                  <a:srgbClr val="003300"/>
                </a:solidFill>
                <a:latin typeface="Garamond"/>
              </a:rPr>
              <a:t>ОСНОВНЫЕ ХАРАКТЕРИСТИКИ, </a:t>
            </a:r>
            <a:br>
              <a:rPr sz="3600"/>
            </a:br>
            <a:r>
              <a:rPr b="1" lang="ru-RU" sz="3600" spc="-1" strike="noStrike">
                <a:solidFill>
                  <a:srgbClr val="003300"/>
                </a:solidFill>
                <a:latin typeface="Garamond"/>
              </a:rPr>
              <a:t>ЗАДАЧИ, </a:t>
            </a:r>
            <a:br>
              <a:rPr sz="3600"/>
            </a:br>
            <a:r>
              <a:rPr b="1" lang="ru-RU" sz="3600" spc="-1" strike="noStrike">
                <a:solidFill>
                  <a:srgbClr val="003300"/>
                </a:solidFill>
                <a:latin typeface="Garamond"/>
              </a:rPr>
              <a:t>ПРИНЦИПЫ  И  ФОРМЫ </a:t>
            </a:r>
            <a:br>
              <a:rPr sz="3600"/>
            </a:br>
            <a:r>
              <a:rPr b="1" lang="ru-RU" sz="3600" spc="-1" strike="noStrike">
                <a:solidFill>
                  <a:srgbClr val="003300"/>
                </a:solidFill>
                <a:latin typeface="Garamond"/>
              </a:rPr>
              <a:t>СОЦИАЛЬНОГО ПАРТНЁРСТВА,</a:t>
            </a: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 СПОСОБСТВУЮЩИЕ ПОЛУЧЕНИЮ ЭФФЕКТИВНОГО ВОСПИТАТЕЛЬНОГО РЕЗУЛЬТАТА.</a:t>
            </a:r>
            <a:r>
              <a:rPr b="1" lang="ru-RU" sz="2800" spc="-1" strike="noStrike">
                <a:solidFill>
                  <a:srgbClr val="a828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a828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ПЛАН  РАБОТЫ</a:t>
            </a:r>
            <a:endParaRPr b="0" lang="en-US" sz="3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520" y="10666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1.   У</a:t>
            </a: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сл</a:t>
            </a:r>
            <a:r>
              <a:rPr b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овия, необходимые для реализации успешного социального партнёрства. Составляющие компоненты стратегии социального партнёрства в сфере образования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73040" indent="-4730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(МАОУ «Гимназия №1»,Нина Николаевна Ш.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2.   Из опыта социального партнёрства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73040" indent="-4730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(Бугурусланское отделение ВДОО «Интелеект будущего»: Людмила Валерьевна Т.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73040" indent="-4730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Бугурусланский краеведческий музей: Евгения Владимировна М.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73040" indent="-4730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Центральная библиотека: Ольга Леонидовна  И.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ПЛАН  РАБОТЫ</a:t>
            </a:r>
            <a:endParaRPr b="0" lang="en-US" sz="3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520" y="106668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3.   Содержание и стиль взаимодействия партнёров. Подходы к развитию социального партнёрства в сфере образования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      </a:t>
            </a: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(МБОУ СОШ имени М.И.Калинина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4.   Формы социального партнёрства в сфере образования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          </a:t>
            </a: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(МБОУ СОШ №2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СОЦИАЛЬНОЕ   ПАРТНЁРСТВО –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СИСТЕМА  ВЗАИМОДЕЙСТВИЯ </a:t>
            </a:r>
            <a:br>
              <a:rPr sz="2800"/>
            </a:br>
            <a:r>
              <a:rPr b="1" lang="ru-RU" sz="4000" spc="-1" strike="noStrike">
                <a:solidFill>
                  <a:srgbClr val="003300"/>
                </a:solidFill>
                <a:latin typeface="Garamond"/>
              </a:rPr>
              <a:t>образовательной организации с представителями окружающего социума</a:t>
            </a:r>
            <a:r>
              <a:rPr b="0" lang="ru-RU" sz="4000" spc="-1" strike="noStrike">
                <a:solidFill>
                  <a:srgbClr val="003300"/>
                </a:solidFill>
                <a:latin typeface="Garamond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a828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ГЛАВНЫЕ </a:t>
            </a:r>
            <a:br>
              <a:rPr sz="3200"/>
            </a:b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 СОЦИАЛЬНЫЕ  ПАРТНЁРЫ </a:t>
            </a:r>
            <a:br>
              <a:rPr sz="2800"/>
            </a:br>
            <a:r>
              <a:rPr b="1" lang="ru-RU" sz="2800" spc="-1" strike="noStrike">
                <a:solidFill>
                  <a:srgbClr val="a82800"/>
                </a:solidFill>
                <a:latin typeface="Garamond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-РОДИТЕЛИ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-</a:t>
            </a:r>
            <a:r>
              <a:rPr b="1" lang="ru-RU" sz="3200" spc="-1" strike="noStrike">
                <a:solidFill>
                  <a:srgbClr val="003300"/>
                </a:solidFill>
                <a:latin typeface="Garamond"/>
              </a:rPr>
              <a:t>ПРЕДСТАВИТЕЛИ сторонних учреждений, организаций и предприятий</a:t>
            </a:r>
            <a:r>
              <a:rPr b="0" lang="ru-RU" sz="3200" spc="-1" strike="noStrike">
                <a:solidFill>
                  <a:srgbClr val="003300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a828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82800"/>
                </a:solidFill>
                <a:uFillTx/>
                <a:latin typeface="Garamond"/>
              </a:rPr>
              <a:t>РЕЗУЛЬТАТ</a:t>
            </a: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СОЦИАЛЬНОГО    ПАРТНЁРСТВА</a:t>
            </a:r>
            <a:endParaRPr b="0" lang="en-US" sz="3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-  </a:t>
            </a:r>
            <a:r>
              <a:rPr b="1" lang="ru-RU" sz="3200" spc="-1" strike="noStrike">
                <a:solidFill>
                  <a:srgbClr val="003300"/>
                </a:solidFill>
                <a:latin typeface="Garamond"/>
              </a:rPr>
              <a:t>создание благоприятных условий для самореализации учащихся путем взаимодействия и сотрудничества всех сторон, участвующих в процессе воспитания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ЦЕЛЬ </a:t>
            </a:r>
            <a:br>
              <a:rPr sz="3200"/>
            </a:b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СОЦИАЛЬНОГО  ПАРТЁРСТВА</a:t>
            </a:r>
            <a:endParaRPr b="0" lang="en-US" sz="3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Garamond"/>
              </a:rPr>
              <a:t>обеспечение единого подхода к реализации государственной политики и стратегии развития школы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Garamond"/>
              </a:rPr>
              <a:t>организация мониторинга деятельности школы по комплексу вопросов (пожарная безопасность, Роспотребнадзор, выполнение государственного стандарта и др.)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Garamond"/>
              </a:rPr>
              <a:t>обеспечение скоординированной деятельности по реализации городских и школьных комплексных программ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Garamond"/>
              </a:rPr>
              <a:t>взаимодействие в разработке и реализации педагогических инноваций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82800"/>
                </a:solidFill>
                <a:uFillTx/>
                <a:latin typeface="Garamond"/>
              </a:rPr>
              <a:t>ЗАДАЧИ </a:t>
            </a: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СОЦИАЛЬНОГО   ПАРТНЁРСТВА</a:t>
            </a:r>
            <a:endParaRPr b="0" lang="en-US" sz="3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привлечение ресурсов общества для развития образовательной сферы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направление ресурсов образования на развитие совместной деятельности любого образовательного учреждения, его общественной самоорганизации и самоуправления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накопление и передача жизненного опыта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…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20:05:35Z</dcterms:created>
  <dc:creator>Win</dc:creator>
  <dc:description/>
  <dc:language>en-US</dc:language>
  <cp:lastModifiedBy>Нина</cp:lastModifiedBy>
  <dcterms:modified xsi:type="dcterms:W3CDTF">2018-11-25T10:36:56Z</dcterms:modified>
  <cp:revision>1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