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5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2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169-59CC-4DE0-82BF-08733D58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621-7F13-44CD-867A-DC6AB44F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CC5-13AB-418C-BF56-059550C7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517-70CC-4BDC-9EA8-991896C4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A769-F562-4E6A-BC05-0894A889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6ED9-2F47-43F5-BA42-9A8DA814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F2E1-F202-494B-AC2C-ABD18F2F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A22-1A8F-41E1-967A-573EC84A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DEB-09F5-439D-9A91-84397C4B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7AC3-6B94-43FD-BD98-CDA2323A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C1B6-608C-42A6-A802-640B9A8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3FC-5BFF-4B34-B1CE-77CFB305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E0F4-1C7C-468B-81A2-81D7DF39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6B2D-3257-4154-9D91-004C17BD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CAF0-227A-4FA9-816A-7CE559E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71FF-23A8-4811-82BE-D3DA217A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548B-313D-4838-A31D-A5FEA984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8CBA3-FD75-4667-8657-7EA310F3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DC6C-EF38-415B-B4A5-2827B40A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810F-01D9-4007-B901-BF375328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6995-E30C-4DCB-8B68-D3B137E2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DD69-8044-4E05-B45F-DB69E9AF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57D-F1B7-4294-97B5-7E19BF6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A84C-81B1-471D-8633-46ACE0F7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473E-3521-44B7-8609-54BC3D5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EF84-3F95-43E0-8876-CBADF7A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34AD-666D-499D-B512-1DCF0FA9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1975-E292-4AA3-9BEB-105E2378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9CBD-B7A7-445A-8B1C-A71F26F3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4510-6ADF-4F11-9701-27FB7A21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F4A0-24EB-4DFD-A7EB-67005105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1344-50EA-4307-9B2A-72F7B81E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C3EE-1585-4172-89DB-48B6F2CD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D85-ED2B-4A3E-8771-5859CDB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6270-774B-4A37-B6D4-5386313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834BF-887D-4BCE-B5CC-AB76FBEE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3B633-8A0D-450E-9A6F-80A99E9F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56FA-90AD-40E2-B23C-78399CD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76B3-AE15-4DC7-95D0-6E29B39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0BF3-6A97-418C-B222-EB483E4F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64F87-F53C-4388-AA62-6B18AB59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991ED-1074-403C-8D42-F5A9A4F0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DFBD-04D9-4BDE-93E4-B954C98C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4BA-8109-44C2-934F-07E206C3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0F1-20E7-4A7E-8CA3-DB4D53CD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D81-C26F-45F2-A979-E2B56A3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042-BA25-4B73-A89C-76AEE33B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AEE-DE50-47E5-893F-658CED80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9CD2-4BD3-435C-BC6A-54B4E71ED3D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276B-9C36-4CDD-BE33-0784F3C3CA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060E-081F-4B92-87A6-79655C0AE48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BA04-DA8D-4C1F-831D-AB765948EB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5.xml"/><Relationship Id="rId15" Type="http://schemas.openxmlformats.org/officeDocument/2006/relationships/slide" Target="slide26.xml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122400" y="249120"/>
            <a:ext cx="8856360" cy="5297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786040" y="58579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учащихся 8-9 клас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6480" y="1932120"/>
            <a:ext cx="7785360" cy="3073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Admin\Local Settings\Temporary Internet Files\Content.IE5\QY7OKCXE\MCj02334300000[1].wmf"/>
          <p:cNvPicPr/>
          <p:nvPr/>
        </p:nvPicPr>
        <p:blipFill>
          <a:blip r:embed="rId2"/>
          <a:stretch/>
        </p:blipFill>
        <p:spPr>
          <a:xfrm>
            <a:off x="6715080" y="357120"/>
            <a:ext cx="1984320" cy="2662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Admin\Local Settings\Temporary Internet Files\Content.IE5\ODEKHIKV\MCj02377780000[1].wmf"/>
          <p:cNvPicPr/>
          <p:nvPr/>
        </p:nvPicPr>
        <p:blipFill>
          <a:blip r:embed="rId3"/>
          <a:stretch/>
        </p:blipFill>
        <p:spPr>
          <a:xfrm>
            <a:off x="6858000" y="4572000"/>
            <a:ext cx="18032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285840" y="142920"/>
          <a:ext cx="8715240" cy="6357960"/>
        </p:xfrm>
        <a:graphic>
          <a:graphicData uri="http://schemas.openxmlformats.org/drawingml/2006/table">
            <a:tbl>
              <a:tblPr/>
              <a:tblGrid>
                <a:gridCol w="3071880"/>
                <a:gridCol w="1214280"/>
                <a:gridCol w="1146240"/>
                <a:gridCol w="1133280"/>
                <a:gridCol w="1074960"/>
                <a:gridCol w="1074600"/>
              </a:tblGrid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Имена путешественников на карте Росс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Географическое положение Ро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Constantia"/>
                        </a:rPr>
                        <a:t>Природа и регионы Ро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28760" y="157140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усский полярный мореплаватель, участник Великой Северной экспедиции, достигший самой северной точки Азии, материка Евразии и России, названной в его че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2000160" y="3571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мена путешественников на карт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4143240" y="4786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Constantia"/>
              </a:rPr>
              <a:t>Семен Челюс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правляющая кнопка: в начало 6">
            <a:hlinkClick r:id="rId1" action="ppaction://hlinksldjump"/>
          </p:cNvPr>
          <p:cNvSpPr/>
          <p:nvPr/>
        </p:nvSpPr>
        <p:spPr>
          <a:xfrm>
            <a:off x="642960" y="542916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12100" y="10800"/>
                </a:moveTo>
                <a:lnTo>
                  <a:pt x="22605" y="3794"/>
                </a:lnTo>
                <a:lnTo>
                  <a:pt x="22605" y="17806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2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сский офицер, капитан-командор русского флота, датчанин по национальности (1681-1741 гг.). Возглавил Первую и Вторую (она же Великая Северная) Камчатские экспедиции, во время которых обошел берега Камчатки, Чукотского полуострова, достиг побережья Северной Америки, открыл некоторые из Алеутских островов. В его честь названо море, самое глубокое у берегов России, и проли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1928880" y="35712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мена путешественников на карт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5000760" y="55008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тус Бе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в начало 7">
            <a:hlinkClick r:id="rId1" action="ppaction://hlinksldjump"/>
          </p:cNvPr>
          <p:cNvSpPr/>
          <p:nvPr/>
        </p:nvSpPr>
        <p:spPr>
          <a:xfrm>
            <a:off x="642960" y="542916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12100" y="10800"/>
                </a:moveTo>
                <a:lnTo>
                  <a:pt x="22605" y="3794"/>
                </a:lnTo>
                <a:lnTo>
                  <a:pt x="22605" y="17806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2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2876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Этот отважный человек более 30 лет своей жизни посвятил походам и плаваниям. Он занимался исследованиями побережья Северного Ледовитого океана, первым обогнул восточную оконечность Азии и открыл пролив, который отделяет Азию от Америки. В 1978 г. Была увековенчана его память: его имя присвоили крайней северо-восточной оконечности Азии. Кто он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357280" y="285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мена путешественников на карт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214880" y="57862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onstantia"/>
              </a:rPr>
              <a:t>Семен Деж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Управляющая кнопка: в начало 5"/>
          <p:cNvSpPr/>
          <p:nvPr/>
        </p:nvSpPr>
        <p:spPr>
          <a:xfrm>
            <a:off x="642960" y="542916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12100" y="10800"/>
                </a:moveTo>
                <a:lnTo>
                  <a:pt x="22605" y="3794"/>
                </a:lnTo>
                <a:lnTo>
                  <a:pt x="22605" y="17806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2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1356840"/>
            <a:ext cx="8072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onstantia"/>
              </a:rPr>
              <a:t>Все мы с вами знаем и помним имя Христофора Колумба? А вот кого из русских путешественников называли в свое время «российским Колумбом»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07180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мена путешественников на карт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429000" y="4919760"/>
            <a:ext cx="5500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ригорий Иванович Шели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енно он организовал целый ряд русских поселков на северо-западе  Аме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правляющая кнопка: в начало 5"/>
          <p:cNvSpPr/>
          <p:nvPr/>
        </p:nvSpPr>
        <p:spPr>
          <a:xfrm>
            <a:off x="642960" y="542916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12100" y="10800"/>
                </a:moveTo>
                <a:lnTo>
                  <a:pt x="22605" y="3794"/>
                </a:lnTo>
                <a:lnTo>
                  <a:pt x="22605" y="17806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2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28760" y="999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а одна из трех экспедиций, которые ушли в Арктику в 1912 г. После зимовки во льдах в сентябре 1913 года судно «Святой Фока» достигло Земли Франца-Иосифа. Дальнейший маршрут предстояло выполнить тро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Пришло время, и мы начнем первую попытку русских достичь Северного полюса. Трудами русских в историю Севера вписаны важнейшие страницы, россия может гордиться ими. Теперь на нас лежит ответственность оказаться достойными приемниками наших исследователей Севера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вы думаете, кому принадлежат эти слова? О какой экспедиции идет речь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Управляющая кнопка: в начало 3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1714680" y="214200"/>
            <a:ext cx="723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мена путешественников на карте Росс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143160" y="578628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Георгий Яковлевич Се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00040" y="1428840"/>
            <a:ext cx="8501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мая северная точка России находитс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) в архипелаге Северная Земл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)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рхипелаге Шпицберген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) в архипелаге Земля Франца Иосиф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4504680" y="21420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в начало 4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2286000" y="48578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архипелаге Земля Франца Иос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0040" y="100008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Россия расположен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а) в северном и западном полушария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б) в северном и восточном полушария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в) в северном, восточном и западном полушария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г) только 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в </a:t>
            </a: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северном полушарии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004640" y="21420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Управляющая кнопка: в начало 4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357200" y="47862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в северном, восточном и западном полушар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121428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азовите самую большую по протяженности сухопутную границу России, а с каким государством наша Родина имеет самую маленькую границу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1785960" y="4287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3429000" y="5000760"/>
            <a:ext cx="52862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С Казахстаном – 7200 к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с КНДР – 17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Управляющая кнопка: в начало 5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14280" y="1928520"/>
            <a:ext cx="74296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77640" indent="-283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Constantia"/>
              </a:rPr>
              <a:t>Цели:</a:t>
            </a:r>
            <a:r>
              <a:rPr b="1" lang="ru-RU" sz="3200" spc="-1" strike="noStrike">
                <a:solidFill>
                  <a:srgbClr val="3333cc"/>
                </a:solidFill>
                <a:latin typeface="Constantia"/>
              </a:rPr>
              <a:t> углубить и закрепить знания, полученные на уроках географии; развивать познавательный интерес к предмет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77640" indent="-283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77640" indent="-283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1" descr="C:\Documents and Settings\Admin\Local Settings\Temporary Internet Files\Content.IE5\ODEKHIKV\MCj03972100000[1].wmf"/>
          <p:cNvPicPr/>
          <p:nvPr/>
        </p:nvPicPr>
        <p:blipFill>
          <a:blip r:embed="rId1"/>
          <a:stretch/>
        </p:blipFill>
        <p:spPr>
          <a:xfrm>
            <a:off x="7143840" y="214200"/>
            <a:ext cx="1801800" cy="154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C:\Documents and Settings\Admin\Local Settings\Temporary Internet Files\Content.IE5\A6XDJS52\MCj04136380000[1].wmf"/>
          <p:cNvPicPr/>
          <p:nvPr/>
        </p:nvPicPr>
        <p:blipFill>
          <a:blip r:embed="rId2"/>
          <a:stretch/>
        </p:blipFill>
        <p:spPr>
          <a:xfrm>
            <a:off x="0" y="4286160"/>
            <a:ext cx="1762200" cy="2281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28760" y="9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1984 году в соответствии с нормами между народного права была установлена экономическая зона ширино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) в 200 мил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) в 20 мил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) 2000 мил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4290120" y="14292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правляющая кнопка: в начало 4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857760" y="557208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в 200 м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3"/>
          <p:cNvSpPr/>
          <p:nvPr/>
        </p:nvSpPr>
        <p:spPr>
          <a:xfrm>
            <a:off x="4575960" y="28584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ографическое положение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9680" y="928800"/>
            <a:ext cx="771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Жители каких из перечисленных городов России могут видеть Солнце на севере? Когда это происходи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а) Москва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) Мурманс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) Чита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) Магада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д) Верхоянск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е) Ворку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Управляющая кнопка: в начало 6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2571840" y="564372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Мурманск, Верхоянск, Воркута в 00— часов по местному времени в полярны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0004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Выберите две основные причины высокой заболоченности равнинных тундр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1. наличие многолетней мерзлоты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2. большое количество осадков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3. малое количество осад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4.большая испаряемос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5. малая испаряемос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3714840" y="642960"/>
            <a:ext cx="517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Constantia"/>
              </a:rPr>
              <a:t>Природа и регион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7143840" y="57150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Управляющая кнопка: в начало 5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93500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Назовите самую большую реку Европы, где она берет свое начало, куда впадает, ее правый и левый самый крупный приток, по какой равнине она протекает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4370760" y="642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  <a:ea typeface="Arial"/>
              </a:rPr>
              <a:t>Природа и регион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428840" y="47149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Река Волга. Берет начало на Валдайской возвышенности, впадает в Каспий,  протекает по Русской равнине, Ока (правый приток),  Кама (лев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Управляющая кнопка: в начало 5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040" y="1500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В целом в Западной Сибири осадков выпадает меньше, чем на Восточно-Европейской равнине. Однако высота снежного покрова там больше. Как вы объясните этот парадокс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4084920" y="78588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Природа и регион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1785960" y="435780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: Зима в Западной Сибири холоднее, чем на Восточно-Европейской равнине, где благодаря приходу более теплого воздуха с Атлантики температура повышается до 0° выше, что сопровождается таянием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в начало 7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28760" y="9284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роз и солнце; день чудесный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 голубыми небес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ликолепными ковр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лестя на солнце, снег лежи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зрачный лес один черне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лес сквозь иней зелене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речка подо льдом блести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пределите какой тип погоды отражен в этом стихотворении  А . С.  Пушкина. - Циклональный, антициклональный, холодного или теплого фронт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4143240" y="35712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onstantia"/>
              </a:rPr>
              <a:t>Природа и регион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86120" y="60721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антициклон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правляющая кнопка: в начало 5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42920" y="999720"/>
            <a:ext cx="8858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всероссийской конференции по неблагоприятным природным явлениям присутствовали представители Мурманска, Нальчика, Оренбурга, Санкт-Петербурга, Улан-Удэ, Южно-Курильска. Каждый из них сделал по одному из следующих докладов: «Наводнение сгонно-нагонного характера», «Цунами», «Землетрясения», «Пыльные бури», « Туманы как неблагоприятный фактор навигации», «Снежные лавины». Как вы думаете, какой именно доклад был сделан каждым из участников конференц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3786120" y="428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Природа и регион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714240" y="5000760"/>
            <a:ext cx="842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урманск – «Туманы как неблагоприятный фактор навигаци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льчик – «Снежные лавины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ренбург – «Пыльные бур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анкт-Петербург – «Наводнения сгонно-нагонного характер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лан-Удэ – «Землетрясени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Южно-Курильск – «Цуна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Управляющая кнопка: в начало 6"/>
          <p:cNvSpPr/>
          <p:nvPr/>
        </p:nvSpPr>
        <p:spPr>
          <a:xfrm>
            <a:off x="428760" y="5857920"/>
            <a:ext cx="928440" cy="642960"/>
          </a:xfrm>
          <a:custGeom>
            <a:avLst/>
            <a:gdLst>
              <a:gd name="textAreaLeft" fmla="*/ 41400 w 928440"/>
              <a:gd name="textAreaRight" fmla="*/ 887040 w 9284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85" h="21600">
                <a:moveTo>
                  <a:pt x="0" y="0"/>
                </a:moveTo>
                <a:lnTo>
                  <a:pt x="31185" y="0"/>
                </a:lnTo>
                <a:lnTo>
                  <a:pt x="31185" y="21600"/>
                </a:lnTo>
                <a:lnTo>
                  <a:pt x="0" y="21600"/>
                </a:lnTo>
                <a:close/>
              </a:path>
              <a:path fill="lightenLess" w="31185" h="21600">
                <a:moveTo>
                  <a:pt x="0" y="0"/>
                </a:moveTo>
                <a:lnTo>
                  <a:pt x="31185" y="0"/>
                </a:lnTo>
                <a:lnTo>
                  <a:pt x="29785" y="1400"/>
                </a:lnTo>
                <a:lnTo>
                  <a:pt x="1400" y="1400"/>
                </a:lnTo>
                <a:close/>
              </a:path>
              <a:path fill="darken" w="31185" h="21600">
                <a:moveTo>
                  <a:pt x="31185" y="0"/>
                </a:moveTo>
                <a:lnTo>
                  <a:pt x="31185" y="21600"/>
                </a:lnTo>
                <a:lnTo>
                  <a:pt x="29785" y="20200"/>
                </a:lnTo>
                <a:lnTo>
                  <a:pt x="29785" y="1400"/>
                </a:lnTo>
                <a:close/>
              </a:path>
              <a:path fill="darkenLess" w="31185" h="21600">
                <a:moveTo>
                  <a:pt x="3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5" y="20200"/>
                </a:lnTo>
                <a:close/>
              </a:path>
              <a:path fill="lighten" w="3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5" h="21600">
                <a:moveTo>
                  <a:pt x="12094" y="10800"/>
                </a:moveTo>
                <a:lnTo>
                  <a:pt x="22599" y="3794"/>
                </a:lnTo>
                <a:lnTo>
                  <a:pt x="22599" y="17806"/>
                </a:lnTo>
                <a:close/>
              </a:path>
              <a:path fill="darken" w="31185" h="21600">
                <a:moveTo>
                  <a:pt x="8586" y="3794"/>
                </a:moveTo>
                <a:lnTo>
                  <a:pt x="10249" y="3794"/>
                </a:lnTo>
                <a:lnTo>
                  <a:pt x="10249" y="17806"/>
                </a:lnTo>
                <a:lnTo>
                  <a:pt x="8586" y="1780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Вам понравилось занятие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Что вызвало у вас трудность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Что привлекло ваше внимание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2" descr="C:\Documents and Settings\Admin\Local Settings\Temporary Internet Files\Content.IE5\4EYA0JG6\MCj04344170000[1].wmf"/>
          <p:cNvPicPr/>
          <p:nvPr/>
        </p:nvPicPr>
        <p:blipFill>
          <a:blip r:embed="rId1"/>
          <a:stretch/>
        </p:blipFill>
        <p:spPr>
          <a:xfrm>
            <a:off x="7143840" y="4500720"/>
            <a:ext cx="1412640" cy="191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Documents and Settings\Admin\Local Settings\Temporary Internet Files\Content.IE5\0WNJ5L37\MCj04377970000[1].wmf"/>
          <p:cNvPicPr/>
          <p:nvPr/>
        </p:nvPicPr>
        <p:blipFill>
          <a:blip r:embed="rId2"/>
          <a:stretch/>
        </p:blipFill>
        <p:spPr>
          <a:xfrm>
            <a:off x="7000920" y="21420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До новых встреч!!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7120" y="1928520"/>
            <a:ext cx="8258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Конкурс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«В стране сообразилии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(География + Смекалка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7" descr="C:\Documents and Settings\Admin\Local Settings\Temporary Internet Files\Content.IE5\QY7OKCXE\MCj02329100000[1].wmf"/>
          <p:cNvPicPr/>
          <p:nvPr/>
        </p:nvPicPr>
        <p:blipFill>
          <a:blip r:embed="rId1"/>
          <a:stretch/>
        </p:blipFill>
        <p:spPr>
          <a:xfrm>
            <a:off x="5881680" y="2857680"/>
            <a:ext cx="32623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1884240" y="133200"/>
            <a:ext cx="6978600" cy="1440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57120" y="171468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Музыка в </a:t>
            </a:r>
            <a:r>
              <a:rPr b="0" i="1" lang="ru-RU" sz="2800" spc="-1" strike="noStrike">
                <a:solidFill>
                  <a:srgbClr val="0000cc"/>
                </a:solidFill>
                <a:latin typeface="Constantia"/>
              </a:rPr>
              <a:t>первом</a:t>
            </a: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  приятно играет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Соки и пиво народ попива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Титул монгольский дает нам </a:t>
            </a:r>
            <a:r>
              <a:rPr b="0" i="1" lang="ru-RU" sz="2800" spc="-1" strike="noStrike">
                <a:solidFill>
                  <a:srgbClr val="0000cc"/>
                </a:solidFill>
                <a:latin typeface="Constantia"/>
              </a:rPr>
              <a:t>второе</a:t>
            </a: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В сказках встречаем его мы поро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Constantia"/>
              </a:rPr>
              <a:t>Целое</a:t>
            </a: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 видят в пустынях верблюды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nstantia"/>
              </a:rPr>
              <a:t>Это песка нанесенного груд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C:\Documents and Settings\Admin\Local Settings\Temporary Internet Files\Content.IE5\A6XDJS52\MPj04011110000[1].jpg"/>
          <p:cNvPicPr/>
          <p:nvPr/>
        </p:nvPicPr>
        <p:blipFill>
          <a:blip r:embed="rId2"/>
          <a:stretch/>
        </p:blipFill>
        <p:spPr>
          <a:xfrm>
            <a:off x="5357880" y="4429080"/>
            <a:ext cx="3357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37960" y="4565520"/>
            <a:ext cx="8253720" cy="1433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1680" y="1071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Слог </a:t>
            </a:r>
            <a:r>
              <a:rPr b="1" i="1" lang="ru-RU" sz="2800" spc="-1" strike="noStrike">
                <a:solidFill>
                  <a:srgbClr val="0000cc"/>
                </a:solidFill>
                <a:latin typeface="Constantia"/>
              </a:rPr>
              <a:t>первый </a:t>
            </a: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– в Англии нальют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Его пьют гномы, люди пью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onstantia"/>
              </a:rPr>
              <a:t>Второй </a:t>
            </a: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– в строительстве найдете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Дом без него не возведет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А в </a:t>
            </a:r>
            <a:r>
              <a:rPr b="1" i="1" lang="ru-RU" sz="2800" spc="-1" strike="noStrike">
                <a:solidFill>
                  <a:srgbClr val="0000cc"/>
                </a:solidFill>
                <a:latin typeface="Constantia"/>
              </a:rPr>
              <a:t>целом </a:t>
            </a: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– гордая гор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nstantia"/>
              </a:rPr>
              <a:t>Что на Кавказе, детвор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5" descr="C:\Documents and Settings\Admin\Local Settings\Temporary Internet Files\Content.IE5\BS152E16\MCj04300550000[1].wmf"/>
          <p:cNvPicPr/>
          <p:nvPr/>
        </p:nvPicPr>
        <p:blipFill>
          <a:blip r:embed="rId2"/>
          <a:stretch/>
        </p:blipFill>
        <p:spPr>
          <a:xfrm>
            <a:off x="6286680" y="2571840"/>
            <a:ext cx="26492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37960" y="4638600"/>
            <a:ext cx="8253720" cy="1433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14200" y="92844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Две первые буквы найдете в «бору»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Четыре последних составят игр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По целому трудно бывает пройти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Вам лучше его обойт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3" descr="C:\Documents and Settings\Admin\Local Settings\Temporary Internet Files\Content.IE5\QY7OKCXE\MCj03351900000[1].wmf"/>
          <p:cNvPicPr/>
          <p:nvPr/>
        </p:nvPicPr>
        <p:blipFill>
          <a:blip r:embed="rId2"/>
          <a:stretch/>
        </p:blipFill>
        <p:spPr>
          <a:xfrm>
            <a:off x="5286240" y="2857680"/>
            <a:ext cx="36766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706320" y="4065480"/>
            <a:ext cx="778536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264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Первый мой слог – повозка большая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Сила моральная – слог мой второ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В целом, важнейшую роль играя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Хоть и невидим, всегда я с тобой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133640" y="5138640"/>
            <a:ext cx="7785000" cy="14335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71760" y="856800"/>
            <a:ext cx="7286400" cy="46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Я состою из </a:t>
            </a: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трех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частей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В предлогах </a:t>
            </a: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две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найдутся части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1" i="1" lang="ru-RU" sz="2800" spc="-1" strike="noStrike">
                <a:solidFill>
                  <a:srgbClr val="c00000"/>
                </a:solidFill>
                <a:latin typeface="Constantia"/>
              </a:rPr>
              <a:t> третьей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потчевал гост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Герой одной известной басн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В какие не приду мест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Несу я гибель урожа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Но поднимаются лес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астет лесная полос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Мне путь к посевам преграждая!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2" descr="C:\Documents and Settings\Admin\Local Settings\Temporary Internet Files\Content.IE5\QY7OKCXE\MCj01049740000[1].wmf"/>
          <p:cNvPicPr/>
          <p:nvPr/>
        </p:nvPicPr>
        <p:blipFill>
          <a:blip r:embed="rId2"/>
          <a:stretch/>
        </p:blipFill>
        <p:spPr>
          <a:xfrm>
            <a:off x="357120" y="2071800"/>
            <a:ext cx="31431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706320" y="2365200"/>
            <a:ext cx="7785360" cy="3859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Admin\Local Settings\Temporary Internet Files\Content.IE5\ODEKHIKV\MCj02809360000[1].wmf"/>
          <p:cNvPicPr/>
          <p:nvPr/>
        </p:nvPicPr>
        <p:blipFill>
          <a:blip r:embed="rId2"/>
          <a:stretch/>
        </p:blipFill>
        <p:spPr>
          <a:xfrm>
            <a:off x="357120" y="428760"/>
            <a:ext cx="22273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6:12:43Z</dcterms:created>
  <dc:creator>Admin</dc:creator>
  <dc:description/>
  <dc:language>en-US</dc:language>
  <cp:lastModifiedBy>Admin</cp:lastModifiedBy>
  <dcterms:modified xsi:type="dcterms:W3CDTF">2010-01-29T17:39:27Z</dcterms:modified>
  <cp:revision>20</cp:revision>
  <dc:subject/>
  <dc:title>Игра- викторина «На просторах России»</dc:title>
</cp:coreProperties>
</file>