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34.wmf" ContentType="image/x-wmf"/>
  <Override PartName="/ppt/media/image46.gif" ContentType="image/gif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47.gif" ContentType="image/gif"/>
  <Override PartName="/ppt/media/image38.jpeg" ContentType="image/jpeg"/>
  <Override PartName="/ppt/media/image35.gif" ContentType="image/gif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png" ContentType="image/png"/>
  <Override PartName="/ppt/media/image33.jpeg" ContentType="image/jpeg"/>
  <Override PartName="/ppt/media/image30.wmf" ContentType="image/x-wm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5FC-6EFD-444A-B575-E4814A8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D5E-A6DC-47DE-B594-E0691F75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2C7-80ED-4BC0-A462-6C8646C4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8BE-A293-4022-AC69-D1C70774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ECC7-B64B-4D90-8750-D33BAFD9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5E36-E771-4A2E-ADBD-07DB739B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327-07DA-4526-8D44-8A738E8A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860B-264A-4B56-991A-1CB4FF01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9053-4E34-473E-ADA7-EFA8B4BC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0D83-A96B-4AD1-820F-8AF18CE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53DA-228A-491B-AAA9-BF39A3C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B39-E959-4A7D-B90A-FE5B2C1C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EADA-262D-448E-9BF7-385FE31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A68B-FD93-4DB4-B0F5-4886D3DD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D056-6B95-4EDB-9DAC-8803448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3032-C818-48FA-B178-CF225AA6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4A4D-EA74-4706-BA5B-614C6B71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191-5A8F-4FC8-B28C-5AD744D9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87D-378E-4761-935D-3CA8F5C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9D3-9B9A-444B-91D7-907DF783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017-9E73-48B2-9BF6-4825C7F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879-09D7-43C4-9AFE-694395B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AEB-0275-4119-A482-CB24CB1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02D-953E-4039-9613-C24DF8F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5AA-94FA-49D8-9B95-637464D936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947-D0EE-4DF0-976F-AEF8D2F211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image.jazzedcook.com/uploads/f287f5edf9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seokladah.ru/_fr/4/8385884.gif" TargetMode="External"/><Relationship Id="rId2" Type="http://schemas.openxmlformats.org/officeDocument/2006/relationships/image" Target="../media/image27.png"/><Relationship Id="rId3" Type="http://schemas.openxmlformats.org/officeDocument/2006/relationships/hyperlink" Target="http://www.vseokladah.ru/_fr/4/8385884.gif" TargetMode="External"/><Relationship Id="rId4" Type="http://schemas.openxmlformats.org/officeDocument/2006/relationships/image" Target="../media/image27.png"/><Relationship Id="rId5" Type="http://schemas.openxmlformats.org/officeDocument/2006/relationships/hyperlink" Target="http://www.vseokladah.ru/_fr/4/8385884.gif" TargetMode="External"/><Relationship Id="rId6" Type="http://schemas.openxmlformats.org/officeDocument/2006/relationships/image" Target="../media/image27.png"/><Relationship Id="rId7" Type="http://schemas.openxmlformats.org/officeDocument/2006/relationships/hyperlink" Target="http://www.vseokladah.ru/_fr/4/8385884.gif" TargetMode="External"/><Relationship Id="rId8" Type="http://schemas.openxmlformats.org/officeDocument/2006/relationships/image" Target="../media/image27.png"/><Relationship Id="rId9" Type="http://schemas.openxmlformats.org/officeDocument/2006/relationships/hyperlink" Target="http://www.vseokladah.ru/_fr/4/8385884.gif" TargetMode="External"/><Relationship Id="rId10" Type="http://schemas.openxmlformats.org/officeDocument/2006/relationships/image" Target="../media/image27.png"/><Relationship Id="rId11" Type="http://schemas.openxmlformats.org/officeDocument/2006/relationships/hyperlink" Target="http://sky911.ru/files/2rub.jpg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sky911.ru/files/2rub.jpg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sky911.ru/files/2rub.jpg" TargetMode="External"/><Relationship Id="rId16" Type="http://schemas.openxmlformats.org/officeDocument/2006/relationships/image" Target="../media/image28.jpeg"/><Relationship Id="rId17" Type="http://schemas.openxmlformats.org/officeDocument/2006/relationships/hyperlink" Target="http://sky911.ru/files/2rub.jpg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sky911.ru/files/2rub.jpg" TargetMode="External"/><Relationship Id="rId20" Type="http://schemas.openxmlformats.org/officeDocument/2006/relationships/image" Target="../media/image28.jpeg"/><Relationship Id="rId21" Type="http://schemas.openxmlformats.org/officeDocument/2006/relationships/hyperlink" Target="http://sky911.ru/files/2rub.jpg" TargetMode="External"/><Relationship Id="rId22" Type="http://schemas.openxmlformats.org/officeDocument/2006/relationships/image" Target="../media/image28.jpeg"/><Relationship Id="rId23" Type="http://schemas.openxmlformats.org/officeDocument/2006/relationships/hyperlink" Target="http://sky911.ru/files/2rub.jpg" TargetMode="External"/><Relationship Id="rId24" Type="http://schemas.openxmlformats.org/officeDocument/2006/relationships/image" Target="../media/image28.jpeg"/><Relationship Id="rId25" Type="http://schemas.openxmlformats.org/officeDocument/2006/relationships/hyperlink" Target="http://sky911.ru/files/2rub.jpg" TargetMode="External"/><Relationship Id="rId26" Type="http://schemas.openxmlformats.org/officeDocument/2006/relationships/image" Target="../media/image28.jpeg"/><Relationship Id="rId27" Type="http://schemas.openxmlformats.org/officeDocument/2006/relationships/hyperlink" Target="http://sky911.ru/files/2rub.jpg" TargetMode="External"/><Relationship Id="rId28" Type="http://schemas.openxmlformats.org/officeDocument/2006/relationships/image" Target="../media/image28.jpeg"/><Relationship Id="rId29" Type="http://schemas.openxmlformats.org/officeDocument/2006/relationships/hyperlink" Target="http://sky911.ru/files/2rub.jpg" TargetMode="External"/><Relationship Id="rId30" Type="http://schemas.openxmlformats.org/officeDocument/2006/relationships/image" Target="../media/image28.jpeg"/><Relationship Id="rId31" Type="http://schemas.openxmlformats.org/officeDocument/2006/relationships/hyperlink" Target="http://sky911.ru/files/2rub.jpg" TargetMode="External"/><Relationship Id="rId32" Type="http://schemas.openxmlformats.org/officeDocument/2006/relationships/image" Target="../media/image28.jpeg"/><Relationship Id="rId33" Type="http://schemas.openxmlformats.org/officeDocument/2006/relationships/hyperlink" Target="http://sky911.ru/files/2rub.jpg" TargetMode="External"/><Relationship Id="rId34" Type="http://schemas.openxmlformats.org/officeDocument/2006/relationships/image" Target="../media/image28.jpeg"/><Relationship Id="rId35" Type="http://schemas.openxmlformats.org/officeDocument/2006/relationships/hyperlink" Target="http://sky911.ru/files/2rub.jpg" TargetMode="External"/><Relationship Id="rId36" Type="http://schemas.openxmlformats.org/officeDocument/2006/relationships/image" Target="../media/image28.jpeg"/><Relationship Id="rId37" Type="http://schemas.openxmlformats.org/officeDocument/2006/relationships/hyperlink" Target="http://sky911.ru/files/2rub.jpg" TargetMode="External"/><Relationship Id="rId38" Type="http://schemas.openxmlformats.org/officeDocument/2006/relationships/image" Target="../media/image28.jpeg"/><Relationship Id="rId39" Type="http://schemas.openxmlformats.org/officeDocument/2006/relationships/hyperlink" Target="http://www.numizmat.net/reference/images/97/grav97/5r97pbdv2.jpg" TargetMode="External"/><Relationship Id="rId40" Type="http://schemas.openxmlformats.org/officeDocument/2006/relationships/image" Target="../media/image29.jpeg"/><Relationship Id="rId41" Type="http://schemas.openxmlformats.org/officeDocument/2006/relationships/hyperlink" Target="http://www.numizmat.net/reference/images/97/grav97/5r97pbdv2.jpg" TargetMode="External"/><Relationship Id="rId42" Type="http://schemas.openxmlformats.org/officeDocument/2006/relationships/image" Target="../media/image29.jpeg"/><Relationship Id="rId43" Type="http://schemas.openxmlformats.org/officeDocument/2006/relationships/hyperlink" Target="http://www.numizmat.net/reference/images/97/grav97/5r97pbdv2.jpg" TargetMode="External"/><Relationship Id="rId44" Type="http://schemas.openxmlformats.org/officeDocument/2006/relationships/image" Target="../media/image29.jpeg"/><Relationship Id="rId45" Type="http://schemas.openxmlformats.org/officeDocument/2006/relationships/hyperlink" Target="http://www.numizmat.net/reference/images/97/grav97/5r97pbdv2.jpg" TargetMode="External"/><Relationship Id="rId46" Type="http://schemas.openxmlformats.org/officeDocument/2006/relationships/image" Target="../media/image29.jpeg"/><Relationship Id="rId47" Type="http://schemas.openxmlformats.org/officeDocument/2006/relationships/hyperlink" Target="http://www.numizmat.net/reference/images/97/grav97/5r97pbdv2.jpg" TargetMode="External"/><Relationship Id="rId48" Type="http://schemas.openxmlformats.org/officeDocument/2006/relationships/image" Target="../media/image29.jpeg"/><Relationship Id="rId49" Type="http://schemas.openxmlformats.org/officeDocument/2006/relationships/hyperlink" Target="http://www.numizmat.net/reference/images/97/grav97/5r97pbdv2.jpg" TargetMode="External"/><Relationship Id="rId50" Type="http://schemas.openxmlformats.org/officeDocument/2006/relationships/image" Target="../media/image29.jpeg"/><Relationship Id="rId51" Type="http://schemas.openxmlformats.org/officeDocument/2006/relationships/hyperlink" Target="http://www.numizmat.net/reference/images/97/grav97/5r97pbdv2.jpg" TargetMode="External"/><Relationship Id="rId52" Type="http://schemas.openxmlformats.org/officeDocument/2006/relationships/image" Target="../media/image29.jpeg"/><Relationship Id="rId53" Type="http://schemas.openxmlformats.org/officeDocument/2006/relationships/hyperlink" Target="http://www.numizmat.net/reference/images/97/grav97/5r97pbdv2.jpg" TargetMode="External"/><Relationship Id="rId54" Type="http://schemas.openxmlformats.org/officeDocument/2006/relationships/image" Target="../media/image29.jpeg"/><Relationship Id="rId55" Type="http://schemas.openxmlformats.org/officeDocument/2006/relationships/hyperlink" Target="http://www.numizmat.net/reference/images/97/grav97/5r97pbdv2.jpg" TargetMode="External"/><Relationship Id="rId56" Type="http://schemas.openxmlformats.org/officeDocument/2006/relationships/image" Target="../media/image29.jpeg"/><Relationship Id="rId57" Type="http://schemas.openxmlformats.org/officeDocument/2006/relationships/image" Target="../media/image29.jpeg"/><Relationship Id="rId58" Type="http://schemas.openxmlformats.org/officeDocument/2006/relationships/image" Target="../media/image27.png"/><Relationship Id="rId59" Type="http://schemas.openxmlformats.org/officeDocument/2006/relationships/image" Target="../media/image30.wm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533520" y="1380960"/>
            <a:ext cx="1083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Классическое определение</a:t>
            </a:r>
            <a:br>
              <a:rPr sz="6000"/>
            </a:b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 вероятности».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Picture 6" descr="0_7d991_8f68c382_XL"/>
          <p:cNvPicPr/>
          <p:nvPr/>
        </p:nvPicPr>
        <p:blipFill>
          <a:blip r:embed="rId1"/>
          <a:stretch/>
        </p:blipFill>
        <p:spPr>
          <a:xfrm rot="1098600">
            <a:off x="534960" y="4435200"/>
            <a:ext cx="316224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39960" y="26496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  <a:ea typeface="Arial"/>
              </a:rPr>
              <a:t>На тарелке лежат одинаковые на вид блинчики: 3 с творогом, 5 с мясом и 4 с икрой и яйцами. Лена наугад выбирает один блинчик. Найдите вероятность того, что он окажется с творо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286000" y="60721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4240" y="221472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42960" y="2928960"/>
            <a:ext cx="464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в тарелке лежит 3+5+4=12 блинчиков, из них 3 – с творогом. Вероятность того, что выбранный блинчик окажется с творогом, равна 3/12=1/4=0,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3" descr="student_clipart_girl"/>
          <p:cNvPicPr/>
          <p:nvPr/>
        </p:nvPicPr>
        <p:blipFill>
          <a:blip r:embed="rId1"/>
          <a:stretch/>
        </p:blipFill>
        <p:spPr>
          <a:xfrm>
            <a:off x="5167440" y="2554200"/>
            <a:ext cx="1428480" cy="243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27 из 20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3772080"/>
            <a:ext cx="21193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1214280" y="21420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В копилке находятся монеты достоинством 2 рубля – 14 штук, 5 рублей – 10 штук и 10 рублей – 6 штук. Какова вероятность того, что первая монета, выпавшая из копилки, будет достоинством 10 рубле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540160" y="5935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714240" y="214308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571680" y="2857680"/>
            <a:ext cx="492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в копилке 14+10+6=30 монет, из них 6 штук – десятирублевых. Вероятность того, что первая монета, выпавшая из копилки, будет достоинством 10 рублей, равна 6:30=1:5=0,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" descr="Картинка 16 из 120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207180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Картинка 16 из 120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86760" y="2714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Картинка 16 из 12016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2280" y="271476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Картинка 16 из 12016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72240" y="2143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Картинка 16 из 12016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215200" y="2143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Картинка 2 из 4611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2214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Картинка 2 из 4611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143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Картинка 2 из 4611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572160" y="27147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Картинка 2 из 46112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929280" y="2857680"/>
            <a:ext cx="500400" cy="50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Картинка 2 из 46112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72200" y="36432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Картинка 2 из 46112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00960" y="34290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Картинка 2 из 46112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43800" y="3714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Картинка 2 из 46112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500880" y="32860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Картинка 2 из 46112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8001000" y="4143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Картинка 2 из 46112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215200" y="38577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Картинка 2 из 46112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8001000" y="32860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Картинка 2 из 46112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8643960" y="27860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Картинка 2 из 46112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8501040" y="3357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артинка 2 из 46112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7643880" y="1857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Картинка 3 из 47727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429240" y="185724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артинка 3 из 47727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6215040" y="3214800"/>
            <a:ext cx="452520" cy="452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Картинка 3 из 47727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6286680" y="2714760"/>
            <a:ext cx="452160" cy="452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Картинка 3 из 47727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7786800" y="3714840"/>
            <a:ext cx="452160" cy="4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Картинка 3 из 47727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8358120" y="428616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Картинка 3 из 47727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6572160" y="414324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Картинка 3 из 47727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7072200" y="414324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Картинка 3 из 47727">
            <a:hlinkClick r:id="rId53"/>
          </p:cNvPr>
          <p:cNvPicPr/>
          <p:nvPr/>
        </p:nvPicPr>
        <p:blipFill>
          <a:blip r:embed="rId54"/>
          <a:stretch/>
        </p:blipFill>
        <p:spPr>
          <a:xfrm>
            <a:off x="8691480" y="3857760"/>
            <a:ext cx="452520" cy="452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Картинка 3 из 47727">
            <a:hlinkClick r:id="rId55"/>
          </p:cNvPr>
          <p:cNvPicPr/>
          <p:nvPr/>
        </p:nvPicPr>
        <p:blipFill>
          <a:blip r:embed="rId56"/>
          <a:stretch/>
        </p:blipFill>
        <p:spPr>
          <a:xfrm>
            <a:off x="8691480" y="200016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Картинка 3 из 47727"/>
          <p:cNvPicPr/>
          <p:nvPr/>
        </p:nvPicPr>
        <p:blipFill>
          <a:blip r:embed="rId57"/>
          <a:stretch/>
        </p:blipFill>
        <p:spPr>
          <a:xfrm>
            <a:off x="7500960" y="407196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Картинка 16 из 120161"/>
          <p:cNvPicPr/>
          <p:nvPr/>
        </p:nvPicPr>
        <p:blipFill>
          <a:blip r:embed="rId58"/>
          <a:stretch/>
        </p:blipFill>
        <p:spPr>
          <a:xfrm>
            <a:off x="7429680" y="4357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j0078740"/>
          <p:cNvPicPr/>
          <p:nvPr/>
        </p:nvPicPr>
        <p:blipFill>
          <a:blip r:embed="rId59"/>
          <a:stretch/>
        </p:blipFill>
        <p:spPr>
          <a:xfrm>
            <a:off x="4786200" y="1714680"/>
            <a:ext cx="1717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214280" y="214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Подбрасывают три монеты. Какова вероятность того, что</a:t>
            </a:r>
            <a:r>
              <a:rPr b="1" lang="en-US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все монеты упадут орлом вверх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5500800" y="6211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642960" y="13572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8 из 55092"/>
          <p:cNvPicPr/>
          <p:nvPr/>
        </p:nvPicPr>
        <p:blipFill>
          <a:blip r:embed="rId1"/>
          <a:srcRect l="0" t="0" r="50756" b="0"/>
          <a:stretch/>
        </p:blipFill>
        <p:spPr>
          <a:xfrm>
            <a:off x="7143840" y="4214880"/>
            <a:ext cx="785880" cy="804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8 из 55092"/>
          <p:cNvPicPr/>
          <p:nvPr/>
        </p:nvPicPr>
        <p:blipFill>
          <a:blip r:embed="rId2"/>
          <a:srcRect l="0" t="0" r="50756" b="0"/>
          <a:stretch/>
        </p:blipFill>
        <p:spPr>
          <a:xfrm>
            <a:off x="8001000" y="4143240"/>
            <a:ext cx="741240" cy="760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Картинка 41 из 55546"/>
          <p:cNvPicPr/>
          <p:nvPr/>
        </p:nvPicPr>
        <p:blipFill>
          <a:blip r:embed="rId3"/>
          <a:srcRect l="1409" t="0" r="50760" b="0"/>
          <a:stretch/>
        </p:blipFill>
        <p:spPr>
          <a:xfrm>
            <a:off x="8001000" y="2714760"/>
            <a:ext cx="928800" cy="97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Картинка 41 из 55546"/>
          <p:cNvPicPr/>
          <p:nvPr/>
        </p:nvPicPr>
        <p:blipFill>
          <a:blip r:embed="rId4"/>
          <a:srcRect l="1407" t="0" r="50764" b="0"/>
          <a:stretch/>
        </p:blipFill>
        <p:spPr>
          <a:xfrm>
            <a:off x="7286760" y="3143160"/>
            <a:ext cx="857160" cy="89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j0078714"/>
          <p:cNvPicPr/>
          <p:nvPr/>
        </p:nvPicPr>
        <p:blipFill>
          <a:blip r:embed="rId5"/>
          <a:stretch/>
        </p:blipFill>
        <p:spPr>
          <a:xfrm>
            <a:off x="6143760" y="1428840"/>
            <a:ext cx="1428480" cy="26859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428760" y="2086560"/>
            <a:ext cx="5715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Рассмотрим полную группу событ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первая монета упала орлом (о), вторая — решкой (р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обе монеты упали орлом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первая монета упала решкой, вторая — орлом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обе монеты упали реш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Мы перечислили все возможные исходы опыта, их всего – 4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Нас интересуют те исходы опыта, когда обе монеты упали орлом. Такой случай всего один. Стало быть, N = 1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Итак, вероятность выпадения двух орлов: Р = 1/4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57120" y="285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214280" y="214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Паша наудачу выбирает двузначное число. Найдите вероятность того, что оно оканчивается на 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4286160" y="5715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071800" y="242892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двузначных чисел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90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Двузначных чисел, оканчивающихся на 7: 17,27,37,47,57,67,77,87,97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чисе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ероятность того, что наугад выбранное двузначное число оканчивается на 7, равна: 9:90=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714240" y="16430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4" descr="AN059"/>
          <p:cNvPicPr/>
          <p:nvPr/>
        </p:nvPicPr>
        <p:blipFill>
          <a:blip r:embed="rId1"/>
          <a:stretch/>
        </p:blipFill>
        <p:spPr>
          <a:xfrm flipH="1">
            <a:off x="642600" y="2214720"/>
            <a:ext cx="14288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57120" y="2858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14280" y="21420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На экзамене 45 билетов, Антон не успел выучить 18 из них. Найдите вероятность того, что ему попадётся выученный билет, если билет берётся нау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4857840" y="564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42960" y="19288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2714760" y="3000240"/>
            <a:ext cx="58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45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илетов. Антон выучил 45-18=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27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билетов. Вероятность того, что ему попадётся выученный билет, 27:45=0,6 ра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tineig"/>
          <p:cNvPicPr/>
          <p:nvPr/>
        </p:nvPicPr>
        <p:blipFill>
          <a:blip r:embed="rId1"/>
          <a:stretch/>
        </p:blipFill>
        <p:spPr>
          <a:xfrm>
            <a:off x="428760" y="2500200"/>
            <a:ext cx="2000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92" descr="662d0f9a6fab53ba2066043a9bff6ea3_medium"/>
          <p:cNvPicPr/>
          <p:nvPr/>
        </p:nvPicPr>
        <p:blipFill>
          <a:blip r:embed="rId1"/>
          <a:stretch/>
        </p:blipFill>
        <p:spPr>
          <a:xfrm>
            <a:off x="4500720" y="1500120"/>
            <a:ext cx="3970080" cy="26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357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1214280" y="21420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При производстве 1200 электроприборов для машин марки «Лада» только 6 оказалось бракованными. Какова вероятность того, что на машину будет установлен бракованный электроприб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1714680" y="5214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1/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571680" y="23572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571680" y="3071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1200 электроприборов.        6 – бракованных. Значит, вероятность того, что на машину будет установлен бракованный электроприбор, равна 6:1200=1:2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2" descr="счётчик"/>
          <p:cNvPicPr/>
          <p:nvPr/>
        </p:nvPicPr>
        <p:blipFill>
          <a:blip r:embed="rId2"/>
          <a:stretch/>
        </p:blipFill>
        <p:spPr>
          <a:xfrm>
            <a:off x="8112240" y="3071880"/>
            <a:ext cx="874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-45720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завод привезли партию из 1000 подшипников. Случайно в эту партию попало 30 подшипников, не удовлетворяющих стандарту. Определить вероятность Р(А) того, что взятый наудачу подшипник окажется стандар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8" descr="259621"/>
          <p:cNvPicPr/>
          <p:nvPr/>
        </p:nvPicPr>
        <p:blipFill>
          <a:blip r:embed="rId1"/>
          <a:stretch/>
        </p:blipFill>
        <p:spPr>
          <a:xfrm>
            <a:off x="228600" y="22860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3387600" y="2171880"/>
            <a:ext cx="57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подшипник окажется стандар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7215120" y="1728720"/>
            <a:ext cx="14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387600" y="3003480"/>
            <a:ext cx="56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всех возможных исход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387600" y="3833640"/>
            <a:ext cx="57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1000-30=97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3276720" y="5032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TextBox 10" descr=""/>
          <p:cNvPicPr/>
          <p:nvPr/>
        </p:nvPicPr>
        <p:blipFill>
          <a:blip r:embed="rId2"/>
          <a:stretch/>
        </p:blipFill>
        <p:spPr>
          <a:xfrm>
            <a:off x="4535640" y="4863960"/>
            <a:ext cx="3614760" cy="7984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1"/>
          <p:cNvSpPr/>
          <p:nvPr/>
        </p:nvSpPr>
        <p:spPr>
          <a:xfrm>
            <a:off x="1143000" y="5580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TextBox 12" descr=""/>
          <p:cNvPicPr/>
          <p:nvPr/>
        </p:nvPicPr>
        <p:blipFill>
          <a:blip r:embed="rId3"/>
          <a:stretch/>
        </p:blipFill>
        <p:spPr>
          <a:xfrm>
            <a:off x="7967520" y="5035680"/>
            <a:ext cx="9939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ящике лежат 6 красных и 6 синих шаров. Наудачу вынимают 8 шаров. Определите вероятность события А - все выбранные шары крас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3760" y="1981080"/>
            <a:ext cx="71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(А) = 0, т.к. это событие А - невозмож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4" descr="11971489111248351002Stellaris_Red_snooker_ball"/>
          <p:cNvPicPr/>
          <p:nvPr/>
        </p:nvPicPr>
        <p:blipFill>
          <a:blip r:embed="rId1"/>
          <a:stretch/>
        </p:blipFill>
        <p:spPr>
          <a:xfrm>
            <a:off x="6705720" y="274320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molumen_blue_cristal_ball"/>
          <p:cNvPicPr/>
          <p:nvPr/>
        </p:nvPicPr>
        <p:blipFill>
          <a:blip r:embed="rId2"/>
          <a:stretch/>
        </p:blipFill>
        <p:spPr>
          <a:xfrm>
            <a:off x="5791320" y="327672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4" descr="molumen_blue_cristal_ball"/>
          <p:cNvPicPr/>
          <p:nvPr/>
        </p:nvPicPr>
        <p:blipFill>
          <a:blip r:embed="rId3"/>
          <a:stretch/>
        </p:blipFill>
        <p:spPr>
          <a:xfrm>
            <a:off x="5638680" y="419112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molumen_blue_cristal_ball"/>
          <p:cNvPicPr/>
          <p:nvPr/>
        </p:nvPicPr>
        <p:blipFill>
          <a:blip r:embed="rId4"/>
          <a:stretch/>
        </p:blipFill>
        <p:spPr>
          <a:xfrm>
            <a:off x="66294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molumen_blue_cristal_ball"/>
          <p:cNvPicPr/>
          <p:nvPr/>
        </p:nvPicPr>
        <p:blipFill>
          <a:blip r:embed="rId5"/>
          <a:stretch/>
        </p:blipFill>
        <p:spPr>
          <a:xfrm>
            <a:off x="4495680" y="525780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7" descr="molumen_blue_cristal_ball"/>
          <p:cNvPicPr/>
          <p:nvPr/>
        </p:nvPicPr>
        <p:blipFill>
          <a:blip r:embed="rId6"/>
          <a:stretch/>
        </p:blipFill>
        <p:spPr>
          <a:xfrm>
            <a:off x="4419720" y="32004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" descr="molumen_blue_cristal_ball"/>
          <p:cNvPicPr/>
          <p:nvPr/>
        </p:nvPicPr>
        <p:blipFill>
          <a:blip r:embed="rId7"/>
          <a:stretch/>
        </p:blipFill>
        <p:spPr>
          <a:xfrm>
            <a:off x="34290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11971489111248351002Stellaris_Red_snooker_ball"/>
          <p:cNvPicPr/>
          <p:nvPr/>
        </p:nvPicPr>
        <p:blipFill>
          <a:blip r:embed="rId8"/>
          <a:stretch/>
        </p:blipFill>
        <p:spPr>
          <a:xfrm>
            <a:off x="7315200" y="426708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0" descr="11971489111248351002Stellaris_Red_snooker_ball"/>
          <p:cNvPicPr/>
          <p:nvPr/>
        </p:nvPicPr>
        <p:blipFill>
          <a:blip r:embed="rId9"/>
          <a:stretch/>
        </p:blipFill>
        <p:spPr>
          <a:xfrm>
            <a:off x="5562720" y="553716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1" descr="11971489111248351002Stellaris_Red_snooker_ball"/>
          <p:cNvPicPr/>
          <p:nvPr/>
        </p:nvPicPr>
        <p:blipFill>
          <a:blip r:embed="rId10"/>
          <a:stretch/>
        </p:blipFill>
        <p:spPr>
          <a:xfrm>
            <a:off x="4267080" y="396252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2" descr="11971489111248351002Stellaris_Red_snooker_ball"/>
          <p:cNvPicPr/>
          <p:nvPr/>
        </p:nvPicPr>
        <p:blipFill>
          <a:blip r:embed="rId11"/>
          <a:stretch/>
        </p:blipFill>
        <p:spPr>
          <a:xfrm>
            <a:off x="3048120" y="312408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3" descr="11971489111248351002Stellaris_Red_snooker_ball"/>
          <p:cNvPicPr/>
          <p:nvPr/>
        </p:nvPicPr>
        <p:blipFill>
          <a:blip r:embed="rId12"/>
          <a:stretch/>
        </p:blipFill>
        <p:spPr>
          <a:xfrm>
            <a:off x="2743200" y="5181480"/>
            <a:ext cx="1300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168120" y="152280"/>
            <a:ext cx="897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чная конференция проводится 3 дня. Всего запланировано 50 докладов: в первый день – 30 докладов, а остальные распределены поровну между вторым и третьим днями. Порядок докладов определяется жеребьевкой. Какова вероятность, что доклад профессора М. окажется запланированным на последний день конференц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5" descr="uchitel-10"/>
          <p:cNvPicPr/>
          <p:nvPr/>
        </p:nvPicPr>
        <p:blipFill>
          <a:blip r:embed="rId1"/>
          <a:stretch/>
        </p:blipFill>
        <p:spPr>
          <a:xfrm>
            <a:off x="-228600" y="2133720"/>
            <a:ext cx="3121200" cy="4419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"/>
          <p:cNvSpPr/>
          <p:nvPr/>
        </p:nvSpPr>
        <p:spPr>
          <a:xfrm>
            <a:off x="3124080" y="236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3124080" y="2895480"/>
            <a:ext cx="58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доклад профессора М. окажется запланированным на последний день конферен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3048120" y="4249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всех возмож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2171880" y="472428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50-30):2=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2300400" y="516240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TextBox 9" descr=""/>
          <p:cNvPicPr/>
          <p:nvPr/>
        </p:nvPicPr>
        <p:blipFill>
          <a:blip r:embed="rId2"/>
          <a:stretch/>
        </p:blipFill>
        <p:spPr>
          <a:xfrm>
            <a:off x="3425760" y="5059440"/>
            <a:ext cx="3743280" cy="7984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2476440" y="59436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2362320" y="121932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cc"/>
                </a:solidFill>
                <a:latin typeface="Times New Roman"/>
              </a:rPr>
              <a:t>Физ. минут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j0078740"/>
          <p:cNvPicPr/>
          <p:nvPr/>
        </p:nvPicPr>
        <p:blipFill>
          <a:blip r:embed="rId1"/>
          <a:stretch/>
        </p:blipFill>
        <p:spPr>
          <a:xfrm>
            <a:off x="533520" y="622440"/>
            <a:ext cx="1717560" cy="3143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Быстро так"/>
          <p:cNvPicPr/>
          <p:nvPr/>
        </p:nvPicPr>
        <p:blipFill>
          <a:blip r:embed="rId2"/>
          <a:stretch/>
        </p:blipFill>
        <p:spPr>
          <a:xfrm>
            <a:off x="6172200" y="2536920"/>
            <a:ext cx="236232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8600" y="12193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47920" y="106668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</a:rPr>
              <a:t>Повторение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Группа 3"/>
          <p:cNvGrpSpPr/>
          <p:nvPr/>
        </p:nvGrpSpPr>
        <p:grpSpPr>
          <a:xfrm>
            <a:off x="685800" y="2895480"/>
            <a:ext cx="2959200" cy="2438640"/>
            <a:chOff x="685800" y="2895480"/>
            <a:chExt cx="2959200" cy="2438640"/>
          </a:xfrm>
        </p:grpSpPr>
        <p:pic>
          <p:nvPicPr>
            <p:cNvPr id="94" name="Picture 6" descr="11971489111248351002Stellaris_Red_snooker_ball"/>
            <p:cNvPicPr/>
            <p:nvPr/>
          </p:nvPicPr>
          <p:blipFill>
            <a:blip r:embed="rId1"/>
            <a:stretch/>
          </p:blipFill>
          <p:spPr>
            <a:xfrm>
              <a:off x="1066680" y="289548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8" descr="11971489111248351002Stellaris_Red_snooker_ball"/>
            <p:cNvPicPr/>
            <p:nvPr/>
          </p:nvPicPr>
          <p:blipFill>
            <a:blip r:embed="rId2"/>
            <a:stretch/>
          </p:blipFill>
          <p:spPr>
            <a:xfrm>
              <a:off x="685800" y="350496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11971489111248351002Stellaris_Red_snooker_ball"/>
            <p:cNvPicPr/>
            <p:nvPr/>
          </p:nvPicPr>
          <p:blipFill>
            <a:blip r:embed="rId3"/>
            <a:stretch/>
          </p:blipFill>
          <p:spPr>
            <a:xfrm>
              <a:off x="838080" y="426708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0" descr="molumen_blue_cristal_ball"/>
            <p:cNvPicPr/>
            <p:nvPr/>
          </p:nvPicPr>
          <p:blipFill>
            <a:blip r:embed="rId4"/>
            <a:stretch/>
          </p:blipFill>
          <p:spPr>
            <a:xfrm>
              <a:off x="1752480" y="320004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2" descr="molumen_blue_cristal_ball"/>
            <p:cNvPicPr/>
            <p:nvPr/>
          </p:nvPicPr>
          <p:blipFill>
            <a:blip r:embed="rId5"/>
            <a:stretch/>
          </p:blipFill>
          <p:spPr>
            <a:xfrm>
              <a:off x="1447560" y="365760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9" descr="molumen_blue_cristal_ball"/>
            <p:cNvPicPr/>
            <p:nvPr/>
          </p:nvPicPr>
          <p:blipFill>
            <a:blip r:embed="rId6"/>
            <a:stretch/>
          </p:blipFill>
          <p:spPr>
            <a:xfrm>
              <a:off x="1371600" y="426708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3" descr="11971489111248351002Stellaris_Red_snooker_ball"/>
            <p:cNvPicPr/>
            <p:nvPr/>
          </p:nvPicPr>
          <p:blipFill>
            <a:blip r:embed="rId7"/>
            <a:stretch/>
          </p:blipFill>
          <p:spPr>
            <a:xfrm>
              <a:off x="2667240" y="312408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6" descr="molumen_blue_cristal_ball"/>
            <p:cNvPicPr/>
            <p:nvPr/>
          </p:nvPicPr>
          <p:blipFill>
            <a:blip r:embed="rId8"/>
            <a:stretch/>
          </p:blipFill>
          <p:spPr>
            <a:xfrm>
              <a:off x="2133720" y="358128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7" descr="11971489111248351002Stellaris_Red_snooker_ball"/>
            <p:cNvPicPr/>
            <p:nvPr/>
          </p:nvPicPr>
          <p:blipFill>
            <a:blip r:embed="rId9"/>
            <a:stretch/>
          </p:blipFill>
          <p:spPr>
            <a:xfrm>
              <a:off x="2819520" y="396252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8" descr="11971489111248351002Stellaris_Red_snooker_ball"/>
            <p:cNvPicPr/>
            <p:nvPr/>
          </p:nvPicPr>
          <p:blipFill>
            <a:blip r:embed="rId10"/>
            <a:stretch/>
          </p:blipFill>
          <p:spPr>
            <a:xfrm>
              <a:off x="2133720" y="4496040"/>
              <a:ext cx="8254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9" descr="ar129880905551715"/>
          <p:cNvPicPr/>
          <p:nvPr/>
        </p:nvPicPr>
        <p:blipFill>
          <a:blip r:embed="rId11"/>
          <a:stretch/>
        </p:blipFill>
        <p:spPr>
          <a:xfrm>
            <a:off x="5410080" y="3124080"/>
            <a:ext cx="27432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396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Самостоятельная работа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223920" y="838080"/>
            <a:ext cx="8762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Вася, Петя, Коля и Леша бросили жребий - кому начинать игру. Найдите вероятность того,  что начинать игру должен будет Пет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Игральный кубик  (кость) бросили один раз. Какова вероятность того, что выпало число очков, больше чем 4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В соревнованиях по толканию ядра участвуют 4 спортсмена из Финляндии, 7 спортсменов из Дании, 9 спортсменов из Швеции и 5- из Норвегии. Порядок, в котором выступают спортсмены, определяется жребием. Найдите вероятность того, что спортсмен, который выступает последним, окажется из Шве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В чемпионате по гимнастике участвуют 20 спортсменок: 8 из России, 7 из США, остальные – из Китая. Порядок, в котором выступают гимнастки, определяется жребием. Найдите вероятность того, что спортсменка, выступающая первой, окажется из Кит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 Фабрика выпускает сумки. В среднем на 10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Объект 2"/>
              <p:cNvSpPr txBox="1"/>
              <p:nvPr/>
            </p:nvSpPr>
            <p:spPr>
              <a:xfrm>
                <a:off x="762120" y="600120"/>
                <a:ext cx="3003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Объект 4"/>
              <p:cNvSpPr txBox="1"/>
              <p:nvPr/>
            </p:nvSpPr>
            <p:spPr>
              <a:xfrm>
                <a:off x="1219320" y="1981080"/>
                <a:ext cx="1941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Объект 6"/>
              <p:cNvSpPr txBox="1"/>
              <p:nvPr/>
            </p:nvSpPr>
            <p:spPr>
              <a:xfrm>
                <a:off x="785880" y="3498840"/>
                <a:ext cx="28652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Объект 8"/>
              <p:cNvSpPr txBox="1"/>
              <p:nvPr/>
            </p:nvSpPr>
            <p:spPr>
              <a:xfrm>
                <a:off x="762120" y="4881600"/>
                <a:ext cx="3106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Box 10"/>
          <p:cNvSpPr/>
          <p:nvPr/>
        </p:nvSpPr>
        <p:spPr>
          <a:xfrm>
            <a:off x="290880" y="87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29088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290880" y="370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289080" y="5046840"/>
            <a:ext cx="2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450324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Объект 16"/>
              <p:cNvSpPr txBox="1"/>
              <p:nvPr/>
            </p:nvSpPr>
            <p:spPr>
              <a:xfrm>
                <a:off x="5019840" y="1892160"/>
                <a:ext cx="41241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Box 18"/>
          <p:cNvSpPr/>
          <p:nvPr/>
        </p:nvSpPr>
        <p:spPr>
          <a:xfrm>
            <a:off x="4509360" y="38088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3200760" y="6094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Помнит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625320" y="1981080"/>
            <a:ext cx="78487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Times New Roman"/>
              </a:rPr>
              <a:t>Трудно дождаться удобного случая, но очень легко упустить 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Times New Roman"/>
              </a:rPr>
              <a:t>Публиций С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Ни один победитель не верит в случай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Фридрих Ниц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лучайные открытия делают только подготовленные у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лез Паска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3"/>
          <p:cNvSpPr/>
          <p:nvPr/>
        </p:nvSpPr>
        <p:spPr>
          <a:xfrm>
            <a:off x="422640" y="1600200"/>
            <a:ext cx="662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сё понятно и усвоено”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4049280" y="32004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трудно и не всё понят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529560" y="486396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нятно и не усвое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3057120" y="6094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Итоги уро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6858000" y="1600200"/>
            <a:ext cx="178128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1600200" y="2882880"/>
            <a:ext cx="1781280" cy="12193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5289480" y="4648320"/>
            <a:ext cx="17812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2" descr="Улыбочка"/>
          <p:cNvPicPr/>
          <p:nvPr/>
        </p:nvPicPr>
        <p:blipFill>
          <a:blip r:embed="rId1"/>
          <a:stretch/>
        </p:blipFill>
        <p:spPr>
          <a:xfrm>
            <a:off x="152280" y="81000"/>
            <a:ext cx="2130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&amp;Kcy;&amp;ocy;&amp;ncy;&amp;tcy;&amp;rcy;&amp;ocy;&amp;lcy;&amp;softcy;&amp;ncy;&amp;ycy;&amp;iecy; &amp;rcy;&amp;acy;&amp;bcy;&amp;ocy;&amp;tcy;&amp;ycy; &amp;pcy;&amp;ocy; &amp;vcy;&amp;ycy;&amp;scy;&amp;shcy;&amp;iecy;&amp;jcy; &amp;mcy;&amp;acy;&amp;tcy;&amp;iecy;&amp;mcy;&amp;acy;&amp;tcy;&amp;icy;&amp;kcy;&amp;iecy;, &amp;tcy;&amp;iecy;&amp;ocy;&amp;rcy;&amp;icy;&amp;icy; &amp;vcy;&amp;iecy;&amp;rcy;&amp;ocy;&amp;yacy;&amp;tcy;&amp;ncy;&amp;ocy;&amp;scy;&amp;tcy;&amp;iecy;&amp;jcy;…"/>
          <p:cNvPicPr/>
          <p:nvPr/>
        </p:nvPicPr>
        <p:blipFill>
          <a:blip r:embed="rId1"/>
          <a:stretch/>
        </p:blipFill>
        <p:spPr>
          <a:xfrm rot="1521600">
            <a:off x="6453360" y="4294080"/>
            <a:ext cx="2369880" cy="20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&amp;kcy;&amp;ocy;&amp;mcy;&amp;bcy;&amp;icy;&amp;ncy;&amp;acy;&amp;tscy;&amp;icy;&amp;yacy;"/>
          <p:cNvPicPr/>
          <p:nvPr/>
        </p:nvPicPr>
        <p:blipFill>
          <a:blip r:embed="rId2"/>
          <a:stretch/>
        </p:blipFill>
        <p:spPr>
          <a:xfrm rot="20771400">
            <a:off x="3677760" y="1323720"/>
            <a:ext cx="1798920" cy="23079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4057560" y="228600"/>
            <a:ext cx="33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з истор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" descr="&amp;Vcy;&amp;ocy;&amp;zcy;&amp;ncy;&amp;icy;&amp;kcy;&amp;ncy;&amp;ocy;&amp;vcy;&amp;iecy;&amp;ncy;&amp;icy;&amp;iecy; &amp;tcy;&amp;iecy;&amp;ocy;&amp;rcy;&amp;icy;&amp;icy; - &amp;Fcy;&amp;ocy;&amp;tcy;&amp;ocy; 26600-7"/>
          <p:cNvPicPr/>
          <p:nvPr/>
        </p:nvPicPr>
        <p:blipFill>
          <a:blip r:embed="rId3"/>
          <a:stretch/>
        </p:blipFill>
        <p:spPr>
          <a:xfrm>
            <a:off x="6781680" y="1246320"/>
            <a:ext cx="198144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&amp;Tcy;&amp;iecy;&amp;ocy;&amp;rcy;&amp;icy;&amp;yacy; &amp;vcy;&amp;iecy;&amp;rcy;&amp;ocy;&amp;yacy;&amp;tcy;&amp;ncy;&amp;ocy;&amp;scy;&amp;tcy;&amp;icy; - &amp;Vcy;&amp;iecy;&amp;rcy;&amp;ocy;&amp;yacy;&amp;tcy;&amp;ncy;&amp;ocy;&amp;scy;&amp;tcy;&amp;softcy; - &amp;Fcy;&amp;ocy;&amp;tcy;&amp;ocy; &amp;pcy;&amp;ocy; &amp;acy;&amp;lcy;&amp;gcy;&amp;iecy;&amp;bcy;&amp;rcy;&amp;iecy;"/>
          <p:cNvPicPr/>
          <p:nvPr/>
        </p:nvPicPr>
        <p:blipFill>
          <a:blip r:embed="rId4"/>
          <a:stretch/>
        </p:blipFill>
        <p:spPr>
          <a:xfrm>
            <a:off x="380880" y="3884760"/>
            <a:ext cx="284184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&amp;Ocy;&amp;tcy; &amp;icy;&amp;gcy;&amp;rcy;&amp;ycy; &amp;vcy; &amp;kcy;&amp;ocy;&amp;scy;&amp;tcy;&amp;icy; &amp;dcy;&amp;ocy; &amp;tcy;&amp;iecy;&amp;ocy;&amp;rcy;&amp;icy;&amp;icy; &amp;vcy;&amp;iecy;&amp;rcy;&amp;ocy;&amp;yacy;&amp;tcy;&amp;ncy;&amp;ocy;&amp;scy;&amp;tcy;&amp;iecy;&amp;jcy;."/>
          <p:cNvPicPr/>
          <p:nvPr/>
        </p:nvPicPr>
        <p:blipFill>
          <a:blip r:embed="rId5"/>
          <a:stretch/>
        </p:blipFill>
        <p:spPr>
          <a:xfrm>
            <a:off x="171360" y="830160"/>
            <a:ext cx="3054600" cy="229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FightinG FalcoN, Author at Russian Wikipedia Change"/>
          <p:cNvPicPr/>
          <p:nvPr/>
        </p:nvPicPr>
        <p:blipFill>
          <a:blip r:embed="rId6"/>
          <a:stretch/>
        </p:blipFill>
        <p:spPr>
          <a:xfrm>
            <a:off x="3962520" y="3884760"/>
            <a:ext cx="20192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" y="47484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ия вероятност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раздел математики, изучающий закономерности случайных явлений: случайные события, случайные величины, их свойства и операции над н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ия вероятносте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математическая наука, позволяющая по вероятностям одних случайных событий находить вероятности других случайных событий, связанных каким – либо образом с первы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3dmorf1007cb5"/>
          <p:cNvPicPr/>
          <p:nvPr/>
        </p:nvPicPr>
        <p:blipFill>
          <a:blip r:embed="rId1"/>
          <a:stretch/>
        </p:blipFill>
        <p:spPr>
          <a:xfrm>
            <a:off x="-228600" y="367344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6a2e6ed3a305c2b12a586e6ac2b"/>
          <p:cNvPicPr/>
          <p:nvPr/>
        </p:nvPicPr>
        <p:blipFill>
          <a:blip r:embed="rId2"/>
          <a:stretch/>
        </p:blipFill>
        <p:spPr>
          <a:xfrm>
            <a:off x="5181480" y="4173480"/>
            <a:ext cx="2590920" cy="200340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5"/>
          <p:cNvSpPr/>
          <p:nvPr/>
        </p:nvSpPr>
        <p:spPr>
          <a:xfrm>
            <a:off x="2209680" y="5715000"/>
            <a:ext cx="838440" cy="853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2" descr="solid-black-ball-hi"/>
          <p:cNvPicPr/>
          <p:nvPr/>
        </p:nvPicPr>
        <p:blipFill>
          <a:blip r:embed="rId3"/>
          <a:stretch/>
        </p:blipFill>
        <p:spPr>
          <a:xfrm>
            <a:off x="2692440" y="4979880"/>
            <a:ext cx="13716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1962000" y="457200"/>
            <a:ext cx="4621320" cy="878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264960" y="152388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В  толковом  словаре  С.И. Ожегова  и Н.Ю. Шведово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ероятность – возможность исполнения, осуществимости чего-нибуд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снователь современной теории вероятностей А.Н.Колмогор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ероятность математическая – это числовая характеристика степени возможности появления какого-либо определенного события в тех или иных определенных, могущих повторяться неограниченное число раз условиях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3"/>
          <p:cNvSpPr/>
          <p:nvPr/>
        </p:nvSpPr>
        <p:spPr>
          <a:xfrm flipH="1">
            <a:off x="3428640" y="1379520"/>
            <a:ext cx="369720" cy="27352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23720" y="2154240"/>
            <a:ext cx="34005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10ce"/>
              </a:gs>
              <a:gs pos="50000">
                <a:srgbClr val="eaeaea"/>
              </a:gs>
              <a:gs pos="100000">
                <a:srgbClr val="1010c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КЛАСС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1444680" y="4125960"/>
            <a:ext cx="37591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10ce"/>
              </a:gs>
              <a:gs pos="50000">
                <a:srgbClr val="eaeaea"/>
              </a:gs>
              <a:gs pos="100000">
                <a:srgbClr val="1010c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ТАТИСТ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4572000" y="5334120"/>
            <a:ext cx="40384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10ce"/>
              </a:gs>
              <a:gs pos="50000">
                <a:srgbClr val="eaeaea"/>
              </a:gs>
              <a:gs pos="100000">
                <a:srgbClr val="1010c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ЕОМЕТР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519280" y="76212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ВЕРОЯТ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2895120" y="1419120"/>
            <a:ext cx="855720" cy="7146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3914640" y="1420920"/>
            <a:ext cx="2600640" cy="3913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0006-006-Sluchajnost-i-zdravyj-smysl"/>
          <p:cNvPicPr/>
          <p:nvPr/>
        </p:nvPicPr>
        <p:blipFill>
          <a:blip r:embed="rId1"/>
          <a:stretch/>
        </p:blipFill>
        <p:spPr>
          <a:xfrm>
            <a:off x="5486400" y="4460760"/>
            <a:ext cx="3486240" cy="2409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18960" y="304920"/>
            <a:ext cx="85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Классическое определение вероятности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684360" y="1219320"/>
            <a:ext cx="777528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роятностью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ступления случайного событ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зывается отношен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гд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число всех возможных исходов эксперимента, 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число всех благоприятных исходов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2816280" cy="167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1245700894_72038"/>
          <p:cNvPicPr/>
          <p:nvPr/>
        </p:nvPicPr>
        <p:blipFill>
          <a:blip r:embed="rId3"/>
          <a:stretch/>
        </p:blipFill>
        <p:spPr>
          <a:xfrm rot="450600">
            <a:off x="-339840" y="4110120"/>
            <a:ext cx="2857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73200" y="4700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астное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/n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569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4" descr="Formyla"/>
          <p:cNvPicPr/>
          <p:nvPr/>
        </p:nvPicPr>
        <p:blipFill>
          <a:blip r:embed="rId1"/>
          <a:stretch/>
        </p:blipFill>
        <p:spPr>
          <a:xfrm>
            <a:off x="152280" y="152280"/>
            <a:ext cx="1543320" cy="2133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1904040" y="152280"/>
            <a:ext cx="685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горитм нахождения вероя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учайного собы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752480" y="1463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нахождения вероятности случайного события А при проведении некоторого испытания следует най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700200" y="2382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л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сех возможных исходов данного испыт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38280" y="342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тех исходов, в которых наступает             событие 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3872880" y="9036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ое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3"/>
              <p:cNvSpPr txBox="1"/>
              <p:nvPr/>
            </p:nvSpPr>
            <p:spPr>
              <a:xfrm>
                <a:off x="0" y="457200"/>
                <a:ext cx="33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25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Объект 10"/>
              <p:cNvSpPr txBox="1"/>
              <p:nvPr/>
            </p:nvSpPr>
            <p:spPr>
              <a:xfrm>
                <a:off x="152280" y="609480"/>
                <a:ext cx="33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оугольник 11"/>
          <p:cNvSpPr/>
          <p:nvPr/>
        </p:nvSpPr>
        <p:spPr>
          <a:xfrm>
            <a:off x="3429000" y="439272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но и будет равно вероятности события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5715000" y="5346720"/>
            <a:ext cx="1812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214280" y="21420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В урне лежат одинаковые шары</a:t>
            </a:r>
            <a:r>
              <a:rPr b="1" lang="en-US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5 белых, 3 красных и 2 зелёных. Саша вынимает один шар. Найдите вероятность того, что он окажется зелё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214960" y="57150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642960" y="17859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42960" y="264312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в урне лежит 5+3+2=10 шаров, из них 2 – зелёных. Вероятность того, что вынутый шар окажется зелёным, равна 2:10=0,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C:\Documents and Settings\Admin\Мои документы\Мои документы\для презентаций\рисунки\шарики\21.png"/>
          <p:cNvPicPr/>
          <p:nvPr/>
        </p:nvPicPr>
        <p:blipFill>
          <a:blip r:embed="rId1"/>
          <a:stretch/>
        </p:blipFill>
        <p:spPr>
          <a:xfrm rot="1626000">
            <a:off x="7859520" y="1790280"/>
            <a:ext cx="676080" cy="142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dmin\Мои документы\Мои документы\для презентаций\рисунки\шарики\21.png"/>
          <p:cNvPicPr/>
          <p:nvPr/>
        </p:nvPicPr>
        <p:blipFill>
          <a:blip r:embed="rId2"/>
          <a:stretch/>
        </p:blipFill>
        <p:spPr>
          <a:xfrm rot="2184000">
            <a:off x="8011800" y="1942920"/>
            <a:ext cx="676080" cy="14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Admin\Мои документы\Мои документы\для презентаций\рисунки\шарики\21.png"/>
          <p:cNvPicPr/>
          <p:nvPr/>
        </p:nvPicPr>
        <p:blipFill>
          <a:blip r:embed="rId3"/>
          <a:stretch/>
        </p:blipFill>
        <p:spPr>
          <a:xfrm rot="173400">
            <a:off x="7392960" y="1801440"/>
            <a:ext cx="677880" cy="142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4"/>
          <a:stretch/>
        </p:blipFill>
        <p:spPr>
          <a:xfrm>
            <a:off x="6715080" y="1500120"/>
            <a:ext cx="673200" cy="1467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Admin\Мои документы\Мои документы\для презентаций\рисунки\шарики\22.png"/>
          <p:cNvPicPr/>
          <p:nvPr/>
        </p:nvPicPr>
        <p:blipFill>
          <a:blip r:embed="rId5"/>
          <a:stretch/>
        </p:blipFill>
        <p:spPr>
          <a:xfrm>
            <a:off x="7643880" y="1071720"/>
            <a:ext cx="750960" cy="163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6"/>
          <a:stretch/>
        </p:blipFill>
        <p:spPr>
          <a:xfrm>
            <a:off x="7072200" y="2143080"/>
            <a:ext cx="673200" cy="1467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7"/>
          <a:stretch/>
        </p:blipFill>
        <p:spPr>
          <a:xfrm>
            <a:off x="8286840" y="1285920"/>
            <a:ext cx="672840" cy="1466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8"/>
          <a:stretch/>
        </p:blipFill>
        <p:spPr>
          <a:xfrm rot="942600">
            <a:off x="8115120" y="2634840"/>
            <a:ext cx="672840" cy="1467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:\Documents and Settings\Admin\Мои документы\Мои документы\для презентаций\рисунки\шарики\35.png"/>
          <p:cNvPicPr/>
          <p:nvPr/>
        </p:nvPicPr>
        <p:blipFill>
          <a:blip r:embed="rId9"/>
          <a:stretch/>
        </p:blipFill>
        <p:spPr>
          <a:xfrm>
            <a:off x="7072200" y="2786040"/>
            <a:ext cx="763560" cy="1779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Documents and Settings\Admin\Мои документы\Мои документы\для презентаций\рисунки\шарики\35.png"/>
          <p:cNvPicPr/>
          <p:nvPr/>
        </p:nvPicPr>
        <p:blipFill>
          <a:blip r:embed="rId10"/>
          <a:stretch/>
        </p:blipFill>
        <p:spPr>
          <a:xfrm>
            <a:off x="7715160" y="2571840"/>
            <a:ext cx="520920" cy="121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AMCONFUS"/>
          <p:cNvPicPr/>
          <p:nvPr/>
        </p:nvPicPr>
        <p:blipFill>
          <a:blip r:embed="rId11"/>
          <a:stretch/>
        </p:blipFill>
        <p:spPr>
          <a:xfrm>
            <a:off x="5572080" y="1428840"/>
            <a:ext cx="178596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тур</dc:creator>
  <dc:description/>
  <dc:language>en-US</dc:language>
  <cp:lastModifiedBy>артур</cp:lastModifiedBy>
  <dcterms:modified xsi:type="dcterms:W3CDTF">2015-06-09T12:52:09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