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BFE-242A-4B67-AD78-74E31C1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826-6E15-4396-9693-DB35B25F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854-2409-43ED-9E94-E2C1DF83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61D-134B-496F-AF89-84835CC1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E1CD-5747-4AAF-B882-9BA8988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73B7-D6C4-47D0-A806-CE125DC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C152-0811-43BE-A751-3040956C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71E-5361-4AEF-9C2A-1F9C328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CFF-A0C4-4430-8601-FF61D75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32D-4202-4CBD-8AE0-B5C3DEA6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966-680B-4C31-A692-2F2B816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59E-02AD-460B-A617-FA3F12C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9DEE-BCFD-4BFE-927B-934FB89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8FB-3163-486D-98A5-057E38D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DB9-2CA4-428D-B39C-B521072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2EB6-6A5C-4544-A3BF-F05A3DBA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DB3-A582-493C-8139-F6CFBCEA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189-E04F-4E7F-83B3-94B75521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538-6854-4C50-A523-93B168C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079-3D38-4F49-B416-EF431F0C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F60-2937-4CE7-9BE0-F077765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19F-70C9-4D63-A5A6-AC9BCE6F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435-567C-44C7-9C5B-5DD821D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ED7-6B14-4A6F-88E6-41785DDA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1F41-22F5-4100-9CB1-88EB04D90D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D00-74D2-4C5A-87DA-1BFFD969692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астер – класс по изготовлению ваховской кукл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44272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у выполнила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грак Лилия Романовн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еница  МОУ «Корликовская ОСШ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DSC02494"/>
          <p:cNvPicPr/>
          <p:nvPr/>
        </p:nvPicPr>
        <p:blipFill>
          <a:blip r:embed="rId1"/>
          <a:stretch/>
        </p:blipFill>
        <p:spPr>
          <a:xfrm>
            <a:off x="4427640" y="2349360"/>
            <a:ext cx="389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1360" y="1158480"/>
            <a:ext cx="7744680" cy="69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тступив на 0,5 – 1 см от первого отступа ткань сгибаем и делаем обвертывание. Продолжаем выполнять обвертывание пока не останется 8-10 см ткани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6" descr="DSC02499"/>
          <p:cNvPicPr/>
          <p:nvPr/>
        </p:nvPicPr>
        <p:blipFill>
          <a:blip r:embed="rId1"/>
          <a:stretch/>
        </p:blipFill>
        <p:spPr>
          <a:xfrm>
            <a:off x="1908000" y="2421000"/>
            <a:ext cx="60343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снова куклы готов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6" descr="DSC02505"/>
          <p:cNvPicPr/>
          <p:nvPr/>
        </p:nvPicPr>
        <p:blipFill>
          <a:blip r:embed="rId1"/>
          <a:stretch/>
        </p:blipFill>
        <p:spPr>
          <a:xfrm>
            <a:off x="1863720" y="2362320"/>
            <a:ext cx="564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деваем куклы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6" descr="DSC02506"/>
          <p:cNvPicPr/>
          <p:nvPr/>
        </p:nvPicPr>
        <p:blipFill>
          <a:blip r:embed="rId1"/>
          <a:stretch/>
        </p:blipFill>
        <p:spPr>
          <a:xfrm>
            <a:off x="1892160" y="2408400"/>
            <a:ext cx="5653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м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DSC02502"/>
          <p:cNvPicPr/>
          <p:nvPr/>
        </p:nvPicPr>
        <p:blipFill>
          <a:blip r:embed="rId1"/>
          <a:stretch/>
        </p:blipFill>
        <p:spPr>
          <a:xfrm>
            <a:off x="1622520" y="2408400"/>
            <a:ext cx="646272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уклы готовы, можно поигра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6" descr="DSC02511"/>
          <p:cNvPicPr/>
          <p:nvPr/>
        </p:nvPicPr>
        <p:blipFill>
          <a:blip r:embed="rId1"/>
          <a:stretch/>
        </p:blipFill>
        <p:spPr>
          <a:xfrm>
            <a:off x="1258920" y="2349360"/>
            <a:ext cx="6265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61240" y="378720"/>
            <a:ext cx="8021520" cy="14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DSC02512"/>
          <p:cNvPicPr/>
          <p:nvPr/>
        </p:nvPicPr>
        <p:blipFill>
          <a:blip r:embed="rId1"/>
          <a:stretch/>
        </p:blipFill>
        <p:spPr>
          <a:xfrm>
            <a:off x="1835280" y="2421000"/>
            <a:ext cx="5976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Берется полоска  ткани ( светлой, желательно однотонной) размером 50*15 с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5" descr="SL380024"/>
          <p:cNvPicPr/>
          <p:nvPr/>
        </p:nvPicPr>
        <p:blipFill>
          <a:blip r:embed="rId1"/>
          <a:stretch/>
        </p:blipFill>
        <p:spPr>
          <a:xfrm>
            <a:off x="1187280" y="2133720"/>
            <a:ext cx="6805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дин из краев собирае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4" descr="SL380025"/>
          <p:cNvPicPr/>
          <p:nvPr/>
        </p:nvPicPr>
        <p:blipFill>
          <a:blip r:embed="rId1"/>
          <a:stretch/>
        </p:blipFill>
        <p:spPr>
          <a:xfrm>
            <a:off x="1332000" y="2322360"/>
            <a:ext cx="669456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обранный конец накладываем на ткань, сгиба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придерживаем пальцем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SL380026"/>
          <p:cNvPicPr/>
          <p:nvPr/>
        </p:nvPicPr>
        <p:blipFill>
          <a:blip r:embed="rId1"/>
          <a:stretch/>
        </p:blipFill>
        <p:spPr>
          <a:xfrm>
            <a:off x="1619280" y="2492280"/>
            <a:ext cx="61214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Складываем бока к середине и формируем голов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SL380027"/>
          <p:cNvPicPr/>
          <p:nvPr/>
        </p:nvPicPr>
        <p:blipFill>
          <a:blip r:embed="rId1"/>
          <a:stretch/>
        </p:blipFill>
        <p:spPr>
          <a:xfrm>
            <a:off x="1547640" y="2492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Формируем голову, обтянем ниткой или этой же тканью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SL380028"/>
          <p:cNvPicPr/>
          <p:nvPr/>
        </p:nvPicPr>
        <p:blipFill>
          <a:blip r:embed="rId1"/>
          <a:stretch/>
        </p:blipFill>
        <p:spPr>
          <a:xfrm>
            <a:off x="1187280" y="2565360"/>
            <a:ext cx="65534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Голова гото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6" descr="DSC02497"/>
          <p:cNvPicPr/>
          <p:nvPr/>
        </p:nvPicPr>
        <p:blipFill>
          <a:blip r:embed="rId1"/>
          <a:stretch/>
        </p:blipFill>
        <p:spPr>
          <a:xfrm>
            <a:off x="1863720" y="2362320"/>
            <a:ext cx="564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Из отставшей части ткани формируем кукле туловище. Отступаем от края головы 8-10 см, ткань сгибаем и обвертываем под горлышко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3038040"/>
            <a:ext cx="7693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SL380029"/>
          <p:cNvPicPr/>
          <p:nvPr/>
        </p:nvPicPr>
        <p:blipFill>
          <a:blip r:embed="rId1"/>
          <a:stretch/>
        </p:blipFill>
        <p:spPr>
          <a:xfrm>
            <a:off x="900000" y="2421000"/>
            <a:ext cx="7272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SL380030"/>
          <p:cNvPicPr/>
          <p:nvPr/>
        </p:nvPicPr>
        <p:blipFill>
          <a:blip r:embed="rId1"/>
          <a:stretch/>
        </p:blipFill>
        <p:spPr>
          <a:xfrm>
            <a:off x="1619280" y="2708280"/>
            <a:ext cx="6696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6:08:33Z</dcterms:created>
  <dc:creator>Admin</dc:creator>
  <dc:description/>
  <dc:language>en-US</dc:language>
  <cp:lastModifiedBy>Admin</cp:lastModifiedBy>
  <dcterms:modified xsi:type="dcterms:W3CDTF">2007-12-31T21:24:37Z</dcterms:modified>
  <cp:revision>8</cp:revision>
  <dc:subject/>
  <dc:title>Слайд 1</dc:title>
</cp:coreProperties>
</file>