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840-25B0-4541-9E2D-FCDE6E93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1A0-D9D1-4F9A-9732-67D2F742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32D-8CA0-494B-9AD0-B0EBA237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D75-97ED-48CD-8752-98A94BB7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A589-2FB6-4CFE-8591-81E7B96A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42D-7886-4750-B8F8-3CAB7AD3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18E5-31F3-4E17-9FFF-825561C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A6A9-3B6C-43E6-876F-11DAD18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2906-ECD0-4AD4-A048-7A386059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10A-D429-4ED7-A3AC-325B1E4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40C-DF9F-4BCA-817B-71A3D6F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916-980E-4B8A-A4A6-1F3C9269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67FA-E184-4059-9C33-708D9B1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288-E0F0-4B5F-B9BB-07FE9A9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1B21-5953-4D6C-9D91-2311BB2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3CA-B500-4FAF-BF76-CB19ED18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8AF-79FA-4D68-83D6-0EADC88F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356-4C5A-4F9E-B44B-2836A449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780-7C7D-4240-963F-FDBBB921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575-9907-436E-81AF-F8939ED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B43-BBB5-4858-A6AC-30C1892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E47-7BAB-4630-B291-258D9BB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259-39EA-4AF7-9173-D9FC668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6E8-BE87-423F-B835-311EBFF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2C7E-8DEC-4925-BDEE-00CB022DF94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C19-480B-4864-A9E7-3EE0D6783F9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астер – класс по изготовлению ваховской кукл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44272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у выполнила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грак Лилия Романовн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еница  МОУ «Корликовская ОСШ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DSC02494"/>
          <p:cNvPicPr/>
          <p:nvPr/>
        </p:nvPicPr>
        <p:blipFill>
          <a:blip r:embed="rId1"/>
          <a:stretch/>
        </p:blipFill>
        <p:spPr>
          <a:xfrm>
            <a:off x="4427640" y="2349360"/>
            <a:ext cx="389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1360" y="1158480"/>
            <a:ext cx="7744680" cy="69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тступив на 0,5 – 1 см от первого отступа ткань сгибаем и делаем обвертывание. Продолжаем выполнять обвертывание пока не останется 8-10 см ткани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6" descr="DSC02499"/>
          <p:cNvPicPr/>
          <p:nvPr/>
        </p:nvPicPr>
        <p:blipFill>
          <a:blip r:embed="rId1"/>
          <a:stretch/>
        </p:blipFill>
        <p:spPr>
          <a:xfrm>
            <a:off x="1908000" y="2421000"/>
            <a:ext cx="60343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снова куклы готов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6" descr="DSC02505"/>
          <p:cNvPicPr/>
          <p:nvPr/>
        </p:nvPicPr>
        <p:blipFill>
          <a:blip r:embed="rId1"/>
          <a:stretch/>
        </p:blipFill>
        <p:spPr>
          <a:xfrm>
            <a:off x="1863720" y="2362320"/>
            <a:ext cx="564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деваем куклы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6" descr="DSC02506"/>
          <p:cNvPicPr/>
          <p:nvPr/>
        </p:nvPicPr>
        <p:blipFill>
          <a:blip r:embed="rId1"/>
          <a:stretch/>
        </p:blipFill>
        <p:spPr>
          <a:xfrm>
            <a:off x="1892160" y="2408400"/>
            <a:ext cx="56530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м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DSC02502"/>
          <p:cNvPicPr/>
          <p:nvPr/>
        </p:nvPicPr>
        <p:blipFill>
          <a:blip r:embed="rId1"/>
          <a:stretch/>
        </p:blipFill>
        <p:spPr>
          <a:xfrm>
            <a:off x="1622520" y="2408400"/>
            <a:ext cx="646272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уклы готовы, можно поигра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6" descr="DSC02511"/>
          <p:cNvPicPr/>
          <p:nvPr/>
        </p:nvPicPr>
        <p:blipFill>
          <a:blip r:embed="rId1"/>
          <a:stretch/>
        </p:blipFill>
        <p:spPr>
          <a:xfrm>
            <a:off x="1258920" y="2349360"/>
            <a:ext cx="6265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61240" y="378720"/>
            <a:ext cx="8021520" cy="14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DSC02512"/>
          <p:cNvPicPr/>
          <p:nvPr/>
        </p:nvPicPr>
        <p:blipFill>
          <a:blip r:embed="rId1"/>
          <a:stretch/>
        </p:blipFill>
        <p:spPr>
          <a:xfrm>
            <a:off x="1835280" y="2421000"/>
            <a:ext cx="5976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Берется полоска  ткани ( светлой, желательно однотонной) размером 50*15 с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5" descr="SL380024"/>
          <p:cNvPicPr/>
          <p:nvPr/>
        </p:nvPicPr>
        <p:blipFill>
          <a:blip r:embed="rId1"/>
          <a:stretch/>
        </p:blipFill>
        <p:spPr>
          <a:xfrm>
            <a:off x="1187280" y="2133720"/>
            <a:ext cx="6805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дин из краев собирае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4" descr="SL380025"/>
          <p:cNvPicPr/>
          <p:nvPr/>
        </p:nvPicPr>
        <p:blipFill>
          <a:blip r:embed="rId1"/>
          <a:stretch/>
        </p:blipFill>
        <p:spPr>
          <a:xfrm>
            <a:off x="1332000" y="2322360"/>
            <a:ext cx="669456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обранный конец накладываем на ткань, сгиба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придерживаем пальцем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SL380026"/>
          <p:cNvPicPr/>
          <p:nvPr/>
        </p:nvPicPr>
        <p:blipFill>
          <a:blip r:embed="rId1"/>
          <a:stretch/>
        </p:blipFill>
        <p:spPr>
          <a:xfrm>
            <a:off x="1619280" y="2492280"/>
            <a:ext cx="61214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Складываем бока к середине и формируем голов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SL380027"/>
          <p:cNvPicPr/>
          <p:nvPr/>
        </p:nvPicPr>
        <p:blipFill>
          <a:blip r:embed="rId1"/>
          <a:stretch/>
        </p:blipFill>
        <p:spPr>
          <a:xfrm>
            <a:off x="1547640" y="2492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Формируем голову, обтянем ниткой или этой же тканью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SL380028"/>
          <p:cNvPicPr/>
          <p:nvPr/>
        </p:nvPicPr>
        <p:blipFill>
          <a:blip r:embed="rId1"/>
          <a:stretch/>
        </p:blipFill>
        <p:spPr>
          <a:xfrm>
            <a:off x="1187280" y="2565360"/>
            <a:ext cx="65534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Голова гото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6" descr="DSC02497"/>
          <p:cNvPicPr/>
          <p:nvPr/>
        </p:nvPicPr>
        <p:blipFill>
          <a:blip r:embed="rId1"/>
          <a:stretch/>
        </p:blipFill>
        <p:spPr>
          <a:xfrm>
            <a:off x="1863720" y="2362320"/>
            <a:ext cx="564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Из отставшей части ткани формируем кукле туловище. Отступаем от края головы 8-10 см, ткань сгибаем и обвертываем под горлышко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3038040"/>
            <a:ext cx="7693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SL380029"/>
          <p:cNvPicPr/>
          <p:nvPr/>
        </p:nvPicPr>
        <p:blipFill>
          <a:blip r:embed="rId1"/>
          <a:stretch/>
        </p:blipFill>
        <p:spPr>
          <a:xfrm>
            <a:off x="900000" y="2421000"/>
            <a:ext cx="7272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SL380030"/>
          <p:cNvPicPr/>
          <p:nvPr/>
        </p:nvPicPr>
        <p:blipFill>
          <a:blip r:embed="rId1"/>
          <a:stretch/>
        </p:blipFill>
        <p:spPr>
          <a:xfrm>
            <a:off x="1619280" y="2708280"/>
            <a:ext cx="6696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6:08:33Z</dcterms:created>
  <dc:creator>Admin</dc:creator>
  <dc:description/>
  <dc:language>en-US</dc:language>
  <cp:lastModifiedBy>Admin</cp:lastModifiedBy>
  <dcterms:modified xsi:type="dcterms:W3CDTF">2007-12-31T21:24:37Z</dcterms:modified>
  <cp:revision>8</cp:revision>
  <dc:subject/>
  <dc:title>Слайд 1</dc:title>
</cp:coreProperties>
</file>