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3200-02F3-4FE3-96C9-E16D67D26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D8A5-03A5-4C79-9F36-4B4BB0F4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6B0C-06D2-4303-9112-D79165963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8B5B-8839-4861-B5AB-8528C05B4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2642-EC3E-43D9-A6C4-27B7F43B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1046-CD3F-4F3B-B593-427B2894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E44D-DC7C-42A1-87ED-C0E9BD26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B480-E18B-4443-8B95-99038596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37F1-1C4B-4453-B930-0BA723EE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E15-7CEC-44E0-80D1-A3D92DA4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FF1-6CBE-45F8-BB6F-80AD06C5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1B12-B595-4400-A8F7-14538687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FFA6-A7BA-4827-B8A3-F1FB5BFD58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aturallyadvanced.files.wordpress.com/2011/01/flax-field.jp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Картинка 126 из 1808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1447920" y="9144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Arial"/>
              </a:rPr>
              <a:t>Лён -- кормиле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2514600" y="4114800"/>
            <a:ext cx="62485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ите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узнецова Людмил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БОУ «Шаминская ОО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енью устанавливали в изб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росна (старинный ткацкий станок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ягивали из них основу и начинали  ткать. Забегали проворно челночки между нитками и из ниток выходил хол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ткацкий станок"/>
          <p:cNvPicPr/>
          <p:nvPr/>
        </p:nvPicPr>
        <p:blipFill>
          <a:blip r:embed="rId1"/>
          <a:srcRect l="0" t="0" r="18921" b="0"/>
          <a:stretch/>
        </p:blipFill>
        <p:spPr>
          <a:xfrm>
            <a:off x="2438280" y="1905120"/>
            <a:ext cx="441972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142640" y="228600"/>
            <a:ext cx="7467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холст был  готов, стали его на морозе морозить, по снегу расстилать; а весной расстилали его по траве на солнышке и взбрызгивали водой. Сделался холст из серого белым. Женщины из белого холста шили  новые, белые, как снег рубаше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сканирование0003 (3)"/>
          <p:cNvPicPr/>
          <p:nvPr/>
        </p:nvPicPr>
        <p:blipFill>
          <a:blip r:embed="rId1"/>
          <a:srcRect l="16962" t="0" r="18283" b="0"/>
          <a:stretch/>
        </p:blipFill>
        <p:spPr>
          <a:xfrm>
            <a:off x="3124080" y="2590920"/>
            <a:ext cx="320040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Поговорки и пословицы про лё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н – доходная культура, он и деньги, и на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домнешь мялкой – вспомнишь за прял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о лён вымотает, того и озоло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еешь лён—пожнёшь золо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земля родит лён, а мочи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Users\связной\Desktop\фоны для презентаций\matematika_carica_nauk_1.jpg"/>
          <p:cNvPicPr/>
          <p:nvPr/>
        </p:nvPicPr>
        <p:blipFill>
          <a:blip r:embed="rId1"/>
          <a:stretch/>
        </p:blipFill>
        <p:spPr>
          <a:xfrm>
            <a:off x="-155520" y="0"/>
            <a:ext cx="92995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0"/>
          <p:cNvSpPr/>
          <p:nvPr/>
        </p:nvSpPr>
        <p:spPr>
          <a:xfrm>
            <a:off x="457200" y="152388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н – это богатство нашей земли, её украшение, это гордость и слава России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не должны забывать прошлое наших предков (быт, культур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возрождать то забытое реме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:\Users\связной\Desktop\фоны для презентаций\matematika_carica_nauk_1.jpg"/>
          <p:cNvPicPr/>
          <p:nvPr/>
        </p:nvPicPr>
        <p:blipFill>
          <a:blip r:embed="rId1"/>
          <a:stretch/>
        </p:blipFill>
        <p:spPr>
          <a:xfrm>
            <a:off x="-155520" y="0"/>
            <a:ext cx="9299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0" y="1676520"/>
            <a:ext cx="82296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общить детей к истории быта и культуре  чувашского нар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значение льняных культур, важность труда земледель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ивать любовь к родному краю, воспитывать бережное отношение к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аждый из нас стремится познать окружающий мир, узнать много нового и интересного. Нам необходимо знание культуры и народного быта наших предков—чува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len[1]"/>
          <p:cNvPicPr/>
          <p:nvPr/>
        </p:nvPicPr>
        <p:blipFill>
          <a:blip r:embed="rId1"/>
          <a:stretch/>
        </p:blipFill>
        <p:spPr>
          <a:xfrm>
            <a:off x="1828800" y="2344680"/>
            <a:ext cx="5486400" cy="41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Загад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убой глазок, золотой стебе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ромный на ви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есь мир знаме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мит, одевает и дом украш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сканирование0001 (3)"/>
          <p:cNvPicPr/>
          <p:nvPr/>
        </p:nvPicPr>
        <p:blipFill>
          <a:blip r:embed="rId1">
            <a:lum bright="6000"/>
          </a:blip>
          <a:srcRect l="61740" t="19742" r="19254" b="13342"/>
          <a:stretch/>
        </p:blipFill>
        <p:spPr>
          <a:xfrm>
            <a:off x="6248520" y="533520"/>
            <a:ext cx="1787400" cy="60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н сеяли рано весной на хорошо удобренных почв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сканирование0001 (2)"/>
          <p:cNvPicPr/>
          <p:nvPr/>
        </p:nvPicPr>
        <p:blipFill>
          <a:blip r:embed="rId1"/>
          <a:srcRect l="15421" t="0" r="0" b="0"/>
          <a:stretch/>
        </p:blipFill>
        <p:spPr>
          <a:xfrm>
            <a:off x="5019840" y="1219320"/>
            <a:ext cx="339084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1[1]"/>
          <p:cNvPicPr/>
          <p:nvPr/>
        </p:nvPicPr>
        <p:blipFill>
          <a:blip r:embed="rId1"/>
          <a:srcRect l="6975" t="20631" r="45184" b="15628"/>
          <a:stretch/>
        </p:blipFill>
        <p:spPr>
          <a:xfrm>
            <a:off x="380880" y="533520"/>
            <a:ext cx="4114800" cy="6000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7960" y="609120"/>
            <a:ext cx="41907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головки забурели и подсохли, взрослые повыдергали весь лен с корнем, навязали снопиков и поставили их на поле просох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лен просох, то стали у него головки отрезывать; а потом потопили в речке безголовые пу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сканирование0001 (4)"/>
          <p:cNvPicPr/>
          <p:nvPr/>
        </p:nvPicPr>
        <p:blipFill>
          <a:blip r:embed="rId1"/>
          <a:stretch/>
        </p:blipFill>
        <p:spPr>
          <a:xfrm>
            <a:off x="1219320" y="1752480"/>
            <a:ext cx="6629400" cy="45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2819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ели через две  вынули лён из речки, просушили и стали колотить сначала доской на гумне, пото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репал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зубчатая дощечка, которой выколачивают, треплют лё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670px-BreakingFlax"/>
          <p:cNvPicPr/>
          <p:nvPr/>
        </p:nvPicPr>
        <p:blipFill>
          <a:blip r:embed="rId1"/>
          <a:srcRect l="9253" t="17363" r="39406" b="10520"/>
          <a:stretch/>
        </p:blipFill>
        <p:spPr>
          <a:xfrm>
            <a:off x="4419720" y="1295280"/>
            <a:ext cx="3276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029200" y="8380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ными зимними вечерами надели лён на гребни и стали из него нитки пря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сканирование0003 (2)"/>
          <p:cNvPicPr/>
          <p:nvPr/>
        </p:nvPicPr>
        <p:blipFill>
          <a:blip r:embed="rId1"/>
          <a:srcRect l="0" t="12624" r="0" b="0"/>
          <a:stretch/>
        </p:blipFill>
        <p:spPr>
          <a:xfrm>
            <a:off x="1066680" y="762120"/>
            <a:ext cx="35895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9:45:55Z</dcterms:created>
  <dc:creator>user</dc:creator>
  <dc:description/>
  <dc:language>en-US</dc:language>
  <cp:lastModifiedBy>User</cp:lastModifiedBy>
  <dcterms:modified xsi:type="dcterms:W3CDTF">2019-01-07T11:19:53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