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CDF-815C-4C02-8D53-16C35C3D6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039A-788F-4C6D-8A7B-02F7FB3B7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C08-4621-4A65-8069-F2CD1A116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CCAF-1C77-49D7-90AA-9AB418D6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64D0-950F-4918-8083-BAD7CBDA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A9A-8803-4474-A648-D5E671583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CBFF-620B-4A0D-9092-B599C2668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1281-05CD-4312-8787-33D48DD52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3820-5557-4654-90D8-5CA439FE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FA99-5928-4B30-9045-DA0D06A1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12A9-B937-4B2E-819E-71E35803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7CBD-00C1-4057-9670-D5309FE2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4170-DFD2-4771-A6E4-E889E1B753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aturallyadvanced.files.wordpress.com/2011/01/flax-field.jp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Картинка 126 из 18084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"/>
          <p:cNvSpPr/>
          <p:nvPr/>
        </p:nvSpPr>
        <p:spPr>
          <a:xfrm>
            <a:off x="1447920" y="91440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c00000"/>
                </a:solidFill>
                <a:latin typeface="Arial"/>
              </a:rPr>
              <a:t>Лён -- кормилец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1"/>
          <p:cNvSpPr/>
          <p:nvPr/>
        </p:nvSpPr>
        <p:spPr>
          <a:xfrm>
            <a:off x="2514600" y="4114800"/>
            <a:ext cx="62485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ите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узнецова Людмила Александро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БОУ «Шаминская ООШ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енью устанавливали в изб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росна (старинный ткацкий станок)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ягивали из них основу и начинали  ткать. Забегали проворно челночки между нитками и из ниток выходил холс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ткацкий станок"/>
          <p:cNvPicPr/>
          <p:nvPr/>
        </p:nvPicPr>
        <p:blipFill>
          <a:blip r:embed="rId1"/>
          <a:srcRect l="0" t="0" r="18921" b="0"/>
          <a:stretch/>
        </p:blipFill>
        <p:spPr>
          <a:xfrm>
            <a:off x="2438280" y="1905120"/>
            <a:ext cx="4419720" cy="40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142640" y="228600"/>
            <a:ext cx="74674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гда холст был  готов, стали его на морозе морозить, по снегу расстилать; а весной расстилали его по траве на солнышке и взбрызгивали водой. Сделался холст из серого белым. Женщины из белого холста шили  новые, белые, как снег рубаше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сканирование0003 (3)"/>
          <p:cNvPicPr/>
          <p:nvPr/>
        </p:nvPicPr>
        <p:blipFill>
          <a:blip r:embed="rId1"/>
          <a:srcRect l="16962" t="0" r="18283" b="0"/>
          <a:stretch/>
        </p:blipFill>
        <p:spPr>
          <a:xfrm>
            <a:off x="3124080" y="2590920"/>
            <a:ext cx="320040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Поговорки и пословицы про лё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 – доходная культура, он и деньги, и нату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домнешь мялкой – вспомнишь за прял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о лён вымотает, того и озолот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ешь лён—пожнёшь золот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земля родит лён, а мочи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Users\связной\Desktop\фоны для презентаций\matematika_carica_nauk_1.jpg"/>
          <p:cNvPicPr/>
          <p:nvPr/>
        </p:nvPicPr>
        <p:blipFill>
          <a:blip r:embed="rId1"/>
          <a:stretch/>
        </p:blipFill>
        <p:spPr>
          <a:xfrm>
            <a:off x="-15552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Box 10"/>
          <p:cNvSpPr/>
          <p:nvPr/>
        </p:nvSpPr>
        <p:spPr>
          <a:xfrm>
            <a:off x="457200" y="1523880"/>
            <a:ext cx="81532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 – это богатство нашей земли, её украшение, это гордость и слава России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не должны забывать прошлое наших предков (быт, культуру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 возрождать то забытое ремес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Users\связной\Desktop\фоны для презентаций\matematika_carica_nauk_1.jpg"/>
          <p:cNvPicPr/>
          <p:nvPr/>
        </p:nvPicPr>
        <p:blipFill>
          <a:blip r:embed="rId1"/>
          <a:stretch/>
        </p:blipFill>
        <p:spPr>
          <a:xfrm>
            <a:off x="-155520" y="0"/>
            <a:ext cx="929952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0" y="1676520"/>
            <a:ext cx="82296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Це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общить детей к истории быта и культуре  чувашского наро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льняных культур, важность труда земледельц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вивать любовь к родному краю, воспитывать бережное отношение к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Каждый из нас стремится познать окружающий мир, узнать много нового и интересного. Нам необходимо знание культуры и народного быта наших предков—чуваш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len[1]"/>
          <p:cNvPicPr/>
          <p:nvPr/>
        </p:nvPicPr>
        <p:blipFill>
          <a:blip r:embed="rId1"/>
          <a:stretch/>
        </p:blipFill>
        <p:spPr>
          <a:xfrm>
            <a:off x="1828800" y="2344680"/>
            <a:ext cx="5486400" cy="41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            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Загад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15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лубой глазок, золотой стебелё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ромный на вид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весь мир знамен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рмит, одевает и дом украш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сканирование0001 (3)"/>
          <p:cNvPicPr/>
          <p:nvPr/>
        </p:nvPicPr>
        <p:blipFill>
          <a:blip r:embed="rId1">
            <a:lum bright="6000"/>
          </a:blip>
          <a:srcRect l="61740" t="19742" r="19254" b="13342"/>
          <a:stretch/>
        </p:blipFill>
        <p:spPr>
          <a:xfrm>
            <a:off x="6248520" y="533520"/>
            <a:ext cx="1787400" cy="60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н сеяли рано весной на хорошо удобренных почв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сканирование0001 (2)"/>
          <p:cNvPicPr/>
          <p:nvPr/>
        </p:nvPicPr>
        <p:blipFill>
          <a:blip r:embed="rId1"/>
          <a:srcRect l="15421" t="0" r="0" b="0"/>
          <a:stretch/>
        </p:blipFill>
        <p:spPr>
          <a:xfrm>
            <a:off x="5019840" y="1219320"/>
            <a:ext cx="3390840" cy="48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1[1]"/>
          <p:cNvPicPr/>
          <p:nvPr/>
        </p:nvPicPr>
        <p:blipFill>
          <a:blip r:embed="rId1"/>
          <a:srcRect l="6975" t="20631" r="45184" b="15628"/>
          <a:stretch/>
        </p:blipFill>
        <p:spPr>
          <a:xfrm>
            <a:off x="380880" y="533520"/>
            <a:ext cx="4114800" cy="6000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47960" y="609120"/>
            <a:ext cx="41907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гда головки забурели и подсохли, взрослые повыдергали весь лен с корнем, навязали снопиков и поставили их на поле просохн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лен просох, то стали у него головки отрезывать; а потом потопили в речке безголовые пуч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сканирование0001 (4)"/>
          <p:cNvPicPr/>
          <p:nvPr/>
        </p:nvPicPr>
        <p:blipFill>
          <a:blip r:embed="rId1"/>
          <a:stretch/>
        </p:blipFill>
        <p:spPr>
          <a:xfrm>
            <a:off x="1219320" y="1752480"/>
            <a:ext cx="6629400" cy="45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609120"/>
            <a:ext cx="28195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ели через две  вынули лён из речки, просушили и стали колотить сначала доской на гумне, потом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епа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убчатая дощечка, которой выколачивают, треплют лё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1" descr="670px-BreakingFlax"/>
          <p:cNvPicPr/>
          <p:nvPr/>
        </p:nvPicPr>
        <p:blipFill>
          <a:blip r:embed="rId1"/>
          <a:srcRect l="9253" t="17363" r="39406" b="10520"/>
          <a:stretch/>
        </p:blipFill>
        <p:spPr>
          <a:xfrm>
            <a:off x="4419720" y="1295280"/>
            <a:ext cx="32763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29200" y="838080"/>
            <a:ext cx="3733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ми зимними вечерами надели лён на гребни и стали из него нитки пря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сканирование0003 (2)"/>
          <p:cNvPicPr/>
          <p:nvPr/>
        </p:nvPicPr>
        <p:blipFill>
          <a:blip r:embed="rId1"/>
          <a:srcRect l="0" t="12624" r="0" b="0"/>
          <a:stretch/>
        </p:blipFill>
        <p:spPr>
          <a:xfrm>
            <a:off x="1066680" y="762120"/>
            <a:ext cx="3589560" cy="45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9:45:55Z</dcterms:created>
  <dc:creator>user</dc:creator>
  <dc:description/>
  <dc:language>en-US</dc:language>
  <cp:lastModifiedBy>User</cp:lastModifiedBy>
  <dcterms:modified xsi:type="dcterms:W3CDTF">2019-01-07T11:19:53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