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7BC-5039-43ED-A32E-0D1F9231B6D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52D-BC74-4BB3-82AC-78CEF5D2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DC8-739E-44F3-900A-E616C4A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00C-714F-4E1E-A14D-DB6955B9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623-E9D4-4D82-BE1D-3E15E4BE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F0D-378C-49F4-A4FD-2BCCFC06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B5C-DB49-4EE2-95FD-30E2625F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925-6927-4A93-B36D-744B30CE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A8-7AB7-4464-AE4B-4692B7F8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B8B-41C6-4838-935C-1E636D0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A41-6358-4F55-8C8A-E82D4664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E4B-158E-45AB-96D8-1A1D58ED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D80-04BF-4C93-A49A-AF98C73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A2F-F248-4F08-8DA3-1258785119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Летом" descr="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0" name="лето2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ЯГОДЫ%20ЛЕТОМ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6" name="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09" name="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2" name="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1" name="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одберезовик" descr="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Боровик" descr="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ФРУКТЫ%20ЛЕТОМ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ВОЩИ%20ЛЕТОМ" descr="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упание" descr="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На%20пляже" descr="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лето" descr="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600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316" descr="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6334" descr="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ЛЕСНЫЕ%20ЯГОДЫ%20ЛЕТОМ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68" name="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6" name="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5" name="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41:32Z</dcterms:modified>
  <cp:revision>59</cp:revision>
  <dc:subject/>
  <dc:title>ЗИМА</dc:title>
</cp:coreProperties>
</file>