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1194-522C-43F8-BD7F-91746527A51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тепло. А иногда жар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ходят в легкой одежде (сарафанчиках, кофточке и шортах), с открытыми руками и но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поют птич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и кусты красуются в пышных зеленых нарядах. Земля тоже покрыта зеленой травой и цв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поесть вкусные ягоды. Они растут в лесу: земляника, черника, брусника и клюква. И в саду: клуби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ыжовник, красная и черная смородина. В конце лета в лесу появляются грибы, а в саду начинают созревать фрукты: ябло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ши; и овощи: помидоры, огурцы, редис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купаться в речке или море. А из песка на берегу можно делать куличики и строить за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очень краси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 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 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к сада в Монжер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Вид на Абрамцево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</a:t>
            </a: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лавная дорожка через сад в Живерн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нюф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4F7-65F3-4789-9135-207536C5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E5D-D205-4784-9240-373116D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423-C4AC-48CE-9CAF-6FE8953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17F-8FF6-43FF-9446-0A9D1229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25D-DD28-4661-AAE2-A5022829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E46-309F-49D3-80C4-756EEDF7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E27-F65B-4049-9D64-678EBC2E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C91-A75D-4083-95F7-F4BBD94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96B-D96B-42F0-B040-6F437F2B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EF1-D176-4735-B42B-494BCA8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B6A-3BBD-403D-B90F-9C6810E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F4B-2E4C-46B4-A3D2-3B1C1DD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E7FC-5476-4AD0-996B-53EAB3658A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Летом" descr=""/>
          <p:cNvPicPr/>
          <p:nvPr/>
        </p:nvPicPr>
        <p:blipFill>
          <a:blip r:embed="rId1"/>
          <a:stretch/>
        </p:blipFill>
        <p:spPr>
          <a:xfrm>
            <a:off x="0" y="619200"/>
            <a:ext cx="4373640" cy="5781600"/>
          </a:xfrm>
          <a:prstGeom prst="rect">
            <a:avLst/>
          </a:prstGeom>
          <a:ln w="0">
            <a:noFill/>
          </a:ln>
        </p:spPr>
      </p:pic>
      <p:pic>
        <p:nvPicPr>
          <p:cNvPr id="50" name="лето2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44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ЯГОДЫ%20ЛЕТОМ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686800" cy="6257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в сад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24600" y="5867280"/>
            <a:ext cx="1885680" cy="609840"/>
            <a:chOff x="5124600" y="5867280"/>
            <a:chExt cx="1885680" cy="609840"/>
          </a:xfrm>
        </p:grpSpPr>
        <p:sp>
          <p:nvSpPr>
            <p:cNvPr id="106" name=""/>
            <p:cNvSpPr/>
            <p:nvPr/>
          </p:nvSpPr>
          <p:spPr>
            <a:xfrm>
              <a:off x="5124600" y="5867280"/>
              <a:ext cx="188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24600" y="5867280"/>
              <a:ext cx="188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А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Л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76920" y="2286000"/>
            <a:ext cx="4190760" cy="1143000"/>
            <a:chOff x="4876920" y="2286000"/>
            <a:chExt cx="4190760" cy="1143000"/>
          </a:xfrm>
        </p:grpSpPr>
        <p:sp>
          <p:nvSpPr>
            <p:cNvPr id="109" name=""/>
            <p:cNvSpPr/>
            <p:nvPr/>
          </p:nvSpPr>
          <p:spPr>
            <a:xfrm>
              <a:off x="4876920" y="22860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2286000"/>
              <a:ext cx="4190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ЧЁ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Р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</a:t>
              </a:r>
              <a:r>
                <a:rPr b="0" lang="en-US" sz="3600" spc="-1" strike="noStrike">
                  <a:solidFill>
                    <a:srgbClr val="008000"/>
                  </a:solidFill>
                  <a:latin typeface="Impact"/>
                </a:rPr>
                <a:t> 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 и  К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 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О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О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ДИ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5410080"/>
            <a:ext cx="2819160" cy="609840"/>
            <a:chOff x="1447920" y="5410080"/>
            <a:chExt cx="2819160" cy="609840"/>
          </a:xfrm>
        </p:grpSpPr>
        <p:grpSp>
          <p:nvGrpSpPr>
            <p:cNvPr id="112" name=""/>
            <p:cNvGrpSpPr/>
            <p:nvPr/>
          </p:nvGrpSpPr>
          <p:grpSpPr>
            <a:xfrm>
              <a:off x="1449720" y="5412240"/>
              <a:ext cx="2815200" cy="605160"/>
              <a:chOff x="1449720" y="5412240"/>
              <a:chExt cx="2815200" cy="6051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449720" y="5412240"/>
                <a:ext cx="2815200" cy="360"/>
                <a:chOff x="1449720" y="5412240"/>
                <a:chExt cx="2815200" cy="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477800" y="5412240"/>
                  <a:ext cx="275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9720" y="5412240"/>
                  <a:ext cx="2815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449720" y="5412240"/>
                <a:ext cx="2815200" cy="605160"/>
                <a:chOff x="1449720" y="5412240"/>
                <a:chExt cx="2815200" cy="605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477800" y="5412240"/>
                  <a:ext cx="27586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К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Ы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ЖО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В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449720" y="5412240"/>
                  <a:ext cx="2815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1447920" y="5410080"/>
              <a:ext cx="2819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2057400"/>
            <a:ext cx="2343240" cy="609480"/>
            <a:chOff x="2057400" y="2057400"/>
            <a:chExt cx="2343240" cy="609480"/>
          </a:xfrm>
        </p:grpSpPr>
        <p:sp>
          <p:nvSpPr>
            <p:cNvPr id="121" name=""/>
            <p:cNvSpPr/>
            <p:nvPr/>
          </p:nvSpPr>
          <p:spPr>
            <a:xfrm>
              <a:off x="2057400" y="2057400"/>
              <a:ext cx="234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057400"/>
              <a:ext cx="2343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ЛУ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Б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Н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лета в лесу появляются гриб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одберезовик" descr=""/>
          <p:cNvPicPr/>
          <p:nvPr/>
        </p:nvPicPr>
        <p:blipFill>
          <a:blip r:embed="rId1"/>
          <a:stretch/>
        </p:blipFill>
        <p:spPr>
          <a:xfrm>
            <a:off x="282600" y="457200"/>
            <a:ext cx="421308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Боровик" descr=""/>
          <p:cNvPicPr/>
          <p:nvPr/>
        </p:nvPicPr>
        <p:blipFill>
          <a:blip r:embed="rId2"/>
          <a:stretch/>
        </p:blipFill>
        <p:spPr>
          <a:xfrm>
            <a:off x="4572000" y="657360"/>
            <a:ext cx="4419720" cy="4295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960" y="4952880"/>
            <a:ext cx="40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З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92560" y="49212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ФРУКТЫ%20ЛЕТОМ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91720" cy="505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а в саду начинают созревать фрук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2760" y="44197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4100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286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ВОЩИ%20ЛЕТОМ" descr=""/>
          <p:cNvPicPr/>
          <p:nvPr/>
        </p:nvPicPr>
        <p:blipFill>
          <a:blip r:embed="rId1"/>
          <a:stretch/>
        </p:blipFill>
        <p:spPr>
          <a:xfrm>
            <a:off x="533520" y="303120"/>
            <a:ext cx="8305560" cy="608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овощ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0" y="3473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880" y="2268360"/>
            <a:ext cx="25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6600" y="882720"/>
            <a:ext cx="25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М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1800" y="502920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лях собирают пшеницу и рожь, из которых потом пекут хле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57150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купаться в речке или мор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Купание" descr=""/>
          <p:cNvPicPr/>
          <p:nvPr/>
        </p:nvPicPr>
        <p:blipFill>
          <a:blip r:embed="rId1"/>
          <a:srcRect l="1430" t="0" r="1787" b="0"/>
          <a:stretch/>
        </p:blipFill>
        <p:spPr>
          <a:xfrm>
            <a:off x="3386160" y="0"/>
            <a:ext cx="57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з песка на берегу можно делать 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троить зам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На%20пляже" descr=""/>
          <p:cNvPicPr/>
          <p:nvPr/>
        </p:nvPicPr>
        <p:blipFill>
          <a:blip r:embed="rId1"/>
          <a:stretch/>
        </p:blipFill>
        <p:spPr>
          <a:xfrm>
            <a:off x="32814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1676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604" t="0" r="1718" b="0"/>
          <a:stretch/>
        </p:blipFill>
        <p:spPr>
          <a:xfrm>
            <a:off x="190512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тепло. А иногда жарко. Все ходят в легкой одежде с открытыми руками и ног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лето" descr=""/>
          <p:cNvPicPr/>
          <p:nvPr/>
        </p:nvPicPr>
        <p:blipFill>
          <a:blip r:embed="rId1"/>
          <a:srcRect l="0" t="0" r="8953" b="0"/>
          <a:stretch/>
        </p:blipFill>
        <p:spPr>
          <a:xfrm>
            <a:off x="1143000" y="457200"/>
            <a:ext cx="6781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красуются в пышных зеленых нарядах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 тоже покрыта зеленой трав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34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юду цветут цветы: в садах и пар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11811"/>
          <a:stretch/>
        </p:blipFill>
        <p:spPr>
          <a:xfrm>
            <a:off x="1247760" y="152280"/>
            <a:ext cx="66769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в лесу и на луг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6003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даже в пруду и речк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ют птич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316" descr=""/>
          <p:cNvPicPr/>
          <p:nvPr/>
        </p:nvPicPr>
        <p:blipFill>
          <a:blip r:embed="rId1"/>
          <a:srcRect l="0" t="5561" r="0" b="0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летают бабоч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6334" descr=""/>
          <p:cNvPicPr/>
          <p:nvPr/>
        </p:nvPicPr>
        <p:blipFill>
          <a:blip r:embed="rId1"/>
          <a:srcRect l="0" t="0" r="0" b="6663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ЛЕСНЫЕ%20ЯГОДЫ%20ЛЕТОМ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229600" cy="5781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поесть вкусные яг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ие ягоды растут в л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73400"/>
            <a:ext cx="2819520" cy="609480"/>
            <a:chOff x="1371600" y="2273400"/>
            <a:chExt cx="2819520" cy="609480"/>
          </a:xfrm>
        </p:grpSpPr>
        <p:grpSp>
          <p:nvGrpSpPr>
            <p:cNvPr id="68" name=""/>
            <p:cNvGrpSpPr/>
            <p:nvPr/>
          </p:nvGrpSpPr>
          <p:grpSpPr>
            <a:xfrm>
              <a:off x="1373400" y="2275560"/>
              <a:ext cx="2815560" cy="604800"/>
              <a:chOff x="1373400" y="2275560"/>
              <a:chExt cx="2815560" cy="6048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1373400" y="2275560"/>
                <a:ext cx="2815560" cy="360"/>
                <a:chOff x="1373400" y="2275560"/>
                <a:chExt cx="2815560" cy="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401480" y="2275560"/>
                  <a:ext cx="2759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373400" y="2275560"/>
                  <a:ext cx="2815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373400" y="2275560"/>
                <a:ext cx="2815560" cy="604800"/>
                <a:chOff x="1373400" y="2275560"/>
                <a:chExt cx="2815560" cy="604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401480" y="2275560"/>
                  <a:ext cx="275904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ЗЕ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М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ЛЯ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373400" y="2275560"/>
                  <a:ext cx="281556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1371600" y="22734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62120" y="5105520"/>
            <a:ext cx="1981080" cy="609480"/>
            <a:chOff x="762120" y="5105520"/>
            <a:chExt cx="198108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763200" y="5108760"/>
              <a:ext cx="1978560" cy="602280"/>
              <a:chOff x="763200" y="5108760"/>
              <a:chExt cx="1978560" cy="6022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763200" y="5108760"/>
                <a:ext cx="1978560" cy="360"/>
                <a:chOff x="763200" y="5108760"/>
                <a:chExt cx="1978560" cy="3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83000" y="5108760"/>
                  <a:ext cx="193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63200" y="5108760"/>
                  <a:ext cx="197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63200" y="5108760"/>
                <a:ext cx="1978560" cy="602280"/>
                <a:chOff x="763200" y="5108760"/>
                <a:chExt cx="1978560" cy="602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83000" y="5108760"/>
                  <a:ext cx="1938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Ж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В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63200" y="5108760"/>
                  <a:ext cx="19785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" name=""/>
            <p:cNvSpPr/>
            <p:nvPr/>
          </p:nvSpPr>
          <p:spPr>
            <a:xfrm>
              <a:off x="762120" y="51055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29200" y="5354640"/>
            <a:ext cx="2514600" cy="665280"/>
            <a:chOff x="5029200" y="5354640"/>
            <a:chExt cx="2514600" cy="665280"/>
          </a:xfrm>
        </p:grpSpPr>
        <p:grpSp>
          <p:nvGrpSpPr>
            <p:cNvPr id="86" name=""/>
            <p:cNvGrpSpPr/>
            <p:nvPr/>
          </p:nvGrpSpPr>
          <p:grpSpPr>
            <a:xfrm>
              <a:off x="5030640" y="5358240"/>
              <a:ext cx="2511360" cy="657720"/>
              <a:chOff x="5030640" y="5358240"/>
              <a:chExt cx="2511360" cy="6577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030640" y="5358240"/>
                <a:ext cx="2511360" cy="360"/>
                <a:chOff x="5030640" y="5358240"/>
                <a:chExt cx="251136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055840" y="5358240"/>
                  <a:ext cx="24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030640" y="5358240"/>
                  <a:ext cx="251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030640" y="5358240"/>
                <a:ext cx="2511360" cy="657720"/>
                <a:chOff x="5030640" y="5358240"/>
                <a:chExt cx="2511360" cy="6577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55840" y="5358240"/>
                  <a:ext cx="24609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Б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РУ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С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30640" y="5358240"/>
                  <a:ext cx="25113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>
              <a:off x="5029200" y="5354640"/>
              <a:ext cx="25146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781680" y="152280"/>
            <a:ext cx="2057400" cy="609840"/>
            <a:chOff x="6781680" y="152280"/>
            <a:chExt cx="2057400" cy="609840"/>
          </a:xfrm>
        </p:grpSpPr>
        <p:grpSp>
          <p:nvGrpSpPr>
            <p:cNvPr id="95" name=""/>
            <p:cNvGrpSpPr/>
            <p:nvPr/>
          </p:nvGrpSpPr>
          <p:grpSpPr>
            <a:xfrm>
              <a:off x="6782760" y="154440"/>
              <a:ext cx="2054520" cy="605160"/>
              <a:chOff x="6782760" y="154440"/>
              <a:chExt cx="2054520" cy="6051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6782760" y="154440"/>
                <a:ext cx="2054520" cy="360"/>
                <a:chOff x="6782760" y="154440"/>
                <a:chExt cx="2054520" cy="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03280" y="154440"/>
                  <a:ext cx="2013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82760" y="154440"/>
                  <a:ext cx="205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782760" y="154440"/>
                <a:ext cx="2054520" cy="605160"/>
                <a:chOff x="6782760" y="154440"/>
                <a:chExt cx="2054520" cy="605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803280" y="154440"/>
                  <a:ext cx="20131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Ч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782760" y="154440"/>
                  <a:ext cx="2054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6781680" y="1522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41:32Z</dcterms:modified>
  <cp:revision>59</cp:revision>
  <dc:subject/>
  <dc:title>ЗИМА</dc:title>
</cp:coreProperties>
</file>