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3FC6-D2A9-4F51-BD47-005F59171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ис Ага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8879-3A06-4D67-A380-7B2A05718A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иамин Каве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387B-56B1-48FD-B135-22F1AD651A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гений Швар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C3C9-9B2F-4F3D-8B87-2C8D9DF185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76C3-170F-47A0-8FEB-4B5D1BFDB0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силий Иванович Чап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ёдор Солог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BBF2-153A-4B21-A91B-C2D9CFBED3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дрей Плат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B4AF-8EC6-4CCB-97D6-E877AB9885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C27C-2A65-4702-9972-E032B58D1C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4F6-F5CC-4478-A374-7B1C62A9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3D0-BB63-4E03-AB61-E7738C96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022-0EB3-4CB4-8544-92632C36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094-4980-4296-A7D2-CB45A6E1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44D4-43F0-4DB1-BFC1-FAB01BA0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A9F9-6AD8-433E-A49C-52723A2C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9E14-EDC5-47D0-AC64-36A230F1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C306-05C4-4CB6-8507-4AB363FB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3724-8E12-4CC7-A9C3-5BDE2B13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3238-954E-465E-A913-84368C0B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C4C-5F88-4CA6-BEA7-68E9F579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585-3362-4F60-A6A1-F91974E3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8231-5F38-4946-BA7B-3BAFBF50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B4CF-E60F-4CE0-B4F0-6EDE89AF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5DD7-727E-492F-8D59-4F35BD2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5C2C-9973-4508-B8AA-0C5CF213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DCF5-D3AA-4FF6-AED8-08DD205B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EEA-3272-4594-AEB1-EA51AB64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FEE-7DEE-4DAC-88CD-58C18CA5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2DD-11AA-4AEE-9A10-0C8A2449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055-5E9F-4C35-ABCD-DD85E1FF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DA6-12DD-4A52-93E8-5E0ED6D8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24E-09E5-430D-85F9-CBAA95DF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6D4-6D45-4938-B97B-03F08441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400040"/>
            </a:solidFill>
            <a:ln w="442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40004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E9BA-6395-4E68-99D9-3F6ABCEB56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400040"/>
            </a:solidFill>
            <a:ln w="507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84B2-A0CA-4ABB-851A-E2BB06FCFBF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962280"/>
            <a:ext cx="510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Особенности русской литературы 20-х годов        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 века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Литературный процесс       1920-х годов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Конструктивисты»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Users\-\Desktop\ЛЦК\в луговской.jpg"/>
          <p:cNvPicPr/>
          <p:nvPr/>
        </p:nvPicPr>
        <p:blipFill>
          <a:blip r:embed="rId1"/>
          <a:stretch/>
        </p:blipFill>
        <p:spPr>
          <a:xfrm>
            <a:off x="380880" y="2895480"/>
            <a:ext cx="2590920" cy="32004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533520" y="62118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имир Лугов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C:\Users\-\Desktop\ЛЦК\вера инбер.jpg"/>
          <p:cNvPicPr/>
          <p:nvPr/>
        </p:nvPicPr>
        <p:blipFill>
          <a:blip r:embed="rId2"/>
          <a:stretch/>
        </p:blipFill>
        <p:spPr>
          <a:xfrm>
            <a:off x="2971800" y="1752480"/>
            <a:ext cx="3200400" cy="28958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6"/>
          <p:cNvSpPr/>
          <p:nvPr/>
        </p:nvSpPr>
        <p:spPr>
          <a:xfrm>
            <a:off x="3838680" y="51055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а Инб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C:\Users\-\Desktop\ЛЦК\б агапов.jpg"/>
          <p:cNvPicPr/>
          <p:nvPr/>
        </p:nvPicPr>
        <p:blipFill>
          <a:blip r:embed="rId3"/>
          <a:stretch/>
        </p:blipFill>
        <p:spPr>
          <a:xfrm>
            <a:off x="6248520" y="2971800"/>
            <a:ext cx="2514600" cy="30481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8"/>
          <p:cNvSpPr/>
          <p:nvPr/>
        </p:nvSpPr>
        <p:spPr>
          <a:xfrm>
            <a:off x="640080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ис Агап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Серапионовы брать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дея «бессмысленности» искусства, его независимости от «общественности»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Абсолютная стилевая самостоятельность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частники литобъединения «Серапионовы братья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" descr="C:\Users\-\Desktop\Серапионовы братья\лев лунц.jpg"/>
          <p:cNvPicPr/>
          <p:nvPr/>
        </p:nvPicPr>
        <p:blipFill>
          <a:blip r:embed="rId1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-\Desktop\Серапионовы братья\зощенко.jpg"/>
          <p:cNvPicPr/>
          <p:nvPr/>
        </p:nvPicPr>
        <p:blipFill>
          <a:blip r:embed="rId2"/>
          <a:stretch/>
        </p:blipFill>
        <p:spPr>
          <a:xfrm>
            <a:off x="1447920" y="3809880"/>
            <a:ext cx="2743200" cy="3048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-\Desktop\Серапионовы братья\федин.jpg"/>
          <p:cNvPicPr/>
          <p:nvPr/>
        </p:nvPicPr>
        <p:blipFill>
          <a:blip r:embed="rId3"/>
          <a:stretch/>
        </p:blipFill>
        <p:spPr>
          <a:xfrm>
            <a:off x="6324480" y="1295280"/>
            <a:ext cx="2590920" cy="2895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Users\-\Desktop\Серапионовы братья\каверин.jpg"/>
          <p:cNvPicPr/>
          <p:nvPr/>
        </p:nvPicPr>
        <p:blipFill>
          <a:blip r:embed="rId4"/>
          <a:stretch/>
        </p:blipFill>
        <p:spPr>
          <a:xfrm>
            <a:off x="5029200" y="3809880"/>
            <a:ext cx="281952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3124080" y="17524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в Лун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6477120" y="685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антин Фед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3048120" y="2971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аил Зощ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1"/>
          <p:cNvSpPr/>
          <p:nvPr/>
        </p:nvSpPr>
        <p:spPr>
          <a:xfrm>
            <a:off x="502920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иамин Каве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БЭРИУ – «Объединение реального искусств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- отказ от традиционных форм искусств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- обновление методов изображения действительност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- культивирование гротеска, алогизма, поэтики абсур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частники ОБЭРИУ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C:\Users\-\Desktop\ОБЭРИУ\даниил хармс.jpg"/>
          <p:cNvPicPr/>
          <p:nvPr/>
        </p:nvPicPr>
        <p:blipFill>
          <a:blip r:embed="rId1"/>
          <a:stretch/>
        </p:blipFill>
        <p:spPr>
          <a:xfrm>
            <a:off x="228600" y="2971800"/>
            <a:ext cx="2362320" cy="320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-\Desktop\ОБЭРИУ\александр введенский.jpg"/>
          <p:cNvPicPr/>
          <p:nvPr/>
        </p:nvPicPr>
        <p:blipFill>
          <a:blip r:embed="rId2"/>
          <a:stretch/>
        </p:blipFill>
        <p:spPr>
          <a:xfrm>
            <a:off x="2590920" y="2133720"/>
            <a:ext cx="2438280" cy="304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-\Desktop\ОБЭРИУ\Николай-Заболоцкий.jpg"/>
          <p:cNvPicPr/>
          <p:nvPr/>
        </p:nvPicPr>
        <p:blipFill>
          <a:blip r:embed="rId3"/>
          <a:stretch/>
        </p:blipFill>
        <p:spPr>
          <a:xfrm>
            <a:off x="4876920" y="1600200"/>
            <a:ext cx="2133360" cy="2894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-\Desktop\ОБЭРИУ\шварц.jpg"/>
          <p:cNvPicPr/>
          <p:nvPr/>
        </p:nvPicPr>
        <p:blipFill>
          <a:blip r:embed="rId4"/>
          <a:stretch/>
        </p:blipFill>
        <p:spPr>
          <a:xfrm>
            <a:off x="6781680" y="380880"/>
            <a:ext cx="2057400" cy="32767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0" y="6172200"/>
            <a:ext cx="54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ниил Харм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2590920" y="5181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ександр Введе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5029200" y="4495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олай Заболоц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10"/>
          <p:cNvSpPr/>
          <p:nvPr/>
        </p:nvSpPr>
        <p:spPr>
          <a:xfrm>
            <a:off x="701028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вгений Швар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.  Фурманов «Чапае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новная идея книги – перевоспитание крестьян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Pm01191"/>
          <p:cNvPicPr/>
          <p:nvPr/>
        </p:nvPicPr>
        <p:blipFill>
          <a:blip r:embed="rId1"/>
          <a:stretch/>
        </p:blipFill>
        <p:spPr>
          <a:xfrm>
            <a:off x="457200" y="2743200"/>
            <a:ext cx="2944800" cy="3276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839160" y="617220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митрий Фурм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6" descr="pch_010"/>
          <p:cNvPicPr/>
          <p:nvPr/>
        </p:nvPicPr>
        <p:blipFill>
          <a:blip r:embed="rId2"/>
          <a:stretch/>
        </p:blipFill>
        <p:spPr>
          <a:xfrm>
            <a:off x="5243400" y="2666880"/>
            <a:ext cx="3214800" cy="3353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5181480" y="6172200"/>
            <a:ext cx="30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силий Иванович Чапа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. С. Серафимович «Железный пото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евращение Таманской армии, больше похожей на стихийную толпу, в дисциплинированное войско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ps_085"/>
          <p:cNvPicPr/>
          <p:nvPr/>
        </p:nvPicPr>
        <p:blipFill>
          <a:blip r:embed="rId1"/>
          <a:stretch/>
        </p:blipFill>
        <p:spPr>
          <a:xfrm>
            <a:off x="5029200" y="3276720"/>
            <a:ext cx="3886200" cy="327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исатели и поэты, не вошедшие ни в одно литературное объедин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C:\Users\-\Desktop\вне литобъединений\мандельштам.jpg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Users\-\Desktop\вне литобъединений\ахматова.jpg"/>
          <p:cNvPicPr/>
          <p:nvPr/>
        </p:nvPicPr>
        <p:blipFill>
          <a:blip r:embed="rId2"/>
          <a:stretch/>
        </p:blipFill>
        <p:spPr>
          <a:xfrm>
            <a:off x="2133720" y="3809880"/>
            <a:ext cx="2438280" cy="2819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Users\-\Desktop\вне литобъединений\замятин.jpg"/>
          <p:cNvPicPr/>
          <p:nvPr/>
        </p:nvPicPr>
        <p:blipFill>
          <a:blip r:embed="rId3"/>
          <a:stretch/>
        </p:blipFill>
        <p:spPr>
          <a:xfrm>
            <a:off x="4343400" y="1676520"/>
            <a:ext cx="2362320" cy="2666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C:\Users\-\Desktop\вне литобъединений\сологуб.jpg"/>
          <p:cNvPicPr/>
          <p:nvPr/>
        </p:nvPicPr>
        <p:blipFill>
          <a:blip r:embed="rId4"/>
          <a:stretch/>
        </p:blipFill>
        <p:spPr>
          <a:xfrm>
            <a:off x="6477120" y="3733920"/>
            <a:ext cx="2438280" cy="28954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1"/>
          <p:cNvSpPr/>
          <p:nvPr/>
        </p:nvSpPr>
        <p:spPr>
          <a:xfrm>
            <a:off x="380880" y="4572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ип Мандельш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380880" y="5410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на Ахма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4724280" y="4419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вгений Замя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14"/>
          <p:cNvSpPr/>
          <p:nvPr/>
        </p:nvSpPr>
        <p:spPr>
          <a:xfrm>
            <a:off x="6781680" y="3244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ёдор Сологу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олеткуль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дея создания новой, пролетарской культуры путём развития творческой самодеятельности пролетариата, отрицание культурных традиций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Теоретики и руководители: Калинин Ф. И. , Плетнёв В. И. , Богданов А. А.  и др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эты : Герасимов М. П. , Казин В. В. , Александровский В. Д. и др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ПП  -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оссийская  ассоциация пролетарских писател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Лозунг «За живого человека в литературе»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зображение борьбы сознательного(пролетарского) с бессознательным (буржуазным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Борьба с «буржуазными» писателями «типа Гиппиус и Буниных. . . , Ахматовых и Ходасевичей»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 Рапповцы»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митрий Фурманов       Лев Авербах                      Александр Фаде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Pm01191"/>
          <p:cNvPicPr/>
          <p:nvPr/>
        </p:nvPicPr>
        <p:blipFill>
          <a:blip r:embed="rId1"/>
          <a:stretch/>
        </p:blipFill>
        <p:spPr>
          <a:xfrm>
            <a:off x="380880" y="1905120"/>
            <a:ext cx="2743200" cy="426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-\Desktop\авербах.jpg"/>
          <p:cNvPicPr/>
          <p:nvPr/>
        </p:nvPicPr>
        <p:blipFill>
          <a:blip r:embed="rId2"/>
          <a:stretch/>
        </p:blipFill>
        <p:spPr>
          <a:xfrm>
            <a:off x="3048120" y="190512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-\Desktop\Рапповцы\фадеев.jpg"/>
          <p:cNvPicPr/>
          <p:nvPr/>
        </p:nvPicPr>
        <p:blipFill>
          <a:blip r:embed="rId3"/>
          <a:stretch/>
        </p:blipFill>
        <p:spPr>
          <a:xfrm>
            <a:off x="6172200" y="1905120"/>
            <a:ext cx="2666880" cy="4267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Перевал» - оппоненты РАПП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лавные ценности в литературе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- искренность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- эстетическая культур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Задача творчества – «раскрытие   внутреннего мира», самовыражение писателя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Перевал» –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итературное объединение, возникшее в 1923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C:\Users\-\Desktop\перевал\александр воронский.jpg"/>
          <p:cNvPicPr/>
          <p:nvPr/>
        </p:nvPicPr>
        <p:blipFill>
          <a:blip r:embed="rId1"/>
          <a:stretch/>
        </p:blipFill>
        <p:spPr>
          <a:xfrm>
            <a:off x="380880" y="1752480"/>
            <a:ext cx="1743120" cy="2400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457200" y="43434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ександр Воронский – лидер «перевальце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C:\Users\-\Desktop\перевал\артём весёлый.jpg"/>
          <p:cNvPicPr/>
          <p:nvPr/>
        </p:nvPicPr>
        <p:blipFill>
          <a:blip r:embed="rId2"/>
          <a:stretch/>
        </p:blipFill>
        <p:spPr>
          <a:xfrm>
            <a:off x="1981080" y="1981080"/>
            <a:ext cx="1828800" cy="23623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22860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тём Весё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C:\Users\-\Desktop\перевал\светлов.jpg"/>
          <p:cNvPicPr/>
          <p:nvPr/>
        </p:nvPicPr>
        <p:blipFill>
          <a:blip r:embed="rId3"/>
          <a:stretch/>
        </p:blipFill>
        <p:spPr>
          <a:xfrm>
            <a:off x="3657600" y="2209680"/>
            <a:ext cx="167652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8"/>
          <p:cNvSpPr/>
          <p:nvPr/>
        </p:nvSpPr>
        <p:spPr>
          <a:xfrm>
            <a:off x="3809880" y="4648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аил Свет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C:\Users\-\Desktop\перевал\м пришвин.jpg"/>
          <p:cNvPicPr/>
          <p:nvPr/>
        </p:nvPicPr>
        <p:blipFill>
          <a:blip r:embed="rId4"/>
          <a:stretch/>
        </p:blipFill>
        <p:spPr>
          <a:xfrm>
            <a:off x="5334120" y="2438280"/>
            <a:ext cx="1828800" cy="2367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0"/>
          <p:cNvSpPr/>
          <p:nvPr/>
        </p:nvSpPr>
        <p:spPr>
          <a:xfrm>
            <a:off x="5410080" y="4800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аил Приш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C:\Users\-\Desktop\перевал\платонов.jpg"/>
          <p:cNvPicPr/>
          <p:nvPr/>
        </p:nvPicPr>
        <p:blipFill>
          <a:blip r:embed="rId5"/>
          <a:stretch/>
        </p:blipFill>
        <p:spPr>
          <a:xfrm>
            <a:off x="7086600" y="2743200"/>
            <a:ext cx="1752480" cy="23623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2"/>
          <p:cNvSpPr/>
          <p:nvPr/>
        </p:nvSpPr>
        <p:spPr>
          <a:xfrm>
            <a:off x="7238880" y="5105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дрей Плат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ЕФ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– «Левый фронт искусств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Революция формы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тказ от культурного наслед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тилитаризация искусств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Теория социального заказ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Лефовцы»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C:\Users\-\Desktop\Леф\маяковский.jpg"/>
          <p:cNvPicPr/>
          <p:nvPr/>
        </p:nvPicPr>
        <p:blipFill>
          <a:blip r:embed="rId1"/>
          <a:stretch/>
        </p:blipFill>
        <p:spPr>
          <a:xfrm>
            <a:off x="457200" y="1447920"/>
            <a:ext cx="2286000" cy="28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533520" y="4419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имир Маяк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C:\Users\-\Desktop\Леф\Н Асеев.jpg"/>
          <p:cNvPicPr/>
          <p:nvPr/>
        </p:nvPicPr>
        <p:blipFill>
          <a:blip r:embed="rId2"/>
          <a:stretch/>
        </p:blipFill>
        <p:spPr>
          <a:xfrm>
            <a:off x="3429000" y="1905120"/>
            <a:ext cx="2209680" cy="31240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3581280" y="518148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олай Асе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C:\Users\-\Desktop\Леф\осип брик.jpg"/>
          <p:cNvPicPr/>
          <p:nvPr/>
        </p:nvPicPr>
        <p:blipFill>
          <a:blip r:embed="rId3"/>
          <a:stretch/>
        </p:blipFill>
        <p:spPr>
          <a:xfrm>
            <a:off x="6553080" y="228600"/>
            <a:ext cx="2286000" cy="25909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9"/>
          <p:cNvSpPr/>
          <p:nvPr/>
        </p:nvSpPr>
        <p:spPr>
          <a:xfrm>
            <a:off x="6629400" y="2819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ип Бр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C:\Users\-\Desktop\Леф\Б Пастернак.jpg"/>
          <p:cNvPicPr/>
          <p:nvPr/>
        </p:nvPicPr>
        <p:blipFill>
          <a:blip r:embed="rId4"/>
          <a:stretch/>
        </p:blipFill>
        <p:spPr>
          <a:xfrm>
            <a:off x="6553080" y="3352680"/>
            <a:ext cx="228600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1"/>
          <p:cNvSpPr/>
          <p:nvPr/>
        </p:nvSpPr>
        <p:spPr>
          <a:xfrm>
            <a:off x="662940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ис Пастерн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ЛЦК» 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Литературный центр          конструктивистов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ксперименты в области формы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ивнесение элементов прозы в поэзию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спользование кинематографических приёмов в литературе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Расширение поэтического словаря, освоение жаргонов и профессиональной лексики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Близость поэзии производственной тематик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Татьяна</cp:lastModifiedBy>
  <dcterms:modified xsi:type="dcterms:W3CDTF">2018-12-09T06:39:2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