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D11-12C2-46B4-A6BA-199FDB311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ис Ага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9BF8-D6C6-436B-9902-B0476B6635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иамин Каве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9083-E542-4995-8883-C0F1608557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гений Швар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5C97-B1F0-45EA-B9CC-631D7905D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D06-CAAA-47CC-AA21-A934FE5393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ёдор Солог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0EB-D246-4029-9CCA-A348DF3BF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дрей Плат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5FB-4801-47A0-BEBE-AF0C9FABBA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CA66-76B8-408E-BC42-B58D463E70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17A-EA3C-482F-9127-8F2700FD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F1B-875F-4BBC-8A2C-D1F30DA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1FC-B447-438B-BE93-50803239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EC1-2040-4721-B09E-4B5522E0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212-990C-4491-9105-51E30733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3298-5892-4160-971E-E2DE871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9C2E-F392-46A5-85DD-10BDBA48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458E-FD71-4D56-902C-84FF90A1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6262-D004-4CA2-A2B9-CAEFE27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A23D-E760-42C1-B4B5-927AFB6E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D655-453F-450C-B2A1-89C5FFD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EB6-58DD-4EF0-8717-DEC1430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D1D6-8030-4978-9106-E97C05C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3429-33C6-4711-92D1-BCA507B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177-C339-4C84-A79F-5F15D310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47D7-278D-46FE-86E3-5B185918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6C41-028B-4B4F-B0CE-4D63BD9B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A28-7EB6-4565-AB29-1CCAD83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48F-8421-4105-84B7-600FF8E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B11-860E-495E-B9D1-EAFCE72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9FC-94F3-486B-B7EB-A8DAD0B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3E0-C635-4BBC-8450-3D41FC1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D7D-D60F-44C1-9F9B-7098A13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71A-8CEF-4474-A62D-2804A12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D0A-FD28-47C8-B28A-C4BAD08DF4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EE5F-1F63-4D31-9A93-81DE25B2F0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962280"/>
            <a:ext cx="510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Особенности русской литературы 20-х годов       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Литературный процесс       1920-х годов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Конструктивисты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Users\-\Desktop\ЛЦК\в луговской.jpg"/>
          <p:cNvPicPr/>
          <p:nvPr/>
        </p:nvPicPr>
        <p:blipFill>
          <a:blip r:embed="rId1"/>
          <a:stretch/>
        </p:blipFill>
        <p:spPr>
          <a:xfrm>
            <a:off x="380880" y="289548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533520" y="62118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 Лугов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C:\Users\-\Desktop\ЛЦК\вера инбер.jpg"/>
          <p:cNvPicPr/>
          <p:nvPr/>
        </p:nvPicPr>
        <p:blipFill>
          <a:blip r:embed="rId2"/>
          <a:stretch/>
        </p:blipFill>
        <p:spPr>
          <a:xfrm>
            <a:off x="2971800" y="1752480"/>
            <a:ext cx="3200400" cy="2895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3838680" y="51055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а Инб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C:\Users\-\Desktop\ЛЦК\б агапов.jpg"/>
          <p:cNvPicPr/>
          <p:nvPr/>
        </p:nvPicPr>
        <p:blipFill>
          <a:blip r:embed="rId3"/>
          <a:stretch/>
        </p:blipFill>
        <p:spPr>
          <a:xfrm>
            <a:off x="6248520" y="29718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640080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ис Агап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ерапионовы брать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дея «бессмысленности» искусства, его независимости от «общественности»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Абсолютная стилевая самостоятельность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астники литобъединения «Серапионовы братья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C:\Users\-\Desktop\Серапионовы братья\лев лунц.jpg"/>
          <p:cNvPicPr/>
          <p:nvPr/>
        </p:nvPicPr>
        <p:blipFill>
          <a:blip r:embed="rId1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-\Desktop\Серапионовы братья\зощенко.jpg"/>
          <p:cNvPicPr/>
          <p:nvPr/>
        </p:nvPicPr>
        <p:blipFill>
          <a:blip r:embed="rId2"/>
          <a:stretch/>
        </p:blipFill>
        <p:spPr>
          <a:xfrm>
            <a:off x="1447920" y="38098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-\Desktop\Серапионовы братья\федин.jpg"/>
          <p:cNvPicPr/>
          <p:nvPr/>
        </p:nvPicPr>
        <p:blipFill>
          <a:blip r:embed="rId3"/>
          <a:stretch/>
        </p:blipFill>
        <p:spPr>
          <a:xfrm>
            <a:off x="6324480" y="1295280"/>
            <a:ext cx="2590920" cy="289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-\Desktop\Серапионовы братья\каверин.jpg"/>
          <p:cNvPicPr/>
          <p:nvPr/>
        </p:nvPicPr>
        <p:blipFill>
          <a:blip r:embed="rId4"/>
          <a:stretch/>
        </p:blipFill>
        <p:spPr>
          <a:xfrm>
            <a:off x="5029200" y="38098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3124080" y="1752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в Лун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6477120" y="685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антин Фед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3048120" y="2971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Зощ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50292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иамин Каве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ЭРИУ – «Объединение реального искусств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отказ от традиционных форм искус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обновление методов изображения действительност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культивирование гротеска, алогизма, поэтики абсур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частники ОБЭРИУ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C:\Users\-\Desktop\ОБЭРИУ\даниил хармс.jpg"/>
          <p:cNvPicPr/>
          <p:nvPr/>
        </p:nvPicPr>
        <p:blipFill>
          <a:blip r:embed="rId1"/>
          <a:stretch/>
        </p:blipFill>
        <p:spPr>
          <a:xfrm>
            <a:off x="228600" y="2971800"/>
            <a:ext cx="236232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-\Desktop\ОБЭРИУ\александр введенский.jpg"/>
          <p:cNvPicPr/>
          <p:nvPr/>
        </p:nvPicPr>
        <p:blipFill>
          <a:blip r:embed="rId2"/>
          <a:stretch/>
        </p:blipFill>
        <p:spPr>
          <a:xfrm>
            <a:off x="2590920" y="2133720"/>
            <a:ext cx="243828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-\Desktop\ОБЭРИУ\Николай-Заболоцкий.jpg"/>
          <p:cNvPicPr/>
          <p:nvPr/>
        </p:nvPicPr>
        <p:blipFill>
          <a:blip r:embed="rId3"/>
          <a:stretch/>
        </p:blipFill>
        <p:spPr>
          <a:xfrm>
            <a:off x="4876920" y="1600200"/>
            <a:ext cx="2133360" cy="289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-\Desktop\ОБЭРИУ\шварц.jpg"/>
          <p:cNvPicPr/>
          <p:nvPr/>
        </p:nvPicPr>
        <p:blipFill>
          <a:blip r:embed="rId4"/>
          <a:stretch/>
        </p:blipFill>
        <p:spPr>
          <a:xfrm>
            <a:off x="6781680" y="380880"/>
            <a:ext cx="2057400" cy="32767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0" y="6172200"/>
            <a:ext cx="54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иил Харм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2590920" y="5181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андр Введ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5029200" y="4495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лай Заболоц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70102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гений Швар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.  Фурманов «Чапае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ная идея книги – перевоспитание крестьян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Pm01191"/>
          <p:cNvPicPr/>
          <p:nvPr/>
        </p:nvPicPr>
        <p:blipFill>
          <a:blip r:embed="rId1"/>
          <a:stretch/>
        </p:blipFill>
        <p:spPr>
          <a:xfrm>
            <a:off x="457200" y="2743200"/>
            <a:ext cx="2944800" cy="3276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839160" y="617220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ий Фурм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pch_010"/>
          <p:cNvPicPr/>
          <p:nvPr/>
        </p:nvPicPr>
        <p:blipFill>
          <a:blip r:embed="rId2"/>
          <a:stretch/>
        </p:blipFill>
        <p:spPr>
          <a:xfrm>
            <a:off x="5243400" y="2666880"/>
            <a:ext cx="3214800" cy="3353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5181480" y="617220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ий Иванович Чап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С. Серафимович «Железный пот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евращение Таманской армии, больше похожей на стихийную толпу, в дисциплинированное войско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ps_085"/>
          <p:cNvPicPr/>
          <p:nvPr/>
        </p:nvPicPr>
        <p:blipFill>
          <a:blip r:embed="rId1"/>
          <a:stretch/>
        </p:blipFill>
        <p:spPr>
          <a:xfrm>
            <a:off x="5029200" y="3276720"/>
            <a:ext cx="3886200" cy="327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исатели и поэты, не вошедшие ни в одно литературное объедин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C:\Users\-\Desktop\вне литобъединений\мандельштам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-\Desktop\вне литобъединений\ахматова.jpg"/>
          <p:cNvPicPr/>
          <p:nvPr/>
        </p:nvPicPr>
        <p:blipFill>
          <a:blip r:embed="rId2"/>
          <a:stretch/>
        </p:blipFill>
        <p:spPr>
          <a:xfrm>
            <a:off x="2133720" y="38098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-\Desktop\вне литобъединений\замятин.jpg"/>
          <p:cNvPicPr/>
          <p:nvPr/>
        </p:nvPicPr>
        <p:blipFill>
          <a:blip r:embed="rId3"/>
          <a:stretch/>
        </p:blipFill>
        <p:spPr>
          <a:xfrm>
            <a:off x="4343400" y="1676520"/>
            <a:ext cx="2362320" cy="2666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Users\-\Desktop\вне литобъединений\сологуб.jpg"/>
          <p:cNvPicPr/>
          <p:nvPr/>
        </p:nvPicPr>
        <p:blipFill>
          <a:blip r:embed="rId4"/>
          <a:stretch/>
        </p:blipFill>
        <p:spPr>
          <a:xfrm>
            <a:off x="6477120" y="373392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1"/>
          <p:cNvSpPr/>
          <p:nvPr/>
        </p:nvSpPr>
        <p:spPr>
          <a:xfrm>
            <a:off x="3808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ип Мандельш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380880" y="5410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на Ахма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472428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гений Замя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6781680" y="3244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ёдор Солог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леткуль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дея создания новой, пролетарской культуры путём развития творческой самодеятельности пролетариата, отрицание культурных традиций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Теоретики и руководители: Калинин Ф. И. , Плетнёв В. И. , Богданов А. А.  и др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эты : Герасимов М. П. , Казин В. В. , Александровский В. Д. и др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ПП  -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оссийская  ассоциация пролетарских писате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Лозунг «За живого человека в литературе»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зображение борьбы сознательного(пролетарского) с бессознательным (буржуазным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Борьба с «буржуазными» писателями «типа Гиппиус и Буниных. . . , Ахматовых и Ходасевичей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 Рапповцы»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митрий Фурманов       Лев Авербах                      Александр Фаде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Pm01191"/>
          <p:cNvPicPr/>
          <p:nvPr/>
        </p:nvPicPr>
        <p:blipFill>
          <a:blip r:embed="rId1"/>
          <a:stretch/>
        </p:blipFill>
        <p:spPr>
          <a:xfrm>
            <a:off x="380880" y="1905120"/>
            <a:ext cx="274320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-\Desktop\авербах.jpg"/>
          <p:cNvPicPr/>
          <p:nvPr/>
        </p:nvPicPr>
        <p:blipFill>
          <a:blip r:embed="rId2"/>
          <a:stretch/>
        </p:blipFill>
        <p:spPr>
          <a:xfrm>
            <a:off x="3048120" y="19051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-\Desktop\Рапповцы\фадеев.jpg"/>
          <p:cNvPicPr/>
          <p:nvPr/>
        </p:nvPicPr>
        <p:blipFill>
          <a:blip r:embed="rId3"/>
          <a:stretch/>
        </p:blipFill>
        <p:spPr>
          <a:xfrm>
            <a:off x="6172200" y="1905120"/>
            <a:ext cx="2666880" cy="426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Перевал» - оппоненты РАП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лавные ценности в литературе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искреннос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эстетическая культур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Задача творчества – «раскрытие   внутреннего мира», самовыражение писател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Перевал» 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итературное объединение, возникшее в 1923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-\Desktop\перевал\александр воронский.jpg"/>
          <p:cNvPicPr/>
          <p:nvPr/>
        </p:nvPicPr>
        <p:blipFill>
          <a:blip r:embed="rId1"/>
          <a:stretch/>
        </p:blipFill>
        <p:spPr>
          <a:xfrm>
            <a:off x="380880" y="1752480"/>
            <a:ext cx="1743120" cy="2400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457200" y="4343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андр Воронский – лидер «перевальце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C:\Users\-\Desktop\перевал\артём весёлый.jpg"/>
          <p:cNvPicPr/>
          <p:nvPr/>
        </p:nvPicPr>
        <p:blipFill>
          <a:blip r:embed="rId2"/>
          <a:stretch/>
        </p:blipFill>
        <p:spPr>
          <a:xfrm>
            <a:off x="1981080" y="198108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2286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ём Весё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C:\Users\-\Desktop\перевал\светлов.jpg"/>
          <p:cNvPicPr/>
          <p:nvPr/>
        </p:nvPicPr>
        <p:blipFill>
          <a:blip r:embed="rId3"/>
          <a:stretch/>
        </p:blipFill>
        <p:spPr>
          <a:xfrm>
            <a:off x="3657600" y="220968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380988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Свет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:\Users\-\Desktop\перевал\м пришвин.jpg"/>
          <p:cNvPicPr/>
          <p:nvPr/>
        </p:nvPicPr>
        <p:blipFill>
          <a:blip r:embed="rId4"/>
          <a:stretch/>
        </p:blipFill>
        <p:spPr>
          <a:xfrm>
            <a:off x="5334120" y="2438280"/>
            <a:ext cx="1828800" cy="2367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0"/>
          <p:cNvSpPr/>
          <p:nvPr/>
        </p:nvSpPr>
        <p:spPr>
          <a:xfrm>
            <a:off x="541008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Приш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C:\Users\-\Desktop\перевал\платонов.jpg"/>
          <p:cNvPicPr/>
          <p:nvPr/>
        </p:nvPicPr>
        <p:blipFill>
          <a:blip r:embed="rId5"/>
          <a:stretch/>
        </p:blipFill>
        <p:spPr>
          <a:xfrm>
            <a:off x="7086600" y="2743200"/>
            <a:ext cx="1752480" cy="2362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2"/>
          <p:cNvSpPr/>
          <p:nvPr/>
        </p:nvSpPr>
        <p:spPr>
          <a:xfrm>
            <a:off x="7238880" y="5105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дрей Плат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ЕФ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«Левый фронт искусст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Революция фор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тказ от культурного наслед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тилитаризация искусств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Теория социального заказ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Лефовцы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Users\-\Desktop\Леф\маяковский.jpg"/>
          <p:cNvPicPr/>
          <p:nvPr/>
        </p:nvPicPr>
        <p:blipFill>
          <a:blip r:embed="rId1"/>
          <a:stretch/>
        </p:blipFill>
        <p:spPr>
          <a:xfrm>
            <a:off x="457200" y="1447920"/>
            <a:ext cx="2286000" cy="28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533520" y="441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 Мая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C:\Users\-\Desktop\Леф\Н Асеев.jpg"/>
          <p:cNvPicPr/>
          <p:nvPr/>
        </p:nvPicPr>
        <p:blipFill>
          <a:blip r:embed="rId2"/>
          <a:stretch/>
        </p:blipFill>
        <p:spPr>
          <a:xfrm>
            <a:off x="3429000" y="190512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3581280" y="51814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лай А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C:\Users\-\Desktop\Леф\осип брик.jpg"/>
          <p:cNvPicPr/>
          <p:nvPr/>
        </p:nvPicPr>
        <p:blipFill>
          <a:blip r:embed="rId3"/>
          <a:stretch/>
        </p:blipFill>
        <p:spPr>
          <a:xfrm>
            <a:off x="6553080" y="2286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6629400" y="2819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ип Бр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:\Users\-\Desktop\Леф\Б Пастернак.jpg"/>
          <p:cNvPicPr/>
          <p:nvPr/>
        </p:nvPicPr>
        <p:blipFill>
          <a:blip r:embed="rId4"/>
          <a:stretch/>
        </p:blipFill>
        <p:spPr>
          <a:xfrm>
            <a:off x="6553080" y="335268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1"/>
          <p:cNvSpPr/>
          <p:nvPr/>
        </p:nvSpPr>
        <p:spPr>
          <a:xfrm>
            <a:off x="662940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ис Пастерн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ЛЦК» 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Литературный центр          конструктивистов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ксперименты в области фор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ивнесение элементов прозы в поэзию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спользование кинематографических приёмов в литературе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Расширение поэтического словаря, освоение жаргонов и профессиональной лексик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Близость поэзии производственной тематик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18-12-09T06:39:2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