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E16-9BF8-4F8C-A7A9-8D4EEBF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3FA-57FC-4C3E-A919-8069A7F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AB1-785A-4321-825E-23B0CD97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CC6-6ACA-40DA-8859-8EE6CBA9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20F-6A8C-4141-A36A-1B661B57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1ED9-4EDB-4868-B8AD-A40CDC18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1F3-8AA8-4A26-A1DF-D0F59B7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7AE5-E55B-4E73-9AC1-3CD8CA5C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6E7F-8A9A-487F-ADCB-91633F2A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4B0-11D6-4D33-99B6-F6AF70F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75D4-9988-4B8C-933F-AEDB2E4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7E6-18C0-472D-9219-02DD96B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94FA-1DDF-4E8E-9791-C094905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BD2-3B96-4450-990C-72CBFE9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CE3-58D1-4DAE-94E8-6BE944D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88FA-1BE1-44F1-BB2B-B7D5BD11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AE4C-4383-431C-8D55-0CB366B9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119-EC93-43F8-9D6C-F918C87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008-4D42-4EBD-A89A-0E8B4C02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A0C-724F-42F7-99FE-D3E2C08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D8F-2A07-46D4-8A2A-1085FFB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BAC-4DAD-4CAC-B82F-7C3F4E3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09B-7C33-4775-A83E-83C6C2F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6BB-526D-4A07-B97A-A6BB8D5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DBB-483E-47CA-877D-4E86520BA5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2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6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25B-AED2-484F-B49E-E7EFEE00A717}" type="slidenum">
              <a:rPr b="0" lang="ru-RU" sz="1200" spc="-1" strike="noStrike">
                <a:solidFill>
                  <a:srgbClr val="0026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музыка_для_физминутки.mp3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СОВРЕМЕННЫЕ ТРЕБОВАНИЯ К УРОКУ </a:t>
            </a:r>
            <a:br>
              <a:rPr sz="4600"/>
            </a:b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в соответствии с ФГОС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57909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Отчёт по теме самообразования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учителя математики и физики 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Шатиловой Н.Н.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00"/>
                </a:solidFill>
                <a:latin typeface="Arial"/>
              </a:rPr>
              <a:t>06.05.2015</a:t>
            </a:r>
            <a:endParaRPr b="0" lang="en-US" sz="16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352680" y="350532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Если мы будем учить сегодня так, как мы учили вчера, 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мы украдем у детей завтра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Джон Дьюи</a:t>
            </a:r>
            <a:endParaRPr b="0" lang="en-US" sz="2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333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ИКТ-ТЕХНОЛОГИИ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ПРОБЛЕМНОЕ ОБУЧЕНИЕ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МЕТОД ПРОЕКТ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МЕТОД ИССЛЕДОВАН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УРОВНЕВАЯ ДИФФЕРЕНЦИАЦ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Виды уроков 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с применением ИКТ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мультимедий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компьютерной поддержкой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Times New Roman"/>
              </a:rPr>
              <a:t>УРОК с выходом во всемирную сеть ИНТЕРНЕТ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90720" y="533520"/>
            <a:ext cx="5867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НУЖНО, ЧТОБЫ ДЕТ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ПО ВОЗМОЖНОСТ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УЧИЛИСЬ САМОСТОЯТЕЛЬНО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А УЧИТЕЛЬ РУКОВОДИЛ ЭТИ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САМОСТОЯТЕЛЬНЫМ ПРОЦЕССОМ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>
                    <a:alpha val="80000"/>
                  </a:srgbClr>
                </a:solidFill>
                <a:latin typeface="Times New Roman"/>
              </a:rPr>
              <a:t>И ДАВАЛ ДЛЯ НЕГО МАТЕРИАЛ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>
                  <a:alpha val="8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3809880" y="4267080"/>
            <a:ext cx="3591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Times New Roman"/>
              </a:rPr>
              <a:t>К. Д. УШ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А ОЦЕНИ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СА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ОЦЕНИВАНИЕ ОДНОКЛАССНИКОВ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600"/>
                </a:solidFill>
                <a:latin typeface="Arial"/>
              </a:rPr>
              <a:t>ВЗАИМООЦЕНКА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0" y="457200"/>
            <a:ext cx="9144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имер 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Урок по теме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умма углов треугольника»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геом. 7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роблемная ситуация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(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задание невыполнимое вообще): 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остройте треугольник 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 углами 9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, 12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, 600</a:t>
            </a:r>
            <a:r>
              <a:rPr b="1" lang="ru-RU" sz="4000" spc="-1" strike="noStrike" baseline="30000">
                <a:solidFill>
                  <a:srgbClr val="002600"/>
                </a:solidFill>
                <a:latin typeface="Times New Roman"/>
                <a:ea typeface="Times New Roman"/>
              </a:rPr>
              <a:t>0</a:t>
            </a:r>
            <a:r>
              <a:rPr b="1" lang="ru-RU" sz="40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0" y="3168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обуждающий диалог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Вы можете начертить такой треугольник?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обуждение к осознанию противоречия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еник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– Нет, не получается!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Осознание затруднения.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итель: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– Какой же вопрос возникает? </a:t>
            </a: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обуждение к формулировке проблемы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Ученик: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Почему не строится треугольник?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6b27"/>
                </a:solidFill>
                <a:latin typeface="Times New Roman"/>
                <a:ea typeface="Times New Roman"/>
              </a:rPr>
              <a:t>(Проблема как вопрос, не совпадающий с темой урока)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Формулировка учебной проблемы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0" y="3168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Диалог, побуждающий к выдвижению и проверке гипотезы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Начертите треугольник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Измерьте его углы транспортиром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Найдите сумму углов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акие результаты у вас получились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 какому круглому числу приближаются 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ваши результаты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Что же можно предположить о сумм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углов треугольника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Сверим вывод с учебником.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А почему у вас получились неточны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результаты?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3520" y="1066680"/>
          <a:ext cx="8076960" cy="4994280"/>
        </p:xfrm>
        <a:graphic>
          <a:graphicData uri="http://schemas.openxmlformats.org/drawingml/2006/table">
            <a:tbl>
              <a:tblPr/>
              <a:tblGrid>
                <a:gridCol w="6095880"/>
                <a:gridCol w="198108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Технология проблемного обучения на уроках физики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Современные урок в рамках внедрения ФГОС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О учителей МИФ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астер-класс «Формирование учебно-познавательной компетенции на уроках физики»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урок физики в 7 классе «Способы изменения давления»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3/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00"/>
                      </a:solidFill>
                    </a:lnL>
                    <a:lnR w="5760">
                      <a:solidFill>
                        <a:srgbClr val="0026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5760">
                      <a:solidFill>
                        <a:srgbClr val="002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ы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1295280"/>
          <a:ext cx="8381880" cy="5397480"/>
        </p:xfrm>
        <a:graphic>
          <a:graphicData uri="http://schemas.openxmlformats.org/drawingml/2006/table">
            <a:tbl>
              <a:tblPr/>
              <a:tblGrid>
                <a:gridCol w="5381640"/>
                <a:gridCol w="3000240"/>
              </a:tblGrid>
              <a:tr h="22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Использование ИКТ как средство повышения качества знаний учащихся, развитие их творческих способностей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О учителей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МИФ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19.11.2014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26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Развитие коммуникативных УУД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Педсовет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Системные обновления образования по физике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ГМО учителей физики 2014/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00"/>
                          </a:solidFill>
                          <a:latin typeface="Times New Roman"/>
                          <a:ea typeface="Times New Roman"/>
                        </a:rPr>
                        <a:t>29.01.2015</a:t>
                      </a:r>
                      <a:endParaRPr b="0" lang="en-US" sz="2800" spc="-1" strike="noStrike">
                        <a:solidFill>
                          <a:srgbClr val="002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52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ы выступления</a:t>
            </a:r>
            <a:endParaRPr b="0" lang="en-US" sz="4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держание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Введение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1. ФГОС и требования к  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современному уроку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2. Современный урок и сравнение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его с традиционным уроком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Глава 3. Технологическая карта урока – 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что это.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Список литературы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600"/>
                </a:solidFill>
                <a:latin typeface="Arial"/>
              </a:rPr>
              <a:t>ПРИЛОЖЕНИЯ</a:t>
            </a:r>
            <a:endParaRPr b="0" lang="en-US" sz="30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1676520" cy="6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ГО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ЦЕЛ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ОДЕРЖ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ТЕХНОЛОГИИ ОБУЧЕНИЯ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209680" y="533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9900"/>
          </a:solidFill>
          <a:ln w="9360">
            <a:solidFill>
              <a:srgbClr val="0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38088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НЫЕ обновления</a:t>
            </a:r>
            <a:endParaRPr b="0" lang="en-US" sz="3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ль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ВОСПИТАНИЕ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НРАВ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ОТВЕТСТВЕННОГО,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ИНИЦИАТИВНОГО И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КОМПЕТЕНТНОГО 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00"/>
                </a:solidFill>
                <a:latin typeface="Arial"/>
              </a:rPr>
              <a:t>ГРАЖДАНИНА России</a:t>
            </a:r>
            <a:endParaRPr b="0" lang="en-US" sz="32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СИСТЕМНО-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ДЕЯТЕЛЬНОСТНЫЙ 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600"/>
                </a:solidFill>
                <a:latin typeface="Arial"/>
              </a:rPr>
              <a:t>ПОДХОД</a:t>
            </a:r>
            <a:endParaRPr b="0" lang="en-US" sz="48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УУД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Личност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6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54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ВАЯ КОНЦЕПЦИЯ ОБРАЗ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УМЕНИЕ УЧИТЬС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ЛИЧНОСТНЫЙ ПРОЦЕСС ОБРАЗОВАНИЯ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ЦЕЛЕНАПРАВЛЕННОСТЬ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600"/>
                </a:solidFill>
                <a:latin typeface="Arial"/>
              </a:rPr>
              <a:t>СОТРУДНИЧЕСТВО</a:t>
            </a:r>
            <a:endParaRPr b="0" lang="en-US" sz="3600" spc="-1" strike="noStrike">
              <a:solidFill>
                <a:srgbClr val="0026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22:34:49Z</dcterms:created>
  <dc:creator>Win</dc:creator>
  <dc:description/>
  <dc:language>en-US</dc:language>
  <cp:lastModifiedBy>Нина</cp:lastModifiedBy>
  <dcterms:modified xsi:type="dcterms:W3CDTF">2017-04-25T19:06:1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