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B0F-19A3-4E8B-8A4B-F118B06A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676-EAAA-48E8-9934-1784D6F9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2B1-F325-445F-AD69-3360564A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DE2-8846-4A2F-B66F-F35E1FCE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EA24-87F0-4A67-A6C8-C4D1E28F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337-EE8D-46D8-9084-C4DF99E5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45C3-9C8C-44B1-8268-8DB136FC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4D12-7F98-401D-A741-C3965348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F207-BEFE-41E0-BAEC-54E059F6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98C-C737-4E35-9432-25865C1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A7E-AB2D-4604-8B3A-BAEA79B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F5B-C820-4B49-8B9B-BA7BFE9C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18FD-4D3A-4B26-A524-DCACDE93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6F32-D4EE-4915-BDEB-208C10C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7C03-9F72-4726-B3E0-B649D0BE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B11D-E97A-43CE-B0FB-BD8DB1A4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CA33-6AC0-4F8A-A094-B7F67F34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532-DF2E-489F-956C-4E052834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FE3-F3D0-40AA-A243-75E6A961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FDD-A319-452D-BD3B-EBC89E06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943-90D2-4663-94E4-57E39F45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CFE-3C5E-4E9A-925C-A9667E13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AE9-DA03-46BF-89A7-CE0FB95D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104-8329-4C32-BC9B-F08A4968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FE02-184E-42AD-AE95-FE76E4CA19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F9D9-E783-4A38-A4EF-8EE7BC29D7D0}" type="slidenum">
              <a:rPr b="0" lang="ru-RU" sz="1200" spc="-1" strike="noStrike">
                <a:solidFill>
                  <a:srgbClr val="0026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музыка_для_физминутки.mp3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СОВРЕМЕННЫЕ ТРЕБОВАНИЯ К УРОКУ </a:t>
            </a:r>
            <a:br>
              <a:rPr sz="4600"/>
            </a:b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в соответствии с ФГОС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560" y="57909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Arial"/>
              </a:rPr>
              <a:t>Отчёт по теме самообразования</a:t>
            </a:r>
            <a:endParaRPr b="0" lang="en-US" sz="1600" spc="-1" strike="noStrike">
              <a:solidFill>
                <a:srgbClr val="0026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Arial"/>
              </a:rPr>
              <a:t>учителя математики и физики </a:t>
            </a:r>
            <a:endParaRPr b="0" lang="en-US" sz="1600" spc="-1" strike="noStrike">
              <a:solidFill>
                <a:srgbClr val="0026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Arial"/>
              </a:rPr>
              <a:t>Шатиловой Н.Н.</a:t>
            </a:r>
            <a:endParaRPr b="0" lang="en-US" sz="1600" spc="-1" strike="noStrike">
              <a:solidFill>
                <a:srgbClr val="0026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Arial"/>
              </a:rPr>
              <a:t>06.05.2015</a:t>
            </a:r>
            <a:endParaRPr b="0" lang="en-US" sz="16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352680" y="3505320"/>
            <a:ext cx="518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Если мы будем учить сегодня так, как мы учили вчера, 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мы украдем у детей завтра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Джон Дьюи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333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ХНОЛОГ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ИКТ-ТЕХНОЛОГИИ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ПРОБЛЕМНОЕ ОБУЧЕНИЕ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МЕТОД ПРОЕКТОВ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МЕТОД ИССЛЕДОВАНИЯ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УРОВНЕВАЯ ДИФФЕРЕНЦИАЦИЯ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Виды уроков 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с применением ИКТ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мультимедийной поддержкой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компьютерной поддержкой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выходом во всемирную сеть ИНТЕРНЕТ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3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90720" y="533520"/>
            <a:ext cx="58672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НУЖНО, ЧТОБЫ ДЕТИ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ПО ВОЗМОЖНОСТИ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УЧИЛИСЬ САМОСТОЯТЕЛЬНО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А УЧИТЕЛЬ РУКОВОДИЛ ЭТИ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САМОСТОЯТЕЛЬНЫМ ПРОЦЕССО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И ДАВАЛ ДЛЯ НЕГО МАТЕРИАЛ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3809880" y="4267080"/>
            <a:ext cx="3591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Times New Roman"/>
              </a:rPr>
              <a:t>К. Д. УШИНСК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СТЕМА ОЦЕНИ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САМООЦЕНКА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ОЦЕНИВАНИЕ ОДНОКЛАССНИКОВ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ВЗАИМООЦЕНКА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0" y="457200"/>
            <a:ext cx="91440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мер 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Урок по теме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умма углов треугольника»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геом. 7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Проблемная ситуация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(</a:t>
            </a: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задание невыполнимое вообще): 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Постройте треугольник 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 углами 900</a:t>
            </a:r>
            <a:r>
              <a:rPr b="1" lang="ru-RU" sz="4000" spc="-1" strike="noStrike" baseline="30000">
                <a:solidFill>
                  <a:srgbClr val="002600"/>
                </a:solidFill>
                <a:latin typeface="Times New Roman"/>
                <a:ea typeface="Times New Roman"/>
              </a:rPr>
              <a:t>0</a:t>
            </a: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, 1200</a:t>
            </a:r>
            <a:r>
              <a:rPr b="1" lang="ru-RU" sz="4000" spc="-1" strike="noStrike" baseline="30000">
                <a:solidFill>
                  <a:srgbClr val="002600"/>
                </a:solidFill>
                <a:latin typeface="Times New Roman"/>
                <a:ea typeface="Times New Roman"/>
              </a:rPr>
              <a:t>0</a:t>
            </a: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, 600</a:t>
            </a:r>
            <a:r>
              <a:rPr b="1" lang="ru-RU" sz="4000" spc="-1" strike="noStrike" baseline="30000">
                <a:solidFill>
                  <a:srgbClr val="002600"/>
                </a:solidFill>
                <a:latin typeface="Times New Roman"/>
                <a:ea typeface="Times New Roman"/>
              </a:rPr>
              <a:t>0</a:t>
            </a: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0" y="3168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Побуждающий диалог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Учитель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Вы можете начертить такой треугольник?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6b27"/>
                </a:solidFill>
                <a:latin typeface="Times New Roman"/>
                <a:ea typeface="Times New Roman"/>
              </a:rPr>
              <a:t>(Побуждение к осознанию противоречия)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Ученик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– Нет, не получается!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6b27"/>
                </a:solidFill>
                <a:latin typeface="Times New Roman"/>
                <a:ea typeface="Times New Roman"/>
              </a:rPr>
              <a:t>(Осознание затруднения.)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Учитель: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– Какой же вопрос возникает? </a:t>
            </a:r>
            <a:r>
              <a:rPr b="1" i="1" lang="ru-RU" sz="3200" spc="-1" strike="noStrike">
                <a:solidFill>
                  <a:srgbClr val="316b27"/>
                </a:solidFill>
                <a:latin typeface="Times New Roman"/>
                <a:ea typeface="Times New Roman"/>
              </a:rPr>
              <a:t>(Побуждение к формулировке проблемы)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Ученик: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Почему не строится треугольник?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6b27"/>
                </a:solidFill>
                <a:latin typeface="Times New Roman"/>
                <a:ea typeface="Times New Roman"/>
              </a:rPr>
              <a:t>(Проблема как вопрос, не совпадающий с темой урока)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Формулировка учебной проблемы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0" y="3168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Диалог, побуждающий к выдвижению и проверке гипотезы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      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Начертите треугольник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Измерьте его углы транспортиром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Найдите сумму углов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Какие результаты у вас получились?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К какому круглому числу приближаются 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ваши результаты?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Что же можно предположить о сумм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углов треугольника?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верим вывод с учебником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А почему у вас получились неточны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результаты?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33520" y="1066680"/>
          <a:ext cx="8076960" cy="4994280"/>
        </p:xfrm>
        <a:graphic>
          <a:graphicData uri="http://schemas.openxmlformats.org/drawingml/2006/table">
            <a:tbl>
              <a:tblPr/>
              <a:tblGrid>
                <a:gridCol w="6095880"/>
                <a:gridCol w="1981080"/>
              </a:tblGrid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Технология проблемного обучения на уроках физики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Педсовет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3/2014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Современные урок в рамках внедрения ФГОС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МО учителей МИФ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3/2014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Мастер-класс «Формирование учебно-познавательной компетенции на уроках физики»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урок физики в 7 классе «Способы изменения давления»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Педсовет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3/2014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мы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295280"/>
          <a:ext cx="8381880" cy="5397480"/>
        </p:xfrm>
        <a:graphic>
          <a:graphicData uri="http://schemas.openxmlformats.org/drawingml/2006/table">
            <a:tbl>
              <a:tblPr/>
              <a:tblGrid>
                <a:gridCol w="5381640"/>
                <a:gridCol w="3000240"/>
              </a:tblGrid>
              <a:tr h="22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Использование ИКТ как средство повышения качества знаний учащихся, развитие их творческих способностей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МО учителей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МИФ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4/2015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19.11.2014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Развитие коммуникативных УУД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Педсовет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4/2015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Системные обновления образования по физике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ГМО учителей физики 2014/2015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9.01.2015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52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мы выступления</a:t>
            </a:r>
            <a:endParaRPr b="0" lang="en-US" sz="4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держание рабо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Введение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Глава 1. ФГОС и требования к  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современному уроку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Глава 2. Современный урок и сравнение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его с традиционным уроком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Глава 3. Технологическая карта урока –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что это.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Список литературы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ПРИЛОЖЕНИЯ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1676520" cy="6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ГО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ЦЕЛ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СОДЕРЖ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СИСТЕМА ОЦЕНИВА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ТЕХНОЛОГИИ ОБУЧЕ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209680" y="5335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9900"/>
          </a:solidFill>
          <a:ln w="936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38088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НЫЕ обновления</a:t>
            </a:r>
            <a:endParaRPr b="0" lang="en-US" sz="3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Цель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ВОСПИТ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НРАВСТВЕННОГО,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ОТВЕТСТВЕННОГО,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ИНИЦИАТИВНОГО 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КОМПЕТЕНТНОГО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ГРАЖДАНИНА России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600"/>
                </a:solidFill>
                <a:latin typeface="Arial"/>
              </a:rPr>
              <a:t>СИСТЕМНО-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600"/>
                </a:solidFill>
                <a:latin typeface="Arial"/>
              </a:rPr>
              <a:t>ДЕЯТЕЛЬНОСТНЫЙ 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600"/>
                </a:solidFill>
                <a:latin typeface="Arial"/>
              </a:rPr>
              <a:t>ПОДХОД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УУД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Личностные</a:t>
            </a:r>
            <a:endParaRPr b="0" lang="en-US" sz="54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Регулятивные</a:t>
            </a:r>
            <a:endParaRPr b="0" lang="en-US" sz="54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Коммуникативные</a:t>
            </a:r>
            <a:endParaRPr b="0" lang="en-US" sz="54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54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ВАЯ КОНЦЕПЦИЯ ОБРАЗО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Arial"/>
              </a:rPr>
              <a:t>УМЕНИЕ УЧИТЬСЯ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Arial"/>
              </a:rPr>
              <a:t>ЛИЧНОСТНЫЙ ПРОЦЕСС ОБРАЗОВАНИЯ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Arial"/>
              </a:rPr>
              <a:t>ЦЕЛЕНАПРАВЛЕННОСТЬ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Arial"/>
              </a:rPr>
              <a:t>СОТРУДНИЧЕСТВО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22:34:49Z</dcterms:created>
  <dc:creator>Win</dc:creator>
  <dc:description/>
  <dc:language>en-US</dc:language>
  <cp:lastModifiedBy>Нина</cp:lastModifiedBy>
  <dcterms:modified xsi:type="dcterms:W3CDTF">2017-04-25T19:06:1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