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63F-6DC0-491F-B03C-3872D2C6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52B-8CCA-405F-A0DC-E18C4D01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F4E-B444-4433-BF18-8645CA23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787-B286-4111-B26E-AFF3282D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F0A-1F26-4F18-8C2D-9A1DBAD1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9FC-F651-4CCD-AC9F-1E9B6020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576-1FA8-49A0-B896-2E1175B0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BC5-F3F7-49D9-A1C7-4D4E594F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2B7-3500-4D63-BC5A-70B745E6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0A1-0700-4B87-915C-3717FD8E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31E-0E33-4D23-BCF7-5DA3DB66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4BF-E73D-4971-93D6-065DBBE1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A6DA-DBFE-4BF1-9980-F16AB7534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1341360"/>
            <a:ext cx="6697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ифы и сказания древних слав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ЧИСТЬ В СЛАВЯНСКОЙ МИФ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15772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по славянской культуре.                                       Автор: учитель Фомченко Е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3860640"/>
            <a:ext cx="83534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ёрт — самый распространенный вид нечисти. Так, более сорока имен только одного черта насчитывается в "Толковом словаре живого великорусского языка" В. И. Даля: нежить, нечисть, злой дух, демон, сатана, дьявол, князь тьмы, царь ада, ворог, лукавый, нелегкий, морока, лихой, шут, шайтан, черная сила, бес и так далее и тому подобное. Живут черти практически везде – в старых полуразрушенных домах, на старых мельницах, в болотах, в зарослях бузины, в дуплах деревьев (особенно любят вербу и грушу)… Чертей можно условно разделить на три категории. Первая – старейшие, мудрые черти. Эти не только особо не вредят, а и могут помочь – они учат людей кузнечному ремеслу, разжигают первый огон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изобретают водку (хотя, конечно, польза весьма сомнительная), колес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46083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6553080" cy="4116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450864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торая категория – это черти-вредители, основная задача которых всячески портить жизнь людям – при этом фантазия у них весьма разнообразная: от мелких пакостей до высушивания человека до смерти. И, наконец, черти, восстанавливающие справедливость: так, например, существует легенда, по которой чёрт заставляет своего младшего соплеменника отслужить три года у бедняка за украденный кусок хле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365720"/>
            <a:ext cx="8064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дяной — предстает в виде мужчины с отдельными чертами животного. В «Толковом словаре… » Даля содержится такое его описание: «Это нагой старик; весь в тине, похожий обычаями своими на лешего, но он не оброс шерстью, не так назойлив и нередко даже с ним бранится». Водяной, чтобы заманить человека к себе в воду, может превратиться в ребенка, скотину, крупную рыбу и т.п. Этот дух пугает и топит купающихся, разгоняет и выпускает из невода рыбу, разоряет плотины мельниц. Его любимое место — болото, речные омуты и водовороты. Водяной командует русалками, ундинами и прочими водными жи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4680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4292640"/>
            <a:ext cx="842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мовой — дух, который живет в каждом доме. Выглядит как человек, часто похож на хозяина дома. Живет в углу, под порогом, на чердаке, в печной трубе и др. Домовой покровительствует рачительным, трудолюбивым хозяевам, которые его уважают и умеют ему угодить. Перед смертью кого-нибудь из семейства дух воет, стонет, стучит и т.п. Ленивых и беспутных хозяев, которые не оказывают ему почтения, домовой не любит и может довести до разорения. По русским поверьям, в году есть один день, посвященный домовому, — 10 февраля. Именно в ночь на 10 февраля домовому оставляют угощенье — хлеб, сало, что-то сладкое, иногда наливают вина. Все это кладут в тарелку и ставят в укромном уголке на п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мовой, которого хозяева не уважили угощеньем, может натворить в доме бед: разбросать вещи, рассыпать продукты, побить посуду, шуметь по ноч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3294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4724280"/>
            <a:ext cx="7993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икимора болотна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- Злой, болотный дух. Близкая подруга лешего - кикимора болотная. Живет в болоте. Любит наряжаться в меха из мхов и вплетает в волосы лесные и болотные растения. Но людям показывается редко, ибо предпочитает быть невидимой и только кричит из болота громким голосом. Маленькая женщина путающая пряжу и ворующая маленьких детей, затаскивает зазевавшихся путников в трясину где она и обитае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554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5013360"/>
            <a:ext cx="799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еший — властелин леса. Жилищем ему служат густые камыши и лесные трущобы,’ он может вырастать выше деревьев, а может быть ниже травы. Люди видят его дряхлым стариком, у которого вся одежда вывернута наизнанку. Леший любит кричать в лесу, заводить в чащобу людей, хохотать и хлопать в ладош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56880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3573360"/>
            <a:ext cx="813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салка — зачастую представляется в облике женщины, живущей в воде.  У нее всегда длинные распущенные волосы светлого или зеленого цвета. Считалось, что у русалки между пальцами есть перепонка, а вместо ног — рыбий хвост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гласно народным поверьям, русалками становятся все младенцы женского пола, родившиеся мертвыми или умершие без крещения, а также взрослые утопленницы. Русалки живут на дне рек, но иногда выходит на берег. Там они могут качаться на прибрежных деревьях и петь. Голос у них такой завораживающий, что услышавший это пение человек полностью подчиняется их воле. Попавшую к ним жертву русалки могут защекотать до смерти. Иногда русалки, прежде чем щекотать, загадывают человеку загадки, и если он их не отгадает, то гибнет. Считалось, что для отпора нужно бросить мавке в лицо полы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92360" y="404640"/>
            <a:ext cx="38876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71640" y="4994280"/>
            <a:ext cx="78483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отниц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— родная сестра русалкам, только живет на болоте, в белоснежном цветке кувшинки с котел величиной. Она красива, но прячет от человека свои гусиные ноги с черными перепонками. Завидев путника, болотница начинает горько плакать. Но стоит сделать к ней хоть шаг, чтобы утешить, как злодейка тащит человека в топ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60958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4365720"/>
            <a:ext cx="784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арабашк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встречаются в мифологиях разных народов и в частности в славянской мифологии это - хулиганистые домашние ду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вет обычно в городских квартирах. Любит проказничать — стучит, шумит, посуду сбрасывает со стола, краску разольет, газ зажжет, предметы всякие двигает и бросает, ворует вещи. Предпочитает жить в тех семьях, где есть дети. Видеть его — никто не видел. С теми, кто ему понравится охотно беседует — отвечает стуком на все вопросы. По типу характера можно отнести его к домовым-доможилам: к добрым хозяевам относится по-доброму, злых не терп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09624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7650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869000"/>
            <a:ext cx="777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нник — самый лютый дух из нежити, живущий в бане, похож на крохотного, но очень сильного старичка с длинной и лохматой бородой, покрытой плесенью. Несмотря на свой размер дух-старичок очень сильный, легко может свалить человека и таскать его по бане. Банник довольно жестокий дух: он любит попугать тех, кто пришел в баню, страшными криками, также может кидаться горячими камнями из печки или ошпарить кипят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5905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6551640" cy="416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4869000"/>
            <a:ext cx="792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чистой силой у древних славян и в среде предков современных русского, белорусского и украинского народов было принято называть вообще все потусторонние создания, вредоносные человеку, всех злых духов и божеств. Много веков христианства на Руси и в России при сложившейся системе двоеверия нисколько не мешали верить в реальность существования всего этого неисчислимого сонма духов з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4508640"/>
            <a:ext cx="777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нник способен становится невидимым и мгновенно перемещаться в пространстве в пределах своей бани. Любимое место Банника в русской бане за печкой-каменкой, а когда он сердился, перебирался под по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ольше всего дух любит пугать женщин, потому им нельзя ходить в баню в одиночку. Но больше всего банника злит, когда в баню заходит беременная женщина, таких будущих матерей ни в коем случае нельзя оставлять в бане без присмотра мужч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46083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620640"/>
            <a:ext cx="755964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авяне вери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что эти бесплотные существа, олицетворявшие собой само зло являлись исконными врагами человеческого рода. Они не только наполняли все пространство Вселенной, не только проникали в жилища, делая многие из них необитаемыми, но и даже вселялись в людей, преследуя их беспрестанными искуш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авяне счита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чтобы не поддаваться нечистикам, следует всячески оберегаться. Например, не купаться в реке до Троицы и после Ильина дня (иначе водяной может утащить на дно), не покидать дома в полночь и уж тем более не ходить в это время на перекрестки дорог. Нельзя оставлять открытой посуду с водой или едой (нечистик обязательно туда плюнет). Обязательно нужно занавешивать колыбель, инач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 кикимор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дменит ребенка, а также закрывать на ночь окна, а не то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ыр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оживший мертвец, заглянет в них и напугает до смерти. При похоронах нужно завешивать зеркала, чтобы не увидеть в них плачущего покойника, который может вернуться, но уже как неж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чень полезны такж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 молитвы-оберег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особенно своему ангелу-хранителю. плевать через левое плечо, поскольку именно там всегда стоит нечистая сила, почаще осенять себя крестным знамением, а при встрече с нечистым приговаривать: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"Аминь, аминь, рассыпься!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697800" cy="490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445000"/>
            <a:ext cx="8136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родном сознании глубоко укоренилось, что очень мало на свете таких заповедных мест, в которые нечистики не решились бы проникнуть; даже православные храмы не были освобождены от их дерзких нашествий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4365720"/>
            <a:ext cx="82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уже говорилось, нечистая сила особенно опасна в нечистое время года и суток: на рождественские святки, в ночь на Ивана Купалу (в христианстве Троицын день), в глухую полночь и самый полдень, сразу же после захода солнца и перед его восходом. Время особенного разгула нечисти, кроме кануна Рождества, Страстная пятница перед Пасхой, когда вся злая сила предается безудержному ликованию. Особенно в это время веселятся ведь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66247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3573360"/>
            <a:ext cx="7993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нечистики обожают менять облик и морочить человеку голову даже своим видом: у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сал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рыбий хвост, у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дяног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рой тоже, да и туловище его покрыто чешуей, а борода зеленая, а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мов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крыт шерстью. Также нечистая сила может явиться в облике вороха сена или катящегося клубка, пыльного столба, колеса или синего блуждающего огонь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правило, нечистая сила враждебна человеку, но иногда, некоторые из нечистиков из-за длительного общения с людьми могут подобреть и даже оказывать людям разные услуги. Например, домовой почти всегда привязан к хозяевам дома, в котором он живет, хотя, если разозлиться на что-нибудь, то начинает так пакостить, что хоть из дому беги. Разновидностями домового являются банник, овинник и прочие ду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43927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522936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ба-яга — костяная или золотая нога, живущая «в избушке на курьих ножках»  с забором из человеческих костей и черепов, с засовами из рук и ног, с замками из челюстей с острыми зубами и строящая козни путешествующ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47640" y="620640"/>
            <a:ext cx="60962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54936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не Лешими  и кикиморами она обычно командует.                                         Изба яги снабжена курьими ножками только у восточных славян и в Скандинавии; однако и в Польше, и в Германии отмечалось, что домик так или иначе перебирается с места на место, хотя ярко выраженных движителей не замечен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ме того, избушка эта либо говорящая, либо, по меньшей мере, понимает речь человека, а также падка на любезное обращение, что порой выходило яге боком. Ведь сама яга не считает нужным проявлять вежливость к собственному «фургону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ьих ножек то ли две, то ли четыре; есть сведения о том, что они могут и запинать незваного гостя. Движется изба, судя по всему, размашистым бегом наподобие страусиного, но не так чтобы очень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па — личный автотранспорт средней грузоподъемности. Сейчас принято считать, что ступа летает, но в ранних текстах она чаще бегает, что и естественно, если учесть ее изрядную массу, никак не приспособленную к полету. Развивает при этом приличную, но не запредельную скорость: судя по времени, потребному на погоню за всадником, можно оценить ее возможности примерно в 60 км/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4221000"/>
            <a:ext cx="82803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о, вообще-то, дело с ягой кончается миром намного чаще, чем с большинством представителей «нечистой силы». Она не испытывает вражды к людям как таковым, хотя и не слишком их любит; нередко у нее есть свои счеты к врагам людей, которые она не прочь свести при помощи человека, а иногда ей просто оказывается симпатичен гость. Яга может снабдить важной информацией, а порой и «помочь материально» (зельями, к примеру). Может выдать какого-нибудь из своих слуг в помощь. Однако учтите: идти на контакт с ягой стоит только мужчинам или подросткам. Женщинам и детям приближаться к избе крайне не рекомендуется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преки расхожему представлению Яга никогда не была и не считалась однозначным злом. Ее боялись (и справедливо), иногда приходилось сражаться с нею или обманывать ее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41767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456552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ьмы, они же знахарки, обладают черной магией, а также целительными народными рецептами... Конечно, поскольку нечистая сила обладает волшебной силой, находится немало желающих вступить с ней в союз. Так охотники норовят подружиться с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еши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чтобы он нагонял им дичь в силки, а рыбаки - с водяным, надеясь увеличить свой улов. Любвеобильные парни часто попадают под чары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сал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или омутниц, хотя их любовь крайне опас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56894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6T18:19:08Z</dcterms:created>
  <dc:creator>Елена</dc:creator>
  <dc:description/>
  <dc:language>en-US</dc:language>
  <cp:lastModifiedBy>Елена</cp:lastModifiedBy>
  <dcterms:modified xsi:type="dcterms:W3CDTF">2017-12-16T19:40:27Z</dcterms:modified>
  <cp:revision>2</cp:revision>
  <dc:subject/>
  <dc:title>Слайд 1</dc:title>
</cp:coreProperties>
</file>