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179-461A-40C6-9CC2-BC46C0CC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500-078D-4D5A-B3DB-871CC2E4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564-051F-40D9-A3B7-64C859B0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949-1B34-4279-87F8-DC360F0E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1E6B-F789-4310-8363-006D2ED9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F479-E5F6-464F-BC8C-2A4AFA26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0674-CC84-4C46-8722-74B32C7A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F2D5-1F93-49CE-AB9B-33468E3D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521D-CC17-47DF-AA43-E7C077C3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BA05-A0EE-4F69-BC87-22722082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B486-78EE-4C1E-9B45-04CEE39A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E62-D947-484C-B49F-141C2B2B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46E2-F73E-492E-8080-9FBAA5E8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110E-2130-4E72-8138-82A32344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73DF-A26C-4EF1-B12B-65ACCC6C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994A-96A3-46EC-86F4-B756FDCD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3984-43F4-4020-915A-E82EFAE7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08A-99AC-49D5-A98B-9E293ECB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BF3-4CA6-4C2D-9B1D-D66E0E6A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CFB-F947-4560-AE4F-A5BEBDD3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0B8-372D-4EFE-940D-0334094C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D93-E447-499B-B0BD-5A06A5F1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A41-C431-4655-BCCB-E4AA6573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099-3C2E-4C3C-BDA4-FAFD3E37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2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2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6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6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6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6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6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A6B3-65CF-4BAC-9700-8A77C44F085A}" type="slidenum">
              <a:rPr b="0" lang="ru-RU" sz="1200" spc="-1" strike="noStrike">
                <a:solidFill>
                  <a:srgbClr val="0026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6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6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6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6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6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271D-3C94-425E-A782-E954F1F602B6}" type="slidenum">
              <a:rPr b="0" lang="ru-RU" sz="1200" spc="-1" strike="noStrike">
                <a:solidFill>
                  <a:srgbClr val="0026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6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26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26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6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6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2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6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2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Системные обновления</a:t>
            </a:r>
            <a:br>
              <a:rPr sz="4600"/>
            </a:b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образования по физике </a:t>
            </a:r>
            <a:br>
              <a:rPr sz="4600"/>
            </a:b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в условиях внедрения </a:t>
            </a:r>
            <a:br>
              <a:rPr sz="2400"/>
            </a:b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стандартов второго поколения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4760" y="51051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00"/>
                </a:solidFill>
                <a:latin typeface="Arial"/>
              </a:rPr>
              <a:t>МО учителей физики </a:t>
            </a:r>
            <a:endParaRPr b="0" lang="en-US" sz="2800" spc="-1" strike="noStrike">
              <a:solidFill>
                <a:srgbClr val="002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00"/>
                </a:solidFill>
                <a:latin typeface="Arial"/>
              </a:rPr>
              <a:t>29 января 2015</a:t>
            </a:r>
            <a:endParaRPr b="0" lang="en-US" sz="2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ТЕХНОЛОГ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600"/>
                </a:solidFill>
                <a:latin typeface="Arial"/>
              </a:rPr>
              <a:t>ИКТ-ТЕХНОЛОГИИ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Виды уроков 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с применением ИКТ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Times New Roman"/>
              </a:rPr>
              <a:t>УРОК с мультимедийной поддержкой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Times New Roman"/>
              </a:rPr>
              <a:t>УРОК с компьютерной поддержкой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Times New Roman"/>
              </a:rPr>
              <a:t>УРОК с выходом во всемирную сеть ИНТЕРНЕТ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32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Times New Roman"/>
              </a:rPr>
              <a:t>УРОК с мультимедийной поддержкой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презентации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фильмы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анимация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аудио- и видео- фрагменты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8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6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2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1676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ГО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ЦЕЛИ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СОДЕРЖАНИЕ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СИСТЕМА ОЦЕНИВАНИЯ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ТЕХНОЛОГИИ ОБУЧЕНИЯ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5335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cc9900"/>
          </a:solidFill>
          <a:ln w="9360">
            <a:solidFill>
              <a:srgbClr val="0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38088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СТЕМНЫЕ обновления</a:t>
            </a:r>
            <a:endParaRPr b="0" lang="en-US" sz="3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Цель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ВОСПИТАНИЕ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НРАВСТВЕННОГО,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ОТВЕТСТВЕННОГО,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ИНИЦИАТИВНОГО И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КОМПЕТЕНТНОГО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ГРАЖДАНИНА России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СИСТЕМНО-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ДЕЯТЕЛЬНОСТНЫЙ 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ПОДХОД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УУД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ЛИЧНОСТНЫЕ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МЕТАПРЕДМЕТНЫЕ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ПРЕДМЕТНЫЕ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3809880"/>
            <a:ext cx="5333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00"/>
                </a:solidFill>
                <a:latin typeface="Times New Roman"/>
              </a:rPr>
              <a:t>Личностные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00"/>
                </a:solidFill>
                <a:latin typeface="Times New Roman"/>
              </a:rPr>
              <a:t>Регулятивные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00"/>
                </a:solidFill>
                <a:latin typeface="Times New Roman"/>
              </a:rPr>
              <a:t>Коммуникативные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00"/>
                </a:solidFill>
                <a:latin typeface="Times New Roman"/>
              </a:rPr>
              <a:t>Познавательные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НОВАЯ КОНЦЕПЦИЯ ОБРАЗОВА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00"/>
                </a:solidFill>
                <a:latin typeface="Arial"/>
              </a:rPr>
              <a:t>УМЕНИЕ УЧИТЬСЯ</a:t>
            </a:r>
            <a:endParaRPr b="0" lang="en-US" sz="36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00"/>
                </a:solidFill>
                <a:latin typeface="Arial"/>
              </a:rPr>
              <a:t>ЛИЧНОСТНЫЙ ПРОЦЕСС ОБРАЗОВАНИЯ</a:t>
            </a:r>
            <a:endParaRPr b="0" lang="en-US" sz="36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00"/>
                </a:solidFill>
                <a:latin typeface="Arial"/>
              </a:rPr>
              <a:t>ЦЕЛЕНАПРАВЛЕННОСТЬ</a:t>
            </a:r>
            <a:endParaRPr b="0" lang="en-US" sz="36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00"/>
                </a:solidFill>
                <a:latin typeface="Arial"/>
              </a:rPr>
              <a:t>СОТРУДНИЧЕСТВО</a:t>
            </a:r>
            <a:endParaRPr b="0" lang="en-US" sz="36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УУД  ПО ФИЗИКЕ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ЛИЧНОСТНЫЕ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МЕТАПРЕДМЕТНЫЕ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ПРЕДМЕТНЫЕ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1676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ГО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ЦЕЛИ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СОДЕРЖАНИЕ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СИСТЕМА ОЦЕНИВАНИЯ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ТЕХНОЛОГИИ ОБУЧЕНИЯ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5335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cc9900"/>
          </a:solidFill>
          <a:ln w="9360">
            <a:solidFill>
              <a:srgbClr val="0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38088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СТЕМНЫЕ обновления</a:t>
            </a:r>
            <a:endParaRPr b="0" lang="en-US" sz="3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ИСТЕМА ОЦЕНИ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600"/>
                </a:solidFill>
                <a:latin typeface="Arial"/>
              </a:rPr>
              <a:t>САМООЦЕНКА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600"/>
                </a:solidFill>
                <a:latin typeface="Arial"/>
              </a:rPr>
              <a:t>ОЦЕНИВАНИЕ ОДНОКЛАССНИКОВ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22:34:49Z</dcterms:created>
  <dc:creator>Win</dc:creator>
  <dc:description/>
  <dc:language>en-US</dc:language>
  <cp:lastModifiedBy>Win</cp:lastModifiedBy>
  <dcterms:modified xsi:type="dcterms:W3CDTF">2015-01-29T01:43:0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