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4D6-5C8C-4AB3-A30C-0BB23CBC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FC5-136C-413F-829B-DE75EB57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489-3D8B-43A0-8907-B865570A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392-3624-440A-B723-ADD4F4AF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F68C-E812-46F9-BAF5-53A4E0C1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3510-0AE2-479B-9F07-E5344A4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DA61-3325-472B-A3E6-3CD820BB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30CA-2AE7-415D-9AFC-6820DB1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9038-1244-4866-86E8-11C1C29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4DF1-FEFF-45A9-BFD6-0B75B50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E835-F71C-433B-A960-800A3A6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033-487C-487D-A8E1-F546FE6C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6B9-8129-420E-9878-B9F07B37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C65A-30A8-4AD2-99CC-2B997888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0810-1386-42DA-807C-DDA6A5A4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2935-6327-4837-A6D1-0A53887D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A649-B57A-4699-8C43-9C92CA93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3EE-D02D-4B32-A5E8-EDDCCCD7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B82-C14C-443C-8523-4D7A715B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0FD-848D-45B7-8D74-07D4EBB2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752-85B9-41BD-AF43-56E3F5F9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33D-3500-42A0-B2B3-2B55187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F0C-ED2A-4F4A-936B-89A05FAA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A18-8A5D-4DE8-B10A-6F38528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0A9-521F-416C-B689-54D8D239CE7B}" type="slidenum">
              <a:rPr b="0" lang="ru-RU" sz="1200" spc="-1" strike="noStrike">
                <a:solidFill>
                  <a:srgbClr val="0026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7B2A-7B31-40D7-BCF2-0AF4287F8105}" type="slidenum">
              <a:rPr b="0" lang="ru-RU" sz="1200" spc="-1" strike="noStrike">
                <a:solidFill>
                  <a:srgbClr val="0026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6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26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образования по физике </a:t>
            </a:r>
            <a:br>
              <a:rPr sz="46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в условиях внедрения 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стандартов второго поколен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51051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00"/>
                </a:solidFill>
                <a:latin typeface="Arial"/>
              </a:rPr>
              <a:t>МО учителей физики 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00"/>
                </a:solidFill>
                <a:latin typeface="Arial"/>
              </a:rPr>
              <a:t>29 января 2015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ИКТ-ТЕХНОЛОГИИ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Виды уроков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с применением ИКТ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мультимедий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компьютер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выходом во всемирную сеть ИНТЕРНЕТ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2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Times New Roman"/>
              </a:rPr>
              <a:t>УРОК с мультимедийной поддержкой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презентации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фильмы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анимация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аудио- и видео- фрагменты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8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6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2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676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ГО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ЦЕЛ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ОДЕРЖ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ИСТЕМА ОЦЕНИВА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ТЕХНОЛОГИИ ОБУЧЕ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533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9900"/>
          </a:solidFill>
          <a:ln w="936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38088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endParaRPr b="0" lang="en-US" sz="3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Цел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ВОСПИТ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НРАВ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ОТВЕТ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ИНИЦИАТИВНОГО 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КОМПЕТЕНТНОГО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ГРАЖДАНИНА России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СИСТЕМНО-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ДЕЯТЕЛЬНОСТНЫЙ 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ПОДХОД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УУД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ЛИЧНОС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МЕТА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809880"/>
            <a:ext cx="5333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Личност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Регулятив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Коммуникатив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600"/>
                </a:solidFill>
                <a:latin typeface="Times New Roman"/>
              </a:rPr>
              <a:t>Познавательные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НОВАЯ КОНЦЕПЦИЯ ОБРАЗ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УМЕНИЕ УЧИТЬС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ЛИЧНОСТНЫЙ ПРОЦЕСС ОБРАЗОВАНИ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ЦЕЛЕНАПРАВЛЕННОСТЬ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600"/>
                </a:solidFill>
                <a:latin typeface="Arial"/>
              </a:rPr>
              <a:t>СОТРУДНИЧЕСТВО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УУД  ПО ФИЗИКЕ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ЛИЧНОС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МЕТА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00"/>
                </a:solidFill>
                <a:latin typeface="Arial"/>
              </a:rPr>
              <a:t>ПРЕДМЕТНЫЕ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676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ГО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ЦЕЛ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ОДЕРЖ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СИСТЕМА ОЦЕНИВА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00"/>
                </a:solidFill>
                <a:latin typeface="Arial"/>
              </a:rPr>
              <a:t>ТЕХНОЛОГИИ ОБУЧЕ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33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9900"/>
          </a:solidFill>
          <a:ln w="936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8088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endParaRPr b="0" lang="en-US" sz="3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ИСТЕМА ОЦЕНИ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САМООЦЕНКА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600"/>
                </a:solidFill>
                <a:latin typeface="Arial"/>
              </a:rPr>
              <a:t>ОЦЕНИВАНИЕ ОДНОКЛАССНИКОВ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22:34:49Z</dcterms:created>
  <dc:creator>Win</dc:creator>
  <dc:description/>
  <dc:language>en-US</dc:language>
  <cp:lastModifiedBy>Win</cp:lastModifiedBy>
  <dcterms:modified xsi:type="dcterms:W3CDTF">2015-01-29T01:43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