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1707-BA27-47AE-97BD-E13B5AE2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7A56-719F-4543-9BCC-4E08D36E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AEDD-C548-4983-86ED-E174B75F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77EC-ECE9-4350-8195-697D05C30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45F2-5360-4562-8EB3-99B2A957D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8BF8-8759-4367-80F2-4CB69F6B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D73E-AF51-4689-AF05-ACC53668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ACA5-4762-4539-A990-19ED0A0C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90C9-F54B-4171-8C0C-F761DC37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CB63-2225-4F30-A849-0C97FAC8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D74C-7BCB-4E43-BA15-F9D8E3F6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984D-6BF4-4189-835C-CE7142EF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6739-CEFF-4B35-BEDD-573638EC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B84C-138F-421A-84C6-EE6AFA1D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7508-BE84-4CC1-AC5F-A740C8C8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2FC1-7B3D-4B87-ABC8-C8BA1B260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3077-E87C-4F1D-8052-ABB56FA78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85D7-58A7-411A-ABD2-B71FD22A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EC09-77DD-41E9-8285-B81D7BC9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45CA-151E-46BA-B99D-8F5DFF1C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6439-D2F3-49BD-BC15-8C8533F7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0AF9-CE22-4F4A-B068-504F66DA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823C-967C-4543-9A71-A8E59572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9EE8-17BF-48ED-BD96-75D50C98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828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CCAB-EC27-45A0-B03B-6931123A857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828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33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74A9-D301-4722-9D95-2B82D195179A}" type="slidenum">
              <a:rPr b="0" lang="ru-RU" sz="1200" spc="-1" strike="noStrike">
                <a:solidFill>
                  <a:srgbClr val="0033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129528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82800"/>
                </a:solidFill>
                <a:latin typeface="Garamond"/>
              </a:rPr>
              <a:t>Организационно-установочное заседание МО классных руководителей</a:t>
            </a:r>
            <a:endParaRPr b="0" lang="en-US" sz="54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981080" y="54100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1 заседание МО классных руководителей         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август  2016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a82800"/>
                </a:solidFill>
                <a:latin typeface="Garamond"/>
              </a:rPr>
              <a:t>План работы </a:t>
            </a: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0520" y="1066680"/>
            <a:ext cx="84582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риоритетные задачи воспитательной работы в 2016-2017 учебном году. Задачи и план МО классных руководителей на 2016-2017 учебный год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447480" indent="-4474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екомендации по составлению плана воспитательной работы классных коллективов на 2016-2017 учебный год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447480" indent="-4474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Знакомство с нормативными документами «Должностная инструкция классного руководителя»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447480" indent="-447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129528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82800"/>
                </a:solidFill>
                <a:latin typeface="Garamond"/>
              </a:rPr>
              <a:t>РАЗВИТИЕ </a:t>
            </a:r>
            <a:br>
              <a:rPr sz="3200"/>
            </a:br>
            <a:r>
              <a:rPr b="1" lang="ru-RU" sz="3200" spc="-1" strike="noStrike">
                <a:solidFill>
                  <a:srgbClr val="292900"/>
                </a:solidFill>
                <a:latin typeface="Garamond"/>
              </a:rPr>
              <a:t>ТВОРЧЕСКОГО    ПОТЕНЦИАЛА</a:t>
            </a:r>
            <a:br>
              <a:rPr sz="3200"/>
            </a:br>
            <a:r>
              <a:rPr b="1" lang="ru-RU" sz="3200" spc="-1" strike="noStrike">
                <a:solidFill>
                  <a:srgbClr val="292900"/>
                </a:solidFill>
                <a:latin typeface="Garamond"/>
              </a:rPr>
              <a:t>и     КОММУНИКАТИВНОЙ КОМПЕТЕНТНОСТИ</a:t>
            </a:r>
            <a:br>
              <a:rPr sz="3200"/>
            </a:br>
            <a:r>
              <a:rPr b="1" lang="ru-RU" sz="4000" spc="-1" strike="noStrike">
                <a:solidFill>
                  <a:srgbClr val="a82800"/>
                </a:solidFill>
                <a:latin typeface="Garamond"/>
              </a:rPr>
              <a:t>у учащихся </a:t>
            </a:r>
            <a:br>
              <a:rPr sz="4000"/>
            </a:br>
            <a:r>
              <a:rPr b="1" lang="ru-RU" sz="4000" spc="-1" strike="noStrike">
                <a:solidFill>
                  <a:srgbClr val="a82800"/>
                </a:solidFill>
                <a:latin typeface="Garamond"/>
              </a:rPr>
              <a:t>во внеурочной деятельности школы </a:t>
            </a:r>
            <a:br>
              <a:rPr sz="4000"/>
            </a:br>
            <a:r>
              <a:rPr b="1" lang="ru-RU" sz="4000" spc="-1" strike="noStrike">
                <a:solidFill>
                  <a:srgbClr val="a82800"/>
                </a:solidFill>
                <a:latin typeface="Garamond"/>
              </a:rPr>
              <a:t>в рамках ФГОС.</a:t>
            </a:r>
            <a:endParaRPr b="0" lang="en-US" sz="40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81080" y="54100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2 заседание МО классных руководителей         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18 ноября  2016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a82800"/>
                </a:solidFill>
                <a:latin typeface="Garamond"/>
              </a:rPr>
              <a:t>План работы </a:t>
            </a: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1</a:t>
            </a:r>
            <a:r>
              <a:rPr b="0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.   </a:t>
            </a:r>
            <a:r>
              <a:rPr b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звитие творческого потенциала и коммуникативной компетентности у учащихся во внеурочной деятельности школы 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                                       </a:t>
            </a:r>
            <a:r>
              <a:rPr b="0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Лариса Геннадьевна Вильгельм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2.   </a:t>
            </a:r>
            <a:r>
              <a:rPr b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нновационные технологии в системе воспитательной работы школы как средство повышения воспитанности школьников      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504000" indent="-50400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Нина Николаевна Шатилова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0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33"/>
                </a:solidFill>
                <a:latin typeface="Garamond"/>
              </a:rPr>
              <a:t>Творчество</a:t>
            </a:r>
            <a:endParaRPr b="0" lang="en-US" sz="66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7652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есть необходимое условие существования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и все, что выходит за пределы рутины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и в чем заключена хоть йота нового,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обязано своим происхождением                      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творческому процессу человека… 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29040" indent="-32904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29040" indent="-32904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Л. С. Выготский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Схема 5" descr=""/>
          <p:cNvPicPr/>
          <p:nvPr/>
        </p:nvPicPr>
        <p:blipFill>
          <a:blip r:embed="rId1"/>
          <a:stretch/>
        </p:blipFill>
        <p:spPr>
          <a:xfrm>
            <a:off x="-19080" y="1390680"/>
            <a:ext cx="895032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Прямоугольник 2" descr=""/>
          <p:cNvPicPr/>
          <p:nvPr/>
        </p:nvPicPr>
        <p:blipFill>
          <a:blip r:embed="rId1"/>
          <a:stretch/>
        </p:blipFill>
        <p:spPr>
          <a:xfrm>
            <a:off x="450720" y="774720"/>
            <a:ext cx="8444160" cy="1974960"/>
          </a:xfrm>
          <a:prstGeom prst="rect">
            <a:avLst/>
          </a:prstGeom>
          <a:ln w="0">
            <a:noFill/>
          </a:ln>
        </p:spPr>
      </p:pic>
      <p:sp>
        <p:nvSpPr>
          <p:cNvPr id="111" name="TextBox 3"/>
          <p:cNvSpPr/>
          <p:nvPr/>
        </p:nvSpPr>
        <p:spPr>
          <a:xfrm>
            <a:off x="838080" y="3657600"/>
            <a:ext cx="640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Comic Sans MS"/>
              </a:rPr>
              <a:t>Компетентность разрешения проблем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3"/>
          <p:cNvSpPr/>
          <p:nvPr/>
        </p:nvSpPr>
        <p:spPr>
          <a:xfrm>
            <a:off x="228600" y="228600"/>
            <a:ext cx="8915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з исследований известно,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что учащиеся удерживают в памяти: 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10% от того, что они читают; 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20% от того, что они слышат; 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30% от того, что они видят; 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50% от того, что они видят и слышат; 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70% от того, что они обсуждают с другими; 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80% от того, что основано на личном  опыте; 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90 % от того, что они говорят  (проговаривают)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 то время, как делают; 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95% от того, чему они обучаются сами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Прямоугольник 2" descr=""/>
          <p:cNvPicPr/>
          <p:nvPr/>
        </p:nvPicPr>
        <p:blipFill>
          <a:blip r:embed="rId1"/>
          <a:stretch/>
        </p:blipFill>
        <p:spPr>
          <a:xfrm>
            <a:off x="225360" y="92160"/>
            <a:ext cx="8437680" cy="11397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3"/>
          <p:cNvSpPr/>
          <p:nvPr/>
        </p:nvSpPr>
        <p:spPr>
          <a:xfrm>
            <a:off x="228600" y="1219320"/>
            <a:ext cx="86104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 </a:t>
            </a: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выбор </a:t>
            </a:r>
            <a:r>
              <a:rPr b="0" lang="ru-RU" sz="2000" spc="-1" strike="noStrike" u="sng">
                <a:solidFill>
                  <a:srgbClr val="003300"/>
                </a:solidFill>
                <a:uFillTx/>
                <a:latin typeface="Verdana"/>
              </a:rPr>
              <a:t>темы </a:t>
            </a: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проекта;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 </a:t>
            </a: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определение места проекта в учебном планировании;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 </a:t>
            </a: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формулирование основополагающего вопроса и      проблемных вопросов учебной темы;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 </a:t>
            </a: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определение </a:t>
            </a:r>
            <a:r>
              <a:rPr b="0" lang="ru-RU" sz="2000" spc="-1" strike="noStrike" u="sng">
                <a:solidFill>
                  <a:srgbClr val="003300"/>
                </a:solidFill>
                <a:uFillTx/>
                <a:latin typeface="Verdana"/>
              </a:rPr>
              <a:t>целей</a:t>
            </a: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 проекта;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 </a:t>
            </a: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формулирование методических </a:t>
            </a:r>
            <a:r>
              <a:rPr b="0" lang="ru-RU" sz="2000" spc="-1" strike="noStrike" u="sng">
                <a:solidFill>
                  <a:srgbClr val="003300"/>
                </a:solidFill>
                <a:uFillTx/>
                <a:latin typeface="Verdana"/>
              </a:rPr>
              <a:t>задач</a:t>
            </a: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 </a:t>
            </a: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выбор тем индивидуальных исследований школьников;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 </a:t>
            </a:r>
            <a:r>
              <a:rPr b="0" lang="ru-RU" sz="2000" spc="-1" strike="noStrike" u="sng">
                <a:solidFill>
                  <a:srgbClr val="003300"/>
                </a:solidFill>
                <a:uFillTx/>
                <a:latin typeface="Verdana"/>
              </a:rPr>
              <a:t>выдвижение гипотез</a:t>
            </a: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 </a:t>
            </a: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формирование групп для проведения исследований;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 </a:t>
            </a: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обсуждение плана работы и источников информации;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 </a:t>
            </a: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самостоятельная работа обучающихся в группах и задание для каждого участника группы;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 </a:t>
            </a: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подготовка отчетов по заданиям;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00"/>
                </a:solidFill>
                <a:uFillTx/>
                <a:latin typeface="Verdana"/>
              </a:rPr>
              <a:t> </a:t>
            </a:r>
            <a:r>
              <a:rPr b="0" lang="ru-RU" sz="2000" spc="-1" strike="noStrike" u="sng">
                <a:solidFill>
                  <a:srgbClr val="003300"/>
                </a:solidFill>
                <a:uFillTx/>
                <a:latin typeface="Verdana"/>
              </a:rPr>
              <a:t>защита </a:t>
            </a: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полученных результатов;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 </a:t>
            </a: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выбор и утверждение критериев оценки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228600" y="304920"/>
          <a:ext cx="8763120" cy="5994360"/>
        </p:xfrm>
        <a:graphic>
          <a:graphicData uri="http://schemas.openxmlformats.org/drawingml/2006/table">
            <a:tbl>
              <a:tblPr/>
              <a:tblGrid>
                <a:gridCol w="1797120"/>
                <a:gridCol w="3146400"/>
                <a:gridCol w="3819600"/>
              </a:tblGrid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Этапы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Деятельность учащихся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Деятельность учителя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80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Организационно-подготовительный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ыбор темы проекта, определение его цели и задач, разработка реализации плана идеи, формирование микрогрупп.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Формирование мотивации участников, консультирование по выбору тематики и жанра проекта, помощь в подборке необходимых материалов, выработка критериев оценки деятельности каждого участника на всех этапах.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217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оисковый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бор, анализ и систематизация собранной информации, запись интервью, обсуждение собранного материала в микрогруппах, выдвижение и проверка гипотезы, оформление макета и стендового доклада, самоконтроль.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егулярное консультирование по содержанию проекта, помощь в систематизации и обработке материала, консультация по оформлению проекта, отслеживание деятельности каждого ученика, оценка.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Итоговый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Оформление проекта, подготовка к защите.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одготовка выступающих, помощь  в оформлении проекта.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ефлексия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Оценка своей деятельности. «Что дала мне работа над проектом?»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Оценивание каждого участника проекта.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4800" spc="-1" strike="noStrike">
                <a:solidFill>
                  <a:srgbClr val="1a3a15"/>
                </a:solidFill>
                <a:latin typeface="Garamond"/>
              </a:rPr>
              <a:t>АНАЛИЗ   РАБОТЫ </a:t>
            </a:r>
            <a:br>
              <a:rPr sz="4800"/>
            </a:br>
            <a:r>
              <a:rPr b="1" lang="ru-RU" sz="4800" spc="-1" strike="noStrike">
                <a:solidFill>
                  <a:srgbClr val="1a3a15"/>
                </a:solidFill>
                <a:latin typeface="Garamond"/>
              </a:rPr>
              <a:t>МО классных руководителей</a:t>
            </a:r>
            <a:br>
              <a:rPr sz="4800"/>
            </a:br>
            <a:r>
              <a:rPr b="1" lang="ru-RU" sz="4800" spc="-1" strike="noStrike">
                <a:solidFill>
                  <a:srgbClr val="1a3a15"/>
                </a:solidFill>
                <a:latin typeface="Garamond"/>
              </a:rPr>
              <a:t>за 1 полугодие</a:t>
            </a:r>
            <a:endParaRPr b="0" lang="en-US" sz="48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057040" y="525744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Педсовет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27 января 2017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Прямоугольник 4" descr=""/>
          <p:cNvPicPr/>
          <p:nvPr/>
        </p:nvPicPr>
        <p:blipFill>
          <a:blip r:embed="rId1"/>
          <a:stretch/>
        </p:blipFill>
        <p:spPr>
          <a:xfrm>
            <a:off x="225360" y="92160"/>
            <a:ext cx="8437680" cy="11397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6"/>
          <p:cNvSpPr/>
          <p:nvPr/>
        </p:nvSpPr>
        <p:spPr>
          <a:xfrm>
            <a:off x="228600" y="1295280"/>
            <a:ext cx="8686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индивидуальные, групповые,    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коллективные;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монопредметные (по одному предмету),   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межпредметные;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краткосрочные, среднесрочные,   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долгосрочные;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информационные,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исследовательские,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творческие,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практико-ориентированные,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ролевые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Прямоугольник 4" descr=""/>
          <p:cNvPicPr/>
          <p:nvPr/>
        </p:nvPicPr>
        <p:blipFill>
          <a:blip r:embed="rId1"/>
          <a:stretch/>
        </p:blipFill>
        <p:spPr>
          <a:xfrm>
            <a:off x="225360" y="212760"/>
            <a:ext cx="8437680" cy="62244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228600" y="838080"/>
            <a:ext cx="8686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web-сайт,                        видеофильм,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ыставка,                       газета,                         журнал,                           законопроект,                игра,                               карта,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оллекция,                     модель,  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ультимедийный     продукт,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оформление кабинета,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акет рекомендаций,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раздник,                               сказка,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правочник,                          учебное пособие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…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Прямоугольник 4" descr=""/>
          <p:cNvPicPr/>
          <p:nvPr/>
        </p:nvPicPr>
        <p:blipFill>
          <a:blip r:embed="rId1"/>
          <a:stretch/>
        </p:blipFill>
        <p:spPr>
          <a:xfrm>
            <a:off x="225360" y="158760"/>
            <a:ext cx="8437680" cy="8589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6"/>
          <p:cNvSpPr/>
          <p:nvPr/>
        </p:nvSpPr>
        <p:spPr>
          <a:xfrm>
            <a:off x="1143000" y="1219320"/>
            <a:ext cx="7086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еловая игра,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емонстрация видеофильма,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иалог исторических персонажей,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гра с залом,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аучный доклад,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еклама,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оревнование,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пектакль,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экскурсия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33"/>
                </a:solidFill>
                <a:latin typeface="Garamond"/>
              </a:rPr>
              <a:t>УЧАСТИЕ В КОНКУРСАХ</a:t>
            </a: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33"/>
                </a:solidFill>
                <a:latin typeface="Arial"/>
              </a:rPr>
              <a:t>САМЫЙ КЛАССНЫЙ КЛАССНЫЙ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Comic Sans MS"/>
              </a:rPr>
              <a:t>Творчество</a:t>
            </a:r>
            <a:endParaRPr b="0" lang="en-US" sz="44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ffff99"/>
                </a:solidFill>
                <a:latin typeface="Comic Sans MS"/>
              </a:rPr>
              <a:t>есть необходимое условие существования и все, что выходит за пределы рутины и в чем заключена хоть йота нового, обязано своим происхождением                        творческому процессу человека… 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5880" indent="-33588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35880" indent="-33588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99"/>
                </a:solidFill>
                <a:latin typeface="Comic Sans MS"/>
              </a:rPr>
              <a:t>Л.С.Выготский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a82800"/>
                </a:solidFill>
                <a:latin typeface="Times New Roman"/>
                <a:ea typeface="Times New Roman"/>
              </a:rPr>
              <a:t>План работы на 2 полугодие</a:t>
            </a: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Arial"/>
              </a:rPr>
              <a:t>Заседание 3 - ФЕВРАЛЬ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Arial"/>
              </a:rPr>
              <a:t>Тема: Взаимодействие школы и семьи: опыт, проблемы, поиск новых подходов 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Arial"/>
              </a:rPr>
              <a:t>Заседание 4 - 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Arial"/>
              </a:rPr>
              <a:t>Тема: Анализ   воспитательной работы за 2016-2017 учебный год.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82800"/>
                </a:solidFill>
                <a:latin typeface="Garamond"/>
              </a:rPr>
              <a:t>ТЕМА ЗАСЕДАНИЯ  </a:t>
            </a:r>
            <a:r>
              <a:rPr b="1" lang="ru-RU" sz="4000" spc="-1" strike="noStrike">
                <a:solidFill>
                  <a:srgbClr val="a82800"/>
                </a:solidFill>
                <a:latin typeface="Garamond"/>
              </a:rPr>
              <a:t>ГМО </a:t>
            </a:r>
            <a:br>
              <a:rPr sz="4000"/>
            </a:br>
            <a:r>
              <a:rPr b="1" lang="ru-RU" sz="2800" spc="-1" strike="noStrike">
                <a:solidFill>
                  <a:srgbClr val="a82800"/>
                </a:solidFill>
                <a:latin typeface="Garamond"/>
              </a:rPr>
              <a:t>КЛАССНЫХ РУКОВОДИТЕЛЕЙ</a:t>
            </a:r>
            <a:endParaRPr b="0" lang="en-US" sz="28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Arial"/>
              </a:rPr>
              <a:t>РАЗВИТИЕ СОЦИАЛЬНОГО ПАРТНЁРСТВА 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Arial"/>
              </a:rPr>
              <a:t>КАК ИННОВАЦИОННОГО НАПРАВЛЕНИЯ ВОСПИТАТЕЛЬНЫХ СИСТЕМ ОБРАЗОВАТЕЛЬНЫХ ОРГАНИЗАЦИЙ 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Arial"/>
              </a:rPr>
              <a:t>И СРЕДСТВО ПОВЫШЕНИЯ КАЧЕСТВА ОБРАЗОВАНИЯ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a82800"/>
                </a:solidFill>
                <a:latin typeface="Garamond"/>
              </a:rPr>
              <a:t>ПЛАН  РАБОТЫ</a:t>
            </a: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28240" y="1371240"/>
            <a:ext cx="89154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СИСТЕМА СОЦИАЛЬНОГО ПАРТНЁРСТВА                    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(Шатилова Н.Н.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ПАРТНЁРСТВО КЛАССНОГО РУКОВОДИТЕЛЯ И СЕМЬИ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(Морозова Е. В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ПАРТНЁРСТВО КЛАССНОГО РУКОВОДИТЕЛЯ И ПСИХОЛОГА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(Хасанова Э.Э.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82800"/>
                </a:solidFill>
                <a:latin typeface="Garamond"/>
              </a:rPr>
              <a:t>Тема: Взаимодействие школы и семьи: опыт, проблемы, поиск новых подходов (круглый стол).</a:t>
            </a:r>
            <a:br>
              <a:rPr sz="2400"/>
            </a:br>
            <a:endParaRPr b="0" lang="en-US" sz="24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Arial"/>
              </a:rPr>
              <a:t>План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Мастер-класс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(Вавилова - бабушка Ткачук, </a:t>
            </a:r>
            <a:r>
              <a:rPr b="0" lang="ru-RU" sz="2400" spc="-1" strike="noStrike" u="sng">
                <a:solidFill>
                  <a:srgbClr val="003300"/>
                </a:solidFill>
                <a:uFillTx/>
                <a:latin typeface="Arial"/>
              </a:rPr>
              <a:t>кл.рук.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3300"/>
                </a:solidFill>
                <a:uFillTx/>
                <a:latin typeface="Arial"/>
              </a:rPr>
              <a:t>родительский комитет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)   ???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Педагогическая диагностика изучения семьи как условие оказания ей помощи в воспитании и развитии детей. (Шатилова Н.Н.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Мотивы, причины, характер конфликтов педагогов и родителей, условия, сопутствующие их возникновению. Пути их предупреждения и преодоления (Хасанова Э.Э.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Знакомство с новинками методической литературы по данной теме (Макарова Л.Н. - библиотекарь)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4800" spc="-1" strike="noStrike">
                <a:solidFill>
                  <a:srgbClr val="1a3a15"/>
                </a:solidFill>
                <a:latin typeface="Garamond"/>
              </a:rPr>
              <a:t>Современные  образовательные технологии и методики</a:t>
            </a:r>
            <a:r>
              <a:rPr b="1" lang="ru-RU" sz="4000" spc="-1" strike="noStrike">
                <a:solidFill>
                  <a:srgbClr val="a82800"/>
                </a:solidFill>
                <a:latin typeface="Garamond"/>
              </a:rPr>
              <a:t> </a:t>
            </a:r>
            <a:br>
              <a:rPr sz="4000"/>
            </a:br>
            <a:r>
              <a:rPr b="1" lang="ru-RU" sz="4000" spc="-1" strike="noStrike">
                <a:solidFill>
                  <a:srgbClr val="a82800"/>
                </a:solidFill>
                <a:latin typeface="Garamond"/>
              </a:rPr>
              <a:t>в воспитательной системе классного руководителя в условиях реализации </a:t>
            </a:r>
            <a:r>
              <a:rPr b="1" lang="ru-RU" sz="4000" spc="-1" strike="noStrike">
                <a:solidFill>
                  <a:srgbClr val="9a2500"/>
                </a:solidFill>
                <a:latin typeface="Garamond"/>
              </a:rPr>
              <a:t>ФГОС </a:t>
            </a:r>
            <a:r>
              <a:rPr b="1" lang="ru-RU" sz="4000" spc="-1" strike="noStrike">
                <a:solidFill>
                  <a:srgbClr val="a82800"/>
                </a:solidFill>
                <a:latin typeface="Garamond"/>
              </a:rPr>
              <a:t>второго поколения</a:t>
            </a:r>
            <a:br>
              <a:rPr sz="5000"/>
            </a:br>
            <a:endParaRPr b="0" lang="en-US" sz="40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040" y="525744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Методическая тема 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МО классных руководителей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Calibri"/>
                <a:ea typeface="Times New Roman"/>
              </a:rPr>
              <a:t>ГМО   МАСТЕР-КЛАСС  январь</a:t>
            </a:r>
            <a:br>
              <a:rPr sz="2000"/>
            </a:b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Тема: </a:t>
            </a:r>
            <a:r>
              <a:rPr b="1" lang="ru-RU" sz="2000" spc="-1" strike="noStrike">
                <a:solidFill>
                  <a:srgbClr val="003300"/>
                </a:solidFill>
                <a:latin typeface="Calibri"/>
                <a:ea typeface="Times New Roman"/>
              </a:rPr>
              <a:t>«СОЦИАЛЬНОЕ ПАРТНЁРСТВО В ДЕЯТЕЛЬНОСТИ КЛАССНОГО РУКОВОДИТЕЛЯ»</a:t>
            </a:r>
            <a:br>
              <a:rPr sz="6600"/>
            </a:br>
            <a:endParaRPr b="0" lang="en-US" sz="20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Социальное партнерство —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система взаимодействия классного руководителя с представителями окружающего социума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в интересах развития личности ребенка, с целью использования воспитательного потенциала окружающей среды и ее субъектов </a:t>
            </a:r>
            <a:r>
              <a:rPr b="0" lang="ru-RU" sz="2000" spc="-1" strike="noStrike" u="sng">
                <a:solidFill>
                  <a:srgbClr val="003300"/>
                </a:solidFill>
                <a:uFillTx/>
                <a:latin typeface="Arial"/>
              </a:rPr>
              <a:t>для обеспечения реализации педагогических целей, организации воспитательных мероприятий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Главными социальными партнерами классного руководителя являются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родители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детей, обучающихся в классе, а также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редставители сторонних учреждений, организаций и предприятий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, участвующие в реализации воспитательных мероприятий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Calibri"/>
                <a:ea typeface="Times New Roman"/>
              </a:rPr>
              <a:t>ГМО   МАСТЕР-КЛАСС  январь</a:t>
            </a:r>
            <a:br>
              <a:rPr sz="2000"/>
            </a:b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Тема: </a:t>
            </a:r>
            <a:r>
              <a:rPr b="1" lang="ru-RU" sz="2000" spc="-1" strike="noStrike">
                <a:solidFill>
                  <a:srgbClr val="003300"/>
                </a:solidFill>
                <a:latin typeface="Calibri"/>
                <a:ea typeface="Times New Roman"/>
              </a:rPr>
              <a:t>«СОЦИАЛЬНОЕ ПАРТНЁРСТВО В ДЕЯТЕЛЬНОСТИ КЛАССНОГО РУКОВОДИТЕЛЯ»</a:t>
            </a:r>
            <a:br>
              <a:rPr sz="6600"/>
            </a:br>
            <a:endParaRPr b="0" lang="en-US" sz="20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План: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1. Система социального партнёрства в гимназии.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(…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артнёрство классного руководителя и семьи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(нач. школа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3.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заимодействие с учреждениями, участвующими в реализации воспитательных мероприятий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? (основная школа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4. Партнёрство классного руководителя и  …</a:t>
            </a:r>
            <a:r>
              <a:rPr b="0" i="1" lang="ru-RU" sz="2400" spc="-1" strike="noStrike">
                <a:solidFill>
                  <a:srgbClr val="003300"/>
                </a:solidFill>
                <a:latin typeface="Arial"/>
              </a:rPr>
              <a:t>психолога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…       (средн. школа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5. Круглый стол или работа в группах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6.  ...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a82800"/>
                </a:solidFill>
                <a:latin typeface="Garamond"/>
              </a:rPr>
              <a:t>СИНКВЕЙН</a:t>
            </a: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…………………………</a:t>
            </a: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..(1 сущ.)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…………………………</a:t>
            </a: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.(2 прил.)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…………………………</a:t>
            </a: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.(3 глаг.)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…………………………</a:t>
            </a: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..(фраза)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…………………</a:t>
            </a: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..,…(слово-ассоциация)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Times New Roman"/>
              </a:rPr>
              <a:t>«Дитя требует</a:t>
            </a:r>
            <a:r>
              <a:rPr b="1" lang="ru-RU" sz="4400" spc="-1" strike="noStrike">
                <a:solidFill>
                  <a:srgbClr val="a828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82800"/>
                </a:solidFill>
                <a:latin typeface="Times New Roman"/>
              </a:rPr>
              <a:t>деятельности</a:t>
            </a:r>
            <a:r>
              <a:rPr b="1" lang="ru-RU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a82800"/>
                </a:solidFill>
                <a:latin typeface="Times New Roman"/>
              </a:rPr>
              <a:t>беспрестанно</a:t>
            </a:r>
            <a:r>
              <a:rPr b="1" lang="ru-RU" sz="4400" spc="-1" strike="noStrike">
                <a:solidFill>
                  <a:srgbClr val="003300"/>
                </a:solidFill>
                <a:latin typeface="Times New Roman"/>
              </a:rPr>
              <a:t>,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Times New Roman"/>
              </a:rPr>
              <a:t>а утомляется не деятельностью,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Times New Roman"/>
              </a:rPr>
              <a:t>а ее </a:t>
            </a:r>
            <a:r>
              <a:rPr b="1" lang="ru-RU" sz="4400" spc="-1" strike="noStrike">
                <a:solidFill>
                  <a:srgbClr val="a82800"/>
                </a:solidFill>
                <a:latin typeface="Times New Roman"/>
              </a:rPr>
              <a:t>однообразием</a:t>
            </a:r>
            <a:r>
              <a:rPr b="1" lang="ru-RU" sz="4400" spc="-1" strike="noStrike">
                <a:solidFill>
                  <a:srgbClr val="003300"/>
                </a:solidFill>
                <a:latin typeface="Times New Roman"/>
              </a:rPr>
              <a:t>»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Times New Roman"/>
              </a:rPr>
              <a:t>К.Д. Ушинский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a82800"/>
                </a:solidFill>
                <a:latin typeface="Times New Roman"/>
                <a:ea typeface="Times New Roman"/>
              </a:rPr>
              <a:t>ЦЕЛЬ:</a:t>
            </a:r>
            <a:br>
              <a:rPr sz="4200"/>
            </a:b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1a3a15"/>
                </a:solidFill>
                <a:uFillTx/>
                <a:latin typeface="Times New Roman"/>
                <a:ea typeface="Times New Roman"/>
              </a:rPr>
              <a:t>Формирование профессиональной компетентности </a:t>
            </a:r>
            <a:r>
              <a:rPr b="1" lang="ru-RU" sz="4400" spc="-1" strike="noStrike">
                <a:solidFill>
                  <a:srgbClr val="1a3a15"/>
                </a:solidFill>
                <a:latin typeface="Times New Roman"/>
                <a:ea typeface="Times New Roman"/>
              </a:rPr>
              <a:t>классных руководителей в  работе с учащимися, родителями, классным коллективом 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a82800"/>
                </a:solidFill>
                <a:latin typeface="Garamond"/>
              </a:rPr>
              <a:t>ЗАДАЧИ:</a:t>
            </a:r>
            <a:br>
              <a:rPr sz="4200"/>
            </a:br>
            <a:br>
              <a:rPr sz="4200"/>
            </a:br>
            <a:r>
              <a:rPr b="1" lang="ru-RU" sz="4800" spc="-1" strike="noStrike">
                <a:solidFill>
                  <a:srgbClr val="1a3a15"/>
                </a:solidFill>
                <a:latin typeface="Garamond"/>
              </a:rPr>
              <a:t>Изучение, апробация и анализ эффективности </a:t>
            </a:r>
            <a:r>
              <a:rPr b="1" lang="ru-RU" sz="4800" spc="-1" strike="noStrike" u="sng">
                <a:solidFill>
                  <a:srgbClr val="1a3a15"/>
                </a:solidFill>
                <a:uFillTx/>
                <a:latin typeface="Garamond"/>
              </a:rPr>
              <a:t>современных воспитательных технологий</a:t>
            </a:r>
            <a:br>
              <a:rPr sz="4800"/>
            </a:br>
            <a:endParaRPr b="0" lang="en-US" sz="4800" spc="-1" strike="noStrike">
              <a:solidFill>
                <a:srgbClr val="a828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78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a82800"/>
                </a:solidFill>
                <a:latin typeface="Garamond"/>
              </a:rPr>
              <a:t>ЗАДАЧИ:</a:t>
            </a:r>
            <a:br>
              <a:rPr sz="4200"/>
            </a:br>
            <a:br>
              <a:rPr sz="4200"/>
            </a:br>
            <a:r>
              <a:rPr b="1" lang="ru-RU" sz="4800" spc="-1" strike="noStrike">
                <a:solidFill>
                  <a:srgbClr val="1a3a15"/>
                </a:solidFill>
                <a:latin typeface="Garamond"/>
              </a:rPr>
              <a:t>Развитие </a:t>
            </a:r>
            <a:r>
              <a:rPr b="1" lang="ru-RU" sz="4800" spc="-1" strike="noStrike" u="sng">
                <a:solidFill>
                  <a:srgbClr val="1a3a15"/>
                </a:solidFill>
                <a:uFillTx/>
                <a:latin typeface="Garamond"/>
              </a:rPr>
              <a:t>информационной культуры</a:t>
            </a:r>
            <a:r>
              <a:rPr b="1" lang="ru-RU" sz="4800" spc="-1" strike="noStrike">
                <a:solidFill>
                  <a:srgbClr val="1a3a15"/>
                </a:solidFill>
                <a:latin typeface="Garamond"/>
              </a:rPr>
              <a:t> педагогов и использование </a:t>
            </a:r>
            <a:r>
              <a:rPr b="1" lang="ru-RU" sz="4800" spc="-1" strike="noStrike" u="sng">
                <a:solidFill>
                  <a:srgbClr val="1a3a15"/>
                </a:solidFill>
                <a:uFillTx/>
                <a:latin typeface="Garamond"/>
              </a:rPr>
              <a:t>инновационных технологий </a:t>
            </a:r>
            <a:r>
              <a:rPr b="1" lang="ru-RU" sz="4800" spc="-1" strike="noStrike">
                <a:solidFill>
                  <a:srgbClr val="1a3a15"/>
                </a:solidFill>
                <a:latin typeface="Garamond"/>
              </a:rPr>
              <a:t>в воспитательной работе.</a:t>
            </a:r>
            <a:br>
              <a:rPr sz="4800"/>
            </a:br>
            <a:endParaRPr b="0" lang="en-US" sz="4800" spc="-1" strike="noStrike">
              <a:solidFill>
                <a:srgbClr val="a828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a82800"/>
                </a:solidFill>
                <a:latin typeface="Garamond"/>
              </a:rPr>
              <a:t>ЗАДАЧИ:</a:t>
            </a:r>
            <a:br>
              <a:rPr sz="4200"/>
            </a:br>
            <a:br>
              <a:rPr sz="4200"/>
            </a:br>
            <a:r>
              <a:rPr b="1" lang="ru-RU" sz="4800" spc="-1" strike="noStrike">
                <a:solidFill>
                  <a:srgbClr val="1a3a15"/>
                </a:solidFill>
                <a:latin typeface="Garamond"/>
              </a:rPr>
              <a:t>Создание </a:t>
            </a:r>
            <a:r>
              <a:rPr b="1" lang="ru-RU" sz="4800" spc="-1" strike="noStrike" u="sng">
                <a:solidFill>
                  <a:srgbClr val="1a3a15"/>
                </a:solidFill>
                <a:uFillTx/>
                <a:latin typeface="Garamond"/>
              </a:rPr>
              <a:t>информационно-педагогического банка </a:t>
            </a:r>
            <a:r>
              <a:rPr b="1" lang="ru-RU" sz="4800" spc="-1" strike="noStrike">
                <a:solidFill>
                  <a:srgbClr val="1a3a15"/>
                </a:solidFill>
                <a:latin typeface="Garamond"/>
              </a:rPr>
              <a:t>собственных достижений, популяризация собственного опыта</a:t>
            </a:r>
            <a:br>
              <a:rPr sz="4800"/>
            </a:br>
            <a:endParaRPr b="0" lang="en-US" sz="4800" spc="-1" strike="noStrike">
              <a:solidFill>
                <a:srgbClr val="a828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a82800"/>
                </a:solidFill>
                <a:latin typeface="Garamond"/>
              </a:rPr>
              <a:t>ЗАДАЧИ:</a:t>
            </a:r>
            <a:br>
              <a:rPr sz="4200"/>
            </a:br>
            <a:br>
              <a:rPr sz="4200"/>
            </a:br>
            <a:r>
              <a:rPr b="1" lang="ru-RU" sz="5400" spc="-1" strike="noStrike">
                <a:solidFill>
                  <a:srgbClr val="1a3a15"/>
                </a:solidFill>
                <a:latin typeface="Garamond"/>
              </a:rPr>
              <a:t>Совершенствование и повышения </a:t>
            </a:r>
            <a:r>
              <a:rPr b="1" lang="ru-RU" sz="5400" spc="-1" strike="noStrike" u="sng">
                <a:solidFill>
                  <a:srgbClr val="1a3a15"/>
                </a:solidFill>
                <a:uFillTx/>
                <a:latin typeface="Garamond"/>
              </a:rPr>
              <a:t>эффективности </a:t>
            </a:r>
            <a:r>
              <a:rPr b="1" lang="ru-RU" sz="5400" spc="-1" strike="noStrike">
                <a:solidFill>
                  <a:srgbClr val="1a3a15"/>
                </a:solidFill>
                <a:latin typeface="Garamond"/>
              </a:rPr>
              <a:t>воспитательной работы в школе;</a:t>
            </a:r>
            <a:br>
              <a:rPr sz="5400"/>
            </a:br>
            <a:endParaRPr b="0" lang="en-US" sz="5400" spc="-1" strike="noStrike">
              <a:solidFill>
                <a:srgbClr val="a828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a82800"/>
                </a:solidFill>
                <a:latin typeface="Garamond"/>
              </a:rPr>
              <a:t>ЗАДАЧИ:</a:t>
            </a:r>
            <a:br>
              <a:rPr sz="4200"/>
            </a:br>
            <a:br>
              <a:rPr sz="4200"/>
            </a:br>
            <a:r>
              <a:rPr b="1" lang="ru-RU" sz="4800" spc="-1" strike="noStrike" u="sng">
                <a:solidFill>
                  <a:srgbClr val="1a3a15"/>
                </a:solidFill>
                <a:uFillTx/>
                <a:latin typeface="Garamond"/>
              </a:rPr>
              <a:t>Методическая помощь </a:t>
            </a:r>
            <a:r>
              <a:rPr b="1" lang="ru-RU" sz="4800" spc="-1" strike="noStrike">
                <a:solidFill>
                  <a:srgbClr val="1a3a15"/>
                </a:solidFill>
                <a:latin typeface="Garamond"/>
              </a:rPr>
              <a:t>классным руководителям </a:t>
            </a:r>
            <a:br>
              <a:rPr sz="4800"/>
            </a:br>
            <a:r>
              <a:rPr b="1" lang="ru-RU" sz="4800" spc="-1" strike="noStrike" u="sng">
                <a:solidFill>
                  <a:srgbClr val="1a3a15"/>
                </a:solidFill>
                <a:uFillTx/>
                <a:latin typeface="Garamond"/>
              </a:rPr>
              <a:t>в овладении новыми педагогическими технологиями </a:t>
            </a:r>
            <a:r>
              <a:rPr b="1" lang="ru-RU" sz="4800" spc="-1" strike="noStrike">
                <a:solidFill>
                  <a:srgbClr val="1a3a15"/>
                </a:solidFill>
                <a:latin typeface="Garamond"/>
              </a:rPr>
              <a:t>воспитательного процесса</a:t>
            </a:r>
            <a:br>
              <a:rPr sz="4800"/>
            </a:br>
            <a:endParaRPr b="0" lang="en-US" sz="4800" spc="-1" strike="noStrike">
              <a:solidFill>
                <a:srgbClr val="a828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8T20:05:35Z</dcterms:created>
  <dc:creator>Win</dc:creator>
  <dc:description/>
  <dc:language>en-US</dc:language>
  <cp:lastModifiedBy>Нина</cp:lastModifiedBy>
  <dcterms:modified xsi:type="dcterms:W3CDTF">2017-01-26T19:48:24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