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0D3-4E98-47B5-B05C-173A1936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217-C92C-4B6B-AD9B-94093529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76A-7825-4CBE-B475-54A27890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687-FB33-4960-8D95-CC6BF56A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3FC9-C9E1-4995-BB0D-595795E4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7C75-2729-4D4E-A642-96B6CADA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41A2-3F27-448F-BEAE-E6EA77A1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7734-FE73-47A8-9A9A-5838E766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0399-133A-4DC2-AF14-A0C8CA23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4369-803D-46E1-B8CD-C692CF09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0F56-2944-4CDB-A489-A640D0E8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54B-AA53-4737-9663-286E0EEB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0170-F718-43AE-A20B-A9DE731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D882-DE72-4EBA-96B1-DC257C0D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9FF7-E661-4BEA-960B-D3144BBB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45FD-FECA-4C61-A94B-C250FCCA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64AE-C081-41D2-917D-9EDB045B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3AB-7BE5-4091-B721-987B28D0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5F1-CC6C-4027-A10E-0559B088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5FE-0F03-417F-B713-B7BE93D5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0D4-ABCB-4F52-AB68-1B4BC1FA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E82-A4E3-4122-A205-F469602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055-3F14-47FB-94E2-0F6D482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525-E170-4DF8-AA50-DE10EB8F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6396-A7DD-4411-974B-160E8BE41C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CA89-4474-411C-BF8A-55CAA32F3B93}" type="slidenum">
              <a:rPr b="0" lang="ru-RU" sz="1200" spc="-1" strike="noStrike">
                <a:solidFill>
                  <a:srgbClr val="0033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2800"/>
                </a:solidFill>
                <a:latin typeface="Garamond"/>
              </a:rPr>
              <a:t>Организационно-установочное заседание МО классных руководителей</a:t>
            </a:r>
            <a:endParaRPr b="0" lang="en-US" sz="54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981080" y="5410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 заседание МО классных руководителей  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август  2016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План работы 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0666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иоритетные задачи воспитательной работы в 2016-2017 учебном году. Задачи и план МО классных руководителей на 2016-2017 учебный год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комендации по составлению плана воспитательной работы классных коллективов на 2016-2017 учебный год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накомство с нормативными документами «Должностная инструкция классного руководителя»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447480" indent="-44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РАЗВИТИЕ </a:t>
            </a:r>
            <a:br>
              <a:rPr sz="3200"/>
            </a:br>
            <a:r>
              <a:rPr b="1" lang="ru-RU" sz="3200" spc="-1" strike="noStrike">
                <a:solidFill>
                  <a:srgbClr val="292900"/>
                </a:solidFill>
                <a:latin typeface="Garamond"/>
              </a:rPr>
              <a:t>ТВОРЧЕСКОГО    ПОТЕНЦИАЛА</a:t>
            </a:r>
            <a:br>
              <a:rPr sz="3200"/>
            </a:br>
            <a:r>
              <a:rPr b="1" lang="ru-RU" sz="3200" spc="-1" strike="noStrike">
                <a:solidFill>
                  <a:srgbClr val="292900"/>
                </a:solidFill>
                <a:latin typeface="Garamond"/>
              </a:rPr>
              <a:t>и     КОММУНИКАТИВНОЙ КОМПЕТЕНТНОСТИ</a:t>
            </a:r>
            <a:br>
              <a:rPr sz="32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у учащихся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о внеурочной деятельности школы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 рамках ФГОС.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81080" y="5410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 заседание МО классных руководителей     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18 ноября  2016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План работы 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  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тие творческого потенциала и коммуникативной компетентности у учащихся во внеурочной деятельности школы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Лариса Геннадьевна Вильгельм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 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новационные технологии в системе воспитательной работы школы как средство повышения воспитанности школьников     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Нина Николаевна Шатилова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33"/>
                </a:solidFill>
                <a:latin typeface="Garamond"/>
              </a:rPr>
              <a:t>Творчество</a:t>
            </a:r>
            <a:endParaRPr b="0" lang="en-US" sz="66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765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есть необходимое условие существования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 все, что выходит за пределы рутины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 в чем заключена хоть йота нового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обязано своим происхождением                     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творческому процессу человека…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Л. С. Выготски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хема 5" descr=""/>
          <p:cNvPicPr/>
          <p:nvPr/>
        </p:nvPicPr>
        <p:blipFill>
          <a:blip r:embed="rId1"/>
          <a:stretch/>
        </p:blipFill>
        <p:spPr>
          <a:xfrm>
            <a:off x="-19080" y="1390680"/>
            <a:ext cx="89503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2" descr=""/>
          <p:cNvPicPr/>
          <p:nvPr/>
        </p:nvPicPr>
        <p:blipFill>
          <a:blip r:embed="rId1"/>
          <a:stretch/>
        </p:blipFill>
        <p:spPr>
          <a:xfrm>
            <a:off x="450720" y="774720"/>
            <a:ext cx="8444160" cy="19749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838080" y="36576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Компетентность разрешения проблем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228600" y="22860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з исследований известно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то учащиеся удерживают в памяти: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10% от того, что они читаю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20% от того, что они слыша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30% от того, что они видя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50% от того, что они видят и слыша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70% от того, что они обсуждают с другими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80% от того, что основано на личном  опыте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90 % от того, что они говорят  (проговаривают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то время, как делают;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95% от того, чему они обучаются сами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2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228600" y="1219320"/>
            <a:ext cx="8610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ыбор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темы 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оекта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определение места проекта в учебном планировании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формулирование основополагающего вопроса и      проблемных вопросов учебной темы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определение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целей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 проекта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формулирование методических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задач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ыбор тем индивидуальных исследований школьников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выдвижение гипотез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формирование групп для проведения исследований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обсуждение плана работы и источников информации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самостоятельная работа обучающихся в группах и задание для каждого участника группы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одготовка отчетов по заданиям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 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защита 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олученных результатов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ыбор и утверждение критериев оценки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8600" y="304920"/>
          <a:ext cx="8763120" cy="5994360"/>
        </p:xfrm>
        <a:graphic>
          <a:graphicData uri="http://schemas.openxmlformats.org/drawingml/2006/table">
            <a:tbl>
              <a:tblPr/>
              <a:tblGrid>
                <a:gridCol w="1797120"/>
                <a:gridCol w="3146400"/>
                <a:gridCol w="3819600"/>
              </a:tblGrid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80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рганизационно-подготовительный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ыбор темы проекта, определение его цели и задач, разработка реализации плана идеи, формирование микрогрупп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Формирование мотивации участников, консультирование по выбору тематики и жанра проекта, помощь в подборке необходимых материалов, выработка критериев оценки деятельности каждого участника на всех этапах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исковый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бор, анализ и систематизация собранной информации, запись интервью, обсуждение собранного материала в микрогруппах, выдвижение и проверка гипотезы, оформление макета и стендового доклада, самоконтроль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гулярное консультирование по содержанию проекта, помощь в систематизации и обработке материала, консультация по оформлению проекта, отслеживание деятельности каждого ученика, оценка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формление проекта, подготовка к защите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дготовка выступающих, помощь  в оформлении проекта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ценка своей деятельности. «Что дала мне работа над проектом?»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ценивание каждого участника проекта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АНАЛИЗ   РАБОТЫ </a:t>
            </a:r>
            <a:br>
              <a:rPr sz="48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МО классных руководителей</a:t>
            </a:r>
            <a:br>
              <a:rPr sz="48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за 1 полугодие</a:t>
            </a: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040" y="52574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едсове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7 января 2017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437680" cy="1139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8600" y="12952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индивидуальные, групповые,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коллективны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монопредметные (по одному предмету),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межпредметны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краткосрочные, среднесрочные,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долгосрочны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информационные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исследовательские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творческие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практико-ориентированные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олевые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8437680" cy="622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228600" y="838080"/>
            <a:ext cx="86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eb-сайт,                        видеофильм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ставка,                       газета,                         журнал,                           законопроект,                игра,                               карта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ллекция,                     модель,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ультимедийный     продукт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формление кабинета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акет рекомендаций,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аздник,                               сказка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равочник,                          учебное пособие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37680" cy="85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1143000" y="1219320"/>
            <a:ext cx="7086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ловая игра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монстрация видеофильма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иалог исторических персонажей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гра с залом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учный доклад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клама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оревнование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ектакль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кскурсия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33"/>
                </a:solidFill>
                <a:latin typeface="Garamond"/>
              </a:rPr>
              <a:t>УЧАСТИЕ В КОНКУРСАХ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33"/>
                </a:solidFill>
                <a:latin typeface="Arial"/>
              </a:rPr>
              <a:t>САМЫЙ КЛАССНЫЙ КЛАССНЫ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Comic Sans MS"/>
              </a:rPr>
              <a:t>Творчество</a:t>
            </a:r>
            <a:endParaRPr b="0" lang="en-US" sz="44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Comic Sans MS"/>
              </a:rPr>
              <a:t>есть необходимое условие существования и все, что выходит за пределы рутины и в чем заключена хоть йота нового, обязано своим происхождением                        творческому процессу человека…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Comic Sans MS"/>
              </a:rPr>
              <a:t>Л.С.Выготски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Times New Roman"/>
                <a:ea typeface="Times New Roman"/>
              </a:rPr>
              <a:t>План работы на 2 полугодие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Заседание 3 - ФЕВРАЛЬ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Тема: Взаимодействие школы и семьи: опыт, проблемы, поиск новых подходов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Заседание 4 -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Тема: Анализ   воспитательной работы за 2016-2017 учебный год.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ТЕМА ЗАСЕДАНИЯ  </a:t>
            </a: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ГМО </a:t>
            </a:r>
            <a:br>
              <a:rPr sz="4000"/>
            </a:b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КЛАССНЫХ РУКОВОДИТЕЛЕЙ</a:t>
            </a:r>
            <a:endParaRPr b="0" lang="en-US" sz="2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РАЗВИТИЕ СОЦИАЛЬНОГО ПАРТНЁРСТВА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КАК ИННОВАЦИОННОГО НАПРАВЛЕНИЯ ВОСПИТАТЕЛЬНЫХ СИСТЕМ ОБРАЗОВАТЕЛЬНЫХ ОРГАНИЗАЦИЙ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И СРЕДСТВО ПОВЫШЕНИЯ КАЧЕСТВА ОБРАЗОВАНИ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ПЛАН  РАБОТЫ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8240" y="1371240"/>
            <a:ext cx="89154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СИСТЕМА СОЦИАЛЬНОГО ПАРТНЁРСТВА                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Шатилова Н.Н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ПАРТНЁРСТВО КЛАССНОГО РУКОВОДИТЕЛЯ И СЕМЬИ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Морозова Е. В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ПАРТНЁРСТВО КЛАССНОГО РУКОВОДИТЕЛЯ И ПСИХОЛОГА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Хасанова Э.Э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82800"/>
                </a:solidFill>
                <a:latin typeface="Garamond"/>
              </a:rPr>
              <a:t>Тема: Взаимодействие школы и семьи: опыт, проблемы, поиск новых подходов (круглый стол).</a:t>
            </a:r>
            <a:br>
              <a:rPr sz="2400"/>
            </a:br>
            <a:endParaRPr b="0" lang="en-US" sz="24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План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тер-класс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Вавилова - бабушка Ткачук, </a:t>
            </a:r>
            <a:r>
              <a:rPr b="0" lang="ru-RU" sz="2400" spc="-1" strike="noStrike" u="sng">
                <a:solidFill>
                  <a:srgbClr val="003300"/>
                </a:solidFill>
                <a:uFillTx/>
                <a:latin typeface="Arial"/>
              </a:rPr>
              <a:t>кл.рук.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3300"/>
                </a:solidFill>
                <a:uFillTx/>
                <a:latin typeface="Arial"/>
              </a:rPr>
              <a:t>родительский комитет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)   ???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едагогическая диагностика изучения семьи как условие оказания ей помощи в воспитании и развитии детей. (Шатилова Н.Н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отивы, причины, характер конфликтов педагогов и родителей, условия, сопутствующие их возникновению. Пути их предупреждения и преодоления (Хасанова Э.Э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Знакомство с новинками методической литературы по данной теме (Макарова Л.Н. - библиотекарь)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Современные  образовательные технологии и методики</a:t>
            </a: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 воспитательной системе классного руководителя в условиях реализации </a:t>
            </a:r>
            <a:r>
              <a:rPr b="1" lang="ru-RU" sz="4000" spc="-1" strike="noStrike">
                <a:solidFill>
                  <a:srgbClr val="9a2500"/>
                </a:solidFill>
                <a:latin typeface="Garamond"/>
              </a:rPr>
              <a:t>ФГОС </a:t>
            </a: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торого поколения</a:t>
            </a:r>
            <a:br>
              <a:rPr sz="5000"/>
            </a:b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040" y="52574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ическая тема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О классных руководителей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  <a:ea typeface="Times New Roman"/>
              </a:rPr>
              <a:t>ГМО   МАСТЕР-КЛАСС  январь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ема: </a:t>
            </a:r>
            <a:r>
              <a:rPr b="1" lang="ru-RU" sz="2000" spc="-1" strike="noStrike">
                <a:solidFill>
                  <a:srgbClr val="003300"/>
                </a:solidFill>
                <a:latin typeface="Calibri"/>
                <a:ea typeface="Times New Roman"/>
              </a:rPr>
              <a:t>«СОЦИАЛЬНОЕ ПАРТНЁРСТВО В ДЕЯТЕЛЬНОСТИ КЛАССНОГО РУКОВОДИТЕЛЯ»</a:t>
            </a:r>
            <a:br>
              <a:rPr sz="6600"/>
            </a:br>
            <a:endParaRPr b="0" lang="en-US" sz="2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оциальное партнерство —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система взаимодействия классного руководителя с представителями окружающего социума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 интересах развития личности ребенка, с целью использования воспитательного потенциала окружающей среды и ее субъектов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для обеспечения реализации педагогических целей, организации воспитательных мероприятий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лавными социальными партнерами классного руководителя являются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родители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детей, обучающихся в классе, а также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едставители сторонних учреждений, организаций и предприятий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, участвующие в реализации воспитательных мероприятий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alibri"/>
                <a:ea typeface="Times New Roman"/>
              </a:rPr>
              <a:t>ГМО   МАСТЕР-КЛАСС  январь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ема: </a:t>
            </a:r>
            <a:r>
              <a:rPr b="1" lang="ru-RU" sz="2000" spc="-1" strike="noStrike">
                <a:solidFill>
                  <a:srgbClr val="003300"/>
                </a:solidFill>
                <a:latin typeface="Calibri"/>
                <a:ea typeface="Times New Roman"/>
              </a:rPr>
              <a:t>«СОЦИАЛЬНОЕ ПАРТНЁРСТВО В ДЕЯТЕЛЬНОСТИ КЛАССНОГО РУКОВОДИТЕЛЯ»</a:t>
            </a:r>
            <a:br>
              <a:rPr sz="6600"/>
            </a:br>
            <a:endParaRPr b="0" lang="en-US" sz="2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План: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. Система социального партнёрства в гимназии.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(…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артнёрство классного руководителя и семь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(нач. школа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заимодействие с учреждениями, участвующими в реализации воспитательных мероприятий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? (основная школа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4. Партнёрство классного руководителя и  …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психолога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…       (средн. школа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5. Круглый стол или работа в группах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6.  ...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82800"/>
                </a:solidFill>
                <a:latin typeface="Garamond"/>
              </a:rPr>
              <a:t>СИНКВЕЙН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(1 сущ.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(2 прил.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(3 глаг.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(фраза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,…(слово-ассоциация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«Дитя требует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деятельности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беспрестанно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а утомляется не деятельностью,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а ее 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однообразием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К.Д. Ушинск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Times New Roman"/>
                <a:ea typeface="Times New Roman"/>
              </a:rPr>
              <a:t>ЦЕЛЬ:</a:t>
            </a:r>
            <a:br>
              <a:rPr sz="4200"/>
            </a:b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a3a15"/>
                </a:solidFill>
                <a:uFillTx/>
                <a:latin typeface="Times New Roman"/>
                <a:ea typeface="Times New Roman"/>
              </a:rPr>
              <a:t>Формирование профессиональной компетентности </a:t>
            </a:r>
            <a:r>
              <a:rPr b="1" lang="ru-RU" sz="4400" spc="-1" strike="noStrike">
                <a:solidFill>
                  <a:srgbClr val="1a3a15"/>
                </a:solidFill>
                <a:latin typeface="Times New Roman"/>
                <a:ea typeface="Times New Roman"/>
              </a:rPr>
              <a:t>классных руководителей в  работе с учащимися, родителями, классным коллективом 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Изучение, апробация и анализ эффективности </a:t>
            </a: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современных воспитательных технологий</a:t>
            </a:r>
            <a:br>
              <a:rPr sz="4800"/>
            </a:b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7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Развитие </a:t>
            </a: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информационной культуры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 педагогов и использование </a:t>
            </a: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инновационных технологий 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в воспитательной работе.</a:t>
            </a:r>
            <a:br>
              <a:rPr sz="4800"/>
            </a:b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Создание </a:t>
            </a: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информационно-педагогического банка 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собственных достижений, популяризация собственного опыта</a:t>
            </a:r>
            <a:br>
              <a:rPr sz="4800"/>
            </a:b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5400" spc="-1" strike="noStrike">
                <a:solidFill>
                  <a:srgbClr val="1a3a15"/>
                </a:solidFill>
                <a:latin typeface="Garamond"/>
              </a:rPr>
              <a:t>Совершенствование и повышения </a:t>
            </a:r>
            <a:r>
              <a:rPr b="1" lang="ru-RU" sz="5400" spc="-1" strike="noStrike" u="sng">
                <a:solidFill>
                  <a:srgbClr val="1a3a15"/>
                </a:solidFill>
                <a:uFillTx/>
                <a:latin typeface="Garamond"/>
              </a:rPr>
              <a:t>эффективности </a:t>
            </a:r>
            <a:r>
              <a:rPr b="1" lang="ru-RU" sz="5400" spc="-1" strike="noStrike">
                <a:solidFill>
                  <a:srgbClr val="1a3a15"/>
                </a:solidFill>
                <a:latin typeface="Garamond"/>
              </a:rPr>
              <a:t>воспитательной работы в школе;</a:t>
            </a:r>
            <a:br>
              <a:rPr sz="5400"/>
            </a:br>
            <a:endParaRPr b="0" lang="en-US" sz="54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ЗАДАЧИ:</a:t>
            </a:r>
            <a:br>
              <a:rPr sz="4200"/>
            </a:br>
            <a:br>
              <a:rPr sz="4200"/>
            </a:b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Методическая помощь 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классным руководителям </a:t>
            </a:r>
            <a:br>
              <a:rPr sz="4800"/>
            </a:br>
            <a:r>
              <a:rPr b="1" lang="ru-RU" sz="4800" spc="-1" strike="noStrike" u="sng">
                <a:solidFill>
                  <a:srgbClr val="1a3a15"/>
                </a:solidFill>
                <a:uFillTx/>
                <a:latin typeface="Garamond"/>
              </a:rPr>
              <a:t>в овладении новыми педагогическими технологиями </a:t>
            </a:r>
            <a:r>
              <a:rPr b="1" lang="ru-RU" sz="4800" spc="-1" strike="noStrike">
                <a:solidFill>
                  <a:srgbClr val="1a3a15"/>
                </a:solidFill>
                <a:latin typeface="Garamond"/>
              </a:rPr>
              <a:t>воспитательного процесса</a:t>
            </a:r>
            <a:br>
              <a:rPr sz="4800"/>
            </a:br>
            <a:endParaRPr b="0" lang="en-US" sz="4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20:05:35Z</dcterms:created>
  <dc:creator>Win</dc:creator>
  <dc:description/>
  <dc:language>en-US</dc:language>
  <cp:lastModifiedBy>Нина</cp:lastModifiedBy>
  <dcterms:modified xsi:type="dcterms:W3CDTF">2017-01-26T19:48:24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