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22B-30CD-43AD-84B5-0106F22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AD4-325D-4DD1-900C-4DE3E8E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66A-E61C-46D1-9627-9DE5AF3E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2A1-FE4B-464D-B952-11C1F3B3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A0F-0190-4EF5-B855-0CCE6EC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544-3F25-41D3-AFAF-9B4392D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C0C-5EC8-475E-A28A-2FA01A8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164-C7D6-4B3D-87B7-D5B3F8F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D7A-C46C-4562-9CFA-16AD7BD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F9A-6735-4C44-A911-E5330C2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416-8FDD-42B0-8A45-97ADDB8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571-174F-4A78-96D5-F962E58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3EA1-FCB5-4939-97BA-77CAB9D71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05400" y="24750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219320"/>
            <a:ext cx="1254240" cy="134928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85896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92760" y="292248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38920" y="26272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10320" y="26272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8920" y="2703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10320" y="2703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8040" y="3203640"/>
            <a:ext cx="669960" cy="198360"/>
          </a:xfrm>
          <a:custGeom>
            <a:avLst/>
            <a:gdLst/>
            <a:ahLst/>
            <a:rect l="l" t="t" r="r" b="b"/>
            <a:pathLst>
              <a:path w="422" h="125">
                <a:moveTo>
                  <a:pt x="0" y="28"/>
                </a:moveTo>
                <a:cubicBezTo>
                  <a:pt x="20" y="89"/>
                  <a:pt x="115" y="51"/>
                  <a:pt x="162" y="49"/>
                </a:cubicBezTo>
                <a:cubicBezTo>
                  <a:pt x="194" y="38"/>
                  <a:pt x="186" y="28"/>
                  <a:pt x="204" y="0"/>
                </a:cubicBezTo>
                <a:cubicBezTo>
                  <a:pt x="214" y="30"/>
                  <a:pt x="212" y="45"/>
                  <a:pt x="239" y="63"/>
                </a:cubicBezTo>
                <a:cubicBezTo>
                  <a:pt x="286" y="61"/>
                  <a:pt x="332" y="52"/>
                  <a:pt x="379" y="56"/>
                </a:cubicBezTo>
                <a:cubicBezTo>
                  <a:pt x="422" y="60"/>
                  <a:pt x="368" y="89"/>
                  <a:pt x="365" y="91"/>
                </a:cubicBezTo>
                <a:cubicBezTo>
                  <a:pt x="244" y="85"/>
                  <a:pt x="218" y="125"/>
                  <a:pt x="190" y="42"/>
                </a:cubicBezTo>
                <a:cubicBezTo>
                  <a:pt x="166" y="113"/>
                  <a:pt x="88" y="73"/>
                  <a:pt x="21" y="70"/>
                </a:cubicBezTo>
                <a:cubicBezTo>
                  <a:pt x="11" y="41"/>
                  <a:pt x="18" y="55"/>
                  <a:pt x="0" y="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5400" y="3541680"/>
            <a:ext cx="10670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81840" y="5027760"/>
            <a:ext cx="108252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9600" y="4989600"/>
            <a:ext cx="114948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72360" y="2932200"/>
            <a:ext cx="1031760" cy="11667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0" y="656"/>
                </a:moveTo>
                <a:cubicBezTo>
                  <a:pt x="6" y="656"/>
                  <a:pt x="96" y="655"/>
                  <a:pt x="126" y="642"/>
                </a:cubicBezTo>
                <a:cubicBezTo>
                  <a:pt x="156" y="629"/>
                  <a:pt x="170" y="603"/>
                  <a:pt x="203" y="592"/>
                </a:cubicBezTo>
                <a:cubicBezTo>
                  <a:pt x="234" y="563"/>
                  <a:pt x="268" y="540"/>
                  <a:pt x="302" y="515"/>
                </a:cubicBezTo>
                <a:cubicBezTo>
                  <a:pt x="330" y="494"/>
                  <a:pt x="337" y="463"/>
                  <a:pt x="358" y="438"/>
                </a:cubicBezTo>
                <a:cubicBezTo>
                  <a:pt x="366" y="429"/>
                  <a:pt x="378" y="425"/>
                  <a:pt x="386" y="417"/>
                </a:cubicBezTo>
                <a:cubicBezTo>
                  <a:pt x="409" y="394"/>
                  <a:pt x="415" y="368"/>
                  <a:pt x="428" y="340"/>
                </a:cubicBezTo>
                <a:cubicBezTo>
                  <a:pt x="449" y="297"/>
                  <a:pt x="467" y="261"/>
                  <a:pt x="477" y="213"/>
                </a:cubicBezTo>
                <a:cubicBezTo>
                  <a:pt x="482" y="138"/>
                  <a:pt x="480" y="128"/>
                  <a:pt x="499" y="73"/>
                </a:cubicBezTo>
                <a:cubicBezTo>
                  <a:pt x="504" y="59"/>
                  <a:pt x="500" y="38"/>
                  <a:pt x="513" y="30"/>
                </a:cubicBezTo>
                <a:cubicBezTo>
                  <a:pt x="527" y="21"/>
                  <a:pt x="555" y="2"/>
                  <a:pt x="555" y="2"/>
                </a:cubicBezTo>
                <a:cubicBezTo>
                  <a:pt x="571" y="4"/>
                  <a:pt x="590" y="0"/>
                  <a:pt x="604" y="9"/>
                </a:cubicBezTo>
                <a:cubicBezTo>
                  <a:pt x="618" y="18"/>
                  <a:pt x="623" y="38"/>
                  <a:pt x="632" y="52"/>
                </a:cubicBezTo>
                <a:cubicBezTo>
                  <a:pt x="637" y="59"/>
                  <a:pt x="646" y="73"/>
                  <a:pt x="646" y="73"/>
                </a:cubicBezTo>
                <a:cubicBezTo>
                  <a:pt x="640" y="219"/>
                  <a:pt x="650" y="364"/>
                  <a:pt x="541" y="473"/>
                </a:cubicBezTo>
                <a:cubicBezTo>
                  <a:pt x="515" y="550"/>
                  <a:pt x="556" y="434"/>
                  <a:pt x="520" y="515"/>
                </a:cubicBezTo>
                <a:cubicBezTo>
                  <a:pt x="502" y="555"/>
                  <a:pt x="508" y="567"/>
                  <a:pt x="470" y="592"/>
                </a:cubicBezTo>
                <a:cubicBezTo>
                  <a:pt x="431" y="652"/>
                  <a:pt x="368" y="731"/>
                  <a:pt x="288" y="733"/>
                </a:cubicBezTo>
                <a:cubicBezTo>
                  <a:pt x="206" y="735"/>
                  <a:pt x="124" y="733"/>
                  <a:pt x="42" y="73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67320" y="2855880"/>
            <a:ext cx="903240" cy="1281240"/>
          </a:xfrm>
          <a:custGeom>
            <a:avLst/>
            <a:gdLst/>
            <a:ahLst/>
            <a:rect l="l" t="t" r="r" b="b"/>
            <a:pathLst>
              <a:path w="569" h="700">
                <a:moveTo>
                  <a:pt x="569" y="661"/>
                </a:moveTo>
                <a:cubicBezTo>
                  <a:pt x="522" y="637"/>
                  <a:pt x="452" y="579"/>
                  <a:pt x="414" y="541"/>
                </a:cubicBezTo>
                <a:cubicBezTo>
                  <a:pt x="387" y="514"/>
                  <a:pt x="371" y="477"/>
                  <a:pt x="344" y="450"/>
                </a:cubicBezTo>
                <a:cubicBezTo>
                  <a:pt x="325" y="392"/>
                  <a:pt x="357" y="475"/>
                  <a:pt x="309" y="408"/>
                </a:cubicBezTo>
                <a:cubicBezTo>
                  <a:pt x="303" y="400"/>
                  <a:pt x="306" y="389"/>
                  <a:pt x="302" y="380"/>
                </a:cubicBezTo>
                <a:cubicBezTo>
                  <a:pt x="283" y="333"/>
                  <a:pt x="254" y="291"/>
                  <a:pt x="232" y="246"/>
                </a:cubicBezTo>
                <a:cubicBezTo>
                  <a:pt x="215" y="212"/>
                  <a:pt x="214" y="176"/>
                  <a:pt x="182" y="155"/>
                </a:cubicBezTo>
                <a:cubicBezTo>
                  <a:pt x="163" y="117"/>
                  <a:pt x="140" y="79"/>
                  <a:pt x="119" y="43"/>
                </a:cubicBezTo>
                <a:cubicBezTo>
                  <a:pt x="107" y="23"/>
                  <a:pt x="63" y="0"/>
                  <a:pt x="63" y="0"/>
                </a:cubicBezTo>
                <a:cubicBezTo>
                  <a:pt x="50" y="3"/>
                  <a:pt x="23" y="7"/>
                  <a:pt x="14" y="21"/>
                </a:cubicBezTo>
                <a:cubicBezTo>
                  <a:pt x="6" y="34"/>
                  <a:pt x="0" y="64"/>
                  <a:pt x="0" y="64"/>
                </a:cubicBezTo>
                <a:cubicBezTo>
                  <a:pt x="2" y="118"/>
                  <a:pt x="3" y="171"/>
                  <a:pt x="7" y="225"/>
                </a:cubicBezTo>
                <a:cubicBezTo>
                  <a:pt x="8" y="239"/>
                  <a:pt x="12" y="253"/>
                  <a:pt x="14" y="267"/>
                </a:cubicBezTo>
                <a:cubicBezTo>
                  <a:pt x="17" y="295"/>
                  <a:pt x="16" y="324"/>
                  <a:pt x="21" y="352"/>
                </a:cubicBezTo>
                <a:cubicBezTo>
                  <a:pt x="27" y="386"/>
                  <a:pt x="45" y="424"/>
                  <a:pt x="56" y="457"/>
                </a:cubicBezTo>
                <a:cubicBezTo>
                  <a:pt x="67" y="489"/>
                  <a:pt x="57" y="494"/>
                  <a:pt x="70" y="520"/>
                </a:cubicBezTo>
                <a:cubicBezTo>
                  <a:pt x="75" y="529"/>
                  <a:pt x="96" y="559"/>
                  <a:pt x="105" y="562"/>
                </a:cubicBezTo>
                <a:cubicBezTo>
                  <a:pt x="123" y="568"/>
                  <a:pt x="142" y="567"/>
                  <a:pt x="161" y="569"/>
                </a:cubicBezTo>
                <a:cubicBezTo>
                  <a:pt x="192" y="579"/>
                  <a:pt x="233" y="579"/>
                  <a:pt x="260" y="597"/>
                </a:cubicBezTo>
                <a:cubicBezTo>
                  <a:pt x="287" y="615"/>
                  <a:pt x="273" y="608"/>
                  <a:pt x="302" y="619"/>
                </a:cubicBezTo>
                <a:cubicBezTo>
                  <a:pt x="307" y="626"/>
                  <a:pt x="309" y="636"/>
                  <a:pt x="316" y="640"/>
                </a:cubicBezTo>
                <a:cubicBezTo>
                  <a:pt x="338" y="653"/>
                  <a:pt x="376" y="663"/>
                  <a:pt x="400" y="675"/>
                </a:cubicBezTo>
                <a:cubicBezTo>
                  <a:pt x="416" y="683"/>
                  <a:pt x="428" y="700"/>
                  <a:pt x="449" y="696"/>
                </a:cubicBezTo>
                <a:cubicBezTo>
                  <a:pt x="490" y="688"/>
                  <a:pt x="529" y="673"/>
                  <a:pt x="569" y="66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56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58 -0.01505 C -0.02413 -0.04768 0.00382 -0.09421 0.03646 -0.09421 C 0.08524 -0.09421 0.125 -0.04583 0.125 0.01597 C 0.125 0.03565 0.12101 0.05394 0.11285 0.07037 C 0.11424 0.07037 -0.03958 0.31458 -0.03958 0.3169 C -0.03958 0.31458 -0.19375 0.07037 -0.19236 0.07037 C -0.20052 0.05394 -0.20417 0.03565 -0.20417 0.01597 C -0.20417 -0.04583 -0.16476 -0.09421 -0.11476 -0.09421 C -0.08316 -0.09421 -0.05556 -0.04768 -0.03958 -0.01505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8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6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7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5410080" y="858960"/>
            <a:ext cx="2894040" cy="4873680"/>
            <a:chOff x="5410080" y="858960"/>
            <a:chExt cx="2894040" cy="4873680"/>
          </a:xfrm>
        </p:grpSpPr>
        <p:sp>
          <p:nvSpPr>
            <p:cNvPr id="59" name=""/>
            <p:cNvSpPr/>
            <p:nvPr/>
          </p:nvSpPr>
          <p:spPr>
            <a:xfrm>
              <a:off x="6305400" y="247500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10080" y="1219320"/>
              <a:ext cx="1254240" cy="1349280"/>
            </a:xfrm>
            <a:custGeom>
              <a:avLst/>
              <a:gdLst/>
              <a:ahLst/>
              <a:rect l="l" t="t" r="r" b="b"/>
              <a:pathLst>
                <a:path w="790" h="850">
                  <a:moveTo>
                    <a:pt x="716" y="850"/>
                  </a:moveTo>
                  <a:cubicBezTo>
                    <a:pt x="732" y="677"/>
                    <a:pt x="771" y="441"/>
                    <a:pt x="604" y="330"/>
                  </a:cubicBezTo>
                  <a:cubicBezTo>
                    <a:pt x="567" y="274"/>
                    <a:pt x="616" y="342"/>
                    <a:pt x="569" y="295"/>
                  </a:cubicBezTo>
                  <a:cubicBezTo>
                    <a:pt x="561" y="287"/>
                    <a:pt x="553" y="265"/>
                    <a:pt x="541" y="259"/>
                  </a:cubicBezTo>
                  <a:cubicBezTo>
                    <a:pt x="528" y="252"/>
                    <a:pt x="512" y="250"/>
                    <a:pt x="498" y="245"/>
                  </a:cubicBezTo>
                  <a:cubicBezTo>
                    <a:pt x="491" y="243"/>
                    <a:pt x="477" y="238"/>
                    <a:pt x="477" y="238"/>
                  </a:cubicBezTo>
                  <a:cubicBezTo>
                    <a:pt x="387" y="240"/>
                    <a:pt x="183" y="259"/>
                    <a:pt x="56" y="245"/>
                  </a:cubicBezTo>
                  <a:cubicBezTo>
                    <a:pt x="27" y="225"/>
                    <a:pt x="11" y="201"/>
                    <a:pt x="0" y="168"/>
                  </a:cubicBezTo>
                  <a:cubicBezTo>
                    <a:pt x="5" y="135"/>
                    <a:pt x="9" y="103"/>
                    <a:pt x="14" y="70"/>
                  </a:cubicBezTo>
                  <a:cubicBezTo>
                    <a:pt x="21" y="19"/>
                    <a:pt x="112" y="12"/>
                    <a:pt x="147" y="0"/>
                  </a:cubicBezTo>
                  <a:cubicBezTo>
                    <a:pt x="288" y="2"/>
                    <a:pt x="428" y="1"/>
                    <a:pt x="569" y="7"/>
                  </a:cubicBezTo>
                  <a:cubicBezTo>
                    <a:pt x="584" y="8"/>
                    <a:pt x="611" y="21"/>
                    <a:pt x="611" y="21"/>
                  </a:cubicBezTo>
                  <a:cubicBezTo>
                    <a:pt x="616" y="28"/>
                    <a:pt x="618" y="38"/>
                    <a:pt x="625" y="42"/>
                  </a:cubicBezTo>
                  <a:cubicBezTo>
                    <a:pt x="629" y="45"/>
                    <a:pt x="700" y="74"/>
                    <a:pt x="709" y="77"/>
                  </a:cubicBezTo>
                  <a:cubicBezTo>
                    <a:pt x="727" y="104"/>
                    <a:pt x="738" y="112"/>
                    <a:pt x="744" y="140"/>
                  </a:cubicBezTo>
                  <a:cubicBezTo>
                    <a:pt x="752" y="177"/>
                    <a:pt x="751" y="206"/>
                    <a:pt x="772" y="238"/>
                  </a:cubicBezTo>
                  <a:cubicBezTo>
                    <a:pt x="790" y="653"/>
                    <a:pt x="786" y="459"/>
                    <a:pt x="786" y="821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48360" y="858960"/>
              <a:ext cx="1216080" cy="1668240"/>
            </a:xfrm>
            <a:custGeom>
              <a:avLst/>
              <a:gdLst/>
              <a:ahLst/>
              <a:rect l="l" t="t" r="r" b="b"/>
              <a:pathLst>
                <a:path w="766" h="1051">
                  <a:moveTo>
                    <a:pt x="0" y="1027"/>
                  </a:moveTo>
                  <a:cubicBezTo>
                    <a:pt x="13" y="987"/>
                    <a:pt x="11" y="948"/>
                    <a:pt x="21" y="908"/>
                  </a:cubicBezTo>
                  <a:cubicBezTo>
                    <a:pt x="25" y="893"/>
                    <a:pt x="38" y="881"/>
                    <a:pt x="42" y="866"/>
                  </a:cubicBezTo>
                  <a:cubicBezTo>
                    <a:pt x="45" y="857"/>
                    <a:pt x="47" y="847"/>
                    <a:pt x="49" y="838"/>
                  </a:cubicBezTo>
                  <a:cubicBezTo>
                    <a:pt x="52" y="822"/>
                    <a:pt x="52" y="805"/>
                    <a:pt x="56" y="789"/>
                  </a:cubicBezTo>
                  <a:cubicBezTo>
                    <a:pt x="63" y="759"/>
                    <a:pt x="85" y="740"/>
                    <a:pt x="91" y="711"/>
                  </a:cubicBezTo>
                  <a:cubicBezTo>
                    <a:pt x="95" y="692"/>
                    <a:pt x="96" y="667"/>
                    <a:pt x="105" y="648"/>
                  </a:cubicBezTo>
                  <a:cubicBezTo>
                    <a:pt x="123" y="611"/>
                    <a:pt x="145" y="574"/>
                    <a:pt x="162" y="536"/>
                  </a:cubicBezTo>
                  <a:cubicBezTo>
                    <a:pt x="183" y="489"/>
                    <a:pt x="186" y="441"/>
                    <a:pt x="225" y="402"/>
                  </a:cubicBezTo>
                  <a:cubicBezTo>
                    <a:pt x="267" y="360"/>
                    <a:pt x="301" y="310"/>
                    <a:pt x="337" y="262"/>
                  </a:cubicBezTo>
                  <a:cubicBezTo>
                    <a:pt x="352" y="242"/>
                    <a:pt x="358" y="212"/>
                    <a:pt x="379" y="198"/>
                  </a:cubicBezTo>
                  <a:cubicBezTo>
                    <a:pt x="406" y="180"/>
                    <a:pt x="430" y="160"/>
                    <a:pt x="457" y="142"/>
                  </a:cubicBezTo>
                  <a:cubicBezTo>
                    <a:pt x="464" y="137"/>
                    <a:pt x="478" y="128"/>
                    <a:pt x="478" y="128"/>
                  </a:cubicBezTo>
                  <a:cubicBezTo>
                    <a:pt x="504" y="89"/>
                    <a:pt x="516" y="83"/>
                    <a:pt x="548" y="51"/>
                  </a:cubicBezTo>
                  <a:cubicBezTo>
                    <a:pt x="550" y="44"/>
                    <a:pt x="550" y="35"/>
                    <a:pt x="555" y="30"/>
                  </a:cubicBezTo>
                  <a:cubicBezTo>
                    <a:pt x="567" y="18"/>
                    <a:pt x="597" y="2"/>
                    <a:pt x="597" y="2"/>
                  </a:cubicBezTo>
                  <a:cubicBezTo>
                    <a:pt x="649" y="4"/>
                    <a:pt x="701" y="0"/>
                    <a:pt x="752" y="9"/>
                  </a:cubicBezTo>
                  <a:cubicBezTo>
                    <a:pt x="759" y="10"/>
                    <a:pt x="759" y="23"/>
                    <a:pt x="759" y="30"/>
                  </a:cubicBezTo>
                  <a:cubicBezTo>
                    <a:pt x="759" y="74"/>
                    <a:pt x="766" y="121"/>
                    <a:pt x="752" y="163"/>
                  </a:cubicBezTo>
                  <a:cubicBezTo>
                    <a:pt x="747" y="177"/>
                    <a:pt x="710" y="177"/>
                    <a:pt x="710" y="177"/>
                  </a:cubicBezTo>
                  <a:cubicBezTo>
                    <a:pt x="688" y="198"/>
                    <a:pt x="658" y="203"/>
                    <a:pt x="632" y="220"/>
                  </a:cubicBezTo>
                  <a:cubicBezTo>
                    <a:pt x="614" y="273"/>
                    <a:pt x="574" y="304"/>
                    <a:pt x="541" y="346"/>
                  </a:cubicBezTo>
                  <a:cubicBezTo>
                    <a:pt x="497" y="403"/>
                    <a:pt x="533" y="375"/>
                    <a:pt x="492" y="402"/>
                  </a:cubicBezTo>
                  <a:cubicBezTo>
                    <a:pt x="459" y="451"/>
                    <a:pt x="478" y="435"/>
                    <a:pt x="443" y="458"/>
                  </a:cubicBezTo>
                  <a:cubicBezTo>
                    <a:pt x="430" y="498"/>
                    <a:pt x="399" y="517"/>
                    <a:pt x="365" y="536"/>
                  </a:cubicBezTo>
                  <a:cubicBezTo>
                    <a:pt x="350" y="544"/>
                    <a:pt x="337" y="555"/>
                    <a:pt x="323" y="564"/>
                  </a:cubicBezTo>
                  <a:cubicBezTo>
                    <a:pt x="316" y="569"/>
                    <a:pt x="302" y="578"/>
                    <a:pt x="302" y="578"/>
                  </a:cubicBezTo>
                  <a:cubicBezTo>
                    <a:pt x="292" y="593"/>
                    <a:pt x="277" y="605"/>
                    <a:pt x="267" y="620"/>
                  </a:cubicBezTo>
                  <a:cubicBezTo>
                    <a:pt x="263" y="626"/>
                    <a:pt x="264" y="635"/>
                    <a:pt x="260" y="641"/>
                  </a:cubicBezTo>
                  <a:cubicBezTo>
                    <a:pt x="260" y="641"/>
                    <a:pt x="225" y="693"/>
                    <a:pt x="218" y="704"/>
                  </a:cubicBezTo>
                  <a:cubicBezTo>
                    <a:pt x="205" y="723"/>
                    <a:pt x="198" y="765"/>
                    <a:pt x="190" y="789"/>
                  </a:cubicBezTo>
                  <a:cubicBezTo>
                    <a:pt x="182" y="814"/>
                    <a:pt x="159" y="834"/>
                    <a:pt x="141" y="852"/>
                  </a:cubicBezTo>
                  <a:cubicBezTo>
                    <a:pt x="139" y="859"/>
                    <a:pt x="138" y="867"/>
                    <a:pt x="134" y="873"/>
                  </a:cubicBezTo>
                  <a:cubicBezTo>
                    <a:pt x="130" y="879"/>
                    <a:pt x="122" y="881"/>
                    <a:pt x="119" y="887"/>
                  </a:cubicBezTo>
                  <a:cubicBezTo>
                    <a:pt x="95" y="933"/>
                    <a:pt x="135" y="901"/>
                    <a:pt x="98" y="957"/>
                  </a:cubicBezTo>
                  <a:cubicBezTo>
                    <a:pt x="78" y="987"/>
                    <a:pt x="55" y="1011"/>
                    <a:pt x="35" y="1041"/>
                  </a:cubicBezTo>
                  <a:cubicBezTo>
                    <a:pt x="28" y="1051"/>
                    <a:pt x="12" y="1032"/>
                    <a:pt x="0" y="102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2760" y="292248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70" y="121"/>
                  </a:moveTo>
                  <a:cubicBezTo>
                    <a:pt x="55" y="116"/>
                    <a:pt x="39" y="113"/>
                    <a:pt x="28" y="100"/>
                  </a:cubicBezTo>
                  <a:cubicBezTo>
                    <a:pt x="17" y="87"/>
                    <a:pt x="0" y="58"/>
                    <a:pt x="0" y="58"/>
                  </a:cubicBezTo>
                  <a:cubicBezTo>
                    <a:pt x="9" y="29"/>
                    <a:pt x="24" y="18"/>
                    <a:pt x="49" y="1"/>
                  </a:cubicBezTo>
                  <a:cubicBezTo>
                    <a:pt x="75" y="3"/>
                    <a:pt x="101" y="0"/>
                    <a:pt x="126" y="8"/>
                  </a:cubicBezTo>
                  <a:cubicBezTo>
                    <a:pt x="151" y="16"/>
                    <a:pt x="137" y="65"/>
                    <a:pt x="133" y="72"/>
                  </a:cubicBezTo>
                  <a:cubicBezTo>
                    <a:pt x="128" y="83"/>
                    <a:pt x="101" y="90"/>
                    <a:pt x="91" y="93"/>
                  </a:cubicBezTo>
                  <a:cubicBezTo>
                    <a:pt x="75" y="117"/>
                    <a:pt x="83" y="108"/>
                    <a:pt x="70" y="121"/>
                  </a:cubicBezTo>
                  <a:close/>
                </a:path>
              </a:pathLst>
            </a:custGeom>
            <a:solidFill>
              <a:srgbClr val="f8ae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8920" y="26272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0320" y="26272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8920" y="2703600"/>
              <a:ext cx="76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10320" y="2703600"/>
              <a:ext cx="76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58040" y="3203640"/>
              <a:ext cx="669960" cy="198360"/>
            </a:xfrm>
            <a:custGeom>
              <a:avLst/>
              <a:gdLst/>
              <a:ahLst/>
              <a:rect l="l" t="t" r="r" b="b"/>
              <a:pathLst>
                <a:path w="422" h="125">
                  <a:moveTo>
                    <a:pt x="0" y="28"/>
                  </a:moveTo>
                  <a:cubicBezTo>
                    <a:pt x="20" y="89"/>
                    <a:pt x="115" y="51"/>
                    <a:pt x="162" y="49"/>
                  </a:cubicBezTo>
                  <a:cubicBezTo>
                    <a:pt x="194" y="38"/>
                    <a:pt x="186" y="28"/>
                    <a:pt x="204" y="0"/>
                  </a:cubicBezTo>
                  <a:cubicBezTo>
                    <a:pt x="214" y="30"/>
                    <a:pt x="212" y="45"/>
                    <a:pt x="239" y="63"/>
                  </a:cubicBezTo>
                  <a:cubicBezTo>
                    <a:pt x="286" y="61"/>
                    <a:pt x="332" y="52"/>
                    <a:pt x="379" y="56"/>
                  </a:cubicBezTo>
                  <a:cubicBezTo>
                    <a:pt x="422" y="60"/>
                    <a:pt x="368" y="89"/>
                    <a:pt x="365" y="91"/>
                  </a:cubicBezTo>
                  <a:cubicBezTo>
                    <a:pt x="244" y="85"/>
                    <a:pt x="218" y="125"/>
                    <a:pt x="190" y="42"/>
                  </a:cubicBezTo>
                  <a:cubicBezTo>
                    <a:pt x="166" y="113"/>
                    <a:pt x="88" y="73"/>
                    <a:pt x="21" y="70"/>
                  </a:cubicBezTo>
                  <a:cubicBezTo>
                    <a:pt x="11" y="41"/>
                    <a:pt x="18" y="55"/>
                    <a:pt x="0" y="28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05400" y="3541680"/>
              <a:ext cx="106704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81840" y="5027760"/>
              <a:ext cx="1082520" cy="704880"/>
            </a:xfrm>
            <a:custGeom>
              <a:avLst/>
              <a:gdLst/>
              <a:ahLst/>
              <a:rect l="l" t="t" r="r" b="b"/>
              <a:pathLst>
                <a:path w="682" h="444">
                  <a:moveTo>
                    <a:pt x="0" y="66"/>
                  </a:moveTo>
                  <a:cubicBezTo>
                    <a:pt x="42" y="108"/>
                    <a:pt x="59" y="210"/>
                    <a:pt x="70" y="270"/>
                  </a:cubicBezTo>
                  <a:cubicBezTo>
                    <a:pt x="75" y="296"/>
                    <a:pt x="74" y="341"/>
                    <a:pt x="106" y="354"/>
                  </a:cubicBezTo>
                  <a:cubicBezTo>
                    <a:pt x="121" y="360"/>
                    <a:pt x="139" y="359"/>
                    <a:pt x="155" y="361"/>
                  </a:cubicBezTo>
                  <a:cubicBezTo>
                    <a:pt x="169" y="366"/>
                    <a:pt x="183" y="370"/>
                    <a:pt x="197" y="375"/>
                  </a:cubicBezTo>
                  <a:cubicBezTo>
                    <a:pt x="204" y="377"/>
                    <a:pt x="218" y="382"/>
                    <a:pt x="218" y="382"/>
                  </a:cubicBezTo>
                  <a:cubicBezTo>
                    <a:pt x="373" y="379"/>
                    <a:pt x="542" y="444"/>
                    <a:pt x="653" y="333"/>
                  </a:cubicBezTo>
                  <a:cubicBezTo>
                    <a:pt x="661" y="310"/>
                    <a:pt x="673" y="292"/>
                    <a:pt x="682" y="270"/>
                  </a:cubicBezTo>
                  <a:cubicBezTo>
                    <a:pt x="639" y="82"/>
                    <a:pt x="432" y="147"/>
                    <a:pt x="274" y="143"/>
                  </a:cubicBezTo>
                  <a:cubicBezTo>
                    <a:pt x="223" y="126"/>
                    <a:pt x="145" y="104"/>
                    <a:pt x="106" y="66"/>
                  </a:cubicBezTo>
                  <a:cubicBezTo>
                    <a:pt x="98" y="58"/>
                    <a:pt x="59" y="0"/>
                    <a:pt x="42" y="17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19600" y="4989600"/>
              <a:ext cx="1149480" cy="523800"/>
            </a:xfrm>
            <a:custGeom>
              <a:avLst/>
              <a:gdLst/>
              <a:ahLst/>
              <a:rect l="l" t="t" r="r" b="b"/>
              <a:pathLst>
                <a:path w="724" h="330">
                  <a:moveTo>
                    <a:pt x="724" y="70"/>
                  </a:moveTo>
                  <a:cubicBezTo>
                    <a:pt x="714" y="101"/>
                    <a:pt x="705" y="154"/>
                    <a:pt x="681" y="176"/>
                  </a:cubicBezTo>
                  <a:cubicBezTo>
                    <a:pt x="668" y="216"/>
                    <a:pt x="671" y="232"/>
                    <a:pt x="639" y="253"/>
                  </a:cubicBezTo>
                  <a:cubicBezTo>
                    <a:pt x="613" y="292"/>
                    <a:pt x="594" y="315"/>
                    <a:pt x="548" y="330"/>
                  </a:cubicBezTo>
                  <a:cubicBezTo>
                    <a:pt x="471" y="328"/>
                    <a:pt x="393" y="327"/>
                    <a:pt x="316" y="323"/>
                  </a:cubicBezTo>
                  <a:cubicBezTo>
                    <a:pt x="273" y="321"/>
                    <a:pt x="226" y="297"/>
                    <a:pt x="183" y="288"/>
                  </a:cubicBezTo>
                  <a:cubicBezTo>
                    <a:pt x="170" y="279"/>
                    <a:pt x="153" y="277"/>
                    <a:pt x="141" y="267"/>
                  </a:cubicBezTo>
                  <a:cubicBezTo>
                    <a:pt x="134" y="262"/>
                    <a:pt x="133" y="252"/>
                    <a:pt x="127" y="246"/>
                  </a:cubicBezTo>
                  <a:cubicBezTo>
                    <a:pt x="121" y="240"/>
                    <a:pt x="112" y="237"/>
                    <a:pt x="105" y="232"/>
                  </a:cubicBezTo>
                  <a:cubicBezTo>
                    <a:pt x="100" y="225"/>
                    <a:pt x="98" y="216"/>
                    <a:pt x="91" y="211"/>
                  </a:cubicBezTo>
                  <a:cubicBezTo>
                    <a:pt x="85" y="206"/>
                    <a:pt x="75" y="209"/>
                    <a:pt x="70" y="204"/>
                  </a:cubicBezTo>
                  <a:cubicBezTo>
                    <a:pt x="53" y="187"/>
                    <a:pt x="42" y="166"/>
                    <a:pt x="28" y="147"/>
                  </a:cubicBezTo>
                  <a:cubicBezTo>
                    <a:pt x="18" y="133"/>
                    <a:pt x="0" y="105"/>
                    <a:pt x="0" y="105"/>
                  </a:cubicBezTo>
                  <a:cubicBezTo>
                    <a:pt x="4" y="74"/>
                    <a:pt x="3" y="32"/>
                    <a:pt x="35" y="14"/>
                  </a:cubicBezTo>
                  <a:cubicBezTo>
                    <a:pt x="48" y="7"/>
                    <a:pt x="77" y="0"/>
                    <a:pt x="77" y="0"/>
                  </a:cubicBezTo>
                  <a:cubicBezTo>
                    <a:pt x="110" y="2"/>
                    <a:pt x="143" y="2"/>
                    <a:pt x="176" y="7"/>
                  </a:cubicBezTo>
                  <a:cubicBezTo>
                    <a:pt x="228" y="15"/>
                    <a:pt x="276" y="49"/>
                    <a:pt x="323" y="70"/>
                  </a:cubicBezTo>
                  <a:cubicBezTo>
                    <a:pt x="343" y="79"/>
                    <a:pt x="365" y="84"/>
                    <a:pt x="386" y="91"/>
                  </a:cubicBezTo>
                  <a:cubicBezTo>
                    <a:pt x="400" y="96"/>
                    <a:pt x="429" y="105"/>
                    <a:pt x="429" y="105"/>
                  </a:cubicBezTo>
                  <a:cubicBezTo>
                    <a:pt x="618" y="98"/>
                    <a:pt x="574" y="135"/>
                    <a:pt x="660" y="49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72360" y="2932200"/>
              <a:ext cx="1031760" cy="116676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0" y="656"/>
                  </a:moveTo>
                  <a:cubicBezTo>
                    <a:pt x="6" y="656"/>
                    <a:pt x="96" y="655"/>
                    <a:pt x="126" y="642"/>
                  </a:cubicBezTo>
                  <a:cubicBezTo>
                    <a:pt x="156" y="629"/>
                    <a:pt x="170" y="603"/>
                    <a:pt x="203" y="592"/>
                  </a:cubicBezTo>
                  <a:cubicBezTo>
                    <a:pt x="234" y="563"/>
                    <a:pt x="268" y="540"/>
                    <a:pt x="302" y="515"/>
                  </a:cubicBezTo>
                  <a:cubicBezTo>
                    <a:pt x="330" y="494"/>
                    <a:pt x="337" y="463"/>
                    <a:pt x="358" y="438"/>
                  </a:cubicBezTo>
                  <a:cubicBezTo>
                    <a:pt x="366" y="429"/>
                    <a:pt x="378" y="425"/>
                    <a:pt x="386" y="417"/>
                  </a:cubicBezTo>
                  <a:cubicBezTo>
                    <a:pt x="409" y="394"/>
                    <a:pt x="415" y="368"/>
                    <a:pt x="428" y="340"/>
                  </a:cubicBezTo>
                  <a:cubicBezTo>
                    <a:pt x="449" y="297"/>
                    <a:pt x="467" y="261"/>
                    <a:pt x="477" y="213"/>
                  </a:cubicBezTo>
                  <a:cubicBezTo>
                    <a:pt x="482" y="138"/>
                    <a:pt x="480" y="128"/>
                    <a:pt x="499" y="73"/>
                  </a:cubicBezTo>
                  <a:cubicBezTo>
                    <a:pt x="504" y="59"/>
                    <a:pt x="500" y="38"/>
                    <a:pt x="513" y="30"/>
                  </a:cubicBezTo>
                  <a:cubicBezTo>
                    <a:pt x="527" y="21"/>
                    <a:pt x="555" y="2"/>
                    <a:pt x="555" y="2"/>
                  </a:cubicBezTo>
                  <a:cubicBezTo>
                    <a:pt x="571" y="4"/>
                    <a:pt x="590" y="0"/>
                    <a:pt x="604" y="9"/>
                  </a:cubicBezTo>
                  <a:cubicBezTo>
                    <a:pt x="618" y="18"/>
                    <a:pt x="623" y="38"/>
                    <a:pt x="632" y="52"/>
                  </a:cubicBezTo>
                  <a:cubicBezTo>
                    <a:pt x="637" y="59"/>
                    <a:pt x="646" y="73"/>
                    <a:pt x="646" y="73"/>
                  </a:cubicBezTo>
                  <a:cubicBezTo>
                    <a:pt x="640" y="219"/>
                    <a:pt x="650" y="364"/>
                    <a:pt x="541" y="473"/>
                  </a:cubicBezTo>
                  <a:cubicBezTo>
                    <a:pt x="515" y="550"/>
                    <a:pt x="556" y="434"/>
                    <a:pt x="520" y="515"/>
                  </a:cubicBezTo>
                  <a:cubicBezTo>
                    <a:pt x="502" y="555"/>
                    <a:pt x="508" y="567"/>
                    <a:pt x="470" y="592"/>
                  </a:cubicBezTo>
                  <a:cubicBezTo>
                    <a:pt x="431" y="652"/>
                    <a:pt x="368" y="731"/>
                    <a:pt x="288" y="733"/>
                  </a:cubicBezTo>
                  <a:cubicBezTo>
                    <a:pt x="206" y="735"/>
                    <a:pt x="124" y="733"/>
                    <a:pt x="42" y="7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67320" y="2855880"/>
              <a:ext cx="903240" cy="1281240"/>
            </a:xfrm>
            <a:custGeom>
              <a:avLst/>
              <a:gdLst/>
              <a:ahLst/>
              <a:rect l="l" t="t" r="r" b="b"/>
              <a:pathLst>
                <a:path w="569" h="700">
                  <a:moveTo>
                    <a:pt x="569" y="661"/>
                  </a:moveTo>
                  <a:cubicBezTo>
                    <a:pt x="522" y="637"/>
                    <a:pt x="452" y="579"/>
                    <a:pt x="414" y="541"/>
                  </a:cubicBezTo>
                  <a:cubicBezTo>
                    <a:pt x="387" y="514"/>
                    <a:pt x="371" y="477"/>
                    <a:pt x="344" y="450"/>
                  </a:cubicBezTo>
                  <a:cubicBezTo>
                    <a:pt x="325" y="392"/>
                    <a:pt x="357" y="475"/>
                    <a:pt x="309" y="408"/>
                  </a:cubicBezTo>
                  <a:cubicBezTo>
                    <a:pt x="303" y="400"/>
                    <a:pt x="306" y="389"/>
                    <a:pt x="302" y="380"/>
                  </a:cubicBezTo>
                  <a:cubicBezTo>
                    <a:pt x="283" y="333"/>
                    <a:pt x="254" y="291"/>
                    <a:pt x="232" y="246"/>
                  </a:cubicBezTo>
                  <a:cubicBezTo>
                    <a:pt x="215" y="212"/>
                    <a:pt x="214" y="176"/>
                    <a:pt x="182" y="155"/>
                  </a:cubicBezTo>
                  <a:cubicBezTo>
                    <a:pt x="163" y="117"/>
                    <a:pt x="140" y="79"/>
                    <a:pt x="119" y="43"/>
                  </a:cubicBezTo>
                  <a:cubicBezTo>
                    <a:pt x="107" y="23"/>
                    <a:pt x="63" y="0"/>
                    <a:pt x="63" y="0"/>
                  </a:cubicBezTo>
                  <a:cubicBezTo>
                    <a:pt x="50" y="3"/>
                    <a:pt x="23" y="7"/>
                    <a:pt x="14" y="21"/>
                  </a:cubicBezTo>
                  <a:cubicBezTo>
                    <a:pt x="6" y="34"/>
                    <a:pt x="0" y="64"/>
                    <a:pt x="0" y="64"/>
                  </a:cubicBezTo>
                  <a:cubicBezTo>
                    <a:pt x="2" y="118"/>
                    <a:pt x="3" y="171"/>
                    <a:pt x="7" y="225"/>
                  </a:cubicBezTo>
                  <a:cubicBezTo>
                    <a:pt x="8" y="239"/>
                    <a:pt x="12" y="253"/>
                    <a:pt x="14" y="267"/>
                  </a:cubicBezTo>
                  <a:cubicBezTo>
                    <a:pt x="17" y="295"/>
                    <a:pt x="16" y="324"/>
                    <a:pt x="21" y="352"/>
                  </a:cubicBezTo>
                  <a:cubicBezTo>
                    <a:pt x="27" y="386"/>
                    <a:pt x="45" y="424"/>
                    <a:pt x="56" y="457"/>
                  </a:cubicBezTo>
                  <a:cubicBezTo>
                    <a:pt x="67" y="489"/>
                    <a:pt x="57" y="494"/>
                    <a:pt x="70" y="520"/>
                  </a:cubicBezTo>
                  <a:cubicBezTo>
                    <a:pt x="75" y="529"/>
                    <a:pt x="96" y="559"/>
                    <a:pt x="105" y="562"/>
                  </a:cubicBezTo>
                  <a:cubicBezTo>
                    <a:pt x="123" y="568"/>
                    <a:pt x="142" y="567"/>
                    <a:pt x="161" y="569"/>
                  </a:cubicBezTo>
                  <a:cubicBezTo>
                    <a:pt x="192" y="579"/>
                    <a:pt x="233" y="579"/>
                    <a:pt x="260" y="597"/>
                  </a:cubicBezTo>
                  <a:cubicBezTo>
                    <a:pt x="287" y="615"/>
                    <a:pt x="273" y="608"/>
                    <a:pt x="302" y="619"/>
                  </a:cubicBezTo>
                  <a:cubicBezTo>
                    <a:pt x="307" y="626"/>
                    <a:pt x="309" y="636"/>
                    <a:pt x="316" y="640"/>
                  </a:cubicBezTo>
                  <a:cubicBezTo>
                    <a:pt x="338" y="653"/>
                    <a:pt x="376" y="663"/>
                    <a:pt x="400" y="675"/>
                  </a:cubicBezTo>
                  <a:cubicBezTo>
                    <a:pt x="416" y="683"/>
                    <a:pt x="428" y="700"/>
                    <a:pt x="449" y="696"/>
                  </a:cubicBezTo>
                  <a:cubicBezTo>
                    <a:pt x="490" y="688"/>
                    <a:pt x="529" y="673"/>
                    <a:pt x="569" y="66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74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4.44444E-006 L -0.33316 -0.00278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77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733920" y="25146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38600" y="1258920"/>
            <a:ext cx="1253880" cy="134928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76880" y="898560"/>
            <a:ext cx="1215720" cy="166860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21280" y="2962440"/>
            <a:ext cx="239760" cy="19188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6668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6668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743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743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3243240"/>
            <a:ext cx="669960" cy="198360"/>
          </a:xfrm>
          <a:custGeom>
            <a:avLst/>
            <a:gdLst/>
            <a:ahLst/>
            <a:rect l="l" t="t" r="r" b="b"/>
            <a:pathLst>
              <a:path w="422" h="125">
                <a:moveTo>
                  <a:pt x="0" y="28"/>
                </a:moveTo>
                <a:cubicBezTo>
                  <a:pt x="20" y="89"/>
                  <a:pt x="115" y="51"/>
                  <a:pt x="162" y="49"/>
                </a:cubicBezTo>
                <a:cubicBezTo>
                  <a:pt x="194" y="38"/>
                  <a:pt x="186" y="28"/>
                  <a:pt x="204" y="0"/>
                </a:cubicBezTo>
                <a:cubicBezTo>
                  <a:pt x="214" y="30"/>
                  <a:pt x="212" y="45"/>
                  <a:pt x="239" y="63"/>
                </a:cubicBezTo>
                <a:cubicBezTo>
                  <a:pt x="286" y="61"/>
                  <a:pt x="332" y="52"/>
                  <a:pt x="379" y="56"/>
                </a:cubicBezTo>
                <a:cubicBezTo>
                  <a:pt x="422" y="60"/>
                  <a:pt x="368" y="89"/>
                  <a:pt x="365" y="91"/>
                </a:cubicBezTo>
                <a:cubicBezTo>
                  <a:pt x="244" y="85"/>
                  <a:pt x="218" y="125"/>
                  <a:pt x="190" y="42"/>
                </a:cubicBezTo>
                <a:cubicBezTo>
                  <a:pt x="166" y="113"/>
                  <a:pt x="88" y="73"/>
                  <a:pt x="21" y="70"/>
                </a:cubicBezTo>
                <a:cubicBezTo>
                  <a:pt x="11" y="41"/>
                  <a:pt x="18" y="55"/>
                  <a:pt x="0" y="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3880" y="380880"/>
            <a:ext cx="3581280" cy="5559120"/>
            <a:chOff x="1523880" y="380880"/>
            <a:chExt cx="3581280" cy="5559120"/>
          </a:xfrm>
        </p:grpSpPr>
        <p:sp>
          <p:nvSpPr>
            <p:cNvPr id="94" name=""/>
            <p:cNvSpPr/>
            <p:nvPr/>
          </p:nvSpPr>
          <p:spPr>
            <a:xfrm>
              <a:off x="1845360" y="165744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38088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276720"/>
            <a:ext cx="45720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92520" y="3211560"/>
            <a:ext cx="312840" cy="357120"/>
          </a:xfrm>
          <a:custGeom>
            <a:avLst/>
            <a:gdLst/>
            <a:ahLst/>
            <a:rect l="l" t="t" r="r" b="b"/>
            <a:pathLst>
              <a:path w="197" h="225">
                <a:moveTo>
                  <a:pt x="0" y="7"/>
                </a:moveTo>
                <a:cubicBezTo>
                  <a:pt x="45" y="10"/>
                  <a:pt x="93" y="0"/>
                  <a:pt x="136" y="15"/>
                </a:cubicBezTo>
                <a:cubicBezTo>
                  <a:pt x="150" y="20"/>
                  <a:pt x="137" y="45"/>
                  <a:pt x="144" y="58"/>
                </a:cubicBezTo>
                <a:cubicBezTo>
                  <a:pt x="146" y="62"/>
                  <a:pt x="186" y="96"/>
                  <a:pt x="194" y="108"/>
                </a:cubicBezTo>
                <a:cubicBezTo>
                  <a:pt x="186" y="142"/>
                  <a:pt x="197" y="219"/>
                  <a:pt x="151" y="223"/>
                </a:cubicBezTo>
                <a:cubicBezTo>
                  <a:pt x="132" y="225"/>
                  <a:pt x="112" y="223"/>
                  <a:pt x="93" y="223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25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41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68800"/>
            <a:ext cx="368280" cy="237960"/>
          </a:xfrm>
          <a:custGeom>
            <a:avLst/>
            <a:gdLst/>
            <a:ahLst/>
            <a:rect l="l" t="t" r="r" b="b"/>
            <a:pathLst>
              <a:path w="232" h="150">
                <a:moveTo>
                  <a:pt x="60" y="0"/>
                </a:moveTo>
                <a:cubicBezTo>
                  <a:pt x="95" y="7"/>
                  <a:pt x="109" y="16"/>
                  <a:pt x="139" y="29"/>
                </a:cubicBezTo>
                <a:cubicBezTo>
                  <a:pt x="153" y="35"/>
                  <a:pt x="182" y="43"/>
                  <a:pt x="182" y="43"/>
                </a:cubicBezTo>
                <a:cubicBezTo>
                  <a:pt x="204" y="65"/>
                  <a:pt x="232" y="93"/>
                  <a:pt x="204" y="130"/>
                </a:cubicBezTo>
                <a:cubicBezTo>
                  <a:pt x="195" y="142"/>
                  <a:pt x="161" y="144"/>
                  <a:pt x="161" y="144"/>
                </a:cubicBezTo>
                <a:cubicBezTo>
                  <a:pt x="71" y="137"/>
                  <a:pt x="73" y="150"/>
                  <a:pt x="17" y="94"/>
                </a:cubicBezTo>
                <a:cubicBezTo>
                  <a:pt x="0" y="77"/>
                  <a:pt x="2" y="86"/>
                  <a:pt x="2" y="72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6680" y="3151080"/>
            <a:ext cx="176040" cy="357120"/>
          </a:xfrm>
          <a:custGeom>
            <a:avLst/>
            <a:gdLst/>
            <a:ahLst/>
            <a:rect l="l" t="t" r="r" b="b"/>
            <a:pathLst>
              <a:path w="111" h="225">
                <a:moveTo>
                  <a:pt x="10" y="225"/>
                </a:moveTo>
                <a:cubicBezTo>
                  <a:pt x="7" y="218"/>
                  <a:pt x="2" y="211"/>
                  <a:pt x="2" y="204"/>
                </a:cubicBezTo>
                <a:cubicBezTo>
                  <a:pt x="2" y="161"/>
                  <a:pt x="4" y="117"/>
                  <a:pt x="10" y="74"/>
                </a:cubicBezTo>
                <a:cubicBezTo>
                  <a:pt x="13" y="51"/>
                  <a:pt x="55" y="21"/>
                  <a:pt x="67" y="2"/>
                </a:cubicBezTo>
                <a:cubicBezTo>
                  <a:pt x="77" y="4"/>
                  <a:pt x="93" y="0"/>
                  <a:pt x="96" y="9"/>
                </a:cubicBezTo>
                <a:cubicBezTo>
                  <a:pt x="111" y="53"/>
                  <a:pt x="95" y="61"/>
                  <a:pt x="74" y="81"/>
                </a:cubicBezTo>
                <a:cubicBezTo>
                  <a:pt x="67" y="103"/>
                  <a:pt x="65" y="133"/>
                  <a:pt x="53" y="153"/>
                </a:cubicBezTo>
                <a:cubicBezTo>
                  <a:pt x="43" y="169"/>
                  <a:pt x="5" y="179"/>
                  <a:pt x="2" y="197"/>
                </a:cubicBezTo>
                <a:cubicBezTo>
                  <a:pt x="0" y="207"/>
                  <a:pt x="7" y="216"/>
                  <a:pt x="10" y="225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59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749760" y="3300480"/>
            <a:ext cx="339480" cy="150840"/>
          </a:xfrm>
          <a:custGeom>
            <a:avLst/>
            <a:gdLst/>
            <a:ahLst/>
            <a:rect l="l" t="t" r="r" b="b"/>
            <a:pathLst>
              <a:path w="214" h="95">
                <a:moveTo>
                  <a:pt x="43" y="2"/>
                </a:moveTo>
                <a:cubicBezTo>
                  <a:pt x="50" y="7"/>
                  <a:pt x="56" y="15"/>
                  <a:pt x="64" y="16"/>
                </a:cubicBezTo>
                <a:cubicBezTo>
                  <a:pt x="107" y="22"/>
                  <a:pt x="157" y="0"/>
                  <a:pt x="194" y="23"/>
                </a:cubicBezTo>
                <a:cubicBezTo>
                  <a:pt x="214" y="36"/>
                  <a:pt x="189" y="71"/>
                  <a:pt x="187" y="95"/>
                </a:cubicBezTo>
                <a:cubicBezTo>
                  <a:pt x="156" y="93"/>
                  <a:pt x="124" y="92"/>
                  <a:pt x="93" y="88"/>
                </a:cubicBezTo>
                <a:cubicBezTo>
                  <a:pt x="56" y="83"/>
                  <a:pt x="87" y="82"/>
                  <a:pt x="57" y="67"/>
                </a:cubicBezTo>
                <a:cubicBezTo>
                  <a:pt x="36" y="57"/>
                  <a:pt x="22" y="59"/>
                  <a:pt x="0" y="59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60600" y="2897280"/>
            <a:ext cx="457200" cy="619200"/>
          </a:xfrm>
          <a:custGeom>
            <a:avLst/>
            <a:gdLst/>
            <a:ahLst/>
            <a:rect l="l" t="t" r="r" b="b"/>
            <a:pathLst>
              <a:path w="288" h="390">
                <a:moveTo>
                  <a:pt x="216" y="378"/>
                </a:moveTo>
                <a:cubicBezTo>
                  <a:pt x="175" y="370"/>
                  <a:pt x="178" y="362"/>
                  <a:pt x="144" y="349"/>
                </a:cubicBezTo>
                <a:cubicBezTo>
                  <a:pt x="124" y="330"/>
                  <a:pt x="121" y="315"/>
                  <a:pt x="93" y="306"/>
                </a:cubicBezTo>
                <a:cubicBezTo>
                  <a:pt x="57" y="251"/>
                  <a:pt x="104" y="317"/>
                  <a:pt x="57" y="270"/>
                </a:cubicBezTo>
                <a:cubicBezTo>
                  <a:pt x="42" y="255"/>
                  <a:pt x="31" y="235"/>
                  <a:pt x="14" y="220"/>
                </a:cubicBezTo>
                <a:cubicBezTo>
                  <a:pt x="0" y="176"/>
                  <a:pt x="15" y="156"/>
                  <a:pt x="43" y="126"/>
                </a:cubicBezTo>
                <a:cubicBezTo>
                  <a:pt x="60" y="75"/>
                  <a:pt x="62" y="112"/>
                  <a:pt x="72" y="40"/>
                </a:cubicBezTo>
                <a:cubicBezTo>
                  <a:pt x="96" y="56"/>
                  <a:pt x="106" y="63"/>
                  <a:pt x="115" y="90"/>
                </a:cubicBezTo>
                <a:cubicBezTo>
                  <a:pt x="117" y="83"/>
                  <a:pt x="118" y="75"/>
                  <a:pt x="122" y="69"/>
                </a:cubicBezTo>
                <a:cubicBezTo>
                  <a:pt x="126" y="63"/>
                  <a:pt x="134" y="60"/>
                  <a:pt x="137" y="54"/>
                </a:cubicBezTo>
                <a:cubicBezTo>
                  <a:pt x="164" y="0"/>
                  <a:pt x="131" y="17"/>
                  <a:pt x="173" y="4"/>
                </a:cubicBezTo>
                <a:cubicBezTo>
                  <a:pt x="196" y="12"/>
                  <a:pt x="214" y="24"/>
                  <a:pt x="237" y="33"/>
                </a:cubicBezTo>
                <a:cubicBezTo>
                  <a:pt x="254" y="49"/>
                  <a:pt x="271" y="52"/>
                  <a:pt x="288" y="69"/>
                </a:cubicBezTo>
                <a:cubicBezTo>
                  <a:pt x="286" y="131"/>
                  <a:pt x="288" y="194"/>
                  <a:pt x="281" y="256"/>
                </a:cubicBezTo>
                <a:cubicBezTo>
                  <a:pt x="280" y="263"/>
                  <a:pt x="270" y="264"/>
                  <a:pt x="266" y="270"/>
                </a:cubicBezTo>
                <a:cubicBezTo>
                  <a:pt x="251" y="294"/>
                  <a:pt x="247" y="335"/>
                  <a:pt x="230" y="357"/>
                </a:cubicBezTo>
                <a:cubicBezTo>
                  <a:pt x="217" y="374"/>
                  <a:pt x="184" y="375"/>
                  <a:pt x="194" y="385"/>
                </a:cubicBezTo>
                <a:cubicBezTo>
                  <a:pt x="199" y="390"/>
                  <a:pt x="209" y="380"/>
                  <a:pt x="216" y="37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77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726000" y="3165480"/>
            <a:ext cx="583920" cy="289080"/>
          </a:xfrm>
          <a:custGeom>
            <a:avLst/>
            <a:gdLst/>
            <a:ahLst/>
            <a:rect l="l" t="t" r="r" b="b"/>
            <a:pathLst>
              <a:path w="368" h="182">
                <a:moveTo>
                  <a:pt x="51" y="101"/>
                </a:moveTo>
                <a:cubicBezTo>
                  <a:pt x="77" y="110"/>
                  <a:pt x="103" y="117"/>
                  <a:pt x="130" y="123"/>
                </a:cubicBezTo>
                <a:cubicBezTo>
                  <a:pt x="207" y="118"/>
                  <a:pt x="237" y="112"/>
                  <a:pt x="303" y="101"/>
                </a:cubicBezTo>
                <a:cubicBezTo>
                  <a:pt x="322" y="43"/>
                  <a:pt x="295" y="114"/>
                  <a:pt x="324" y="65"/>
                </a:cubicBezTo>
                <a:cubicBezTo>
                  <a:pt x="332" y="52"/>
                  <a:pt x="338" y="7"/>
                  <a:pt x="339" y="0"/>
                </a:cubicBezTo>
                <a:cubicBezTo>
                  <a:pt x="351" y="38"/>
                  <a:pt x="368" y="123"/>
                  <a:pt x="339" y="152"/>
                </a:cubicBezTo>
                <a:cubicBezTo>
                  <a:pt x="327" y="164"/>
                  <a:pt x="295" y="180"/>
                  <a:pt x="295" y="180"/>
                </a:cubicBezTo>
                <a:cubicBezTo>
                  <a:pt x="206" y="178"/>
                  <a:pt x="117" y="182"/>
                  <a:pt x="29" y="173"/>
                </a:cubicBezTo>
                <a:cubicBezTo>
                  <a:pt x="21" y="172"/>
                  <a:pt x="21" y="158"/>
                  <a:pt x="15" y="152"/>
                </a:cubicBezTo>
                <a:cubicBezTo>
                  <a:pt x="11" y="148"/>
                  <a:pt x="5" y="147"/>
                  <a:pt x="0" y="144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685960"/>
            <a:ext cx="628560" cy="989280"/>
          </a:xfrm>
          <a:custGeom>
            <a:avLst/>
            <a:gdLst/>
            <a:ahLst/>
            <a:rect l="l" t="t" r="r" b="b"/>
            <a:pathLst>
              <a:path w="396" h="623">
                <a:moveTo>
                  <a:pt x="286" y="547"/>
                </a:moveTo>
                <a:cubicBezTo>
                  <a:pt x="252" y="545"/>
                  <a:pt x="218" y="545"/>
                  <a:pt x="185" y="540"/>
                </a:cubicBezTo>
                <a:cubicBezTo>
                  <a:pt x="138" y="532"/>
                  <a:pt x="87" y="449"/>
                  <a:pt x="34" y="432"/>
                </a:cubicBezTo>
                <a:cubicBezTo>
                  <a:pt x="11" y="396"/>
                  <a:pt x="1" y="411"/>
                  <a:pt x="13" y="367"/>
                </a:cubicBezTo>
                <a:cubicBezTo>
                  <a:pt x="15" y="338"/>
                  <a:pt x="0" y="301"/>
                  <a:pt x="20" y="281"/>
                </a:cubicBezTo>
                <a:cubicBezTo>
                  <a:pt x="140" y="161"/>
                  <a:pt x="91" y="350"/>
                  <a:pt x="113" y="238"/>
                </a:cubicBezTo>
                <a:cubicBezTo>
                  <a:pt x="106" y="210"/>
                  <a:pt x="101" y="190"/>
                  <a:pt x="85" y="166"/>
                </a:cubicBezTo>
                <a:cubicBezTo>
                  <a:pt x="96" y="109"/>
                  <a:pt x="104" y="123"/>
                  <a:pt x="164" y="115"/>
                </a:cubicBezTo>
                <a:cubicBezTo>
                  <a:pt x="192" y="73"/>
                  <a:pt x="155" y="17"/>
                  <a:pt x="207" y="0"/>
                </a:cubicBezTo>
                <a:cubicBezTo>
                  <a:pt x="248" y="2"/>
                  <a:pt x="289" y="1"/>
                  <a:pt x="329" y="7"/>
                </a:cubicBezTo>
                <a:cubicBezTo>
                  <a:pt x="355" y="11"/>
                  <a:pt x="358" y="66"/>
                  <a:pt x="365" y="86"/>
                </a:cubicBezTo>
                <a:cubicBezTo>
                  <a:pt x="368" y="93"/>
                  <a:pt x="373" y="108"/>
                  <a:pt x="373" y="108"/>
                </a:cubicBezTo>
                <a:cubicBezTo>
                  <a:pt x="375" y="127"/>
                  <a:pt x="377" y="147"/>
                  <a:pt x="380" y="166"/>
                </a:cubicBezTo>
                <a:cubicBezTo>
                  <a:pt x="384" y="199"/>
                  <a:pt x="394" y="266"/>
                  <a:pt x="394" y="266"/>
                </a:cubicBezTo>
                <a:cubicBezTo>
                  <a:pt x="387" y="316"/>
                  <a:pt x="396" y="380"/>
                  <a:pt x="358" y="418"/>
                </a:cubicBezTo>
                <a:cubicBezTo>
                  <a:pt x="344" y="462"/>
                  <a:pt x="333" y="485"/>
                  <a:pt x="293" y="511"/>
                </a:cubicBezTo>
                <a:cubicBezTo>
                  <a:pt x="287" y="529"/>
                  <a:pt x="268" y="623"/>
                  <a:pt x="286" y="54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6252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99072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029200"/>
            <a:ext cx="114948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85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67080" y="2743200"/>
            <a:ext cx="1766880" cy="3029040"/>
            <a:chOff x="4267080" y="2743200"/>
            <a:chExt cx="1766880" cy="3029040"/>
          </a:xfrm>
        </p:grpSpPr>
        <p:sp>
          <p:nvSpPr>
            <p:cNvPr id="188" name=""/>
            <p:cNvSpPr/>
            <p:nvPr/>
          </p:nvSpPr>
          <p:spPr>
            <a:xfrm>
              <a:off x="4357440" y="303840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70" y="121"/>
                  </a:moveTo>
                  <a:cubicBezTo>
                    <a:pt x="55" y="116"/>
                    <a:pt x="39" y="113"/>
                    <a:pt x="28" y="100"/>
                  </a:cubicBezTo>
                  <a:cubicBezTo>
                    <a:pt x="17" y="87"/>
                    <a:pt x="0" y="58"/>
                    <a:pt x="0" y="58"/>
                  </a:cubicBezTo>
                  <a:cubicBezTo>
                    <a:pt x="9" y="29"/>
                    <a:pt x="24" y="18"/>
                    <a:pt x="49" y="1"/>
                  </a:cubicBezTo>
                  <a:cubicBezTo>
                    <a:pt x="75" y="3"/>
                    <a:pt x="101" y="0"/>
                    <a:pt x="126" y="8"/>
                  </a:cubicBezTo>
                  <a:cubicBezTo>
                    <a:pt x="151" y="16"/>
                    <a:pt x="137" y="65"/>
                    <a:pt x="133" y="72"/>
                  </a:cubicBezTo>
                  <a:cubicBezTo>
                    <a:pt x="128" y="83"/>
                    <a:pt x="101" y="90"/>
                    <a:pt x="91" y="93"/>
                  </a:cubicBezTo>
                  <a:cubicBezTo>
                    <a:pt x="75" y="117"/>
                    <a:pt x="83" y="108"/>
                    <a:pt x="70" y="121"/>
                  </a:cubicBezTo>
                  <a:close/>
                </a:path>
              </a:pathLst>
            </a:custGeom>
            <a:solidFill>
              <a:srgbClr val="f8ae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3600" y="27432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75000" y="27432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03600" y="28195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5000" y="28195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75000" y="3581280"/>
              <a:ext cx="106668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1080" y="5067360"/>
              <a:ext cx="1082880" cy="704880"/>
            </a:xfrm>
            <a:custGeom>
              <a:avLst/>
              <a:gdLst/>
              <a:ahLst/>
              <a:rect l="l" t="t" r="r" b="b"/>
              <a:pathLst>
                <a:path w="682" h="444">
                  <a:moveTo>
                    <a:pt x="0" y="66"/>
                  </a:moveTo>
                  <a:cubicBezTo>
                    <a:pt x="42" y="108"/>
                    <a:pt x="59" y="210"/>
                    <a:pt x="70" y="270"/>
                  </a:cubicBezTo>
                  <a:cubicBezTo>
                    <a:pt x="75" y="296"/>
                    <a:pt x="74" y="341"/>
                    <a:pt x="106" y="354"/>
                  </a:cubicBezTo>
                  <a:cubicBezTo>
                    <a:pt x="121" y="360"/>
                    <a:pt x="139" y="359"/>
                    <a:pt x="155" y="361"/>
                  </a:cubicBezTo>
                  <a:cubicBezTo>
                    <a:pt x="169" y="366"/>
                    <a:pt x="183" y="370"/>
                    <a:pt x="197" y="375"/>
                  </a:cubicBezTo>
                  <a:cubicBezTo>
                    <a:pt x="204" y="377"/>
                    <a:pt x="218" y="382"/>
                    <a:pt x="218" y="382"/>
                  </a:cubicBezTo>
                  <a:cubicBezTo>
                    <a:pt x="373" y="379"/>
                    <a:pt x="542" y="444"/>
                    <a:pt x="653" y="333"/>
                  </a:cubicBezTo>
                  <a:cubicBezTo>
                    <a:pt x="661" y="310"/>
                    <a:pt x="673" y="292"/>
                    <a:pt x="682" y="270"/>
                  </a:cubicBezTo>
                  <a:cubicBezTo>
                    <a:pt x="639" y="82"/>
                    <a:pt x="432" y="147"/>
                    <a:pt x="274" y="143"/>
                  </a:cubicBezTo>
                  <a:cubicBezTo>
                    <a:pt x="223" y="126"/>
                    <a:pt x="145" y="104"/>
                    <a:pt x="106" y="66"/>
                  </a:cubicBezTo>
                  <a:cubicBezTo>
                    <a:pt x="98" y="58"/>
                    <a:pt x="59" y="0"/>
                    <a:pt x="42" y="17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3165480"/>
              <a:ext cx="583920" cy="289080"/>
            </a:xfrm>
            <a:custGeom>
              <a:avLst/>
              <a:gdLst/>
              <a:ahLst/>
              <a:rect l="l" t="t" r="r" b="b"/>
              <a:pathLst>
                <a:path w="368" h="182">
                  <a:moveTo>
                    <a:pt x="51" y="101"/>
                  </a:moveTo>
                  <a:cubicBezTo>
                    <a:pt x="77" y="110"/>
                    <a:pt x="103" y="117"/>
                    <a:pt x="130" y="123"/>
                  </a:cubicBezTo>
                  <a:cubicBezTo>
                    <a:pt x="207" y="118"/>
                    <a:pt x="237" y="112"/>
                    <a:pt x="303" y="101"/>
                  </a:cubicBezTo>
                  <a:cubicBezTo>
                    <a:pt x="322" y="43"/>
                    <a:pt x="295" y="114"/>
                    <a:pt x="324" y="65"/>
                  </a:cubicBezTo>
                  <a:cubicBezTo>
                    <a:pt x="332" y="52"/>
                    <a:pt x="338" y="7"/>
                    <a:pt x="339" y="0"/>
                  </a:cubicBezTo>
                  <a:cubicBezTo>
                    <a:pt x="351" y="38"/>
                    <a:pt x="368" y="123"/>
                    <a:pt x="339" y="152"/>
                  </a:cubicBezTo>
                  <a:cubicBezTo>
                    <a:pt x="327" y="164"/>
                    <a:pt x="295" y="180"/>
                    <a:pt x="295" y="180"/>
                  </a:cubicBezTo>
                  <a:cubicBezTo>
                    <a:pt x="206" y="178"/>
                    <a:pt x="117" y="182"/>
                    <a:pt x="29" y="173"/>
                  </a:cubicBezTo>
                  <a:cubicBezTo>
                    <a:pt x="21" y="172"/>
                    <a:pt x="21" y="158"/>
                    <a:pt x="15" y="152"/>
                  </a:cubicBezTo>
                  <a:cubicBezTo>
                    <a:pt x="11" y="148"/>
                    <a:pt x="5" y="147"/>
                    <a:pt x="0" y="144"/>
                  </a:cubicBezTo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14800" y="2685960"/>
            <a:ext cx="628560" cy="989280"/>
          </a:xfrm>
          <a:custGeom>
            <a:avLst/>
            <a:gdLst/>
            <a:ahLst/>
            <a:rect l="l" t="t" r="r" b="b"/>
            <a:pathLst>
              <a:path w="396" h="623">
                <a:moveTo>
                  <a:pt x="286" y="547"/>
                </a:moveTo>
                <a:cubicBezTo>
                  <a:pt x="252" y="545"/>
                  <a:pt x="218" y="545"/>
                  <a:pt x="185" y="540"/>
                </a:cubicBezTo>
                <a:cubicBezTo>
                  <a:pt x="138" y="532"/>
                  <a:pt x="87" y="449"/>
                  <a:pt x="34" y="432"/>
                </a:cubicBezTo>
                <a:cubicBezTo>
                  <a:pt x="11" y="396"/>
                  <a:pt x="1" y="411"/>
                  <a:pt x="13" y="367"/>
                </a:cubicBezTo>
                <a:cubicBezTo>
                  <a:pt x="15" y="338"/>
                  <a:pt x="0" y="301"/>
                  <a:pt x="20" y="281"/>
                </a:cubicBezTo>
                <a:cubicBezTo>
                  <a:pt x="140" y="161"/>
                  <a:pt x="91" y="350"/>
                  <a:pt x="113" y="238"/>
                </a:cubicBezTo>
                <a:cubicBezTo>
                  <a:pt x="106" y="210"/>
                  <a:pt x="101" y="190"/>
                  <a:pt x="85" y="166"/>
                </a:cubicBezTo>
                <a:cubicBezTo>
                  <a:pt x="96" y="109"/>
                  <a:pt x="104" y="123"/>
                  <a:pt x="164" y="115"/>
                </a:cubicBezTo>
                <a:cubicBezTo>
                  <a:pt x="192" y="73"/>
                  <a:pt x="155" y="17"/>
                  <a:pt x="207" y="0"/>
                </a:cubicBezTo>
                <a:cubicBezTo>
                  <a:pt x="248" y="2"/>
                  <a:pt x="289" y="1"/>
                  <a:pt x="329" y="7"/>
                </a:cubicBezTo>
                <a:cubicBezTo>
                  <a:pt x="355" y="11"/>
                  <a:pt x="358" y="66"/>
                  <a:pt x="365" y="86"/>
                </a:cubicBezTo>
                <a:cubicBezTo>
                  <a:pt x="368" y="93"/>
                  <a:pt x="373" y="108"/>
                  <a:pt x="373" y="108"/>
                </a:cubicBezTo>
                <a:cubicBezTo>
                  <a:pt x="375" y="127"/>
                  <a:pt x="377" y="147"/>
                  <a:pt x="380" y="166"/>
                </a:cubicBezTo>
                <a:cubicBezTo>
                  <a:pt x="384" y="199"/>
                  <a:pt x="394" y="266"/>
                  <a:pt x="394" y="266"/>
                </a:cubicBezTo>
                <a:cubicBezTo>
                  <a:pt x="387" y="316"/>
                  <a:pt x="396" y="380"/>
                  <a:pt x="358" y="418"/>
                </a:cubicBezTo>
                <a:cubicBezTo>
                  <a:pt x="344" y="462"/>
                  <a:pt x="333" y="485"/>
                  <a:pt x="293" y="511"/>
                </a:cubicBezTo>
                <a:cubicBezTo>
                  <a:pt x="287" y="529"/>
                  <a:pt x="268" y="623"/>
                  <a:pt x="286" y="54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5480" y="2754360"/>
            <a:ext cx="711360" cy="1336680"/>
          </a:xfrm>
          <a:custGeom>
            <a:avLst/>
            <a:gdLst/>
            <a:ahLst/>
            <a:rect l="l" t="t" r="r" b="b"/>
            <a:pathLst>
              <a:path w="448" h="842">
                <a:moveTo>
                  <a:pt x="0" y="742"/>
                </a:moveTo>
                <a:cubicBezTo>
                  <a:pt x="45" y="731"/>
                  <a:pt x="78" y="703"/>
                  <a:pt x="122" y="691"/>
                </a:cubicBezTo>
                <a:cubicBezTo>
                  <a:pt x="127" y="684"/>
                  <a:pt x="131" y="676"/>
                  <a:pt x="136" y="670"/>
                </a:cubicBezTo>
                <a:cubicBezTo>
                  <a:pt x="143" y="662"/>
                  <a:pt x="152" y="657"/>
                  <a:pt x="158" y="648"/>
                </a:cubicBezTo>
                <a:cubicBezTo>
                  <a:pt x="196" y="591"/>
                  <a:pt x="132" y="660"/>
                  <a:pt x="180" y="612"/>
                </a:cubicBezTo>
                <a:cubicBezTo>
                  <a:pt x="189" y="586"/>
                  <a:pt x="205" y="566"/>
                  <a:pt x="216" y="540"/>
                </a:cubicBezTo>
                <a:cubicBezTo>
                  <a:pt x="231" y="506"/>
                  <a:pt x="237" y="467"/>
                  <a:pt x="252" y="432"/>
                </a:cubicBezTo>
                <a:cubicBezTo>
                  <a:pt x="254" y="386"/>
                  <a:pt x="257" y="341"/>
                  <a:pt x="259" y="295"/>
                </a:cubicBezTo>
                <a:cubicBezTo>
                  <a:pt x="262" y="209"/>
                  <a:pt x="262" y="122"/>
                  <a:pt x="266" y="36"/>
                </a:cubicBezTo>
                <a:cubicBezTo>
                  <a:pt x="267" y="15"/>
                  <a:pt x="316" y="0"/>
                  <a:pt x="316" y="0"/>
                </a:cubicBezTo>
                <a:cubicBezTo>
                  <a:pt x="377" y="12"/>
                  <a:pt x="369" y="17"/>
                  <a:pt x="410" y="58"/>
                </a:cubicBezTo>
                <a:cubicBezTo>
                  <a:pt x="448" y="216"/>
                  <a:pt x="422" y="98"/>
                  <a:pt x="410" y="490"/>
                </a:cubicBezTo>
                <a:cubicBezTo>
                  <a:pt x="409" y="528"/>
                  <a:pt x="398" y="593"/>
                  <a:pt x="381" y="627"/>
                </a:cubicBezTo>
                <a:cubicBezTo>
                  <a:pt x="357" y="676"/>
                  <a:pt x="312" y="717"/>
                  <a:pt x="273" y="756"/>
                </a:cubicBezTo>
                <a:cubicBezTo>
                  <a:pt x="254" y="775"/>
                  <a:pt x="231" y="802"/>
                  <a:pt x="208" y="814"/>
                </a:cubicBezTo>
                <a:cubicBezTo>
                  <a:pt x="152" y="842"/>
                  <a:pt x="89" y="828"/>
                  <a:pt x="28" y="828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666880"/>
            <a:ext cx="944280" cy="1605240"/>
          </a:xfrm>
          <a:custGeom>
            <a:avLst/>
            <a:gdLst/>
            <a:ahLst/>
            <a:rect l="l" t="t" r="r" b="b"/>
            <a:pathLst>
              <a:path w="595" h="1011">
                <a:moveTo>
                  <a:pt x="530" y="1001"/>
                </a:moveTo>
                <a:cubicBezTo>
                  <a:pt x="500" y="1011"/>
                  <a:pt x="489" y="994"/>
                  <a:pt x="458" y="987"/>
                </a:cubicBezTo>
                <a:cubicBezTo>
                  <a:pt x="433" y="972"/>
                  <a:pt x="413" y="953"/>
                  <a:pt x="386" y="944"/>
                </a:cubicBezTo>
                <a:cubicBezTo>
                  <a:pt x="375" y="933"/>
                  <a:pt x="361" y="926"/>
                  <a:pt x="350" y="915"/>
                </a:cubicBezTo>
                <a:cubicBezTo>
                  <a:pt x="344" y="909"/>
                  <a:pt x="342" y="899"/>
                  <a:pt x="335" y="893"/>
                </a:cubicBezTo>
                <a:cubicBezTo>
                  <a:pt x="327" y="886"/>
                  <a:pt x="316" y="885"/>
                  <a:pt x="307" y="879"/>
                </a:cubicBezTo>
                <a:cubicBezTo>
                  <a:pt x="273" y="856"/>
                  <a:pt x="232" y="825"/>
                  <a:pt x="206" y="792"/>
                </a:cubicBezTo>
                <a:cubicBezTo>
                  <a:pt x="172" y="748"/>
                  <a:pt x="175" y="747"/>
                  <a:pt x="127" y="699"/>
                </a:cubicBezTo>
                <a:cubicBezTo>
                  <a:pt x="122" y="694"/>
                  <a:pt x="112" y="684"/>
                  <a:pt x="112" y="684"/>
                </a:cubicBezTo>
                <a:cubicBezTo>
                  <a:pt x="104" y="659"/>
                  <a:pt x="87" y="631"/>
                  <a:pt x="69" y="612"/>
                </a:cubicBezTo>
                <a:cubicBezTo>
                  <a:pt x="50" y="556"/>
                  <a:pt x="45" y="496"/>
                  <a:pt x="26" y="440"/>
                </a:cubicBezTo>
                <a:cubicBezTo>
                  <a:pt x="29" y="334"/>
                  <a:pt x="0" y="218"/>
                  <a:pt x="47" y="123"/>
                </a:cubicBezTo>
                <a:cubicBezTo>
                  <a:pt x="62" y="92"/>
                  <a:pt x="94" y="54"/>
                  <a:pt x="119" y="29"/>
                </a:cubicBezTo>
                <a:cubicBezTo>
                  <a:pt x="134" y="14"/>
                  <a:pt x="177" y="0"/>
                  <a:pt x="177" y="0"/>
                </a:cubicBezTo>
                <a:cubicBezTo>
                  <a:pt x="212" y="24"/>
                  <a:pt x="217" y="47"/>
                  <a:pt x="227" y="87"/>
                </a:cubicBezTo>
                <a:cubicBezTo>
                  <a:pt x="215" y="227"/>
                  <a:pt x="174" y="413"/>
                  <a:pt x="242" y="540"/>
                </a:cubicBezTo>
                <a:cubicBezTo>
                  <a:pt x="257" y="602"/>
                  <a:pt x="271" y="601"/>
                  <a:pt x="307" y="648"/>
                </a:cubicBezTo>
                <a:cubicBezTo>
                  <a:pt x="318" y="662"/>
                  <a:pt x="322" y="680"/>
                  <a:pt x="335" y="692"/>
                </a:cubicBezTo>
                <a:cubicBezTo>
                  <a:pt x="380" y="734"/>
                  <a:pt x="435" y="766"/>
                  <a:pt x="494" y="785"/>
                </a:cubicBezTo>
                <a:cubicBezTo>
                  <a:pt x="514" y="806"/>
                  <a:pt x="536" y="803"/>
                  <a:pt x="559" y="821"/>
                </a:cubicBezTo>
                <a:cubicBezTo>
                  <a:pt x="572" y="832"/>
                  <a:pt x="578" y="857"/>
                  <a:pt x="595" y="85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295280"/>
            <a:ext cx="125424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7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6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русова С.Ш.</cp:lastModifiedBy>
  <dcterms:modified xsi:type="dcterms:W3CDTF">2012-05-16T06:2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