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C32-6D22-4F85-B25E-90216704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3CD-183F-40D2-A6D2-82758EF8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CAC-5ADA-48AC-AEB6-185FC1F6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8B5-6B1A-48BB-BD3D-2E3C755C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762A-A3D1-47B8-A554-A0C33BF7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D4F7-4BA5-4F4A-AE0D-F8782D2D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70F-DA7F-4DFA-8B57-738C42F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FE1-6563-457F-8499-55108F3A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E5A5-5E5C-43D0-88EE-B608CE30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9497-DDDF-4A01-A55B-B25AEB3D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F9A5-2799-4CC1-BE07-800FB6D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38D-9E31-47D8-81E3-8491C98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537D-A977-4DB7-96CB-6CDD422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80F3-FB17-4B4C-B09C-DAFF5C3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C57F-F9EF-4E83-86AE-9CEE4C40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8B41-34F2-4081-8F87-76246872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3187-3BE6-4B57-9700-7DD5633F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F4B-097B-44C4-B8C4-B6F2D0BD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7C6-E5BA-47A2-9769-C6136A67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DAF-A6D8-408D-B9BD-ADD61CF3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49A-A677-4C81-98D6-ECBFCE2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3E9-91C2-4ED7-B417-37010B5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85A-D66A-4B81-AE1A-967E3211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985-A46D-4327-ACCA-9585B6C9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6131-D38F-4C61-B7E9-DF2CDD4A462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5920" y="509760"/>
                  <a:ext cx="431640" cy="695160"/>
                </a:xfrm>
                <a:custGeom>
                  <a:avLst/>
                  <a:gdLst>
                    <a:gd name="textAreaLeft" fmla="*/ 0 w 431640"/>
                    <a:gd name="textAreaRight" fmla="*/ 432000 w 4316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2440" y="27252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2280" y="141336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756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6440" y="203040"/>
                  <a:ext cx="287280" cy="2188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2FE9-D6C4-4EEE-842E-34C5A1397EA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352680" y="1523520"/>
            <a:ext cx="4724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, Алексеев Алексе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ник 4 Б класс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ставляю работу на тем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МЫЛО РУЧНОЙ РАБОТЫ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047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нгридиенты для варения мы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6854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льная основа – её можно заказать через интерн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зовое масло – мы взяли масло виноградной косточк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ёплое молоко для придания мылу нежной структуры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ирное масло жасмина - рекомендуют для ухода за обезвоженной, сухой кож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ители – специальные пищевые или натуральные         ( какао, шоколад, фруктовый и овощной сок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бавки – для того чтобы придать мылу дополнительные свойства ( глицерин увлажняет и смягчает кожу, мак для эффекта скраба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уда для водяной бан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очки для мыл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рт для смазывания поверхности формоч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0c8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отовим все ингредиенты для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тираем мыльную основу на тёр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7192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Рисунок 23" descr="Описание: C:\Users\1\Desktop\Новая папка (2)\DSC02925.JPG"/>
          <p:cNvPicPr/>
          <p:nvPr/>
        </p:nvPicPr>
        <p:blipFill>
          <a:blip r:embed="rId1"/>
          <a:stretch/>
        </p:blipFill>
        <p:spPr>
          <a:xfrm>
            <a:off x="247680" y="2133720"/>
            <a:ext cx="2343240" cy="33462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2757600" y="2133720"/>
            <a:ext cx="577692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380880" y="38088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Растапливаем мыльную основу на водяной бане, периодически помешивая её.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Добавляем к мылу базовое масло ( я взял виноградной косточки) из расчёта 3 чайных ложки на 100 грамм основ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Рисунок 2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5029200" cy="2826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"/>
          <p:cNvPicPr/>
          <p:nvPr/>
        </p:nvPicPr>
        <p:blipFill>
          <a:blip r:embed="rId2"/>
          <a:stretch/>
        </p:blipFill>
        <p:spPr>
          <a:xfrm>
            <a:off x="228600" y="1927080"/>
            <a:ext cx="4572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219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5. Подливаем немного молока, чтобы получилась сметанообразная мас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0" y="91440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6. Снимаем с огня и добавляем различные ингредиент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- 5 капель эфирного масла жасмин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- 1 чайную ложку глицерин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- красители (жёлтый и красный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- ароматизатор «Роз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Рисунок 2" descr=""/>
          <p:cNvPicPr/>
          <p:nvPr/>
        </p:nvPicPr>
        <p:blipFill>
          <a:blip r:embed="rId1"/>
          <a:stretch/>
        </p:blipFill>
        <p:spPr>
          <a:xfrm>
            <a:off x="4114800" y="4049640"/>
            <a:ext cx="4514760" cy="2536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3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48006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9" descr="Описание: C:\Users\1\Desktop\Новая папка (2)\DSC02956.JPG"/>
          <p:cNvPicPr/>
          <p:nvPr/>
        </p:nvPicPr>
        <p:blipFill>
          <a:blip r:embed="rId1"/>
          <a:stretch/>
        </p:blipFill>
        <p:spPr>
          <a:xfrm>
            <a:off x="1523880" y="1219320"/>
            <a:ext cx="6040440" cy="3998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228600" y="35280"/>
            <a:ext cx="55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7. Переливаем мыло в формоч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8600" y="38304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8.Оставляем мыло в формочках до полного высыхания в прохладном месте на 2 дн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393120" y="381600"/>
            <a:ext cx="35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9. Извлекаем его из формоче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438280" y="1220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МЫЛО ГОТОВО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Рисунок 41" descr="Описание: C:\Users\1\Desktop\Новая папка (2)\DSC02959.JPG"/>
          <p:cNvPicPr/>
          <p:nvPr/>
        </p:nvPicPr>
        <p:blipFill>
          <a:blip r:embed="rId1"/>
          <a:stretch/>
        </p:blipFill>
        <p:spPr>
          <a:xfrm>
            <a:off x="1557360" y="1752480"/>
            <a:ext cx="56815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914400" y="114300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ывод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меня получилось нежное туалетное мыло, предназначенное  для мытья рук и тела. Мыло яркого цвета и очень ароматное, обладающее увлажняющими смягчающими свойствами благодаря глицерину, а так же благодаря маслу виноградных косточек питает и освежает кож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990720" y="3048120"/>
            <a:ext cx="579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ботая над данным проектом, я узнала историю мыла, которая оказалась очень интересной. А так же я узнала, что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отовление мыла – это настоящий творческий процесс.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а и содержание домашнего мыла зависит лишь от нашей фантаз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C:\Documents and Settings\Admin\Рабочий стол\мыло\мыло руч.jpg"/>
          <p:cNvPicPr/>
          <p:nvPr/>
        </p:nvPicPr>
        <p:blipFill>
          <a:blip r:embed="rId1"/>
          <a:stretch/>
        </p:blipFill>
        <p:spPr>
          <a:xfrm>
            <a:off x="5562720" y="4800600"/>
            <a:ext cx="30002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09480" y="114300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СПАСИБО  ЗА ВНИМАНИЕ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2" descr="C:\Documents and Settings\Admin\Рабочий стол\мыло\images (2).jpg"/>
          <p:cNvPicPr/>
          <p:nvPr/>
        </p:nvPicPr>
        <p:blipFill>
          <a:blip r:embed="rId1"/>
          <a:stretch/>
        </p:blipFill>
        <p:spPr>
          <a:xfrm>
            <a:off x="914400" y="3048120"/>
            <a:ext cx="3114720" cy="2138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Admin\Рабочий стол\мыло\images.jpg"/>
          <p:cNvPicPr/>
          <p:nvPr/>
        </p:nvPicPr>
        <p:blipFill>
          <a:blip r:embed="rId2"/>
          <a:stretch/>
        </p:blipFill>
        <p:spPr>
          <a:xfrm>
            <a:off x="548640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6"/>
          <p:cNvSpPr/>
          <p:nvPr/>
        </p:nvSpPr>
        <p:spPr>
          <a:xfrm>
            <a:off x="380880" y="91440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1219320" y="2666880"/>
            <a:ext cx="3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38080" y="61740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Гипотиза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добавить в мыло глицерин или настои трав, то мыло  приобретает смягчающие и увлажняющие свой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38080" y="282456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Цель исследования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яснить рецепт мыла и попробовать его сварить в домашних услови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Рисунок 7" descr="Описание: C:\Users\1\Desktop\Проекты\75596427_6280732_d568874c.jpg"/>
          <p:cNvPicPr/>
          <p:nvPr/>
        </p:nvPicPr>
        <p:blipFill>
          <a:blip r:embed="rId1"/>
          <a:stretch/>
        </p:blipFill>
        <p:spPr>
          <a:xfrm>
            <a:off x="2971800" y="4495680"/>
            <a:ext cx="29145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Задачи исследов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ить историю мы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ить виды  мы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сти анкетиров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арить мы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251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История возникновения мы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Рисунок 3" descr="Описание: C:\Users\1\Desktop\Проекты\stamp.jpg"/>
          <p:cNvPicPr/>
          <p:nvPr/>
        </p:nvPicPr>
        <p:blipFill>
          <a:blip r:embed="rId1"/>
          <a:stretch/>
        </p:blipFill>
        <p:spPr>
          <a:xfrm>
            <a:off x="457200" y="990720"/>
            <a:ext cx="2009880" cy="270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943240" y="2286000"/>
            <a:ext cx="1219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Рисунок 16" descr="Описание: C:\Users\1\Desktop\Проекты\7490171_br.jpg"/>
          <p:cNvPicPr/>
          <p:nvPr/>
        </p:nvPicPr>
        <p:blipFill>
          <a:blip r:embed="rId2"/>
          <a:stretch/>
        </p:blipFill>
        <p:spPr>
          <a:xfrm>
            <a:off x="5638680" y="1219320"/>
            <a:ext cx="1809720" cy="2485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Описание: C:\Users\1\Desktop\Проекты\brokarfirm.jpg"/>
          <p:cNvPicPr/>
          <p:nvPr/>
        </p:nvPicPr>
        <p:blipFill>
          <a:blip r:embed="rId3"/>
          <a:stretch/>
        </p:blipFill>
        <p:spPr>
          <a:xfrm>
            <a:off x="5257800" y="3809880"/>
            <a:ext cx="3247920" cy="23814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Описание: C:\Users\1\Desktop\Проекты\76139.gif"/>
          <p:cNvPicPr/>
          <p:nvPr/>
        </p:nvPicPr>
        <p:blipFill>
          <a:blip r:embed="rId4"/>
          <a:stretch/>
        </p:blipFill>
        <p:spPr>
          <a:xfrm>
            <a:off x="1330200" y="3809880"/>
            <a:ext cx="3741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0392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иды мы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зяйственное мы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уалетное мы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идкое мы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ло руч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Рисунок 2" descr="Описание: C:\Users\1\Desktop\Проекты\1317155872_mylo.jpg"/>
          <p:cNvPicPr/>
          <p:nvPr/>
        </p:nvPicPr>
        <p:blipFill>
          <a:blip r:embed="rId1"/>
          <a:stretch/>
        </p:blipFill>
        <p:spPr>
          <a:xfrm>
            <a:off x="5334120" y="0"/>
            <a:ext cx="2514600" cy="19321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Описание: C:\Users\1\Desktop\Проекты\1313616026_mylo.jpg"/>
          <p:cNvPicPr/>
          <p:nvPr/>
        </p:nvPicPr>
        <p:blipFill>
          <a:blip r:embed="rId2"/>
          <a:stretch/>
        </p:blipFill>
        <p:spPr>
          <a:xfrm>
            <a:off x="4495680" y="1981080"/>
            <a:ext cx="1752840" cy="14972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Описание: C:\Users\1\Desktop\Проекты\518846733.jpg"/>
          <p:cNvPicPr/>
          <p:nvPr/>
        </p:nvPicPr>
        <p:blipFill>
          <a:blip r:embed="rId3"/>
          <a:stretch/>
        </p:blipFill>
        <p:spPr>
          <a:xfrm>
            <a:off x="6172200" y="327672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Описание: C:\Users\1\Desktop\Проекты\normal_naomie_campbell_l.jpg"/>
          <p:cNvPicPr/>
          <p:nvPr/>
        </p:nvPicPr>
        <p:blipFill>
          <a:blip r:embed="rId4"/>
          <a:stretch/>
        </p:blipFill>
        <p:spPr>
          <a:xfrm>
            <a:off x="4343400" y="5156280"/>
            <a:ext cx="2590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803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0c86"/>
                </a:solidFill>
                <a:uFillTx/>
                <a:latin typeface="Times New Roman"/>
                <a:ea typeface="Times New Roman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7720" y="990720"/>
            <a:ext cx="723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630360" indent="-177840">
              <a:spcBef>
                <a:spcPts val="451"/>
              </a:spcBef>
              <a:buClr>
                <a:srgbClr val="7030a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630360" indent="-177840">
              <a:spcBef>
                <a:spcPts val="451"/>
              </a:spcBef>
              <a:buClr>
                <a:srgbClr val="7030a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ТЬ ЛИ У ВАС ДОМА МЫЛО РУЧНОЙ РАБОТ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                                 Н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ЬЗОВАЛИСЬ ЛИ ВЫ МЫЛОМ РУЧНОЙ РАБОТ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                                 Н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РАВИТСЯ ЛИ ВАМ МЫЛО РУЧНОЙ РАБОТ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                        НЕТ                НИЧЕГО ОСОБЕННО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ОЕ МЫЛО ВЫ ПРЕДПОЧИТАЕТ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ГАЗИНОЕ                                 РУЧНОЙ РАБО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ТЕЛИ БЫ ВЫ ИЗГОТОВИТЬ МЫЛО СВОИМИ РУКАМИ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                                 Н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Object 1"/>
          <p:cNvGraphicFramePr/>
          <p:nvPr/>
        </p:nvGraphicFramePr>
        <p:xfrm>
          <a:off x="0" y="457200"/>
          <a:ext cx="448632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48632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4419720" y="533520"/>
          <a:ext cx="4238640" cy="33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33520"/>
                    <a:ext cx="423864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1905120" y="3505320"/>
          <a:ext cx="5076720" cy="380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505320"/>
                    <a:ext cx="5076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Object 1"/>
          <p:cNvGraphicFramePr/>
          <p:nvPr/>
        </p:nvGraphicFramePr>
        <p:xfrm>
          <a:off x="-304920" y="457200"/>
          <a:ext cx="50580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457200"/>
                    <a:ext cx="50580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4114800" y="2819520"/>
          <a:ext cx="4334040" cy="37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2819520"/>
                    <a:ext cx="43340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228600" y="8470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ведённый опрос позволяет сделать следующие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Больше половины опрошенных  пользовались и им нравится мыло ручной   рабо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У половины опрошенных  есть дома такое мы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Большинство предпочитают магазинное мы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Многие хотели бы изготовить мыло своими рука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3" descr="C:\Documents and Settings\Admin\Рабочий стол\мыло\images (1).jpg"/>
          <p:cNvPicPr/>
          <p:nvPr/>
        </p:nvPicPr>
        <p:blipFill>
          <a:blip r:embed="rId1"/>
          <a:stretch/>
        </p:blipFill>
        <p:spPr>
          <a:xfrm>
            <a:off x="990720" y="30481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C:\Documents and Settings\Admin\Рабочий стол\мыло\images (3).jpg"/>
          <p:cNvPicPr/>
          <p:nvPr/>
        </p:nvPicPr>
        <p:blipFill>
          <a:blip r:embed="rId2"/>
          <a:stretch/>
        </p:blipFill>
        <p:spPr>
          <a:xfrm>
            <a:off x="4724280" y="3733920"/>
            <a:ext cx="3014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tang</dc:creator>
  <dc:description/>
  <dc:language>en-US</dc:language>
  <cp:lastModifiedBy>User</cp:lastModifiedBy>
  <dcterms:modified xsi:type="dcterms:W3CDTF">2016-03-26T12:10:51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