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wmf" ContentType="image/x-wmf"/>
  <Override PartName="/ppt/media/image8.jpeg" ContentType="image/jpeg"/>
  <Override PartName="/ppt/media/image10.jpeg" ContentType="image/jpeg"/>
  <Override PartName="/ppt/media/image12.wmf" ContentType="image/x-wmf"/>
  <Override PartName="/ppt/media/image11.wmf" ContentType="image/x-wmf"/>
  <Override PartName="/ppt/media/image17.jpeg" ContentType="image/jpeg"/>
  <Override PartName="/ppt/media/image9.jpeg" ContentType="image/jpeg"/>
  <Override PartName="/ppt/media/image7.jpeg" ContentType="image/jpeg"/>
  <Override PartName="/ppt/media/image28.jpeg" ContentType="image/jpeg"/>
  <Override PartName="/ppt/media/image6.png" ContentType="image/png"/>
  <Override PartName="/ppt/media/image14.wmf" ContentType="image/x-wmf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5.wmf" ContentType="image/x-wmf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D2726-54EC-49B6-8AD9-84BB9206E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13FD7-ADF2-4CAD-8587-B140A442D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E754A-6AA1-4406-A25A-E4AB63DD0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31D52-4A0C-4247-BF11-CEE193E65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EA51B-6307-435C-A482-057931826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E3AC9-1EAE-49D9-95B6-83E0AD853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FBF4C-D8F3-4627-BCBA-1E7BDCD64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A4B49-5395-4220-AC3B-C00897711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0FA48-0873-43B0-935D-4265E5BBE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3991F-E530-4936-8AD3-F7C0CC41C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70678-B071-4F0F-907C-AAAE78083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E5652-AF95-47C0-88EE-FC4281BC5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39F9F-BA2B-411D-9B03-5E27BE200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2104F-2C9E-43DE-8295-3CF097947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796A3-D83F-4F8C-80DC-7F6C2F0DC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73F17-E725-4DE6-8C63-91928FF14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682BF-243A-4290-BCAB-82969A1C6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65CE7-ADFE-4CAF-BEB9-3692A06C0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E596F-2E1C-4248-9393-2B726DB5A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917DA-A48B-4B44-9A16-0AAB3394F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1BE95-B89E-4255-9D40-DAAAC2749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66C42-B845-4724-A0F9-E9BC6822A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92ED7-EE56-4912-B50E-6B96329F6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9B3FF-9CD7-42E1-A1CF-AF45F60CA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3BCF6-D070-45E7-967E-B42A1E01F2F6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>
                    <a:gd name="textAreaLeft" fmla="*/ 0 w 245160"/>
                    <a:gd name="textAreaRight" fmla="*/ 245520 w 24516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35920" y="509760"/>
                  <a:ext cx="431640" cy="695160"/>
                </a:xfrm>
                <a:custGeom>
                  <a:avLst/>
                  <a:gdLst>
                    <a:gd name="textAreaLeft" fmla="*/ 0 w 431640"/>
                    <a:gd name="textAreaRight" fmla="*/ 432000 w 431640"/>
                    <a:gd name="textAreaTop" fmla="*/ 0 h 695160"/>
                    <a:gd name="textAreaBottom" fmla="*/ 695520 h 69516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32440" y="272520"/>
                  <a:ext cx="809640" cy="1425600"/>
                </a:xfrm>
                <a:custGeom>
                  <a:avLst/>
                  <a:gdLst>
                    <a:gd name="textAreaLeft" fmla="*/ 0 w 809640"/>
                    <a:gd name="textAreaRight" fmla="*/ 810000 w 80964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>
                    <a:gd name="textAreaLeft" fmla="*/ 0 w 1215720"/>
                    <a:gd name="textAreaRight" fmla="*/ 1216080 w 121572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32280" y="1413360"/>
                  <a:ext cx="270720" cy="193680"/>
                </a:xfrm>
                <a:custGeom>
                  <a:avLst/>
                  <a:gdLst>
                    <a:gd name="textAreaLeft" fmla="*/ 0 w 270720"/>
                    <a:gd name="textAreaRight" fmla="*/ 271080 w 27072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8320" y="1267560"/>
                  <a:ext cx="290160" cy="228600"/>
                </a:xfrm>
                <a:custGeom>
                  <a:avLst/>
                  <a:gdLst>
                    <a:gd name="textAreaLeft" fmla="*/ 0 w 290160"/>
                    <a:gd name="textAreaRight" fmla="*/ 290520 w 29016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>
                    <a:gd name="textAreaLeft" fmla="*/ 0 w 290160"/>
                    <a:gd name="textAreaRight" fmla="*/ 290520 w 29016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76440" y="203040"/>
                  <a:ext cx="287280" cy="218880"/>
                </a:xfrm>
                <a:custGeom>
                  <a:avLst/>
                  <a:gdLst>
                    <a:gd name="textAreaLeft" fmla="*/ 0 w 287280"/>
                    <a:gd name="textAreaRight" fmla="*/ 287640 w 287280"/>
                    <a:gd name="textAreaTop" fmla="*/ 0 h 218880"/>
                    <a:gd name="textAreaBottom" fmla="*/ 219240 h 21888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1480" y="4661280"/>
              <a:ext cx="998640" cy="46404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4040"/>
                <a:gd name="textAreaBottom" fmla="*/ 464400 h 4640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000" y="4639680"/>
              <a:ext cx="995400" cy="45936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59360"/>
                <a:gd name="textAreaBottom" fmla="*/ 459720 h 4593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480" y="4625280"/>
              <a:ext cx="660240" cy="419760"/>
            </a:xfrm>
            <a:custGeom>
              <a:avLst/>
              <a:gdLst>
                <a:gd name="textAreaLeft" fmla="*/ 0 w 660240"/>
                <a:gd name="textAreaRight" fmla="*/ 660600 w 660240"/>
                <a:gd name="textAreaTop" fmla="*/ 0 h 419760"/>
                <a:gd name="textAreaBottom" fmla="*/ 420120 h 41976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2840"/>
                  <a:gd name="textAreaBottom" fmla="*/ 493200 h 49284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8640"/>
                  <a:gd name="textAreaBottom" fmla="*/ 279000 h 27864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86480"/>
                  <a:gd name="textAreaBottom" fmla="*/ 186840 h 1864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7CBA0-FA93-4E36-984F-872F8E0BED84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3352680" y="1523520"/>
            <a:ext cx="47246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Я, Алексеев Алексей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ученик 4 Б класса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редставляю работу на тему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« МЫЛО РУЧНОЙ РАБОТЫ»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2" name="Рисунок 1" descr=""/>
          <p:cNvPicPr/>
          <p:nvPr/>
        </p:nvPicPr>
        <p:blipFill>
          <a:blip r:embed="rId1"/>
          <a:stretch/>
        </p:blipFill>
        <p:spPr>
          <a:xfrm>
            <a:off x="304920" y="152280"/>
            <a:ext cx="3047760" cy="525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4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Ингридиенты для варения мыла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685440"/>
            <a:ext cx="79250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7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Мыльная основа – её можно заказать через интернет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7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Базовое масло – мы взяли масло виноградной косточки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7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Тёплое молоко для придания мылу нежной структуры;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7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Эфирное масло жасмина - рекомендуют для ухода за обезвоженной, сухой кожей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7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Красители – специальные пищевые или натуральные         ( какао, шоколад, фруктовый и овощной сок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7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Добавки – для того чтобы придать мылу дополнительные свойства ( глицерин увлажняет и смягчает кожу, мак для эффекта скраба)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7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осуда для водяной бани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7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Формочки для мыла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7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Спирт для смазывания поверхности формочки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f0c86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68706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Практическая работ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0663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70c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0c0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риготовим все ингредиенты для работы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7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Натираем мыльную основу на тёрке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371920" y="3733920"/>
            <a:ext cx="37717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8" name="Рисунок 23" descr="Описание: C:\Users\1\Desktop\Новая папка (2)\DSC02925.JPG"/>
          <p:cNvPicPr/>
          <p:nvPr/>
        </p:nvPicPr>
        <p:blipFill>
          <a:blip r:embed="rId1"/>
          <a:stretch/>
        </p:blipFill>
        <p:spPr>
          <a:xfrm>
            <a:off x="247680" y="2133720"/>
            <a:ext cx="2343240" cy="3346200"/>
          </a:xfrm>
          <a:prstGeom prst="rect">
            <a:avLst/>
          </a:prstGeom>
          <a:ln w="0">
            <a:noFill/>
          </a:ln>
        </p:spPr>
      </p:pic>
      <p:pic>
        <p:nvPicPr>
          <p:cNvPr id="199" name="Рисунок 1" descr=""/>
          <p:cNvPicPr/>
          <p:nvPr/>
        </p:nvPicPr>
        <p:blipFill>
          <a:blip r:embed="rId2"/>
          <a:stretch/>
        </p:blipFill>
        <p:spPr>
          <a:xfrm>
            <a:off x="2757600" y="2133720"/>
            <a:ext cx="5776920" cy="33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Прямоугольник 3"/>
          <p:cNvSpPr/>
          <p:nvPr/>
        </p:nvSpPr>
        <p:spPr>
          <a:xfrm>
            <a:off x="380880" y="380880"/>
            <a:ext cx="76201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3. Растапливаем мыльную основу на водяной бане, периодически помешивая её.</a:t>
            </a:r>
            <a:br>
              <a:rPr sz="2000"/>
            </a:br>
            <a:r>
              <a:rPr b="0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4. Добавляем к мылу базовое масло ( я взял виноградной косточки) из расчёта 3 чайных ложки на 100 грамм основы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1" name="Рисунок 2" descr=""/>
          <p:cNvPicPr/>
          <p:nvPr/>
        </p:nvPicPr>
        <p:blipFill>
          <a:blip r:embed="rId1"/>
          <a:stretch/>
        </p:blipFill>
        <p:spPr>
          <a:xfrm>
            <a:off x="3581280" y="3244680"/>
            <a:ext cx="5029200" cy="2826000"/>
          </a:xfrm>
          <a:prstGeom prst="rect">
            <a:avLst/>
          </a:prstGeom>
          <a:ln w="0">
            <a:noFill/>
          </a:ln>
        </p:spPr>
      </p:pic>
      <p:pic>
        <p:nvPicPr>
          <p:cNvPr id="202" name="Рисунок 3" descr=""/>
          <p:cNvPicPr/>
          <p:nvPr/>
        </p:nvPicPr>
        <p:blipFill>
          <a:blip r:embed="rId2"/>
          <a:stretch/>
        </p:blipFill>
        <p:spPr>
          <a:xfrm>
            <a:off x="228600" y="1927080"/>
            <a:ext cx="4572000" cy="25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0" y="2196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0c0"/>
                </a:solidFill>
                <a:latin typeface="Times New Roman"/>
                <a:ea typeface="Calibri"/>
              </a:rPr>
              <a:t>5. Подливаем немного молока, чтобы получилась сметанообразная масса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Прямоугольник 8"/>
          <p:cNvSpPr/>
          <p:nvPr/>
        </p:nvSpPr>
        <p:spPr>
          <a:xfrm>
            <a:off x="0" y="914400"/>
            <a:ext cx="82296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0c0"/>
                </a:solidFill>
                <a:latin typeface="Times New Roman"/>
                <a:ea typeface="Calibri"/>
              </a:rPr>
              <a:t>6. Снимаем с огня и добавляем различные ингредиенты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0c0"/>
                </a:solidFill>
                <a:latin typeface="Times New Roman"/>
                <a:ea typeface="Calibri"/>
              </a:rPr>
              <a:t>        </a:t>
            </a:r>
            <a:r>
              <a:rPr b="0" lang="ru-RU" sz="2000" spc="-1" strike="noStrike">
                <a:solidFill>
                  <a:srgbClr val="0070c0"/>
                </a:solidFill>
                <a:latin typeface="Times New Roman"/>
                <a:ea typeface="Calibri"/>
              </a:rPr>
              <a:t>- 5 капель эфирного масла жасмина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0c0"/>
                </a:solidFill>
                <a:latin typeface="Times New Roman"/>
                <a:ea typeface="Calibri"/>
              </a:rPr>
              <a:t>        </a:t>
            </a:r>
            <a:r>
              <a:rPr b="0" lang="ru-RU" sz="2000" spc="-1" strike="noStrike">
                <a:solidFill>
                  <a:srgbClr val="0070c0"/>
                </a:solidFill>
                <a:latin typeface="Times New Roman"/>
                <a:ea typeface="Calibri"/>
              </a:rPr>
              <a:t>- 1 чайную ложку глицерина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0c0"/>
                </a:solidFill>
                <a:latin typeface="Times New Roman"/>
                <a:ea typeface="Calibri"/>
              </a:rPr>
              <a:t>       </a:t>
            </a:r>
            <a:r>
              <a:rPr b="0" lang="ru-RU" sz="2000" spc="-1" strike="noStrike">
                <a:solidFill>
                  <a:srgbClr val="0070c0"/>
                </a:solidFill>
                <a:latin typeface="Times New Roman"/>
                <a:ea typeface="Calibri"/>
              </a:rPr>
              <a:t>- красители (жёлтый и красный)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0c0"/>
                </a:solidFill>
                <a:latin typeface="Times New Roman"/>
                <a:ea typeface="Calibri"/>
              </a:rPr>
              <a:t>       </a:t>
            </a:r>
            <a:r>
              <a:rPr b="0" lang="ru-RU" sz="2000" spc="-1" strike="noStrike">
                <a:solidFill>
                  <a:srgbClr val="0070c0"/>
                </a:solidFill>
                <a:latin typeface="Times New Roman"/>
                <a:ea typeface="Calibri"/>
              </a:rPr>
              <a:t>- ароматизатор «Роза»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5" name="Рисунок 2" descr=""/>
          <p:cNvPicPr/>
          <p:nvPr/>
        </p:nvPicPr>
        <p:blipFill>
          <a:blip r:embed="rId1"/>
          <a:stretch/>
        </p:blipFill>
        <p:spPr>
          <a:xfrm>
            <a:off x="4114800" y="4049640"/>
            <a:ext cx="4514760" cy="2536920"/>
          </a:xfrm>
          <a:prstGeom prst="rect">
            <a:avLst/>
          </a:prstGeom>
          <a:ln w="0">
            <a:noFill/>
          </a:ln>
        </p:spPr>
      </p:pic>
      <p:pic>
        <p:nvPicPr>
          <p:cNvPr id="206" name="Рисунок 3" descr=""/>
          <p:cNvPicPr/>
          <p:nvPr/>
        </p:nvPicPr>
        <p:blipFill>
          <a:blip r:embed="rId2"/>
          <a:stretch/>
        </p:blipFill>
        <p:spPr>
          <a:xfrm>
            <a:off x="152280" y="2514600"/>
            <a:ext cx="4800600" cy="26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Рисунок 39" descr="Описание: C:\Users\1\Desktop\Новая папка (2)\DSC02956.JPG"/>
          <p:cNvPicPr/>
          <p:nvPr/>
        </p:nvPicPr>
        <p:blipFill>
          <a:blip r:embed="rId1"/>
          <a:stretch/>
        </p:blipFill>
        <p:spPr>
          <a:xfrm>
            <a:off x="1523880" y="1219320"/>
            <a:ext cx="6040440" cy="3998880"/>
          </a:xfrm>
          <a:prstGeom prst="rect">
            <a:avLst/>
          </a:prstGeom>
          <a:ln w="0">
            <a:noFill/>
          </a:ln>
        </p:spPr>
      </p:pic>
      <p:sp>
        <p:nvSpPr>
          <p:cNvPr id="208" name="Rectangle 4"/>
          <p:cNvSpPr/>
          <p:nvPr/>
        </p:nvSpPr>
        <p:spPr>
          <a:xfrm>
            <a:off x="228600" y="35280"/>
            <a:ext cx="553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0c0"/>
                </a:solidFill>
                <a:latin typeface="Times New Roman"/>
                <a:ea typeface="Calibri"/>
              </a:rPr>
              <a:t>7. Переливаем мыло в формочки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Rectangle 5"/>
          <p:cNvSpPr/>
          <p:nvPr/>
        </p:nvSpPr>
        <p:spPr>
          <a:xfrm>
            <a:off x="228600" y="383040"/>
            <a:ext cx="7620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0c0"/>
                </a:solidFill>
                <a:latin typeface="Times New Roman"/>
                <a:ea typeface="Calibri"/>
              </a:rPr>
              <a:t>8.Оставляем мыло в формочках до полного высыхания в прохладном месте на 2 дня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1"/>
          <p:cNvSpPr/>
          <p:nvPr/>
        </p:nvSpPr>
        <p:spPr>
          <a:xfrm>
            <a:off x="393120" y="381600"/>
            <a:ext cx="350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0c0"/>
                </a:solidFill>
                <a:latin typeface="Times New Roman"/>
                <a:ea typeface="Calibri"/>
              </a:rPr>
              <a:t>9. Извлекаем его из формочек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Rectangle 5"/>
          <p:cNvSpPr/>
          <p:nvPr/>
        </p:nvSpPr>
        <p:spPr>
          <a:xfrm>
            <a:off x="2438280" y="122076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030a0"/>
                </a:solidFill>
                <a:latin typeface="Times New Roman"/>
                <a:ea typeface="Calibri"/>
              </a:rPr>
              <a:t>МЫЛО ГОТОВО!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2" name="Рисунок 41" descr="Описание: C:\Users\1\Desktop\Новая папка (2)\DSC02959.JPG"/>
          <p:cNvPicPr/>
          <p:nvPr/>
        </p:nvPicPr>
        <p:blipFill>
          <a:blip r:embed="rId1"/>
          <a:stretch/>
        </p:blipFill>
        <p:spPr>
          <a:xfrm>
            <a:off x="1557360" y="1752480"/>
            <a:ext cx="5681520" cy="377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Прямоугольник 1"/>
          <p:cNvSpPr/>
          <p:nvPr/>
        </p:nvSpPr>
        <p:spPr>
          <a:xfrm>
            <a:off x="914400" y="1143000"/>
            <a:ext cx="70866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70c0"/>
                </a:solidFill>
                <a:uFillTx/>
                <a:latin typeface="Times New Roman"/>
                <a:ea typeface="Times New Roman"/>
              </a:rPr>
              <a:t>Вывод</a:t>
            </a:r>
            <a:r>
              <a:rPr b="1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: </a:t>
            </a:r>
            <a:r>
              <a:rPr b="0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У меня получилось нежное туалетное мыло, предназначенное  для мытья рук и тела. Мыло яркого цвета и очень ароматное, обладающее увлажняющими смягчающими свойствами благодаря глицерину, а так же благодаря маслу виноградных косточек питает и освежает кожу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Прямоугольник 2"/>
          <p:cNvSpPr/>
          <p:nvPr/>
        </p:nvSpPr>
        <p:spPr>
          <a:xfrm>
            <a:off x="990720" y="3048120"/>
            <a:ext cx="57909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Работая над данным проектом, я узнала историю мыла, которая оказалась очень интересной. А так же я узнала, что </a:t>
            </a:r>
            <a:r>
              <a:rPr b="1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риготовление мыла – это настоящий творческий процесс. </a:t>
            </a:r>
            <a:r>
              <a:rPr b="0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Форма и содержание домашнего мыла зависит лишь от нашей фантазии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5" name="Picture 4" descr="C:\Documents and Settings\Admin\Рабочий стол\мыло\мыло руч.jpg"/>
          <p:cNvPicPr/>
          <p:nvPr/>
        </p:nvPicPr>
        <p:blipFill>
          <a:blip r:embed="rId1"/>
          <a:stretch/>
        </p:blipFill>
        <p:spPr>
          <a:xfrm>
            <a:off x="5562720" y="4800600"/>
            <a:ext cx="300024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Прямоугольник 1"/>
          <p:cNvSpPr/>
          <p:nvPr/>
        </p:nvSpPr>
        <p:spPr>
          <a:xfrm>
            <a:off x="609480" y="1143000"/>
            <a:ext cx="7239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Calibri"/>
              </a:rPr>
              <a:t>СПАСИБО  ЗА ВНИМАНИЕ!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7" name="Picture 2" descr="C:\Documents and Settings\Admin\Рабочий стол\мыло\images (2).jpg"/>
          <p:cNvPicPr/>
          <p:nvPr/>
        </p:nvPicPr>
        <p:blipFill>
          <a:blip r:embed="rId1"/>
          <a:stretch/>
        </p:blipFill>
        <p:spPr>
          <a:xfrm>
            <a:off x="914400" y="3048120"/>
            <a:ext cx="3114720" cy="213840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3" descr="C:\Documents and Settings\Admin\Рабочий стол\мыло\images.jpg"/>
          <p:cNvPicPr/>
          <p:nvPr/>
        </p:nvPicPr>
        <p:blipFill>
          <a:blip r:embed="rId2"/>
          <a:stretch/>
        </p:blipFill>
        <p:spPr>
          <a:xfrm>
            <a:off x="5486400" y="3048120"/>
            <a:ext cx="27432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Прямоугольник 6"/>
          <p:cNvSpPr/>
          <p:nvPr/>
        </p:nvSpPr>
        <p:spPr>
          <a:xfrm>
            <a:off x="380880" y="914400"/>
            <a:ext cx="762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TextBox 7"/>
          <p:cNvSpPr/>
          <p:nvPr/>
        </p:nvSpPr>
        <p:spPr>
          <a:xfrm>
            <a:off x="1219320" y="2666880"/>
            <a:ext cx="38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Rectangle 6"/>
          <p:cNvSpPr/>
          <p:nvPr/>
        </p:nvSpPr>
        <p:spPr>
          <a:xfrm>
            <a:off x="838080" y="617400"/>
            <a:ext cx="6400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7030a0"/>
                </a:solidFill>
                <a:uFillTx/>
                <a:latin typeface="Times New Roman"/>
                <a:ea typeface="Times New Roman"/>
              </a:rPr>
              <a:t>Гипотиза: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если добавить в мыло глицерин или настои трав, то мыло  приобретает смягчающие и увлажняющие свойства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Rectangle 7"/>
          <p:cNvSpPr/>
          <p:nvPr/>
        </p:nvSpPr>
        <p:spPr>
          <a:xfrm>
            <a:off x="838080" y="2824560"/>
            <a:ext cx="7620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7030a0"/>
                </a:solidFill>
                <a:uFillTx/>
                <a:latin typeface="Times New Roman"/>
                <a:ea typeface="Times New Roman"/>
              </a:rPr>
              <a:t>Цель исследования </a:t>
            </a:r>
            <a:r>
              <a:rPr b="1" i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выяснить рецепт мыла и попробовать его сварить в домашних условиях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7" name="Рисунок 7" descr="Описание: C:\Users\1\Desktop\Проекты\75596427_6280732_d568874c.jpg"/>
          <p:cNvPicPr/>
          <p:nvPr/>
        </p:nvPicPr>
        <p:blipFill>
          <a:blip r:embed="rId1"/>
          <a:stretch/>
        </p:blipFill>
        <p:spPr>
          <a:xfrm>
            <a:off x="2971800" y="4495680"/>
            <a:ext cx="2914560" cy="21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7030a0"/>
                </a:solidFill>
                <a:uFillTx/>
                <a:latin typeface="Times New Roman"/>
                <a:ea typeface="Times New Roman"/>
              </a:rPr>
              <a:t>Задачи исследования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70c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Изучить историю мыла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70c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Изучить виды  мыла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70c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ровести анкетирование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70c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Сварить мыло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61760" y="151920"/>
            <a:ext cx="725148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7030a0"/>
                </a:solidFill>
                <a:uFillTx/>
                <a:latin typeface="Times New Roman"/>
                <a:ea typeface="Times New Roman"/>
              </a:rPr>
              <a:t>История возникновения мыл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1" name="Рисунок 3" descr="Описание: C:\Users\1\Desktop\Проекты\stamp.jpg"/>
          <p:cNvPicPr/>
          <p:nvPr/>
        </p:nvPicPr>
        <p:blipFill>
          <a:blip r:embed="rId1"/>
          <a:stretch/>
        </p:blipFill>
        <p:spPr>
          <a:xfrm>
            <a:off x="457200" y="990720"/>
            <a:ext cx="2009880" cy="270504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 txBox="1"/>
          <p:nvPr/>
        </p:nvSpPr>
        <p:spPr>
          <a:xfrm>
            <a:off x="5943240" y="2286000"/>
            <a:ext cx="121932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3" name="Рисунок 16" descr="Описание: C:\Users\1\Desktop\Проекты\7490171_br.jpg"/>
          <p:cNvPicPr/>
          <p:nvPr/>
        </p:nvPicPr>
        <p:blipFill>
          <a:blip r:embed="rId2"/>
          <a:stretch/>
        </p:blipFill>
        <p:spPr>
          <a:xfrm>
            <a:off x="5638680" y="1219320"/>
            <a:ext cx="1809720" cy="2485800"/>
          </a:xfrm>
          <a:prstGeom prst="rect">
            <a:avLst/>
          </a:prstGeom>
          <a:ln w="0">
            <a:noFill/>
          </a:ln>
        </p:spPr>
      </p:pic>
      <p:pic>
        <p:nvPicPr>
          <p:cNvPr id="164" name="Рисунок 17" descr="Описание: C:\Users\1\Desktop\Проекты\brokarfirm.jpg"/>
          <p:cNvPicPr/>
          <p:nvPr/>
        </p:nvPicPr>
        <p:blipFill>
          <a:blip r:embed="rId3"/>
          <a:stretch/>
        </p:blipFill>
        <p:spPr>
          <a:xfrm>
            <a:off x="5257800" y="3809880"/>
            <a:ext cx="3247920" cy="2381400"/>
          </a:xfrm>
          <a:prstGeom prst="rect">
            <a:avLst/>
          </a:prstGeom>
          <a:ln w="0">
            <a:noFill/>
          </a:ln>
        </p:spPr>
      </p:pic>
      <p:pic>
        <p:nvPicPr>
          <p:cNvPr id="165" name="Рисунок 15" descr="Описание: C:\Users\1\Desktop\Проекты\76139.gif"/>
          <p:cNvPicPr/>
          <p:nvPr/>
        </p:nvPicPr>
        <p:blipFill>
          <a:blip r:embed="rId4"/>
          <a:stretch/>
        </p:blipFill>
        <p:spPr>
          <a:xfrm>
            <a:off x="1330200" y="3809880"/>
            <a:ext cx="374184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5803920" cy="533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7030a0"/>
                </a:solidFill>
                <a:uFillTx/>
                <a:latin typeface="Times New Roman"/>
                <a:ea typeface="Times New Roman"/>
              </a:rPr>
              <a:t>Виды мыл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0c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Хозяйственное мыло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0c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Туалетное мыло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0c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Жидкое мыло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0c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Мыло ручной работы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8" name="Рисунок 2" descr="Описание: C:\Users\1\Desktop\Проекты\1317155872_mylo.jpg"/>
          <p:cNvPicPr/>
          <p:nvPr/>
        </p:nvPicPr>
        <p:blipFill>
          <a:blip r:embed="rId1"/>
          <a:stretch/>
        </p:blipFill>
        <p:spPr>
          <a:xfrm>
            <a:off x="5334120" y="0"/>
            <a:ext cx="2514600" cy="1932120"/>
          </a:xfrm>
          <a:prstGeom prst="rect">
            <a:avLst/>
          </a:prstGeom>
          <a:ln w="0">
            <a:noFill/>
          </a:ln>
        </p:spPr>
      </p:pic>
      <p:pic>
        <p:nvPicPr>
          <p:cNvPr id="169" name="Рисунок 5" descr="Описание: C:\Users\1\Desktop\Проекты\1313616026_mylo.jpg"/>
          <p:cNvPicPr/>
          <p:nvPr/>
        </p:nvPicPr>
        <p:blipFill>
          <a:blip r:embed="rId2"/>
          <a:stretch/>
        </p:blipFill>
        <p:spPr>
          <a:xfrm>
            <a:off x="4495680" y="1981080"/>
            <a:ext cx="1752840" cy="1497240"/>
          </a:xfrm>
          <a:prstGeom prst="rect">
            <a:avLst/>
          </a:prstGeom>
          <a:ln w="0">
            <a:noFill/>
          </a:ln>
        </p:spPr>
      </p:pic>
      <p:pic>
        <p:nvPicPr>
          <p:cNvPr id="170" name="Рисунок 6" descr="Описание: C:\Users\1\Desktop\Проекты\518846733.jpg"/>
          <p:cNvPicPr/>
          <p:nvPr/>
        </p:nvPicPr>
        <p:blipFill>
          <a:blip r:embed="rId3"/>
          <a:stretch/>
        </p:blipFill>
        <p:spPr>
          <a:xfrm>
            <a:off x="6172200" y="3276720"/>
            <a:ext cx="2590920" cy="1739880"/>
          </a:xfrm>
          <a:prstGeom prst="rect">
            <a:avLst/>
          </a:prstGeom>
          <a:ln w="0">
            <a:noFill/>
          </a:ln>
        </p:spPr>
      </p:pic>
      <p:pic>
        <p:nvPicPr>
          <p:cNvPr id="171" name="Рисунок 11" descr="Описание: C:\Users\1\Desktop\Проекты\normal_naomie_campbell_l.jpg"/>
          <p:cNvPicPr/>
          <p:nvPr/>
        </p:nvPicPr>
        <p:blipFill>
          <a:blip r:embed="rId4"/>
          <a:stretch/>
        </p:blipFill>
        <p:spPr>
          <a:xfrm>
            <a:off x="4343400" y="5156280"/>
            <a:ext cx="2590920" cy="170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752480" y="151920"/>
            <a:ext cx="580392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2f0c86"/>
                </a:solidFill>
                <a:uFillTx/>
                <a:latin typeface="Times New Roman"/>
                <a:ea typeface="Times New Roman"/>
              </a:rPr>
              <a:t>Анкетирование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837720" y="990720"/>
            <a:ext cx="723924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630360" indent="-177840">
              <a:spcBef>
                <a:spcPts val="451"/>
              </a:spcBef>
              <a:buClr>
                <a:srgbClr val="7030a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630360" indent="-177840">
              <a:spcBef>
                <a:spcPts val="451"/>
              </a:spcBef>
              <a:buClr>
                <a:srgbClr val="7030a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304920" y="1066680"/>
            <a:ext cx="73152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7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ЕСТЬ ЛИ У ВАС ДОМА МЫЛО РУЧНОЙ РАБОТЫ?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                             </a:t>
            </a:r>
            <a:r>
              <a:rPr b="0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ДА                                 НЕТ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7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ОЛЬЗОВАЛИСЬ ЛИ ВЫ МЫЛОМ РУЧНОЙ РАБОТЫ?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ДА                                 НЕТ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7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НРАВИТСЯ ЛИ ВАМ МЫЛО РУЧНОЙ РАБОТЫ?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7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               </a:t>
            </a:r>
            <a:r>
              <a:rPr b="0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ДА                        НЕТ                НИЧЕГО ОСОБЕННОГО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7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КАКОЕ МЫЛО ВЫ ПРЕДПОЧИТАЕТЕ?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       </a:t>
            </a:r>
            <a:r>
              <a:rPr b="0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МАГАЗИНОЕ                                 РУЧНОЙ РАБОТЫ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7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ХОТЕЛИ БЫ ВЫ ИЗГОТОВИТЬ МЫЛО СВОИМИ РУКАМИ?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                      </a:t>
            </a:r>
            <a:r>
              <a:rPr b="0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ДА                                 НЕТ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76" name="Object 1"/>
          <p:cNvGraphicFramePr/>
          <p:nvPr/>
        </p:nvGraphicFramePr>
        <p:xfrm>
          <a:off x="0" y="457200"/>
          <a:ext cx="4486320" cy="3400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7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57200"/>
                    <a:ext cx="4486320" cy="340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79" name="Object 3"/>
          <p:cNvGraphicFramePr/>
          <p:nvPr/>
        </p:nvGraphicFramePr>
        <p:xfrm>
          <a:off x="4419720" y="533520"/>
          <a:ext cx="4238640" cy="3381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0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19720" y="533520"/>
                    <a:ext cx="4238640" cy="338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1" name="Rectangle 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82" name="Object 5"/>
          <p:cNvGraphicFramePr/>
          <p:nvPr/>
        </p:nvGraphicFramePr>
        <p:xfrm>
          <a:off x="1905120" y="3505320"/>
          <a:ext cx="5076720" cy="3809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3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905120" y="3505320"/>
                    <a:ext cx="5076720" cy="38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85" name="Object 1"/>
          <p:cNvGraphicFramePr/>
          <p:nvPr/>
        </p:nvGraphicFramePr>
        <p:xfrm>
          <a:off x="-304920" y="457200"/>
          <a:ext cx="5058000" cy="330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6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04920" y="457200"/>
                    <a:ext cx="5058000" cy="330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7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88" name="Object 3"/>
          <p:cNvGraphicFramePr/>
          <p:nvPr/>
        </p:nvGraphicFramePr>
        <p:xfrm>
          <a:off x="4114800" y="2819520"/>
          <a:ext cx="4334040" cy="3724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9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14800" y="2819520"/>
                    <a:ext cx="4334040" cy="372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1"/>
          <p:cNvSpPr/>
          <p:nvPr/>
        </p:nvSpPr>
        <p:spPr>
          <a:xfrm>
            <a:off x="228600" y="847080"/>
            <a:ext cx="89154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0c0"/>
                </a:solidFill>
                <a:latin typeface="Times New Roman"/>
                <a:ea typeface="Calibri"/>
              </a:rPr>
              <a:t>Проведённый опрос позволяет сделать следующие </a:t>
            </a:r>
            <a:r>
              <a:rPr b="1" lang="ru-RU" sz="2000" spc="-1" strike="noStrike">
                <a:solidFill>
                  <a:srgbClr val="0070c0"/>
                </a:solidFill>
                <a:latin typeface="Times New Roman"/>
                <a:ea typeface="Calibri"/>
              </a:rPr>
              <a:t>выводы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0c0"/>
                </a:solidFill>
                <a:latin typeface="Times New Roman"/>
                <a:ea typeface="Calibri"/>
              </a:rPr>
              <a:t>• </a:t>
            </a:r>
            <a:r>
              <a:rPr b="0" lang="ru-RU" sz="2000" spc="-1" strike="noStrike">
                <a:solidFill>
                  <a:srgbClr val="0070c0"/>
                </a:solidFill>
                <a:latin typeface="Times New Roman"/>
                <a:ea typeface="Calibri"/>
              </a:rPr>
              <a:t>Больше половины опрошенных  пользовались и им нравится мыло ручной   работы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0c0"/>
                </a:solidFill>
                <a:latin typeface="Times New Roman"/>
                <a:ea typeface="Calibri"/>
              </a:rPr>
              <a:t>• </a:t>
            </a:r>
            <a:r>
              <a:rPr b="0" lang="ru-RU" sz="2000" spc="-1" strike="noStrike">
                <a:solidFill>
                  <a:srgbClr val="0070c0"/>
                </a:solidFill>
                <a:latin typeface="Times New Roman"/>
                <a:ea typeface="Calibri"/>
              </a:rPr>
              <a:t>У половины опрошенных  есть дома такое мыло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0c0"/>
                </a:solidFill>
                <a:latin typeface="Times New Roman"/>
                <a:ea typeface="Calibri"/>
              </a:rPr>
              <a:t>• </a:t>
            </a:r>
            <a:r>
              <a:rPr b="0" lang="ru-RU" sz="2000" spc="-1" strike="noStrike">
                <a:solidFill>
                  <a:srgbClr val="0070c0"/>
                </a:solidFill>
                <a:latin typeface="Times New Roman"/>
                <a:ea typeface="Calibri"/>
              </a:rPr>
              <a:t>Большинство предпочитают магазинное мыло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0c0"/>
                </a:solidFill>
                <a:latin typeface="Times New Roman"/>
                <a:ea typeface="Calibri"/>
              </a:rPr>
              <a:t>• </a:t>
            </a:r>
            <a:r>
              <a:rPr b="0" lang="ru-RU" sz="2000" spc="-1" strike="noStrike">
                <a:solidFill>
                  <a:srgbClr val="0070c0"/>
                </a:solidFill>
                <a:latin typeface="Times New Roman"/>
                <a:ea typeface="Calibri"/>
              </a:rPr>
              <a:t>Многие хотели бы изготовить мыло своими руками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1" name="Picture 3" descr="C:\Documents and Settings\Admin\Рабочий стол\мыло\images (1).jpg"/>
          <p:cNvPicPr/>
          <p:nvPr/>
        </p:nvPicPr>
        <p:blipFill>
          <a:blip r:embed="rId1"/>
          <a:stretch/>
        </p:blipFill>
        <p:spPr>
          <a:xfrm>
            <a:off x="990720" y="30481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4" descr="C:\Documents and Settings\Admin\Рабочий стол\мыло\images (3).jpg"/>
          <p:cNvPicPr/>
          <p:nvPr/>
        </p:nvPicPr>
        <p:blipFill>
          <a:blip r:embed="rId2"/>
          <a:stretch/>
        </p:blipFill>
        <p:spPr>
          <a:xfrm>
            <a:off x="4724280" y="3733920"/>
            <a:ext cx="301464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ustang</dc:creator>
  <dc:description/>
  <dc:language>en-US</dc:language>
  <cp:lastModifiedBy>User</cp:lastModifiedBy>
  <dcterms:modified xsi:type="dcterms:W3CDTF">2016-03-26T12:10:51Z</dcterms:modified>
  <cp:revision>4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