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E56-7745-4150-83D9-79F37859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FE8-FCD5-4E80-BDE1-C54BABB4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BA6-EB7B-41DF-BDA9-039A8B2C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75D-A3C7-46C2-BA31-80EE4E97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0AD-28B5-48D9-BB39-054E9FBE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33D-0CD3-457C-82E9-AEDE8784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2FA-A4F9-4B39-8327-A7E0FE34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E5F-5CFD-48A9-8E9A-58084FD5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CF7-A9BA-4E7F-92D8-6B4736CE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EDC-F4D5-47B6-BEAA-1230F2E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80F-F86F-4534-9F93-D33E48F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5D9-EAD7-4CFE-BF13-6FEF65D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924C-1960-4788-B0E7-772E7B0E1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62974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собенности развития детей с речевыми нарушениями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едагог – психолог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МБДОУ «Детский сад № 55 «Радость»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елигорская Е. 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User\Desktop\мо речевые нарушения\9f91a07a03cb392ffa96f233c849dde4.jpg"/>
          <p:cNvPicPr/>
          <p:nvPr/>
        </p:nvPicPr>
        <p:blipFill>
          <a:blip r:embed="rId1"/>
          <a:stretch/>
        </p:blipFill>
        <p:spPr>
          <a:xfrm>
            <a:off x="1714680" y="2000160"/>
            <a:ext cx="59194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6.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У детей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с алаллией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гры носят однообразный,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подражательный характер,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они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держаться в стороне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ли выполняют только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подчиненные роли,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во время игры чаще произносят только названия предметов, а не действия с ним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7. При овладении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дидактической игрой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большинству детям с речевыми нарушениями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очень сложно одновременно ориентироваться на игровую и дидактическую задачи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гровая деятельность у детей с 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речевой патологией складывается только: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-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при целенаправленном обучении игре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, 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- во время которого происходит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расширение словаря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 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- получение  нового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грового опыта у детей.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i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Взрослому важно  направлять игру при обязательном повседневном руководстве ею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User\Desktop\мо речевые нарушения\010120172322.jpg"/>
          <p:cNvPicPr/>
          <p:nvPr/>
        </p:nvPicPr>
        <p:blipFill>
          <a:blip r:embed="rId1"/>
          <a:stretch/>
        </p:blipFill>
        <p:spPr>
          <a:xfrm>
            <a:off x="6929280" y="3429000"/>
            <a:ext cx="1928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V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 общения со сверстниками и взрослыми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2920" y="1143000"/>
            <a:ext cx="8858160" cy="55720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1. У детей данной категории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снижена потребность в общении как со сверстниками, так и с взросл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2. Новый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человек привлекает их вним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гораздо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меньше,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чем новый предм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Большинство детей обнаруживают повышенную тревожность по отношению к взрослым, от которых они завися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4. В случае затруднений в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такие дети склонны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прекратить работу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чем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обратиться к взрослому за помощ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5. Эти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дети редко обращаются к взрослым за помощью, проявляя какой-либо познавательный интерес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личностные контакты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со взрослым  тоже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редк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4429080" y="2928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358040" y="3643200"/>
            <a:ext cx="1500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6. Дети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не стремятся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получить от взрослого развернутую оценку  своих качеств.  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7. По собственной инициативе эти дети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редко обращаются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за одобрением,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но очень чувствительны к ласке, сочувствию, доброжелательному отношению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8. !! Если общение со взрослым окрашено в эмоционально положительные тона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то ребята стремятся сделать его более продолжительным во времени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они становятся боле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одуктивны в своей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еятельности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еже ссылаются на усталость.</a:t>
            </a:r>
            <a:br>
              <a:rPr sz="2400"/>
            </a:b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143680" y="3933720"/>
            <a:ext cx="37144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100008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V. </a:t>
            </a:r>
            <a:r>
              <a:rPr b="1" i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эмоционально – личностной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сферы детей,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имеющих речевые наруш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2920" y="1071720"/>
            <a:ext cx="8858160" cy="55720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1. Высокий уровень тревожност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2. Слабая эмоциональная устойчивост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астая смена настро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3. Нарушение самоконтроля во все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идах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4. Агрессивность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поведения 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го провоцирующий харак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5. Трудности приспособления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к детскому коллективу в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ремя игры и заня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6. Суетлив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6072120" y="1071720"/>
            <a:ext cx="2928960" cy="1950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5072040" y="4572000"/>
            <a:ext cx="3765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. Неуверенность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8. Различные страхи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9. Манерничанье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10. Фамильярность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по отношению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к взрослому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11. Часто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понимание социальной роли и положения окружающих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12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достаточная дифференциация лиц и вещей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13. Сложност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различении важнейших черт межличностных отношени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оттенки эмоций, чувств и отношений).</a:t>
            </a:r>
            <a:br>
              <a:rPr sz="2500"/>
            </a:br>
            <a:br>
              <a:rPr sz="2400"/>
            </a:b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User\Desktop\мо речевые нарушения\kakie_logopedicheskie_problemy_byvajut_u_detej.jpg"/>
          <p:cNvPicPr/>
          <p:nvPr/>
        </p:nvPicPr>
        <p:blipFill>
          <a:blip r:embed="rId1"/>
          <a:stretch/>
        </p:blipFill>
        <p:spPr>
          <a:xfrm>
            <a:off x="6072120" y="214200"/>
            <a:ext cx="2838600" cy="16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User\Desktop\мо речевые нарушения\Happy-people.jpg"/>
          <p:cNvPicPr/>
          <p:nvPr/>
        </p:nvPicPr>
        <p:blipFill>
          <a:blip r:embed="rId2"/>
          <a:stretch/>
        </p:blipFill>
        <p:spPr>
          <a:xfrm>
            <a:off x="4429080" y="4786200"/>
            <a:ext cx="448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I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ормирование личности при нарушениях речи.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2920" y="642600"/>
            <a:ext cx="8858160" cy="607212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ннее младенчество (от 0-1 года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 нарушениях доречевого развития у ребенка наблюдается замедленный темп формирования всех психических фун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зднее младенчество (1-3 года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ети с речевой патологией характеризуются неуверенностью в себе, гипертрофированным чувством стыда. Ребенок ощущает свою неприспособленность, сомневается в своих возможностях. У таких детей имеется сильное желание скрыть от окружающих свой недоста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ннее детство (3-5 лет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 детей с нарушениями речи отмечаются пассивность, подавленность, низкая речевая активность, инфантильная зависть к другим дет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реднее детство (5-11 лет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 детей с речевой патологией возникает чувство тщетности прилагаемых усилий, собственной неполноценности. Слаборазвиты трудовые навыки. Наблюдается избегание сложных заданий, требующих речевой активности, ситуаций соревнования с др. детьми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трочество (11-20 лет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ля подростков с речевой патологией характерны неустойчивость социальных ролей, лабильность (подвижность)в моральных и мировоззренческих установках.</a:t>
            </a:r>
            <a:br>
              <a:rPr sz="24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из-за личностных детских пробле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Users\User\Desktop\дети-e1477686683743.jpg"/>
          <p:cNvPicPr/>
          <p:nvPr/>
        </p:nvPicPr>
        <p:blipFill>
          <a:blip r:embed="rId1"/>
          <a:stretch/>
        </p:blipFill>
        <p:spPr>
          <a:xfrm>
            <a:off x="5214960" y="3500280"/>
            <a:ext cx="35719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VIII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 Организация коррекционной работы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4200" y="785880"/>
            <a:ext cx="8786880" cy="585792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Чрезвычайно важно установление доброжелательных отношений между ребенком  и педагогом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Это создает предпосылки того, чтобы ребенок активно наблюдал за действиями педагога, подражал ему и выполнял необходимые зад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сихокоррекционная работа по преодолению нарушений строится в двух направления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1. Развитие познавательной сфе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Сохранение и укрепл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сихологического здоровь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User\Desktop\мо речевые нарушения\adaptatsiya_detskiy_sad_4-300x225.jpg"/>
          <p:cNvPicPr/>
          <p:nvPr/>
        </p:nvPicPr>
        <p:blipFill>
          <a:blip r:embed="rId1"/>
          <a:stretch/>
        </p:blipFill>
        <p:spPr>
          <a:xfrm>
            <a:off x="6500880" y="4946760"/>
            <a:ext cx="23810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ети с речевыми нарушениями все же обладают достаточно высокими потенциальными возможностями развития, и в дальнейшем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в школе показывают относительно хорошую обучаем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днако в дошкольном возрасте, они выполняют задания значительно лучше с помощью взрослого, чем самостоя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User\Desktop\мо речевые нарушения\1471617122_8d4cf45ba440f501179a36834cb2257a.png"/>
          <p:cNvPicPr/>
          <p:nvPr/>
        </p:nvPicPr>
        <p:blipFill>
          <a:blip r:embed="rId1"/>
          <a:stretch/>
        </p:blipFill>
        <p:spPr>
          <a:xfrm>
            <a:off x="755640" y="4581360"/>
            <a:ext cx="3714840" cy="166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User\Desktop\106189.jpg"/>
          <p:cNvPicPr/>
          <p:nvPr/>
        </p:nvPicPr>
        <p:blipFill>
          <a:blip r:embed="rId2"/>
          <a:stretch/>
        </p:blipFill>
        <p:spPr>
          <a:xfrm>
            <a:off x="6032520" y="4521240"/>
            <a:ext cx="2638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62974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ы живем как може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 они – как мы поможем.</a:t>
            </a:r>
            <a:br>
              <a:rPr sz="2800"/>
            </a:br>
            <a:br>
              <a:rPr sz="2800"/>
            </a:br>
            <a:br>
              <a:rPr sz="22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Успехов всем. Терпения и мудрости.  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User\Desktop\мо речевые нарушения\1_168.jpg"/>
          <p:cNvPicPr/>
          <p:nvPr/>
        </p:nvPicPr>
        <p:blipFill>
          <a:blip r:embed="rId1"/>
          <a:stretch/>
        </p:blipFill>
        <p:spPr>
          <a:xfrm>
            <a:off x="826920" y="549360"/>
            <a:ext cx="50184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 подготовке данного материала, преследовала следующие 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480" y="1413000"/>
            <a:ext cx="8643960" cy="523080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знакомить педагогов с особенностями развития детей, которые имеют речевые нару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) Уменьшить в некоторой степени внутреннее напряжение, связанное с работой с  данной категорией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) Принять ситуацию.., осознать эти особенности детей и выстраивать дальнейш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оррекционно-развивающ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боту с учетом нов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лученных свед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C:\Users\User\Desktop\мо речевые нарушения\667468326.jpg"/>
          <p:cNvPicPr/>
          <p:nvPr/>
        </p:nvPicPr>
        <p:blipFill>
          <a:blip r:embed="rId1"/>
          <a:stretch/>
        </p:blipFill>
        <p:spPr>
          <a:xfrm>
            <a:off x="6300720" y="4809960"/>
            <a:ext cx="26290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141768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920" y="21420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собенности развития познавательной сферы детей при нарушениях речи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Общие особенности деятельности 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при нарушениях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игров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Особенности  общения со сверстниками и взрослыми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эмоционально – личностной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феры де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Формирование личности при нарушениях речи.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рганизация коррекционно-развивающей работы 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86880" cy="142884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развития познавательной сферы дет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2920" y="857160"/>
            <a:ext cx="8858160" cy="585792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Внимание </a:t>
            </a: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 у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детей с нарушениями речи характеризуется</a:t>
            </a: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неустойчивостью, более низким уровнем произвольного внимания. Все виды контроля за деятельностью часто не сформированы или значительно наруше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При </a:t>
            </a: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зрительном восприятии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затруднения появляются при узнавании предметов в условиях наложения, зашумления. При ориентировки в пространстве затрудняются в различении понятий «справа», «слева», сложно ориентироваться в собственном теле, особенно при усложнении зад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Нарушение функции речедвигательного анализатора существенно влияет на </a:t>
            </a: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слуховое восприятие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фонем. Дети не опознают тот или иной акустический признак сложного звука, по которому одна фонема противопоставлена другой. В результате  зву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узнается неправильно, что приводит 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неправильному его произнош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C:\Users\User\Desktop\мо речевые нарушения\b_1024_768_0_00_images_stories_imgSotrudniki_tvbashmakova_2017_20170925-september-logopunkt_pic-1.jpg"/>
          <p:cNvPicPr/>
          <p:nvPr/>
        </p:nvPicPr>
        <p:blipFill>
          <a:blip r:embed="rId1"/>
          <a:stretch/>
        </p:blipFill>
        <p:spPr>
          <a:xfrm>
            <a:off x="7215120" y="5286240"/>
            <a:ext cx="17096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642960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Зрительная память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практически не отличается от нормы, за исключением запоминания геометрических фигур. </a:t>
            </a:r>
            <a:br>
              <a:rPr sz="2400"/>
            </a:b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Наблюдается снижение функции</a:t>
            </a: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слуховой памяти.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 Выполняя задание из 3-4 действий, ребенок не запомнит всего, может переставить действия и не спросит еще раз, что делать.</a:t>
            </a:r>
            <a:br>
              <a:rPr sz="2400"/>
            </a:b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 Мышление.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 Дети с речевой патологией отстают в развитии наглядно-образного мышления, без специального обучения с трудом овладевают анализом, синтезом, сравнением, классификацией, исключением лишнего, умозаключением по аналогии.  Для них характерна медленная прогностическая деятельность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Воображение</a:t>
            </a: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.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Сложно выполнять творческие зада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User\Desktop\мо речевые нарушения\MG_9832-1.jpg"/>
          <p:cNvPicPr/>
          <p:nvPr/>
        </p:nvPicPr>
        <p:blipFill>
          <a:blip r:embed="rId1"/>
          <a:stretch/>
        </p:blipFill>
        <p:spPr>
          <a:xfrm>
            <a:off x="6215040" y="4214880"/>
            <a:ext cx="263700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Общая моторика тела и рук.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Сложно выполнить словесную игру с движениями рук и пальцев. Координация движений неправильная, скорость и ловкость снижены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новление всех психических функций у детей с речевыми нарушениями происходит не только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замедленно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, но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скаженно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Характер этих повреждений носи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ременной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(несоответствие уровня психического развития возрасту) и вместе с те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ременный характе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отставания, которое с возрастом преодолевается тем успешнее,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чем раньше создаются адекватные условия о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бучения и развития таких детей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User\Desktop\мо речевые нарушения\rech.jpg"/>
          <p:cNvPicPr/>
          <p:nvPr/>
        </p:nvPicPr>
        <p:blipFill>
          <a:blip r:embed="rId1"/>
          <a:stretch/>
        </p:blipFill>
        <p:spPr>
          <a:xfrm>
            <a:off x="6500880" y="1428840"/>
            <a:ext cx="24238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141768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I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деятельности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и нарушениях речи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2920" y="857160"/>
            <a:ext cx="8858160" cy="585792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Для деятельности  характер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1. Импульсивност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алая значимость образца и низкий уровень самоконтроля при выполнении зад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3. Нарушение или утрата программы деятельности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хаотичность действий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4. Низкая продуктивность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Users\User\Desktop\мо речевые нарушения\sad-217252_640-640x381.jpg"/>
          <p:cNvPicPr/>
          <p:nvPr/>
        </p:nvPicPr>
        <p:blipFill>
          <a:blip r:embed="rId1"/>
          <a:stretch/>
        </p:blipFill>
        <p:spPr>
          <a:xfrm>
            <a:off x="5743440" y="4786200"/>
            <a:ext cx="328788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5. Ярко выраженные трудности в оречевлении деятельности,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торые иногда принимают форму грубого несоответствия речи и действия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6. Предъявляемое педагогом требование непременно объяснить выполнение каждой операции может вызвать наступление эмоционального срыва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тказ от деятельности, слезы, усталость, молчание)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комендует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следовательное проговаривание действий)</a:t>
            </a: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Users\User\Desktop\мо речевые нарушения\89143230.jpg"/>
          <p:cNvPicPr/>
          <p:nvPr/>
        </p:nvPicPr>
        <p:blipFill>
          <a:blip r:embed="rId1"/>
          <a:stretch/>
        </p:blipFill>
        <p:spPr>
          <a:xfrm>
            <a:off x="6143760" y="3643200"/>
            <a:ext cx="27144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II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 Особенности игро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713880"/>
            <a:ext cx="8858160" cy="600084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южетная игр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ходиться на значительн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олее ранних этапах своего становления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Поэтому сюжетная игра ка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овместная деятельность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достаточн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долго не возник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2. Зачастую 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гра носит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речевой харак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ольшинство детей испытывают существенные трудност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в создании воображаемой ситуации и принятии на себя ро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4.Сюжет игры не выходит за пределы бытовой темы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 является ситуативным, нестой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. В целом, игра носит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творче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характе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User\Desktop\мо речевые нарушения\1_530.jpg"/>
          <p:cNvPicPr/>
          <p:nvPr/>
        </p:nvPicPr>
        <p:blipFill>
          <a:blip r:embed="rId1"/>
          <a:stretch/>
        </p:blipFill>
        <p:spPr>
          <a:xfrm>
            <a:off x="6215040" y="5143680"/>
            <a:ext cx="2714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3:39:27Z</dcterms:created>
  <dc:creator>Людмила Николаевна</dc:creator>
  <dc:description/>
  <dc:language>en-US</dc:language>
  <cp:lastModifiedBy>1</cp:lastModifiedBy>
  <dcterms:modified xsi:type="dcterms:W3CDTF">2019-01-07T12:20:28Z</dcterms:modified>
  <cp:revision>112</cp:revision>
  <dc:subject/>
  <dc:title>Планирование образовательной деятельности с детьми дошкольного возраста</dc:title>
</cp:coreProperties>
</file>