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5C08-913C-408E-A59C-E53781C4C1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3FAF-70F1-43F1-8E9D-D0FF1C3326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0AE0-0201-42BF-8B73-33B9B8F4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E830-6670-4208-AE8D-0759D033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B7B1-1034-4D0F-823F-33983336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9C18-7043-4FA0-9B6F-C4D53D23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DBC0-B1D7-4EFA-B5FE-87DD8708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B059-687A-4841-AE7C-D89087EE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B646-75C7-4219-A56B-8A696E68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E824-54C1-4F59-BDE2-DF1FA62E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AAB3-11E2-40D0-BF5C-F5150FBE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4573-13E0-4B7D-96BF-15AB97DB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EA29-BF2B-40C6-A18E-D80604FC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865D-38E3-4333-AF14-8621D993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4058-CD23-4DF8-A0E1-2DFFA99372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9152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ОУ «Дятьковская средняя общеобразовательная школа №2»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учно-исследовательский проек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 теме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«Спорт и здоровье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Выполнил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ученик 2а клас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Изотов Арте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Научный руководитель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Семёнова Елена Ивановн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ке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часто вы играете в компьютерные иг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ый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з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Для чего нам нужен спо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Ходите ли вы в спортивные сек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86800" y="-53002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88640"/>
            <a:ext cx="82915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го участвовали в опросе 23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первому вопросу я выяснил, что все школьники в большей или меньшей степени играют в компьютерные игры. Результатами опроса был приятно удивлен, так как большинство детей делают это иногда – 10 человек; 5 человек ответили, что они играют раз в неделю и столько же через день. И только 3 человека ответили, что они ежедневно играют в компьютерны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второму вопросу ответы ребят разделились. Одни отвечали, что спорт нам нужен для того, чтобы не болеть – 8 человек и 8 - человек считают, что спорт нужен для красивой физической формы. 5 – человек считают, что спорт нужен для того, чтобы быть сильным и 2 человека ничего не ответ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ультаты по третьему вопросу :большинство -13 человек ответили – нет, и только 10 человек ходят в различные спортивные се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часто вы играете в компьютерные иг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7"/>
          <p:cNvGraphicFramePr/>
          <p:nvPr/>
        </p:nvGraphicFramePr>
        <p:xfrm>
          <a:off x="684360" y="1484280"/>
          <a:ext cx="7637400" cy="434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763740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чего нам нужен спор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790560" y="1268280"/>
          <a:ext cx="7453440" cy="46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560" y="1268280"/>
                    <a:ext cx="745344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дите ли вы в спортивные секц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6"/>
          <p:cNvGraphicFramePr/>
          <p:nvPr/>
        </p:nvGraphicFramePr>
        <p:xfrm>
          <a:off x="0" y="1197000"/>
          <a:ext cx="8820000" cy="49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882000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11280" y="4508640"/>
            <a:ext cx="80755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анимайтесь спортом и будьте здоров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6742080" cy="5072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6286680" y="4094280"/>
            <a:ext cx="27144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5589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и задач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 моего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выявить влияние спорта на здоровье, физическую подготовку и учёбу моих однокласс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ить, что такое спорт и здоровый образ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знать, что дают занятия спорт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знать, как правильно заниматься спортом, чтобы не навредить здоров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 для чего нам нужна физкультура в школ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сти опрос и выяснить отношение к спорту моих одноклассников и сделать вы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ом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являются занятия физкультурой и спор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использовал следующ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 исслед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зучение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Анке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лияние спорта на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ается ос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сти и связки становятся проч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дце становится более вынослив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вает красивую подтянутую фигу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ческие упражнения улучшают кровообра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рт снимает стресс и улучшает на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заниматься спортом для здоровь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92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зво оценивайте си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тоит заниматься «до упаду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зируйте нагрузки в зависимости от возра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ровки должны быть регулярны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depositphotos_12224163-stock-photo-sportive-family"/>
          <p:cNvPicPr/>
          <p:nvPr/>
        </p:nvPicPr>
        <p:blipFill>
          <a:blip r:embed="rId2"/>
          <a:stretch/>
        </p:blipFill>
        <p:spPr>
          <a:xfrm>
            <a:off x="4284720" y="1413000"/>
            <a:ext cx="460836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27236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ружившись с физкультуро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до смотрим мы вперед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не лечимся микстурой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здоровы целый г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4T09:27:15Z</dcterms:created>
  <dc:creator>USER23</dc:creator>
  <dc:description/>
  <dc:language>en-US</dc:language>
  <cp:lastModifiedBy>Елена Ивановна</cp:lastModifiedBy>
  <dcterms:modified xsi:type="dcterms:W3CDTF">2018-12-12T08:20:52Z</dcterms:modified>
  <cp:revision>22</cp:revision>
  <dc:subject/>
  <dc:title>Слайд 1</dc:title>
</cp:coreProperties>
</file>