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2905-0D2B-4DA9-B313-E597DCCE1C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D6C5-5934-49BA-AF7C-CFEAEBB3A3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789C-C00B-46E9-A175-DD986D49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6409-BAA7-4914-9322-FAADEAAF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5B16-CBC3-490E-95F8-E17EF217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A628-675E-4451-9E10-D05D38FF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DB07-A959-41FF-9862-96AC0CAF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7765-901C-4A64-A9EE-1745C222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2C5-CDB8-4BA9-AA08-F3C9BA60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D8A-B0C5-4772-A624-1FC14C75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2A24-69DD-4803-947F-8B5726EB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72E8-441B-43B6-9A87-20676E12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A3DE-6562-4E36-9F51-000ECC5A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65F-0F72-44EC-946A-20BEBD33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D177-8A60-41F0-9A8E-8EBACC3D0F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9152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ОУ «Дятьковская средняя общеобразовательная школа №2»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учно-исследовательский проек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 теме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Спорт и здоровье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Выполнил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ученик 2а клас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Изотов Арт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Научный руководитель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Семёнова Елена Ивановн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ке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часто вы играете в компьютерные иг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Для чего нам нужен спо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Ходите ли вы в спортивные сек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86800" y="-5300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88640"/>
            <a:ext cx="82915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го участвовали в опросе 23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первому вопросу я выяснил, что все школьники в большей или меньшей степени играют в компьютерные игры. Результатами опроса был приятно удивлен, так как большинство детей делают это иногда – 10 человек; 5 человек ответили, что они играют раз в неделю и столько же через день. И только 3 человека ответили, что они ежедневно играют в компьютерны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второму вопросу ответы ребят разделились. Одни отвечали, что спорт нам нужен для того, чтобы не болеть – 8 человек и 8 - человек считают, что спорт нужен для красивой физической формы. 5 – человек считают, что спорт нужен для того, чтобы быть сильным и 2 человека ничего не ответ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ы по третьему вопросу :большинство -13 человек ответили – нет, и только 10 человек ходят в различные спортивные се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часто вы играете в компьютерные иг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7"/>
          <p:cNvGraphicFramePr/>
          <p:nvPr/>
        </p:nvGraphicFramePr>
        <p:xfrm>
          <a:off x="684360" y="1484280"/>
          <a:ext cx="7637400" cy="434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63740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чего нам нужен спор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790560" y="1268280"/>
          <a:ext cx="7453440" cy="46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560" y="1268280"/>
                    <a:ext cx="745344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дите ли вы в спортивные сек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6"/>
          <p:cNvGraphicFramePr/>
          <p:nvPr/>
        </p:nvGraphicFramePr>
        <p:xfrm>
          <a:off x="0" y="1197000"/>
          <a:ext cx="8820000" cy="49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882000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11280" y="4508640"/>
            <a:ext cx="80755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анимайтесь спортом и будьте здоров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6742080" cy="5072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6286680" y="4094280"/>
            <a:ext cx="27144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5589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и задач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моего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выявить влияние спорта на здоровье, физическую подготовку и учёбу моих однокласс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ить, что такое спорт и здоровый образ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нать, что дают занятия спорт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нать, как правильно заниматься спортом, чтобы не навредить здоров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для чего нам нужна физкультура в шко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сти опрос и выяснить отношение к спорту моих одноклассников и сделать вы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ом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являются занятия физкультурой и с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использовал следующ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исслед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учение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нке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лияние спорта на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ается ос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ти и связки становятся проч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дце становится более вынослив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ет красивую подтянутую фигу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ие упражнения улучшают кровообра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т снимает стресс и улучшает на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заниматься спортом для здоровь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92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зво оценивайте си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тоит заниматься «до упаду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зируйте нагрузки в зависимости от возра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ровки должны быть регулярны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depositphotos_12224163-stock-photo-sportive-family"/>
          <p:cNvPicPr/>
          <p:nvPr/>
        </p:nvPicPr>
        <p:blipFill>
          <a:blip r:embed="rId2"/>
          <a:stretch/>
        </p:blipFill>
        <p:spPr>
          <a:xfrm>
            <a:off x="4284720" y="1413000"/>
            <a:ext cx="460836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27236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ружившись с физкультуро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до смотрим мы вперед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не лечимся микстурой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здоровы целый г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4T09:27:15Z</dcterms:created>
  <dc:creator>USER23</dc:creator>
  <dc:description/>
  <dc:language>en-US</dc:language>
  <cp:lastModifiedBy>Елена Ивановна</cp:lastModifiedBy>
  <dcterms:modified xsi:type="dcterms:W3CDTF">2018-12-12T08:20:52Z</dcterms:modified>
  <cp:revision>22</cp:revision>
  <dc:subject/>
  <dc:title>Слайд 1</dc:title>
</cp:coreProperties>
</file>