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wmf" ContentType="image/x-wmf"/>
  <Override PartName="/ppt/media/image4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4851-6EE5-4F9E-B820-5B3250F4AC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8037-C5AF-40A8-A1EF-CCB992470F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7708-9CF5-4D0A-B6A0-35BC9B100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FFCE-C1BA-4140-AD2B-573F32A0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F901-3A72-4B39-BE9D-C4D6DDD60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1321-7203-4985-B80C-18F1267A3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04F4-22F0-4481-942C-197F1187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1FE2-4805-4B26-845B-07259E76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8381-03B7-4FE9-8800-49324D63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B9FF-4006-4400-B3A5-EEEAEDA7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BB8C-6E10-4C23-BF62-5152B4CC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C987-D81A-4053-A0A5-48C9D7EE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C6F4-11A5-4624-8970-8803E673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EC5F-C191-43B9-92C1-9D01075B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DC6B-12E2-4111-BE26-81DC37875A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00"/>
            </a:gs>
            <a:gs pos="50000">
              <a:srgbClr val="99cc00"/>
            </a:gs>
            <a:gs pos="100000">
              <a:srgbClr val="47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9152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ОУ «Дятьковская средняя общеобразовательная школа №2»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учно-исследовательский проект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 теме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«Спорт и здоровье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400500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Выполнил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ученик 2а клас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Изотов Арте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Научный руководитель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Семёнова Елена Ивановна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00"/>
            </a:gs>
            <a:gs pos="50000">
              <a:srgbClr val="99cc00"/>
            </a:gs>
            <a:gs pos="100000">
              <a:srgbClr val="47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ке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435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часто вы играете в компьютерные игр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ждый д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рез д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 в нед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о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Для чего нам нужен спор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Ходите ли вы в спортивные сек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00"/>
            </a:gs>
            <a:gs pos="50000">
              <a:srgbClr val="99cc00"/>
            </a:gs>
            <a:gs pos="100000">
              <a:srgbClr val="47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686800" y="-53002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188640"/>
            <a:ext cx="82915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го участвовали в опросе 23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первому вопросу я выяснил, что все школьники в большей или меньшей степени играют в компьютерные игры. Результатами опроса был приятно удивлен, так как большинство детей делают это иногда – 10 человек; 5 человек ответили, что они играют раз в неделю и столько же через день. И только 3 человека ответили, что они ежедневно играют в компьютерные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второму вопросу ответы ребят разделились. Одни отвечали, что спорт нам нужен для того, чтобы не болеть – 8 человек и 8 - человек считают, что спорт нужен для красивой физической формы. 5 – человек считают, что спорт нужен для того, чтобы быть сильным и 2 человека ничего не ответи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зультаты по третьему вопросу :большинство -13 человек ответили – нет, и только 10 человек ходят в различные спортивные сек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00"/>
            </a:gs>
            <a:gs pos="50000">
              <a:srgbClr val="99cc00"/>
            </a:gs>
            <a:gs pos="100000">
              <a:srgbClr val="47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часто вы играете в компьютерные иг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7"/>
          <p:cNvGraphicFramePr/>
          <p:nvPr/>
        </p:nvGraphicFramePr>
        <p:xfrm>
          <a:off x="684360" y="1484280"/>
          <a:ext cx="7637400" cy="434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84280"/>
                    <a:ext cx="7637400" cy="43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00"/>
            </a:gs>
            <a:gs pos="50000">
              <a:srgbClr val="99cc00"/>
            </a:gs>
            <a:gs pos="100000">
              <a:srgbClr val="47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чего нам нужен спор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790560" y="1268280"/>
          <a:ext cx="7453440" cy="462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0560" y="1268280"/>
                    <a:ext cx="745344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00"/>
            </a:gs>
            <a:gs pos="50000">
              <a:srgbClr val="99cc00"/>
            </a:gs>
            <a:gs pos="100000">
              <a:srgbClr val="47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дите ли вы в спортивные секц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6"/>
          <p:cNvGraphicFramePr/>
          <p:nvPr/>
        </p:nvGraphicFramePr>
        <p:xfrm>
          <a:off x="0" y="1197000"/>
          <a:ext cx="8820000" cy="49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8820000" cy="49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11280" y="4508640"/>
            <a:ext cx="80755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Занимайтесь спортом и будьте здоровы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6742080" cy="5072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6286680" y="4094280"/>
            <a:ext cx="271440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55897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и задачи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 моего исследовани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выявить влияние спорта на здоровье, физическую подготовку и учёбу моих однокласс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ить, что такое спорт и здоровый образ жиз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знать, что дают занятия спорт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знать, как правильно заниматься спортом, чтобы не навредить здоровь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ь для чего нам нужна физкультура в школ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сти опрос и выяснить отношение к спорту моих одноклассников и сделать выв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ом исслед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являются занятия физкультурой и спор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использовал следующи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ы исследо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зучение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блю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Анкет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лияние спорта на здоров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учшается оса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сти и связки становятся прочн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рдце становится более вынослив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ивает красивую подтянутую фигу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ические упражнения улучшают кровообра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рт снимает стресс и улучшает настро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заниматься спортом для здоровь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923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зво оценивайте си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стоит заниматься «до упаду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зируйте нагрузки в зависимости от возрас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нировки должны быть регулярны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depositphotos_12224163-stock-photo-sportive-family"/>
          <p:cNvPicPr/>
          <p:nvPr/>
        </p:nvPicPr>
        <p:blipFill>
          <a:blip r:embed="rId2"/>
          <a:stretch/>
        </p:blipFill>
        <p:spPr>
          <a:xfrm>
            <a:off x="4284720" y="1413000"/>
            <a:ext cx="460836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27236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ружившись с физкультурой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до смотрим мы вперед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не лечимся микстурой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здоровы целый г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04T09:27:15Z</dcterms:created>
  <dc:creator>USER23</dc:creator>
  <dc:description/>
  <dc:language>en-US</dc:language>
  <cp:lastModifiedBy>Елена Ивановна</cp:lastModifiedBy>
  <dcterms:modified xsi:type="dcterms:W3CDTF">2018-12-12T08:20:52Z</dcterms:modified>
  <cp:revision>22</cp:revision>
  <dc:subject/>
  <dc:title>Слайд 1</dc:title>
</cp:coreProperties>
</file>