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554E-AA5F-4F42-B5E3-A2B078DAD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D10-DBC7-41B0-9A20-DE2739EEC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562-DEF0-4A73-A69F-31AC73DC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A35-3DFF-4F03-BC93-288EE82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04D-8404-44CE-A5F3-85B7BDDD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80A-3A73-4EA6-AEC3-A1F78647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956-D3C1-4B5F-88E6-EDFE60C4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DA0-5FA0-417C-914C-C32BCD3C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5E8-2B3B-40E1-9D8D-378BE031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280-5C40-4F3A-9D66-D45B1183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833-4D2E-49BC-9E18-F6455494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ADA-CAEA-4DAA-AB65-15DA125C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06C-6040-4CA6-8F1E-8546CC65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389-A722-44E4-8402-1940A79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97A8-C499-4DA4-8193-76AF4FDB1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ОУ «Дятьковская средняя общеобразовательная школа №2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 тем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Спорт и здоровь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еник 2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отов Ар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емёнова Елена Иванов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ля чего нам нужен сп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ите ли вы в спортивные с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участвовали в опросе 2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ервому вопросу я выяснил, что все школьники в большей или меньшей степени играют в компьютерные игры. Результатами опроса был приятно удивлен, так как большинство детей делают это иногда – 10 человек; 5 человек ответили, что они играют раз в неделю и столько же через день. И только 3 человека ответили, что они ежедневно играют в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торому вопросу ответы ребят разделились. Одни отвечали, что спорт нам нужен для того, чтобы не болеть – 8 человек и 8 - человек считают, что спорт нужен для красивой физической формы. 5 – человек считают, что спорт нужен для того, чтобы быть сильным и 2 человека ничего не ответ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по третьему вопросу :большинство -13 человек ответили – нет, и только 10 человек ходят в различные спортивные с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84360" y="1484280"/>
          <a:ext cx="76374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74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нам нужен 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90560" y="1268280"/>
          <a:ext cx="74534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268280"/>
                    <a:ext cx="74534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е ли вы в спортивные се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0" y="1197000"/>
          <a:ext cx="8820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820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508640"/>
            <a:ext cx="8075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нимайтесь спортом и 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4208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286680" y="4094280"/>
            <a:ext cx="2714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ыявить влияние спорта на здоровье, физическую подготовку и учёбу моих одно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, что такое спорт и здоровый образ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что дают занятия спор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как правильно заниматься спортом, чтобы не навредить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для чего нам нужна физкультура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прос и выяснить отношение к спорту моих одноклассников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занятия физ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спользовал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порта на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 и связки становятся проч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становится более вынос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красивую подтянутую фи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упражнения улучшают кровооб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снимает стресс и улучшае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ниматься спортом для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зво оценивайте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ит заниматься «до упад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зируйте нагрузки в зависимости от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должны быть регуляр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positphotos_12224163-stock-photo-sportive-family"/>
          <p:cNvPicPr/>
          <p:nvPr/>
        </p:nvPicPr>
        <p:blipFill>
          <a:blip r:embed="rId2"/>
          <a:stretch/>
        </p:blipFill>
        <p:spPr>
          <a:xfrm>
            <a:off x="4284720" y="1413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ужившись с физкультур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до смотрим мы впере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лечимся микстурой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доровы цел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09:27:15Z</dcterms:created>
  <dc:creator>USER23</dc:creator>
  <dc:description/>
  <dc:language>en-US</dc:language>
  <cp:lastModifiedBy>Елена Ивановна</cp:lastModifiedBy>
  <dcterms:modified xsi:type="dcterms:W3CDTF">2018-12-12T08:20:52Z</dcterms:modified>
  <cp:revision>22</cp:revision>
  <dc:subject/>
  <dc:title>Слайд 1</dc:title>
</cp:coreProperties>
</file>