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1.wmf" ContentType="image/x-wmf"/>
  <Override PartName="/ppt/media/image19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D843-6CAB-441A-9314-25E22D7C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A26A-E2CA-45EF-B407-118C98AF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3766-7120-460E-BD8C-DE368A22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27F0-17C7-4F27-956F-8D47288F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13DD-E469-40B5-A7D7-C3B365A3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7383-6A0E-4EE6-9AD3-B6314814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443D-9D28-4376-AC89-E673DB4E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6E40-37A8-4729-93B3-CBDFC84E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5AA9-37EB-4904-8268-F05244DA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E726-EBC0-46EA-B379-301ED2AC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3084-2DF1-4A97-880F-BE5CE429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598E-0C72-448E-92E4-C1F2328C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6862-7FD0-4358-8313-EBF03D97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BE57-9F99-433A-945F-F13790EA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11A0-43F5-4C37-9DBB-7342E73E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8FDE-1486-4C51-9BF9-FFFD0EEC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2E22-14D3-4555-AC35-77D429C1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155-B42F-4D82-825E-D25BA0E0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1B7F-3DB5-46E4-8EA4-E450DABA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CA5-E898-488D-AA4C-5993AC80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643E-7454-48C4-B3F9-A5B75E0E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F247-346A-48E9-B5B1-D3C5D561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9062-FAE9-40E7-9A7A-98DB8BFA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542E-DDF7-4B94-9836-C7D8A9CD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9DE4-282F-4416-B4A3-93ECD02030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5861-FFF9-4CFD-A9C1-94E2CFBCECF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1828800"/>
            <a:ext cx="883908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eec94"/>
                </a:solidFill>
                <a:latin typeface="Times New Roman"/>
              </a:rPr>
              <a:t>Семья </a:t>
            </a:r>
            <a:br>
              <a:rPr sz="8800"/>
            </a:br>
            <a:r>
              <a:rPr b="1" lang="ru-RU" sz="8800" spc="-1" strike="noStrike">
                <a:solidFill>
                  <a:srgbClr val="feec94"/>
                </a:solidFill>
                <a:latin typeface="Times New Roman"/>
              </a:rPr>
              <a:t>в жизни человека.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одителей не выбираю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и такие, какие есть, и их уже не изменишь. Поэтому, чтобы и тебе, и им было проще жить, постарайся найти компромиссы.  Договаривайся с ними мирным путем – ты в чем-то уступишь им, они уступят теб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14" descr="j0295160"/>
          <p:cNvPicPr/>
          <p:nvPr/>
        </p:nvPicPr>
        <p:blipFill>
          <a:blip r:embed="rId1"/>
          <a:stretch/>
        </p:blipFill>
        <p:spPr>
          <a:xfrm>
            <a:off x="3505320" y="4157640"/>
            <a:ext cx="502920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вои дети будут относиться к тебе так как ты относишься сейчас к своим родителям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рез несколько лет ты сам станешь родителем и тогда поймешь , что самую большую боль им причиняют именно их де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5" descr="behappy004"/>
          <p:cNvPicPr/>
          <p:nvPr/>
        </p:nvPicPr>
        <p:blipFill>
          <a:blip r:embed="rId1"/>
          <a:stretch/>
        </p:blipFill>
        <p:spPr>
          <a:xfrm>
            <a:off x="3733920" y="3809880"/>
            <a:ext cx="5105160" cy="30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орьба за независимость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 подростки стремятся к независимости. Стремление все делать наоборот называется негативизм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5" descr="27093033"/>
          <p:cNvPicPr/>
          <p:nvPr/>
        </p:nvPicPr>
        <p:blipFill>
          <a:blip r:embed="rId1"/>
          <a:stretch/>
        </p:blipFill>
        <p:spPr>
          <a:xfrm>
            <a:off x="1600200" y="3092400"/>
            <a:ext cx="6400800" cy="37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крытность характерная черта переходного возраста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ты понимаешь что совершаешь поступок который осудят родители, может не стоит этого делат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28860223_D18D3"/>
          <p:cNvPicPr/>
          <p:nvPr/>
        </p:nvPicPr>
        <p:blipFill>
          <a:blip r:embed="rId1"/>
          <a:stretch/>
        </p:blipFill>
        <p:spPr>
          <a:xfrm>
            <a:off x="1219320" y="3200400"/>
            <a:ext cx="6172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раньё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живость «пережиток детства.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ифоман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4" descr="1418011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295280" y="2743200"/>
            <a:ext cx="67820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аверно, можно жить так, чтобы мама не ругалась. Но разве это жизнь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0" name="Picture 7" descr="free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А с чего, собственно предки психуют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ступ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лкоголиз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рком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нерические болез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4" descr="emo-7"/>
          <p:cNvPicPr/>
          <p:nvPr/>
        </p:nvPicPr>
        <p:blipFill>
          <a:blip r:embed="rId1"/>
          <a:stretch/>
        </p:blipFill>
        <p:spPr>
          <a:xfrm>
            <a:off x="4960800" y="1905120"/>
            <a:ext cx="41832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облемы в семь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родители цепляются к тебе по пустякам, ругают, наказывают- это не означает что они тебя не любят. Они просто не понимают происходящих в тебе перемен и не знают как им себя с тобой ве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держаннос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храняй внешнее спокойств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читай в уме до 1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4" descr="behappy002"/>
          <p:cNvPicPr/>
          <p:nvPr/>
        </p:nvPicPr>
        <p:blipFill>
          <a:blip r:embed="rId1"/>
          <a:stretch/>
        </p:blipFill>
        <p:spPr>
          <a:xfrm>
            <a:off x="3048120" y="3052800"/>
            <a:ext cx="5562360" cy="38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ы ведь на самом деле ещё не совсем взрослый, только хочешь им быть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0" name="Picture 4" descr="u_p"/>
          <p:cNvPicPr/>
          <p:nvPr/>
        </p:nvPicPr>
        <p:blipFill>
          <a:blip r:embed="rId1"/>
          <a:stretch/>
        </p:blipFill>
        <p:spPr>
          <a:xfrm>
            <a:off x="685800" y="1905120"/>
            <a:ext cx="76201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2" name="Picture 4" descr="DSCF0950_web_var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ам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забывай, что твоя мама в первую очередь женщина со всеми слабостями присущими этому полу, а не кухонный комбайн и не стиральная машина. Женщинам нужны тепло, забота и сочувствие. Научитесь быть внимательными, добрыми и заботливы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воя мама когда-то мечтала о счастье. А что у нее есть теперь?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бо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гази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хн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призные де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4" descr="j0186348"/>
          <p:cNvPicPr/>
          <p:nvPr/>
        </p:nvPicPr>
        <p:blipFill>
          <a:blip r:embed="rId1"/>
          <a:stretch/>
        </p:blipFill>
        <p:spPr>
          <a:xfrm>
            <a:off x="4495680" y="1828800"/>
            <a:ext cx="42674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ец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лава семьи и ему тоже не прост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4" descr="j0234687"/>
          <p:cNvPicPr/>
          <p:nvPr/>
        </p:nvPicPr>
        <p:blipFill>
          <a:blip r:embed="rId1"/>
          <a:stretch/>
        </p:blipFill>
        <p:spPr>
          <a:xfrm>
            <a:off x="762120" y="2362320"/>
            <a:ext cx="75438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ним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дражительность родителей связана с их собственными проблемами. У взрослых множество забот и на работе и в семь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4" descr="j0291984"/>
          <p:cNvPicPr/>
          <p:nvPr/>
        </p:nvPicPr>
        <p:blipFill>
          <a:blip r:embed="rId1"/>
          <a:stretch/>
        </p:blipFill>
        <p:spPr>
          <a:xfrm>
            <a:off x="609480" y="3505320"/>
            <a:ext cx="228600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нимани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воим родителям очень важно чтобы  ты, их ребенок, ценил их усилия. Им не нужна от тебя словесная благодарность, им нужно твое понимание и добро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брота и понимание – это самые важные качества в человек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5" descr="j0235241"/>
          <p:cNvPicPr/>
          <p:nvPr/>
        </p:nvPicPr>
        <p:blipFill>
          <a:blip r:embed="rId1"/>
          <a:stretch/>
        </p:blipFill>
        <p:spPr>
          <a:xfrm>
            <a:off x="5334120" y="4440240"/>
            <a:ext cx="380988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3"/>
          <p:cNvSpPr/>
          <p:nvPr/>
        </p:nvSpPr>
        <p:spPr>
          <a:xfrm>
            <a:off x="914400" y="137160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лова В. Маяковского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 Плохо человеку, когда он один, горе одному, один в поле не воин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2" descr=" "/>
          <p:cNvPicPr/>
          <p:nvPr/>
        </p:nvPicPr>
        <p:blipFill>
          <a:blip r:embed="rId1"/>
          <a:stretch/>
        </p:blipFill>
        <p:spPr>
          <a:xfrm>
            <a:off x="1523880" y="6094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6" descr="C:\Users\rekom\Desktop\31637749_1.jpg"/>
          <p:cNvPicPr/>
          <p:nvPr/>
        </p:nvPicPr>
        <p:blipFill>
          <a:blip r:embed="rId1"/>
          <a:stretch/>
        </p:blipFill>
        <p:spPr>
          <a:xfrm>
            <a:off x="4343400" y="380880"/>
            <a:ext cx="4689360" cy="468972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4"/>
          <p:cNvSpPr/>
          <p:nvPr/>
        </p:nvSpPr>
        <p:spPr>
          <a:xfrm>
            <a:off x="30240" y="93348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емейном кругу мы с вами расте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нова основ – родительский до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емейном кругу все корни тво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в жизнь ты входишь из семь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емейном кругу мы жизнь создаем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нова основ – родительский дом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C:\Users\rekom\Desktop\1366x768_430651_[www_ArtFile_ru].jpg"/>
          <p:cNvPicPr/>
          <p:nvPr/>
        </p:nvPicPr>
        <p:blipFill>
          <a:blip r:embed="rId1"/>
          <a:stretch/>
        </p:blipFill>
        <p:spPr>
          <a:xfrm>
            <a:off x="1066680" y="1143000"/>
            <a:ext cx="69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емья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чейка общества, которая участвует в сохранении, накоплении и передаче новым поколениям трудовых навыков, обеспечивает преемственность духовной культуры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8" descr="family4"/>
          <p:cNvPicPr/>
          <p:nvPr/>
        </p:nvPicPr>
        <p:blipFill>
          <a:blip r:embed="rId1"/>
          <a:stretch/>
        </p:blipFill>
        <p:spPr>
          <a:xfrm>
            <a:off x="3429000" y="3581280"/>
            <a:ext cx="54864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щущение ответственности за своего ребенка остаётся у родителей на всю жизнь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ег времени в каждом возрасте ощущается по разном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056989_187"/>
          <p:cNvPicPr/>
          <p:nvPr/>
        </p:nvPicPr>
        <p:blipFill>
          <a:blip r:embed="rId1"/>
          <a:stretch/>
        </p:blipFill>
        <p:spPr>
          <a:xfrm>
            <a:off x="3638520" y="2743200"/>
            <a:ext cx="55054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едки всегда недовольны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4" descr="34244497"/>
          <p:cNvPicPr/>
          <p:nvPr/>
        </p:nvPicPr>
        <p:blipFill>
          <a:blip r:embed="rId1"/>
          <a:stretch/>
        </p:blipFill>
        <p:spPr>
          <a:xfrm>
            <a:off x="4572000" y="1676520"/>
            <a:ext cx="4800600" cy="5181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BinaryImage"/>
          <p:cNvPicPr/>
          <p:nvPr/>
        </p:nvPicPr>
        <p:blipFill>
          <a:blip r:embed="rId2"/>
          <a:stretch/>
        </p:blipFill>
        <p:spPr>
          <a:xfrm>
            <a:off x="0" y="1676520"/>
            <a:ext cx="4952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ровь одна эпохи разны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дители тебя не понимают не потому что они такие ограниченные, а потому, что они люди другой эпох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ptg00132607"/>
          <p:cNvPicPr/>
          <p:nvPr/>
        </p:nvPicPr>
        <p:blipFill>
          <a:blip r:embed="rId1"/>
          <a:stretch/>
        </p:blipFill>
        <p:spPr>
          <a:xfrm>
            <a:off x="1079640" y="3467160"/>
            <a:ext cx="7302240" cy="33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коление твоих родителей ни чем не лучше чем современная молодежь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u_p"/>
          <p:cNvPicPr/>
          <p:nvPr/>
        </p:nvPicPr>
        <p:blipFill>
          <a:blip r:embed="rId1"/>
          <a:stretch/>
        </p:blipFill>
        <p:spPr>
          <a:xfrm>
            <a:off x="533520" y="1855800"/>
            <a:ext cx="8153280" cy="484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едки не такие уж бестолковые,  просто они люди другой эпох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временным подросткам не интересны идеи хиппи, которыми увлекались их родители, так и твоим детям будет не интересно то, чем  ты увлекаешься сейча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5" descr="31_1"/>
          <p:cNvPicPr/>
          <p:nvPr/>
        </p:nvPicPr>
        <p:blipFill>
          <a:blip r:embed="rId1"/>
          <a:stretch/>
        </p:blipFill>
        <p:spPr>
          <a:xfrm>
            <a:off x="1447920" y="3800520"/>
            <a:ext cx="6629400" cy="30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удь терпим к мнению родителей, даже если считаешь что они не прав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ждый человек имеет право на свое мнение, даже если оно ошибочное. В том числе твои родите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носись с уважением к мнению родителей, но при этом можешь оставаться при своём мнен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21" descr="j0411244"/>
          <p:cNvPicPr/>
          <p:nvPr/>
        </p:nvPicPr>
        <p:blipFill>
          <a:blip r:embed="rId1"/>
          <a:stretch/>
        </p:blipFill>
        <p:spPr>
          <a:xfrm>
            <a:off x="6248520" y="4797360"/>
            <a:ext cx="2438280" cy="1832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aki</dc:creator>
  <dc:description/>
  <dc:language>en-US</dc:language>
  <cp:lastModifiedBy>Teacher</cp:lastModifiedBy>
  <dcterms:modified xsi:type="dcterms:W3CDTF">2018-05-15T07:01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