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2A4-6870-4708-8F54-930F2CF0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004-404B-4725-9E18-4B7B8DD1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4B0-5C00-4A68-BABE-D0859444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F8F-9D64-494F-B513-D478D2AD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442-CFE8-4CF5-8FBD-85DC23EE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1A4-E2F7-4FE8-A0E8-9F371A8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102-BB59-4DBB-818B-14C3708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E93F-0936-47C4-81AE-7DBE000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80E-087C-44DE-94C8-A2F77DA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312-31E9-4D66-836A-74BE0109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16F3-3246-496E-887E-7DF05E9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19E-F51B-4B52-8376-E99323A3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D0BD-E1F6-414C-AA06-D339A46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F7D-5D66-4998-842E-F94001C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A23-4474-486E-8C23-F07D3F25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B2E-3C35-48AE-83B5-39631AD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C433-585A-4BA1-9EB7-F90E3DA0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D97-30CD-4C1B-BC71-5AF6A108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52-D655-48CF-943A-844D5963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5FD-3C98-4354-B018-8CEE062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49D-DF88-4781-BC8E-E089C87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8C1-EC53-43B0-8822-7D0DC0A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C87-D97E-4467-8ADD-89D61EF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905-9115-499A-8743-D746A22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D43-EAD7-4F9A-A6D8-05F20D21A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1BD-CEA6-4425-9A47-9F0681A53C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Семья </a:t>
            </a:r>
            <a:br>
              <a:rPr sz="8800"/>
            </a:b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в жизни человека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ей не выбираю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такие, какие есть, и их уже не изменишь. Поэтому, чтобы и тебе, и им было проще жить, постарайся найти компромиссы.  Договаривайся с ними мирным путем – ты в чем-то уступишь им, они уступят те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4" descr="j0295160"/>
          <p:cNvPicPr/>
          <p:nvPr/>
        </p:nvPicPr>
        <p:blipFill>
          <a:blip r:embed="rId1"/>
          <a:stretch/>
        </p:blipFill>
        <p:spPr>
          <a:xfrm>
            <a:off x="3505320" y="4157640"/>
            <a:ext cx="50292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вои дети будут относиться к тебе так как ты относишься сейчас к своим родителям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з несколько лет ты сам станешь родителем и тогда поймешь , что самую большую боль им причиняют именно их де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behappy004"/>
          <p:cNvPicPr/>
          <p:nvPr/>
        </p:nvPicPr>
        <p:blipFill>
          <a:blip r:embed="rId1"/>
          <a:stretch/>
        </p:blipFill>
        <p:spPr>
          <a:xfrm>
            <a:off x="3733920" y="3809880"/>
            <a:ext cx="510516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орьба за независим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подростки стремятся к независимости. Стремление все делать наоборот называется негативизм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27093033"/>
          <p:cNvPicPr/>
          <p:nvPr/>
        </p:nvPicPr>
        <p:blipFill>
          <a:blip r:embed="rId1"/>
          <a:stretch/>
        </p:blipFill>
        <p:spPr>
          <a:xfrm>
            <a:off x="1600200" y="3092400"/>
            <a:ext cx="640080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крытность характерная черта переходного возраст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ы понимаешь что совершаешь поступок который осудят родители, может не стоит этого дел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28860223_D18D3"/>
          <p:cNvPicPr/>
          <p:nvPr/>
        </p:nvPicPr>
        <p:blipFill>
          <a:blip r:embed="rId1"/>
          <a:stretch/>
        </p:blipFill>
        <p:spPr>
          <a:xfrm>
            <a:off x="1219320" y="3200400"/>
            <a:ext cx="6172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раньё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живость «пережиток детства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фома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1418011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95280" y="2743200"/>
            <a:ext cx="6782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верно, можно жить так, чтобы мама не ругалась. Но разве это жизнь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7" descr="free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 с чего, собственно предки психуют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ступ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когол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нерические боле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emo-7"/>
          <p:cNvPicPr/>
          <p:nvPr/>
        </p:nvPicPr>
        <p:blipFill>
          <a:blip r:embed="rId1"/>
          <a:stretch/>
        </p:blipFill>
        <p:spPr>
          <a:xfrm>
            <a:off x="4960800" y="1905120"/>
            <a:ext cx="41832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блемы в семь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родители цепляются к тебе по пустякам, ругают, наказывают- это не означает что они тебя не любят. Они просто не понимают происходящих в тебе перемен и не знают как им себя с тобой ве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держан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храняй внешнее спокойств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читай в уме до 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behappy002"/>
          <p:cNvPicPr/>
          <p:nvPr/>
        </p:nvPicPr>
        <p:blipFill>
          <a:blip r:embed="rId1"/>
          <a:stretch/>
        </p:blipFill>
        <p:spPr>
          <a:xfrm>
            <a:off x="3048120" y="3052800"/>
            <a:ext cx="556236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ведь на самом деле ещё не совсем взрослый, только хочешь им быт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4" descr="u_p"/>
          <p:cNvPicPr/>
          <p:nvPr/>
        </p:nvPicPr>
        <p:blipFill>
          <a:blip r:embed="rId1"/>
          <a:stretch/>
        </p:blipFill>
        <p:spPr>
          <a:xfrm>
            <a:off x="68580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DSCF0950_web_var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м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забывай, что твоя мама в первую очередь женщина со всеми слабостями присущими этому полу, а не кухонный комбайн и не стиральная машина. Женщинам нужны тепло, забота и сочувствие. Научитесь быть внимательными, добрыми и заботливы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воя мама когда-то мечтала о счастье. А что у нее есть теперь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газ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х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ризные де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j0186348"/>
          <p:cNvPicPr/>
          <p:nvPr/>
        </p:nvPicPr>
        <p:blipFill>
          <a:blip r:embed="rId1"/>
          <a:stretch/>
        </p:blipFill>
        <p:spPr>
          <a:xfrm>
            <a:off x="4495680" y="1828800"/>
            <a:ext cx="42674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ец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а семьи и ему тоже не прост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j0234687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ражительность родителей связана с их собственными проблемами. У взрослых множество забот и на работе и в семь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j0291984"/>
          <p:cNvPicPr/>
          <p:nvPr/>
        </p:nvPicPr>
        <p:blipFill>
          <a:blip r:embed="rId1"/>
          <a:stretch/>
        </p:blipFill>
        <p:spPr>
          <a:xfrm>
            <a:off x="609480" y="3505320"/>
            <a:ext cx="22860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воим родителям очень важно чтобы  ты, их ребенок, ценил их усилия. Им не нужна от тебя словесная благодарность, им нужно твое понимание и добр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та и понимание – это самые важные качества в челове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j0235241"/>
          <p:cNvPicPr/>
          <p:nvPr/>
        </p:nvPicPr>
        <p:blipFill>
          <a:blip r:embed="rId1"/>
          <a:stretch/>
        </p:blipFill>
        <p:spPr>
          <a:xfrm>
            <a:off x="5334120" y="4440240"/>
            <a:ext cx="380988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914400" y="13716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ова В. Маяковского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лохо человеку, когда он один, горе одному, один в поле не воин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2" descr=" 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C:\Users\rekom\Desktop\31637749_1.jpg"/>
          <p:cNvPicPr/>
          <p:nvPr/>
        </p:nvPicPr>
        <p:blipFill>
          <a:blip r:embed="rId1"/>
          <a:stretch/>
        </p:blipFill>
        <p:spPr>
          <a:xfrm>
            <a:off x="4343400" y="380880"/>
            <a:ext cx="4689360" cy="4689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30240" y="933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мы с вами раст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 основ – родительский д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все корни тво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жизнь ты входишь из семь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мы жизнь создае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 основ – родительский до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Users\rekom\Desktop\1366x768_430651_[www_ArtFile_ru].jpg"/>
          <p:cNvPicPr/>
          <p:nvPr/>
        </p:nvPicPr>
        <p:blipFill>
          <a:blip r:embed="rId1"/>
          <a:stretch/>
        </p:blipFill>
        <p:spPr>
          <a:xfrm>
            <a:off x="1066680" y="1143000"/>
            <a:ext cx="69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емь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чейка общества, которая участвует в сохранении, накоплении и передаче новым поколениям трудовых навыков, обеспечивает преемственность духовной культу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family4"/>
          <p:cNvPicPr/>
          <p:nvPr/>
        </p:nvPicPr>
        <p:blipFill>
          <a:blip r:embed="rId1"/>
          <a:stretch/>
        </p:blipFill>
        <p:spPr>
          <a:xfrm>
            <a:off x="3429000" y="3581280"/>
            <a:ext cx="5486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щущение ответственности за своего ребенка остаётся у родителей на всю жизн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г времени в каждом возрасте ощущается по раз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056989_187"/>
          <p:cNvPicPr/>
          <p:nvPr/>
        </p:nvPicPr>
        <p:blipFill>
          <a:blip r:embed="rId1"/>
          <a:stretch/>
        </p:blipFill>
        <p:spPr>
          <a:xfrm>
            <a:off x="3638520" y="2743200"/>
            <a:ext cx="5505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дки всегда недовольн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34244497"/>
          <p:cNvPicPr/>
          <p:nvPr/>
        </p:nvPicPr>
        <p:blipFill>
          <a:blip r:embed="rId1"/>
          <a:stretch/>
        </p:blipFill>
        <p:spPr>
          <a:xfrm>
            <a:off x="4572000" y="1676520"/>
            <a:ext cx="4800600" cy="518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inaryImage"/>
          <p:cNvPicPr/>
          <p:nvPr/>
        </p:nvPicPr>
        <p:blipFill>
          <a:blip r:embed="rId2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овь одна эпохи разны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тели тебя не понимают не потому что они такие ограниченные, а потому, что они люди другой эпох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ptg00132607"/>
          <p:cNvPicPr/>
          <p:nvPr/>
        </p:nvPicPr>
        <p:blipFill>
          <a:blip r:embed="rId1"/>
          <a:stretch/>
        </p:blipFill>
        <p:spPr>
          <a:xfrm>
            <a:off x="1079640" y="3467160"/>
            <a:ext cx="730224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коление твоих родителей ни чем не лучше чем современная молодеж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u_p"/>
          <p:cNvPicPr/>
          <p:nvPr/>
        </p:nvPicPr>
        <p:blipFill>
          <a:blip r:embed="rId1"/>
          <a:stretch/>
        </p:blipFill>
        <p:spPr>
          <a:xfrm>
            <a:off x="533520" y="1855800"/>
            <a:ext cx="8153280" cy="48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ки не такие уж бестолковые,  просто они люди другой эпох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ременным подросткам не интересны идеи хиппи, которыми увлекались их родители, так и твоим детям будет не интересно то, чем  ты увлекаешься сейч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31_1"/>
          <p:cNvPicPr/>
          <p:nvPr/>
        </p:nvPicPr>
        <p:blipFill>
          <a:blip r:embed="rId1"/>
          <a:stretch/>
        </p:blipFill>
        <p:spPr>
          <a:xfrm>
            <a:off x="1447920" y="3800520"/>
            <a:ext cx="662940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удь терпим к мнению родителей, даже если считаешь что они не прав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человек имеет право на свое мнение, даже если оно ошибочное. В том числе твои родит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сь с уважением к мнению родителей, но при этом можешь оставаться при своём мн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1" descr="j0411244"/>
          <p:cNvPicPr/>
          <p:nvPr/>
        </p:nvPicPr>
        <p:blipFill>
          <a:blip r:embed="rId1"/>
          <a:stretch/>
        </p:blipFill>
        <p:spPr>
          <a:xfrm>
            <a:off x="6248520" y="479736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aki</dc:creator>
  <dc:description/>
  <dc:language>en-US</dc:language>
  <cp:lastModifiedBy>Teacher</cp:lastModifiedBy>
  <dcterms:modified xsi:type="dcterms:W3CDTF">2018-05-15T07:01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