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E646-37D4-4018-9211-C913DA2B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EE8E-C530-4709-937A-937A6C54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54B86-E04E-4A2C-9A1C-E04F216F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C3F7-4276-49A4-926E-60AD9123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77A5-7676-4473-92CD-8532B4AB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02C3-C774-4C89-B294-6A4A849D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DD6A-B9B7-4BF8-8822-30C98240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B56A-3A6C-4810-AAC0-61A35A74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9ECF-D4A0-45E9-8C71-A0B08658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069D-06F1-46AD-9C9C-82C05BCF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BA83-EE56-4772-B3A9-65C6FFBF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D87C-CB74-471E-8F7B-E9DE2F19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884E-71C0-442F-A4BA-9CC8C22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DC1C-45C9-4999-B50F-40BD2C83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0067-B8FB-4348-B615-99A0AEC7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1EA4-D009-49A7-B0CF-DAC0893C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5E72-6EC2-45BA-BF2B-B64A16E8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0F1A-9A05-4E12-A087-3034C074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58FB-0970-4F08-86E3-376C5ACA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9659-B546-4FC4-BDF6-6530AB6A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381F-9E3D-418A-97E1-09DE181C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52A5-4837-4504-BF2C-95736527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AB4C-2D47-4D1B-BC01-23583F3F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88CD-4475-4943-83CF-77EAE0AF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ED61-F011-4EEC-BEB0-52CAE36081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e2e2f6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e2e2f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e2e2f6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D4B2-F4A5-4D77-BD13-7BFFC8097F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тод  проектов  на  уроках 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6920" y="189000"/>
            <a:ext cx="6696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итет  образования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  Балаковского  муниципального  райо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товской  облас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 «Средняя  общеобразовательная  школа  № 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869000"/>
            <a:ext cx="669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я  технолог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шиной  Елены  Никола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8560" y="189000"/>
            <a:ext cx="8785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3357720"/>
          <a:ext cx="7919640" cy="3124080"/>
        </p:xfrm>
        <a:graphic>
          <a:graphicData uri="http://schemas.openxmlformats.org/drawingml/2006/table">
            <a:tbl>
              <a:tblPr/>
              <a:tblGrid>
                <a:gridCol w="1726560"/>
                <a:gridCol w="1192680"/>
                <a:gridCol w="1040400"/>
                <a:gridCol w="1320480"/>
                <a:gridCol w="1319040"/>
                <a:gridCol w="132048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каней – 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аньон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оц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дей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емная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руп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тка  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иня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ем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руп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тка –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малинов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ем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руп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тка –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ишнев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ерая клетка с черной барха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отделкой  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ер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оричне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ая  мелк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тка –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бежевая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Учен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(102 чел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46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(17 чел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4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Родители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(9 чел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0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0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684360" y="1413000"/>
            <a:ext cx="799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Выбор  материалов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гмент  проекта  «Школьная  форма  «Юная  ле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щиеся  провели  социологический  опрос  по  выбору  ткани  для  школьной  формы  среди  учащихся,  учителей  и 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8785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3357720"/>
            <a:ext cx="165708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78544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Выбор  материалов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 выбора  материалов  составляется  схема,  в  которую  внесены  все  возможные  варианты  материалов  для  изготовления  изделия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рагмент  проекта  «Школьная  форма  «Юная  леди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1280" y="3141720"/>
            <a:ext cx="4033800" cy="2422080"/>
            <a:chOff x="611280" y="3141720"/>
            <a:chExt cx="4033800" cy="2422080"/>
          </a:xfrm>
        </p:grpSpPr>
        <p:cxnSp>
          <p:nvCxnSpPr>
            <p:cNvPr id="136" name="_s164872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3183840" y="3567600"/>
              <a:ext cx="457920" cy="1569600"/>
            </a:xfrm>
            <a:prstGeom prst="bentConnector3">
              <a:avLst>
                <a:gd name="adj1" fmla="val 246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" name="_s164873"/>
            <p:cNvCxnSpPr>
              <a:stCxn id="140" idx="0"/>
              <a:endCxn id="138" idx="2"/>
            </p:cNvCxnSpPr>
            <p:nvPr/>
          </p:nvCxnSpPr>
          <p:spPr>
            <a:xfrm flipV="1" rot="16200000">
              <a:off x="2660760" y="4090680"/>
              <a:ext cx="457920" cy="523440"/>
            </a:xfrm>
            <a:prstGeom prst="bentConnector3">
              <a:avLst>
                <a:gd name="adj1" fmla="val 246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_s164874"/>
            <p:cNvCxnSpPr>
              <a:stCxn id="142" idx="0"/>
              <a:endCxn id="138" idx="2"/>
            </p:cNvCxnSpPr>
            <p:nvPr/>
          </p:nvCxnSpPr>
          <p:spPr>
            <a:xfrm flipH="1" flipV="1" rot="5400000">
              <a:off x="2137680" y="4091040"/>
              <a:ext cx="457920" cy="523440"/>
            </a:xfrm>
            <a:prstGeom prst="bentConnector3">
              <a:avLst>
                <a:gd name="adj1" fmla="val 246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_s164875"/>
            <p:cNvCxnSpPr>
              <a:stCxn id="144" idx="0"/>
              <a:endCxn id="138" idx="2"/>
            </p:cNvCxnSpPr>
            <p:nvPr/>
          </p:nvCxnSpPr>
          <p:spPr>
            <a:xfrm flipH="1" flipV="1" rot="5400000">
              <a:off x="1614960" y="3567960"/>
              <a:ext cx="457920" cy="1569600"/>
            </a:xfrm>
            <a:prstGeom prst="bentConnector3">
              <a:avLst>
                <a:gd name="adj1" fmla="val 2462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_s164876"/>
            <p:cNvSpPr/>
            <p:nvPr/>
          </p:nvSpPr>
          <p:spPr>
            <a:xfrm>
              <a:off x="2179800" y="3141720"/>
              <a:ext cx="896400" cy="968760"/>
            </a:xfrm>
            <a:prstGeom prst="bracketPair">
              <a:avLst>
                <a:gd name="adj" fmla="val 0"/>
              </a:avLst>
            </a:prstGeom>
            <a:solidFill>
              <a:srgbClr val="c94503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00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333300"/>
                  </a:solidFill>
                  <a:latin typeface="Arial"/>
                </a:rPr>
                <a:t>Вид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00"/>
                  </a:solidFill>
                  <a:latin typeface="Arial"/>
                </a:rPr>
                <a:t>материал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64877"/>
            <p:cNvSpPr/>
            <p:nvPr/>
          </p:nvSpPr>
          <p:spPr>
            <a:xfrm>
              <a:off x="611280" y="4595040"/>
              <a:ext cx="896400" cy="968760"/>
            </a:xfrm>
            <a:prstGeom prst="bracketPair">
              <a:avLst>
                <a:gd name="adj" fmla="val 0"/>
              </a:avLst>
            </a:prstGeom>
            <a:solidFill>
              <a:srgbClr val="cc99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00"/>
                  </a:solidFill>
                  <a:latin typeface="Arial"/>
                </a:rPr>
                <a:t>Ткан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00"/>
                  </a:solidFill>
                  <a:latin typeface="Arial"/>
                </a:rPr>
                <a:t>(х/б,  лен,  шерсть,  шелк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64878"/>
            <p:cNvSpPr/>
            <p:nvPr/>
          </p:nvSpPr>
          <p:spPr>
            <a:xfrm>
              <a:off x="1657080" y="4595040"/>
              <a:ext cx="896400" cy="968760"/>
            </a:xfrm>
            <a:prstGeom prst="bracketPair">
              <a:avLst>
                <a:gd name="adj" fmla="val 0"/>
              </a:avLst>
            </a:prstGeom>
            <a:solidFill>
              <a:srgbClr val="cc99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00"/>
                  </a:solidFill>
                  <a:latin typeface="Arial"/>
                </a:rPr>
                <a:t>Нит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00"/>
                  </a:solidFill>
                  <a:latin typeface="Arial"/>
                </a:rPr>
                <a:t>(х/б, шелковые, полиэстер, лавсановые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64879"/>
            <p:cNvSpPr/>
            <p:nvPr/>
          </p:nvSpPr>
          <p:spPr>
            <a:xfrm>
              <a:off x="2702880" y="4595040"/>
              <a:ext cx="896400" cy="968760"/>
            </a:xfrm>
            <a:prstGeom prst="bracketPair">
              <a:avLst>
                <a:gd name="adj" fmla="val 0"/>
              </a:avLst>
            </a:prstGeom>
            <a:solidFill>
              <a:srgbClr val="cc99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00"/>
                  </a:solidFill>
                  <a:latin typeface="Arial"/>
                </a:rPr>
                <a:t>Прокладочные  материал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(дублерин,  флизелин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прокламелин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64880"/>
            <p:cNvSpPr/>
            <p:nvPr/>
          </p:nvSpPr>
          <p:spPr>
            <a:xfrm>
              <a:off x="3749040" y="4595040"/>
              <a:ext cx="896040" cy="968760"/>
            </a:xfrm>
            <a:prstGeom prst="bracketPair">
              <a:avLst>
                <a:gd name="adj" fmla="val 0"/>
              </a:avLst>
            </a:prstGeom>
            <a:solidFill>
              <a:srgbClr val="cc99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00"/>
                  </a:solidFill>
                  <a:latin typeface="Arial"/>
                </a:rPr>
                <a:t>Фурни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(пуговицы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пряжки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блочки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молния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08840" y="3141720"/>
            <a:ext cx="2296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 Выбор  оборудования,  инструментов  и  приспособ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гмент  проект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Школьная  фор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Юная  ле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28130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гмент  проекта  «Школьная  форма  «Юная  ле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готовое  издел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303640" cy="3073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4000" y="3716280"/>
            <a:ext cx="2193840" cy="2925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659640" y="3645000"/>
            <a:ext cx="2239920" cy="2985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643280" y="2421000"/>
            <a:ext cx="22464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 Конструкторская  докум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1  Описание  и  рисунок  изд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 Чертеж  изд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рагмент  проекта  «Подарок  на  юбилей  «Дружная  семе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2552760" cy="3211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91120" y="3141720"/>
            <a:ext cx="2360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 Технологическая  докум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ческая  карта  на изготовление  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9640" y="2565360"/>
          <a:ext cx="8209080" cy="2664000"/>
        </p:xfrm>
        <a:graphic>
          <a:graphicData uri="http://schemas.openxmlformats.org/drawingml/2006/table">
            <a:tbl>
              <a:tblPr/>
              <a:tblGrid>
                <a:gridCol w="863640"/>
                <a:gridCol w="3241800"/>
                <a:gridCol w="2303280"/>
                <a:gridCol w="1800360"/>
              </a:tblGrid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браже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мент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211640" y="3068640"/>
            <a:ext cx="2808360" cy="2104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 Технологическая  документация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этапное  изготовление  изделия (фотограф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рагмент  проекта  «Подарок  на  юбилей  «Дружная  семе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340000" y="443700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227640" y="4446720"/>
            <a:ext cx="2916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3311640" cy="2482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этапное  изготовление  изделия (фотограф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рагмент  проекта  «Подарок  на  юбилей  «Дружная  семе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3240000" cy="2428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35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 Исследовательский  раздел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химическое,  физическое,  социологическое,  математическое  и 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рагмент  проекта  «Школьная  форма  «Юная  ле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ы  социологического 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  введение  школьной  фор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55640" y="3716280"/>
          <a:ext cx="7632720" cy="2708280"/>
        </p:xfrm>
        <a:graphic>
          <a:graphicData uri="http://schemas.openxmlformats.org/drawingml/2006/table">
            <a:tbl>
              <a:tblPr/>
              <a:tblGrid>
                <a:gridCol w="1104840"/>
                <a:gridCol w="944640"/>
                <a:gridCol w="939960"/>
                <a:gridCol w="944280"/>
                <a:gridCol w="943200"/>
                <a:gridCol w="944280"/>
                <a:gridCol w="941400"/>
                <a:gridCol w="8701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0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До  изготовления  школьной 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«Проти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4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8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9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0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8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1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«З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4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8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1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сле  изготовления  школьной 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«Проти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7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5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2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«З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2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0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следование  свойств  тканей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оведение  опы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Определение  прочности  окраски  тка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Определение  усадки  тка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Определение  осыпаемости  тка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Определение  химического  сост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внедрения  метода  проектов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в  учебную 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ход  от  традиционного  трудового  обучения  к  современной  технологической  подготовке  учащихся,  от  преобладания  репродуктивной  деятельности  к  проектной,  активно – познавательной,  творче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 Экономический разде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1  Расчет  материальных  затрат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ямые  расхо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1916280"/>
          <a:ext cx="8136000" cy="2234880"/>
        </p:xfrm>
        <a:graphic>
          <a:graphicData uri="http://schemas.openxmlformats.org/drawingml/2006/table">
            <a:tbl>
              <a:tblPr/>
              <a:tblGrid>
                <a:gridCol w="885600"/>
                <a:gridCol w="1703520"/>
                <a:gridCol w="1405080"/>
                <a:gridCol w="1550880"/>
                <a:gridCol w="1236600"/>
                <a:gridCol w="135432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  -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95280" y="4365720"/>
            <a:ext cx="84470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2  Косвенные  расходы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 старших  клас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  стоимости  электроэнергии,  г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3  Расчет  себестоимости  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2*Мз,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бестоимость  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з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ые  затра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4  Сравнительный  анализ  стоимости  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 Реклама  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рагмент  проекта  «Панно  в  технике  лоскутный  бу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3273480" cy="4363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07120" y="2060640"/>
            <a:ext cx="2679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Заключительный  (оценочно-результативный) 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Экологическая 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Анализ  проделанной 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4360" y="2565360"/>
          <a:ext cx="7848360" cy="1444680"/>
        </p:xfrm>
        <a:graphic>
          <a:graphicData uri="http://schemas.openxmlformats.org/drawingml/2006/table">
            <a:tbl>
              <a:tblPr/>
              <a:tblGrid>
                <a:gridCol w="3925440"/>
                <a:gridCol w="39229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ельные  моменты 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  проек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ые  моменты 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  проек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и 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и 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68360" y="4221000"/>
            <a:ext cx="842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Само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Библиографический  список  литератур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ценка  проекта  должна  быть  интегрированной,  складывающейся  из  оценок  результатов  выполнения  каждого  этапа,  конечного  результата  и  результатов  защиты 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щность  проек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форма  учебно-познавательной  деятельности  ученика,  заключающаяся  в  достижении  сознательно  поставленной  цели  по  созданию  конкретного  продукта  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орческого 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орческий  прое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самостоятельная  творческая  работа  учащихся,  выполненная  от  идеи  до  ее  воплощения  в  жизнь  под  контролем  и  при  консультировании 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щность  метода 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  проек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это  обучение  и  воспитание  на  активной  основе  через  деятельность  ученика  сообразуясь  с  его  личным  интер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я  метода  проек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это  наличие  реально  ощутимого  результата  (изделия,  альбома,  фотографии,  статьи,  сценария  праздника  и  т.д.)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ссификация 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 По  признаку  деятель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 Исследовательс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Творческий – имеет  соответствующее  оформление  результатов  (газета,  видеофильм,  праздник,  издел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 Ролевые,  игровые  проек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 Информационные  проекты  (сбор  информации  о  каком-либо  объекте,  анализ  и  обобщение  фактов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 Практико-ориентировочный  проект  (проект  зимнего  школьного  сада,  школьного  двора,  школьного  зак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т.д.).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ссификация 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По  содержа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ый,  естественно-научный,  технологический,  лингвистический  и 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По  форме  организ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й,  групповой,  коллектив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По  характеру  упр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,  направляемый,  творчески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По  характеру 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продуктивный,  поисковый,  твор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Поисково-исследовательский (подготовительн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 Обоснование  выбора  темы  проек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чинение  по  выбранной  те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Формулировка 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 Варианты  идей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порная  схема  размышл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 сбор,  изучение,  исследование  необходимой    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Анализ  иде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ыбирается  оптимальный  вариант решения  проблем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 облегчения  выбора  учащиеся  составляют  таблицу,  в  которой,  пользуясь  различными  критериями,  наглядно  видно  какой  из  вариантов  они  выбер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Исторический  (информационный) 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3213000"/>
          <a:ext cx="8642160" cy="2519640"/>
        </p:xfrm>
        <a:graphic>
          <a:graphicData uri="http://schemas.openxmlformats.org/drawingml/2006/table">
            <a:tbl>
              <a:tblPr/>
              <a:tblGrid>
                <a:gridCol w="2052720"/>
                <a:gridCol w="1025280"/>
                <a:gridCol w="1025640"/>
                <a:gridCol w="1025640"/>
                <a:gridCol w="1027080"/>
                <a:gridCol w="828720"/>
                <a:gridCol w="936360"/>
                <a:gridCol w="72072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  ид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мк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и 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250920" y="3213000"/>
            <a:ext cx="2017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Технологический  (конструкторско-технологический) 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 Выбор  материалов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кани - компань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рагмент  проек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Школьная  форма  «Юная  ле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ложение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219640" y="2637000"/>
            <a:ext cx="2868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8:10:40Z</dcterms:created>
  <dc:creator>Любовь</dc:creator>
  <dc:description/>
  <dc:language>en-US</dc:language>
  <cp:lastModifiedBy>Admin</cp:lastModifiedBy>
  <dcterms:modified xsi:type="dcterms:W3CDTF">2004-01-01T03:53:43Z</dcterms:modified>
  <cp:revision>10</cp:revision>
  <dc:subject/>
  <dc:title>Слайд 1</dc:title>
</cp:coreProperties>
</file>