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4.jpeg" ContentType="image/jpe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F712D5-99A8-4E2A-950F-9720B0416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36DD37-44DB-47CE-A74C-A789E68E5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978E6B-BFDA-4150-B384-A411EA78B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11E8BA-770F-4EE5-977B-C52E179EF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56BDD-DA3A-41C0-B651-462B2CDC7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F0B69-F1EE-496C-8743-1A82FAB91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56D45-B364-4F87-9494-EFE0DF7DA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C176F-B3D5-42F4-9257-2FEB726CA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A5BA1-B89B-4E9A-902F-0BC648389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69CFF-976D-4E4F-ADC9-7321BC957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F3D85-8B47-4519-A730-E51FC5A1C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5C89C5-B1DB-4413-AC77-D6EBFD799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24315-3E6D-4171-9CBD-A00FF4686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BBACD-B87C-4F5D-887F-52F17138C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2FB99-4BE9-4A02-A6DF-840E7B157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A922C-01A0-4028-89BF-05A35FBF6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C90E4-26CF-4913-97B4-ADE5E835A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FE33ED-F978-48AB-8B6B-96B42D9EE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23108C-58E1-48B2-884D-52B0E2C81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C6B173-A998-46B2-BE5B-B020D827A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57C907-0117-4DF8-88E4-9D38BD8A6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B61170-F837-4CD2-BD0D-E684DF662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A9E64E-D9B5-477A-8DF5-EC99799CE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BB4AD3-8419-4FD2-8179-230C604EC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2e2f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728D9-FD20-4EFB-920A-45E4344D4A00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e2e2f6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e2e2f6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2e2f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e2e2f6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912F0-15C9-4397-BF57-7D1FE9EB240C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2e2f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Метод  проектов  на  уроках  технолог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186920" y="189000"/>
            <a:ext cx="6696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митет  образования 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дминистрации  Балаковского  муниципального  района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аратовской  области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ОУ  «Средняя  общеобразовательная  школа  № 7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258920" y="4869000"/>
            <a:ext cx="669600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Учителя  технологии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аршиной  Елены  Николаев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2e2f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58560" y="189000"/>
            <a:ext cx="8785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Этапы  выполнения  творческого проек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611280" y="3357720"/>
          <a:ext cx="7919640" cy="3124080"/>
        </p:xfrm>
        <a:graphic>
          <a:graphicData uri="http://schemas.openxmlformats.org/drawingml/2006/table">
            <a:tbl>
              <a:tblPr/>
              <a:tblGrid>
                <a:gridCol w="1726560"/>
                <a:gridCol w="1192680"/>
                <a:gridCol w="1040400"/>
                <a:gridCol w="1320480"/>
                <a:gridCol w="1319040"/>
                <a:gridCol w="1320480"/>
              </a:tblGrid>
              <a:tr h="1371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               </a:t>
                      </a:r>
                      <a:r>
                        <a:rPr b="1" lang="ru-RU" sz="12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Вариант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            </a:t>
                      </a:r>
                      <a:r>
                        <a:rPr b="1" lang="ru-RU" sz="12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тканей – ко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                </a:t>
                      </a:r>
                      <a:r>
                        <a:rPr b="1" lang="ru-RU" sz="12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паньоно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Соц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групп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людей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Темная 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крупная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клетка  -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синяя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Темная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крупная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клетка –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малиновая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Темная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крупная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клетка –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вишневая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Серая клетка с черной бархат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отделкой  -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серая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Коричне-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вая  мелкая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клетка –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бежевая 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Ученик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(102 чел.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18 чел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1 чел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6 чел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46 чел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31 чел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Учителя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(17 чел.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1 чел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2 чел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14 чел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Родители 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(9 чел.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1 чел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3 чел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5 чел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ИТОГО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20 чел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1 чел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6 чел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51 чел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50 чел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0" name=""/>
          <p:cNvSpPr/>
          <p:nvPr/>
        </p:nvSpPr>
        <p:spPr>
          <a:xfrm>
            <a:off x="684360" y="1413000"/>
            <a:ext cx="799128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 Выбор  материалов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продолжени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Фрагмент  проекта  «Школьная  форма  «Юная  леди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чащиеся  провели  социологический  опрос  по  выбору  ткани  для  школьной  формы  среди  учащихся,  учителей  и  родител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1413000"/>
            <a:ext cx="87850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11280" y="3357720"/>
            <a:ext cx="1657080" cy="1366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2e2f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79280" y="456840"/>
            <a:ext cx="8785440" cy="9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Этапы  выполнения  творческого проек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50560" y="1628640"/>
            <a:ext cx="856908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  Выбор  материалов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продолжени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Для  выбора  материалов  составляется  схема,  в  которую  внесены  все  возможные  варианты  материалов  для  изготовления  изделия.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Фрагмент  проекта  «Школьная  форма  «Юная  леди»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ыв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611280" y="3141720"/>
            <a:ext cx="4033800" cy="2422080"/>
            <a:chOff x="611280" y="3141720"/>
            <a:chExt cx="4033800" cy="2422080"/>
          </a:xfrm>
        </p:grpSpPr>
        <p:cxnSp>
          <p:nvCxnSpPr>
            <p:cNvPr id="136" name="_s164872"/>
            <p:cNvCxnSpPr>
              <a:stCxn id="137" idx="0"/>
              <a:endCxn id="138" idx="2"/>
            </p:cNvCxnSpPr>
            <p:nvPr/>
          </p:nvCxnSpPr>
          <p:spPr>
            <a:xfrm flipV="1" rot="16200000">
              <a:off x="3183840" y="3567600"/>
              <a:ext cx="457920" cy="1569600"/>
            </a:xfrm>
            <a:prstGeom prst="bentConnector3">
              <a:avLst>
                <a:gd name="adj1" fmla="val 24626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39" name="_s164873"/>
            <p:cNvCxnSpPr>
              <a:stCxn id="140" idx="0"/>
              <a:endCxn id="138" idx="2"/>
            </p:cNvCxnSpPr>
            <p:nvPr/>
          </p:nvCxnSpPr>
          <p:spPr>
            <a:xfrm flipV="1" rot="16200000">
              <a:off x="2660760" y="4090680"/>
              <a:ext cx="457920" cy="523440"/>
            </a:xfrm>
            <a:prstGeom prst="bentConnector3">
              <a:avLst>
                <a:gd name="adj1" fmla="val 24626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1" name="_s164874"/>
            <p:cNvCxnSpPr>
              <a:stCxn id="142" idx="0"/>
              <a:endCxn id="138" idx="2"/>
            </p:cNvCxnSpPr>
            <p:nvPr/>
          </p:nvCxnSpPr>
          <p:spPr>
            <a:xfrm flipH="1" flipV="1" rot="5400000">
              <a:off x="2137680" y="4091040"/>
              <a:ext cx="457920" cy="523440"/>
            </a:xfrm>
            <a:prstGeom prst="bentConnector3">
              <a:avLst>
                <a:gd name="adj1" fmla="val 24626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3" name="_s164875"/>
            <p:cNvCxnSpPr>
              <a:stCxn id="144" idx="0"/>
              <a:endCxn id="138" idx="2"/>
            </p:cNvCxnSpPr>
            <p:nvPr/>
          </p:nvCxnSpPr>
          <p:spPr>
            <a:xfrm flipH="1" flipV="1" rot="5400000">
              <a:off x="1614960" y="3567960"/>
              <a:ext cx="457920" cy="1569600"/>
            </a:xfrm>
            <a:prstGeom prst="bentConnector3">
              <a:avLst>
                <a:gd name="adj1" fmla="val 24626"/>
              </a:avLst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38" name="_s164876"/>
            <p:cNvSpPr/>
            <p:nvPr/>
          </p:nvSpPr>
          <p:spPr>
            <a:xfrm>
              <a:off x="2179800" y="3141720"/>
              <a:ext cx="896400" cy="968760"/>
            </a:xfrm>
            <a:prstGeom prst="bracketPair">
              <a:avLst>
                <a:gd name="adj" fmla="val 0"/>
              </a:avLst>
            </a:prstGeom>
            <a:solidFill>
              <a:srgbClr val="c94503">
                <a:alpha val="50000"/>
              </a:srgbClr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33300"/>
                  </a:solidFill>
                  <a:latin typeface="Arial"/>
                </a:rPr>
                <a:t>      </a:t>
              </a:r>
              <a:r>
                <a:rPr b="1" lang="en-US" sz="1000" spc="-1" strike="noStrike">
                  <a:solidFill>
                    <a:srgbClr val="333300"/>
                  </a:solidFill>
                  <a:latin typeface="Arial"/>
                </a:rPr>
                <a:t>Виды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33300"/>
                  </a:solidFill>
                  <a:latin typeface="Arial"/>
                </a:rPr>
                <a:t>материало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_s164877"/>
            <p:cNvSpPr/>
            <p:nvPr/>
          </p:nvSpPr>
          <p:spPr>
            <a:xfrm>
              <a:off x="611280" y="4595040"/>
              <a:ext cx="896400" cy="968760"/>
            </a:xfrm>
            <a:prstGeom prst="bracketPair">
              <a:avLst>
                <a:gd name="adj" fmla="val 0"/>
              </a:avLst>
            </a:prstGeom>
            <a:solidFill>
              <a:srgbClr val="cc9900">
                <a:alpha val="50000"/>
              </a:srgbClr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333300"/>
                  </a:solidFill>
                  <a:latin typeface="Arial"/>
                </a:rPr>
                <a:t>Ткань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333300"/>
                  </a:solidFill>
                  <a:latin typeface="Arial"/>
                </a:rPr>
                <a:t>(х/б,  лен,  шерсть,  шелк)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_s164878"/>
            <p:cNvSpPr/>
            <p:nvPr/>
          </p:nvSpPr>
          <p:spPr>
            <a:xfrm>
              <a:off x="1657080" y="4595040"/>
              <a:ext cx="896400" cy="968760"/>
            </a:xfrm>
            <a:prstGeom prst="bracketPair">
              <a:avLst>
                <a:gd name="adj" fmla="val 0"/>
              </a:avLst>
            </a:prstGeom>
            <a:solidFill>
              <a:srgbClr val="cc9900">
                <a:alpha val="50000"/>
              </a:srgbClr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333300"/>
                  </a:solidFill>
                  <a:latin typeface="Arial"/>
                </a:rPr>
                <a:t>Нитки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333300"/>
                  </a:solidFill>
                  <a:latin typeface="Arial"/>
                </a:rPr>
                <a:t>(х/б, шелковые, полиэстер, лавсановые)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_s164879"/>
            <p:cNvSpPr/>
            <p:nvPr/>
          </p:nvSpPr>
          <p:spPr>
            <a:xfrm>
              <a:off x="2702880" y="4595040"/>
              <a:ext cx="896400" cy="968760"/>
            </a:xfrm>
            <a:prstGeom prst="bracketPair">
              <a:avLst>
                <a:gd name="adj" fmla="val 0"/>
              </a:avLst>
            </a:prstGeom>
            <a:solidFill>
              <a:srgbClr val="cc9900">
                <a:alpha val="50000"/>
              </a:srgbClr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900" spc="-1" strike="noStrike">
                  <a:solidFill>
                    <a:srgbClr val="333300"/>
                  </a:solidFill>
                  <a:latin typeface="Arial"/>
                </a:rPr>
                <a:t>Прокладочные  материалы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900" spc="-1" strike="noStrike">
                  <a:solidFill>
                    <a:srgbClr val="333300"/>
                  </a:solidFill>
                  <a:latin typeface="Arial"/>
                </a:rPr>
                <a:t>(дублерин,  флизелин,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900" spc="-1" strike="noStrike">
                  <a:solidFill>
                    <a:srgbClr val="333300"/>
                  </a:solidFill>
                  <a:latin typeface="Arial"/>
                </a:rPr>
                <a:t>прокламелин)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_s164880"/>
            <p:cNvSpPr/>
            <p:nvPr/>
          </p:nvSpPr>
          <p:spPr>
            <a:xfrm>
              <a:off x="3749040" y="4595040"/>
              <a:ext cx="896040" cy="968760"/>
            </a:xfrm>
            <a:prstGeom prst="bracketPair">
              <a:avLst>
                <a:gd name="adj" fmla="val 0"/>
              </a:avLst>
            </a:prstGeom>
            <a:solidFill>
              <a:srgbClr val="cc9900">
                <a:alpha val="50000"/>
              </a:srgbClr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900" spc="-1" strike="noStrike">
                  <a:solidFill>
                    <a:srgbClr val="333300"/>
                  </a:solidFill>
                  <a:latin typeface="Arial"/>
                </a:rPr>
                <a:t>Фурнитура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900" spc="-1" strike="noStrike">
                  <a:solidFill>
                    <a:srgbClr val="333300"/>
                  </a:solidFill>
                  <a:latin typeface="Arial"/>
                </a:rPr>
                <a:t>(пуговицы,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900" spc="-1" strike="noStrike">
                  <a:solidFill>
                    <a:srgbClr val="333300"/>
                  </a:solidFill>
                  <a:latin typeface="Arial"/>
                </a:rPr>
                <a:t>пряжки,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900" spc="-1" strike="noStrike">
                  <a:solidFill>
                    <a:srgbClr val="333300"/>
                  </a:solidFill>
                  <a:latin typeface="Arial"/>
                </a:rPr>
                <a:t>блочки,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900" spc="-1" strike="noStrike">
                  <a:solidFill>
                    <a:srgbClr val="333300"/>
                  </a:solidFill>
                  <a:latin typeface="Arial"/>
                </a:rPr>
                <a:t>молния)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6108840" y="3141720"/>
            <a:ext cx="229680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2e2f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Этапы  выполнения  творческого проек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  Выбор  оборудования,  инструментов  и  приспособле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Фрагмент  проекта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«Школьная  форм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«Юная  леди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4859280" y="2205000"/>
            <a:ext cx="281304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2e2f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Этапы  выполнения  творческого проек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68000" y="1483920"/>
            <a:ext cx="835164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Фрагмент  проекта  «Школьная  форма  «Юная  леди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(готовое  издели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79280" y="2421000"/>
            <a:ext cx="2303640" cy="307332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2124000" y="3716280"/>
            <a:ext cx="2193840" cy="292572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3"/>
          <a:stretch/>
        </p:blipFill>
        <p:spPr>
          <a:xfrm>
            <a:off x="6659640" y="3645000"/>
            <a:ext cx="2239920" cy="298584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4"/>
          <a:stretch/>
        </p:blipFill>
        <p:spPr>
          <a:xfrm>
            <a:off x="4643280" y="2421000"/>
            <a:ext cx="2246400" cy="29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2e2f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Этапы  выполнения  творческого проек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50920" y="1483920"/>
            <a:ext cx="86421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  Конструкторская  документа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1  Описание  и  рисунок  издел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 Чертеж  издел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Фрагмент  проекта  «Подарок  на  юбилей  «Дружная  семейк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1042920" y="3141720"/>
            <a:ext cx="2552760" cy="321156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5091120" y="3141720"/>
            <a:ext cx="236052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2e2f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Этапы  выполнения  творческого проек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68000" y="1412640"/>
            <a:ext cx="8280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  Технологическая  документа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Технологическая  карта  на изготовление  издел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539640" y="2565360"/>
          <a:ext cx="8209080" cy="2664000"/>
        </p:xfrm>
        <a:graphic>
          <a:graphicData uri="http://schemas.openxmlformats.org/drawingml/2006/table">
            <a:tbl>
              <a:tblPr/>
              <a:tblGrid>
                <a:gridCol w="863640"/>
                <a:gridCol w="3241800"/>
                <a:gridCol w="2303280"/>
                <a:gridCol w="1800360"/>
              </a:tblGrid>
              <a:tr h="88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/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следовательн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полн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бо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рафическо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ображение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орудование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струменты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способл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9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  т.д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2e2f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4211640" y="3068640"/>
            <a:ext cx="2808360" cy="210492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Этапы  выполнения  творческого проек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46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  Технологическая  документация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продолжени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6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этапное  изготовление  изделия (фотографии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Фрагмент  проекта  «Подарок  на  юбилей  «Дружная  семейк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250920" y="2997360"/>
            <a:ext cx="2808360" cy="210636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3"/>
          <a:stretch/>
        </p:blipFill>
        <p:spPr>
          <a:xfrm>
            <a:off x="2340000" y="4437000"/>
            <a:ext cx="2881440" cy="216072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4"/>
          <a:stretch/>
        </p:blipFill>
        <p:spPr>
          <a:xfrm>
            <a:off x="6227640" y="4446720"/>
            <a:ext cx="2916360" cy="21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2e2f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2700360" y="4149720"/>
            <a:ext cx="3311640" cy="248292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8964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Этапы  выполнения  творческого проек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4963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оэтапное  изготовление  изделия (фотографии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Фрагмент  проекта  «Подарок  на  юбилей  «Дружная  семейк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5292720" y="2205000"/>
            <a:ext cx="3240000" cy="242892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395280" y="2205000"/>
            <a:ext cx="3168720" cy="23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2e2f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8964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Этапы  выполнения  творческого проек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50560" y="1341000"/>
            <a:ext cx="843588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  Исследовательский  раздел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химическое,  физическое,  социологическое,  математическое  и  т.д.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Фрагмент  проекта  «Школьная  форма  «Юная  лед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езультаты  социологического  исслед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о  введение  школьной  формы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755640" y="3716280"/>
          <a:ext cx="7632720" cy="2708280"/>
        </p:xfrm>
        <a:graphic>
          <a:graphicData uri="http://schemas.openxmlformats.org/drawingml/2006/table">
            <a:tbl>
              <a:tblPr/>
              <a:tblGrid>
                <a:gridCol w="1104840"/>
                <a:gridCol w="944640"/>
                <a:gridCol w="939960"/>
                <a:gridCol w="944280"/>
                <a:gridCol w="943200"/>
                <a:gridCol w="944280"/>
                <a:gridCol w="941400"/>
                <a:gridCol w="870120"/>
              </a:tblGrid>
              <a:tr h="565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         </a:t>
                      </a:r>
                      <a:r>
                        <a:rPr b="0" lang="en-US" sz="12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Клас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Результа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5  кл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6  кл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7  кл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9  кл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10  кл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11  кл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Ито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</a:tr>
              <a:tr h="307080">
                <a:tc gridSpan="8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До  изготовления  школьной  форм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7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«Против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4  че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8  че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22  че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19  че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10  че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8  че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71  че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«За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7  че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4  че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7  че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8  че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5  че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31  че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</a:tr>
              <a:tr h="307080">
                <a:tc gridSpan="8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После  изготовления  школьной  форм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7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«Против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2  че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5  че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17  че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15  че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6  че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7  че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52  че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«За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9  че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7  че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5  че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11  че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12  че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6  че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50  че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2e2f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Этапы  выполнения  творческого проек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95280" y="1557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сследование  свойств  тканей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проведение  опытов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 Определение  прочности  окраски  ткан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 Определение  усадки  ткан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  Определение  осыпаемости  ткан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  Определение  химического  соста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2e2f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9640" y="765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Цель внедрения  метода  проектов        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в  учебную  деятель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68360" y="2781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ереход  от  традиционного  трудового  обучения  к  современной  технологической  подготовке  учащихся,  от  преобладания  репродуктивной  деятельности  к  проектной,  активно – познавательной,  творческ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2e2f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Этапы  выполнения  творческого проек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50920" y="981000"/>
            <a:ext cx="844704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  Экономический раздел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.1  Расчет  материальных  затрат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прямые  расходы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468360" y="1916280"/>
          <a:ext cx="8136000" cy="2234880"/>
        </p:xfrm>
        <a:graphic>
          <a:graphicData uri="http://schemas.openxmlformats.org/drawingml/2006/table">
            <a:tbl>
              <a:tblPr/>
              <a:tblGrid>
                <a:gridCol w="885600"/>
                <a:gridCol w="1703520"/>
                <a:gridCol w="1405080"/>
                <a:gridCol w="1550880"/>
                <a:gridCol w="1236600"/>
                <a:gridCol w="1354320"/>
              </a:tblGrid>
              <a:tr h="821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/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именов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териал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е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диниц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мер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обходимо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ичест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актич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оим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меч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те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м  -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 руб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 руб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0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  т.д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1" name=""/>
          <p:cNvSpPr/>
          <p:nvPr/>
        </p:nvSpPr>
        <p:spPr>
          <a:xfrm>
            <a:off x="395280" y="4365720"/>
            <a:ext cx="844704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6.2  Косвенные  расходы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для  старших  классов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счет  стоимости  электроэнергии,  газ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6.3  Расчет  себестоимости  издел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зд.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= 2*Мз,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де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зд.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ебестоимость  издел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з   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атериальные  затраты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6.4  Сравнительный  анализ  стоимости  издел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2e2f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Этапы  выполнения  творческого проек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94920" y="1268280"/>
            <a:ext cx="84978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  Реклама  издел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Фрагмент  проекта  «Панно  в  технике  лоскутный  букет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971640" y="2060640"/>
            <a:ext cx="3273480" cy="436392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5307120" y="2060640"/>
            <a:ext cx="267948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2e2f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Этапы  выполнения  творческого проек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842472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Заключительный  (оценочно-результативный)  этап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  Экологическая  ча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 Анализ  проделанной  рабо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684360" y="2565360"/>
          <a:ext cx="7848360" cy="1444680"/>
        </p:xfrm>
        <a:graphic>
          <a:graphicData uri="http://schemas.openxmlformats.org/drawingml/2006/table">
            <a:tbl>
              <a:tblPr/>
              <a:tblGrid>
                <a:gridCol w="3925440"/>
                <a:gridCol w="3922920"/>
              </a:tblGrid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ожительные  моменты  рабо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д  проекто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рицательные  моменты  рабо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д  проекто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 и  т.д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 и  т.д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9" name=""/>
          <p:cNvSpPr/>
          <p:nvPr/>
        </p:nvSpPr>
        <p:spPr>
          <a:xfrm>
            <a:off x="468360" y="4221000"/>
            <a:ext cx="842472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  Самооцен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V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Библиографический  список  литературы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Оценка  проекта  должна  быть  интегрированной,  складывающейся  из  оценок  результатов  выполнения  каждого  этапа,  конечного  результата  и  результатов  защиты  проек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2e2f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50920" y="476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ущность  проектир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8360" y="198900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оектировани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форма  учебно-познавательной  деятельности  ученика,  заключающаяся  в  достижении  сознательно  поставленной  цели  по  созданию  конкретного  продукта  -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творческого  проек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Творческий  проек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-  самостоятельная  творческая  работа  учащихся,  выполненная  от  идеи  до  ее  воплощения  в  жизнь  под  контролем  и  при  консультировании  учител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2e2f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ущность  метода  проек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етод  проекто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-  это  обучение  и  воспитание  на  активной  основе  через  деятельность  ученика  сообразуясь  с  его  личным  интерес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словия  метода  проекто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-  это  наличие  реально  ощутимого  результата  (изделия,  альбома,  фотографии,  статьи,  сценария  праздника  и  т.д.).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2e2f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Классификация  проек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68360" y="1699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.  По  признаку  деятельности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1.  Исследовательски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2.  Творческий – имеет  соответствующее  оформление  результатов  (газета,  видеофильм,  праздник,  издели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  т.д.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3.  Ролевые,  игровые  проекты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4.  Информационные  проекты  (сбор  информации  о  каком-либо  объекте,  анализ  и  обобщение  фактов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5.  Практико-ориентировочный  проект  (проект  зимнего  школьного  сада,  школьного  двора,  школьного  закон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 т.д.).           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2e2f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Классификация  проек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400" y="1989000"/>
            <a:ext cx="8229600" cy="46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  По  содержанию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итературный,  естественно-научный,  технологический,  лингвистический  и  т.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  По  форме  организации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дивидуальный,  групповой,  коллективны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V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  По  характеру  управле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правляемый,  направляемый,  творческий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  По  характеру  деятельност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продуктивный,  поисковый,  творческ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2e2f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8964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Этапы  выполнения  творческого проек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50920" y="1557360"/>
            <a:ext cx="8642160" cy="43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53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  Поисково-исследовательский (подготовительный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253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25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.  Обоснование  выбора  темы  проект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25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сочинение  по  выбранной  теме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25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.  Формулировка  зада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25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3.  Варианты  идей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опорная  схема  размышления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25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исходит  сбор,  изучение,  исследование  необходимой     информа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25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2e2f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79280" y="476280"/>
            <a:ext cx="8964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Этапы  выполнения  творческого проек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79280" y="1557360"/>
            <a:ext cx="878544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.  Анализ  идей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выбирается  оптимальный  вариант решения  проблемы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ля  облегчения  выбора  учащиеся  составляют  таблицу,  в  которой,  пользуясь  различными  критериями,  наглядно  видно  какой  из  вариантов  они  выберу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ыво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.  Исторический  (информационный)  материа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250920" y="3213000"/>
          <a:ext cx="8642160" cy="2519640"/>
        </p:xfrm>
        <a:graphic>
          <a:graphicData uri="http://schemas.openxmlformats.org/drawingml/2006/table">
            <a:tbl>
              <a:tblPr/>
              <a:tblGrid>
                <a:gridCol w="2052720"/>
                <a:gridCol w="1025280"/>
                <a:gridCol w="1025640"/>
                <a:gridCol w="1025640"/>
                <a:gridCol w="1027080"/>
                <a:gridCol w="828720"/>
                <a:gridCol w="936360"/>
                <a:gridCol w="720720"/>
              </a:tblGrid>
              <a:tr h="63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итер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арианты  ид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У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оруд.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струм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та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иал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тер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тра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стет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рудо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мк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8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 и  т.д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4" name=""/>
          <p:cNvSpPr/>
          <p:nvPr/>
        </p:nvSpPr>
        <p:spPr>
          <a:xfrm>
            <a:off x="250920" y="3213000"/>
            <a:ext cx="201744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2e2f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79280" y="457200"/>
            <a:ext cx="87854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Этапы  выполнения  творческого проек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3628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  Технологический  (конструкторско-технологический)  этап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1.  Выбор  материалов            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кани - компаньон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Фрагмент  проекта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«Школьная  форма  «Юная  лед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иложение 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5219640" y="2637000"/>
            <a:ext cx="286884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0T08:10:40Z</dcterms:created>
  <dc:creator>Любовь</dc:creator>
  <dc:description/>
  <dc:language>en-US</dc:language>
  <cp:lastModifiedBy>Admin</cp:lastModifiedBy>
  <dcterms:modified xsi:type="dcterms:W3CDTF">2004-01-01T03:53:43Z</dcterms:modified>
  <cp:revision>10</cp:revision>
  <dc:subject/>
  <dc:title>Слайд 1</dc:title>
</cp:coreProperties>
</file>