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7C5-3B6D-4020-B5AB-6DDE3107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3DF-0562-49C9-9172-7D3A3C8A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38B-5056-4D24-9348-809F1C8A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0DC-012C-43A4-87D7-C65AEEF1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F01-FCAF-45A0-96AB-49693EE0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762-11F5-4548-9DE4-9CA0B48B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B7A-CF62-4F0D-B968-9C4B183F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88A-64DE-41A0-8418-FDCC2E8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5EC-9057-42DF-82AA-E94759FB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55F-6B70-4845-BC2E-2A53ED5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1F6-B4F1-4048-9B46-62128B75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F17-6A33-4DFB-B9BB-23ED4AB5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D6E6-19FF-42E6-BE3A-8B3BC33C0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структор современного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725400"/>
          <a:ext cx="9144000" cy="5786640"/>
        </p:xfrm>
        <a:graphic>
          <a:graphicData uri="http://schemas.openxmlformats.org/drawingml/2006/table">
            <a:tbl>
              <a:tblPr/>
              <a:tblGrid>
                <a:gridCol w="304920"/>
                <a:gridCol w="1295280"/>
                <a:gridCol w="1143000"/>
                <a:gridCol w="1447920"/>
                <a:gridCol w="1371600"/>
                <a:gridCol w="1176120"/>
                <a:gridCol w="1338480"/>
                <a:gridCol w="1066680"/>
              </a:tblGrid>
              <a:tr h="884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Вход в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Объяснение нового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Закрепление, тренировка, отработка ум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Повтор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Домашне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Ж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Конец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нтеллектуальная разминка или простой опрос по базовым вопрос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лекательная ц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Лови ошибку!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я оп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Светоф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и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прос - ит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Да - нет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ивляй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Пресс-конфере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яем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прос по цепоч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хуровневое домаш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тсроченная отга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Удивляй!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тсрочен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тга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нтастическая доба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6 шляп мыш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яем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шир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Тихи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ычная обы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Роль «Психолог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Фантастиче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доба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гра- трен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и при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Программируемы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Роль «Подводящий итог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Светоф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сс- конфере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гра в случай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ос-ит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деальны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деальн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бсуждаем д/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Щадящи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прос к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Да - нет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уждаем д/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Фактологический дикта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деальны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и ошибку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Деловая игра «Компетентност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сечение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Блиц-контро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Взаимо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кл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Деловая иг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Точка зр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овая игра «Компетентност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Релей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контроль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916680"/>
        </p:xfrm>
        <a:graphic>
          <a:graphicData uri="http://schemas.openxmlformats.org/drawingml/2006/table">
            <a:tbl>
              <a:tblPr/>
              <a:tblGrid>
                <a:gridCol w="409680"/>
                <a:gridCol w="1419120"/>
                <a:gridCol w="1295280"/>
                <a:gridCol w="1447920"/>
                <a:gridCol w="1523880"/>
                <a:gridCol w="1219320"/>
                <a:gridCol w="914400"/>
                <a:gridCol w="914400"/>
              </a:tblGrid>
              <a:tr h="1068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ход в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ъясн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крепление, тренировка, отработка ум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вто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машнее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нец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6 шляп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ловая игра «НИ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ловая игра «Точка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очный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Игра в случай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 игра «Точка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Тренировочная контро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ловая игра «НИ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ая контро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Театр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 «НИ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Устный программируемый 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Игра в случай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Обсуждение выполнения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ый ди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Взаимо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«Да-нет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Своя оп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Щадящи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оказательны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овторяем с контро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овторяем с расшир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ересечение т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оказательны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онструкция</a:t>
            </a: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льтимедийного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-19080" y="987480"/>
            <a:ext cx="918216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Конструкция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мультимедийного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28600" y="1295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. Момент. Мотивация учащихся. Цели и задач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Актуализация опорных знаний и ум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риятие нов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Учебные задания на осмысление нов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ое запоминание, выявление связей и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Оперативное закрепление, повторение прой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 и корре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.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онструкция</a:t>
            </a: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льтимедийного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3" descr=""/>
          <p:cNvPicPr/>
          <p:nvPr/>
        </p:nvPicPr>
        <p:blipFill>
          <a:blip r:embed="rId1"/>
          <a:stretch/>
        </p:blipFill>
        <p:spPr>
          <a:xfrm>
            <a:off x="-19080" y="987480"/>
            <a:ext cx="918216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0-02-04T21:08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