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E70B-1500-4D16-BF34-5B8F791F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51EF-2709-4E87-812F-1F30CF519AD0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5AAB-3209-4B32-B294-D5B5CAB0EE6F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B167-6438-4953-933B-DB891C5E4A8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2E7D-A745-4326-853F-5D7BFD8157D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9E71-FB12-4D16-8C3A-637285A77511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8E4E-4B88-4622-BEF4-35216F15F1ED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5319-2E5A-408C-8F1C-23A24735249E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3064-B92D-4429-9878-D7E09B034574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80E5-4222-4776-86FD-AE0F85C0652A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0030-0909-480F-9A71-A32662CFA79B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icrosoft Sans Serif"/>
              </a:rPr>
              <a:t>Методическая конференция </a:t>
            </a: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5714640"/>
            <a:ext cx="838224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Microsoft Sans Serif"/>
              </a:rPr>
              <a:t>Руководитель методического объединения учителей индивидуального обучения на дому: Фирсова Т.Г.</a:t>
            </a:r>
            <a:endParaRPr b="0" lang="en-US" sz="2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39680" y="1606680"/>
            <a:ext cx="9112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icrosoft Sans Serif"/>
              </a:rPr>
              <a:t>«Непрерывное педагогическое образование, как современное требование к образовательной организации»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4720" y="432288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я персональной (индивидуальной) образовательной программы учителя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12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Установить, что профессиональный стандарт "Педагог (педагогическая деятельность в сфере дошкольного, начального общего, основного общего, среднего общего образования) (воспитатель, учитель)" применяется работодателями при формировании кадровой политики и в управлении персоналом, при организации обучения и аттестации работников, заключении трудовых договоров, разработке должностных инструкций и установлении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 оплаты труда с 1 января 2015 года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нкт 2 настоящего приказа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няется с 1 января 2017 года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риказ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нтруда России от 25 декабря 2014 года N 1115н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нистр                                                                                               М.Топилин                                                                                                                 Зарегистрировано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инистерстве юстиции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декабря 2013 года,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гистрационный N 30550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537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Индивидуальная образовательная программа педагога (далее — ИОП) может стать весьма действенным средством и фактором адаптации к введению Профстандарта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Принятый документ станет основой проведения аттестации педагогов и присвоения квалификационных категорий.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Структуру Профстандарта педагога определяют две обобщенные составляющие: 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algn="just">
              <a:spcBef>
                <a:spcPts val="451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базовая («три кита» педагогической деятельности – обучение, воспитание, развитие);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algn="just">
              <a:spcBef>
                <a:spcPts val="451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дополнительная (разработка проектов и реализация образовательных программ с учетом особенностей работы педагога)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Согласно Постановлению правительства № 584, переход на новые стандарты продолжится до 1 января 2020 года. Новый Профстандарт не является жестко закрепленным, «монолитным» документом – он допускает возможность дополнения требований в зависимости от региональных особенностей и внутренних стандартов учреждений образования. 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85840" y="31860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ДИВИДУАЛЬНАЯ ОБРАЗОВАТЕЛЬНАЯ ПРОГРАММА ПЕДАГОГА </a:t>
            </a:r>
            <a:br>
              <a:rPr sz="2800"/>
            </a:br>
            <a:r>
              <a:rPr b="1" lang="ru-RU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 УСЛОВИЯХ ПРОФСТАНДАРТА</a:t>
            </a:r>
            <a:br>
              <a:rPr sz="2800"/>
            </a:b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РНАЯ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ДИВИДУАЛЬНАЯ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ЗОВАТЕЛЬНАЯ ПРОГРАММА (ИОП)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8260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дивидуальная программа развития педагога, заключается прежде всего в – самообразовании (самосовершенствовании)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мысл самообразования выражается в удовлетворении познавательной активности, растущей потребности педагога в самореализации путем непрерывного образования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ть самообразования заключается в овладении техникой и культурой умственного труда, умении преодолевать проблемы, самостоятельно работать над собственным совершенствованием, в том числе профессиональным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ыми принципами самообразования являются: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прерыв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енаправлен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актив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динство общей и профессиональной культуры,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связь и преемствен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ступ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ережающий характер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манентность перехода от низкой ступени к высшей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риативность и др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19040" y="609480"/>
          <a:ext cx="8382240" cy="6112080"/>
        </p:xfrm>
        <a:graphic>
          <a:graphicData uri="http://schemas.openxmlformats.org/drawingml/2006/table">
            <a:tbl>
              <a:tblPr/>
              <a:tblGrid>
                <a:gridCol w="3119400"/>
                <a:gridCol w="5262840"/>
              </a:tblGrid>
              <a:tr h="293760"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Блок ИОП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уктурные элементы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78120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нформация о педагоге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. И. О., стаж работы по занимаемой должност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бразование и квалификация. Сроки последней аттестаци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валификационная категория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296676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яснительная записка. 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акторы и предпосылки разработки ИОП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сновные направления ИОП и планируемые результаты ее реализации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дачи программы. Цели программы.             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фессиональные затруднения, на решение которых направлена ИОП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Условия непрерывного профессионального образования, способствующие разработке ИОП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арактер запроса на содержание ИОП со стороны работодателя.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сновные направления ИОП, формулируемые как задачи профессионального развития. Уровни профессиональных затруднений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ланируемые результаты, формулируемые как компетенции, освоение которых предусмотрено в ходе реализации ИОП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53352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ыходные данные ИОП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риод, на который разрабатывается ИОП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учный руководитель (если есть). Методист-консультант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48888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амообразование 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ема самообразования, индивидуального педагогического исследования. Учебный год.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48924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вышение квалификации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ема повышения. База прохождения. Количество часов. Время прохождения.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55872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сновные вопросы, намеченные на изучение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ид деятельности. Сроки. Посещать уроки коллег и участвовать в обмене опытом.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106200"/>
          <a:ext cx="8763120" cy="6556680"/>
        </p:xfrm>
        <a:graphic>
          <a:graphicData uri="http://schemas.openxmlformats.org/drawingml/2006/table">
            <a:tbl>
              <a:tblPr/>
              <a:tblGrid>
                <a:gridCol w="2895480"/>
                <a:gridCol w="5867640"/>
              </a:tblGrid>
              <a:tr h="78264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спользование новых технологий и методов в обучении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спользуемая технология. Периодичность использования. Результаты использования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156528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рганизация методической работы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зучать опыт работы лучших учителей своей школы, района, края через Интернет. Проводить самоанализ профессиональной деятельности. Создать собственную базу лучших сценариев уроков, интересных приемов и находок на уроке. Выступать с докладами, с творческим отчётом на заседаниях МО, семинарах, конференциях, педагогических советах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81612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езентация собственной 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дагогической деятельности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ормы презентации. Сроки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52236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Чей опыт предполагается изучить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ланируемые сроки, формы и методы, название технологии, педагогического опыта. Источники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287028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жидаемые результаты: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вышение успеваемости и уровня обученности учащихся, мотивации к изучению предмета,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·        разработка, рабочих программ, сценариев внеклассных мероприятий с применением ИКТ,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·        разработка и апробирование дидактических материалов, тестов, наглядностей, создание электронного комплектов педагогических разработок;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·        разработка и проведение открытых уроков, мастер-классов, обобщение опыта по исследуемой теме,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·        доклады, выступления на заседаниях МО, участие в конкурсах и конференциях с самообобщением опыта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2001960"/>
          <a:ext cx="8534160" cy="1573200"/>
        </p:xfrm>
        <a:graphic>
          <a:graphicData uri="http://schemas.openxmlformats.org/drawingml/2006/table">
            <a:tbl>
              <a:tblPr/>
              <a:tblGrid>
                <a:gridCol w="1778040"/>
                <a:gridCol w="6756120"/>
              </a:tblGrid>
              <a:tr h="65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самообразования, индивидуального педагогического исследова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3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152280" y="1405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304920" y="3657600"/>
            <a:ext cx="46479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КВАЛИФИКАЦИ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4363920"/>
          <a:ext cx="8534160" cy="1857600"/>
        </p:xfrm>
        <a:graphic>
          <a:graphicData uri="http://schemas.openxmlformats.org/drawingml/2006/table">
            <a:tbl>
              <a:tblPr/>
              <a:tblGrid>
                <a:gridCol w="1447560"/>
                <a:gridCol w="2667240"/>
                <a:gridCol w="1752480"/>
                <a:gridCol w="990720"/>
                <a:gridCol w="1676160"/>
              </a:tblGrid>
              <a:tr h="97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повышения квалификаци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за прохожде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-во часов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прохожде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29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29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29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368280" y="1420920"/>
            <a:ext cx="78487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ЫЕ ВОПРОСЫ, НАМЕЧЕННЫЕ НА ИЗУЧЕНИ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78000" y="2219400"/>
          <a:ext cx="8458200" cy="1305000"/>
        </p:xfrm>
        <a:graphic>
          <a:graphicData uri="http://schemas.openxmlformats.org/drawingml/2006/table">
            <a:tbl>
              <a:tblPr/>
              <a:tblGrid>
                <a:gridCol w="1761840"/>
                <a:gridCol w="5403960"/>
                <a:gridCol w="1292400"/>
              </a:tblGrid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ид деятельност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Сроки 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  <p:sp>
        <p:nvSpPr>
          <p:cNvPr id="62" name="Прямоугольник 5"/>
          <p:cNvSpPr/>
          <p:nvPr/>
        </p:nvSpPr>
        <p:spPr>
          <a:xfrm>
            <a:off x="438120" y="3886200"/>
            <a:ext cx="675648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Й ОПЫТ ПРЕДПОЛАГАЕТСЯ ИЗУЧИТЬ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7600" y="4800600"/>
          <a:ext cx="8451720" cy="1305000"/>
        </p:xfrm>
        <a:graphic>
          <a:graphicData uri="http://schemas.openxmlformats.org/drawingml/2006/table">
            <a:tbl>
              <a:tblPr/>
              <a:tblGrid>
                <a:gridCol w="1762200"/>
                <a:gridCol w="4473360"/>
                <a:gridCol w="2216160"/>
              </a:tblGrid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Название технологи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Источники 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96920" y="1487520"/>
            <a:ext cx="8915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ОВАНИЕ НОВЫХ ТЕХНОЛОГИЙ И МЕТОДОВ В ОБУЧЕНИ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5960" y="1979640"/>
          <a:ext cx="8616960" cy="977760"/>
        </p:xfrm>
        <a:graphic>
          <a:graphicData uri="http://schemas.openxmlformats.org/drawingml/2006/table">
            <a:tbl>
              <a:tblPr/>
              <a:tblGrid>
                <a:gridCol w="1795680"/>
                <a:gridCol w="2430360"/>
                <a:gridCol w="2236680"/>
                <a:gridCol w="2154240"/>
              </a:tblGrid>
              <a:tr h="65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емая технолог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ичность использова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использова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3"/>
          <p:cNvSpPr/>
          <p:nvPr/>
        </p:nvSpPr>
        <p:spPr>
          <a:xfrm>
            <a:off x="345960" y="3090960"/>
            <a:ext cx="744228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МЕТОДИЧЕСКОЙ РАБОТЫ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63600" y="3595680"/>
          <a:ext cx="8599320" cy="652320"/>
        </p:xfrm>
        <a:graphic>
          <a:graphicData uri="http://schemas.openxmlformats.org/drawingml/2006/table">
            <a:tbl>
              <a:tblPr/>
              <a:tblGrid>
                <a:gridCol w="1770120"/>
                <a:gridCol w="5122800"/>
                <a:gridCol w="1706400"/>
              </a:tblGrid>
              <a:tr h="326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  <p:sp>
        <p:nvSpPr>
          <p:cNvPr id="68" name="Прямоугольник 5"/>
          <p:cNvSpPr/>
          <p:nvPr/>
        </p:nvSpPr>
        <p:spPr>
          <a:xfrm>
            <a:off x="106200" y="4745160"/>
            <a:ext cx="91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Я СОБСТВЕННОЙ ПЕДАГОГИЧЕСКОЙ ДЕЯТЕЛЬНОС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63600" y="5315040"/>
          <a:ext cx="8599320" cy="652320"/>
        </p:xfrm>
        <a:graphic>
          <a:graphicData uri="http://schemas.openxmlformats.org/drawingml/2006/table">
            <a:tbl>
              <a:tblPr/>
              <a:tblGrid>
                <a:gridCol w="1770120"/>
                <a:gridCol w="5157720"/>
                <a:gridCol w="167148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 презентаци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7909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РМАТИВНО - ПРАВОВЫЕ ДОКУМЕНТЫ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552600"/>
            <a:ext cx="8686800" cy="60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Microsoft Sans Serif"/>
              </a:rPr>
              <a:t>МИНИСТЕРСТВО ТРУДА И СОЦИАЛЬНОЙ ЗАЩИТЫ РОССИЙСКОЙ ФЕДЕРАЦИИ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Microsoft Sans Serif"/>
              </a:rPr>
              <a:t>ПРИКАЗ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 18 октября 2013 года N 544н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 утверждении профессионального стандарта "Педагог (педагогическая деятельность в сфере дошкольного, начального общего, основного общего, среднего общего образования) (воспитатель, учитель)"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 изменениями на 5 августа 2016 года)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кумент с изменениями, внесенными: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казом Минтруда России от 5 августа 2016 года N 422н (Официальный интернет-портал правовой информации www.pravo.gov.ru, 23.08.2016, N 0001201608230049)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соответствии с пунктом 22 Правил разработки, утверждения и применения профессиональных стандартов, утвержденных постановлением Правительства Российской Федерации от 22 января 2013 года N 23 (Собрание законодательства Российской Федерации, 2013, N 4, ст.293),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казываю: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Утвердить прилагаемый профессиональный стандарт "Педагог (педагогическая деятельность в сфере дошкольного, начального общего, основного общего, среднего общего образования) (воспитатель, учитель)"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hp</cp:lastModifiedBy>
  <dcterms:modified xsi:type="dcterms:W3CDTF">2018-11-07T11:57:54Z</dcterms:modified>
  <cp:revision>154</cp:revision>
  <dc:subject/>
  <dc:title>Name of presentation</dc:title>
</cp:coreProperties>
</file>