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BDB5-2504-46B3-A913-111373A6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A27-568F-43E5-80B2-EFA00016705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198-2850-4282-9AD9-86A21C5927F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3B3-EBFD-4A69-871C-D66A6557E905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075F-50BD-44C2-8EBD-852327244C9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2D12-7D9D-4CAE-859B-94C948DA0AA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9AA-11FF-4410-9A60-DC3778C33DA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6EE-F453-42CE-9091-3451B3B05B6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810E-0E67-46C2-AF97-1E00D21C2B1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314-1BEA-422F-BD63-9CB8D069699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3ADF-594D-4EF7-ACC5-F37FDF551FA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icrosoft Sans Serif"/>
              </a:rPr>
              <a:t>Методическая конференция 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5714640"/>
            <a:ext cx="838224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Microsoft Sans Serif"/>
              </a:rPr>
              <a:t>Руководитель методического объединения учителей индивидуального обучения на дому: Фирсова Т.Г.</a:t>
            </a:r>
            <a:endParaRPr b="0" lang="en-US" sz="2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39680" y="1606680"/>
            <a:ext cx="9112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icrosoft Sans Serif"/>
              </a:rPr>
              <a:t>«Непрерывное педагогическое образование, как современное требование к образовательной организации»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4720" y="432288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 персональной (индивидуальной) образовательной программы учителя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1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Установить, что профессиональный стандарт "Педагог (педагогическая деятельность в сфере дошкольного, начального общего, основного общего, среднего общего образования) (воспитатель, учитель)" применяется работодателями при формировании кадровой политики и в управлении персоналом, при организации обучения и аттестации работников, заключении трудовых договоров, разработке должностных инструкций и установлен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 оплаты труда с 1 января 2015 года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нкт 2 настоящего приказа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няется с 1 января 2017 года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иказ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нтруда России от 25 декабря 2014 года N 1115н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нистр                                                                                               М.Топилин                                                                                                                 Зарегистрировано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нистерстве юстиц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декабря 2013 года,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гистрационный N 30550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537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Индивидуальная образовательная программа педагога (далее — ИОП) может стать весьма действенным средством и фактором адаптации к введению Профстандарта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Принятый документ станет основой проведения аттестации педагогов и присвоения квалификационных категорий.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Структуру Профстандарта педагога определяют две обобщенные составляющие: 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algn="just">
              <a:spcBef>
                <a:spcPts val="451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базовая («три кита» педагогической деятельности – обучение, воспитание, развитие);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algn="just">
              <a:spcBef>
                <a:spcPts val="451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дополнительная (разработка проектов и реализация образовательных программ с учетом особенностей работы педагога)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Согласно Постановлению правительства № 584, переход на новые стандарты продолжится до 1 января 2020 года. Новый Профстандарт не является жестко закрепленным, «монолитным» документом – он допускает возможность дополнения требований в зависимости от региональных особенностей и внутренних стандартов учреждений образования. 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85840" y="31860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ДИВИДУАЛЬНАЯ ОБРАЗОВАТЕЛЬНАЯ ПРОГРАММА ПЕДАГОГА </a:t>
            </a:r>
            <a:br>
              <a:rPr sz="2800"/>
            </a:br>
            <a:r>
              <a:rPr b="1" lang="ru-RU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 УСЛОВИЯХ ПРОФСТАНДАРТА</a:t>
            </a:r>
            <a:br>
              <a:rPr sz="2800"/>
            </a:b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МЕРНАЯ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ДИВИДУАЛЬНАЯ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ЗОВАТЕЛЬНАЯ ПРОГРАММА (ИОП)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8260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дивидуальная программа развития педагога, заключается прежде всего в – самообразовании (самосовершенствовании)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ысл самообразования выражается в удовлетворении познавательной активности, растущей потребности педагога в самореализации путем непрерывного образования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ь самообразования заключается в овладении техникой и культурой умственного труда, умении преодолевать проблемы, самостоятельно работать над собственным совершенствованием, в том числе профессиональным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ми принципами самообразования являются: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рерыв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енаправлен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актив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инство общей и профессиональной культуры,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связь и преемствен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ступность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ережающий характер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манентность перехода от низкой ступени к высшей, 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риативность и др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19040" y="609480"/>
          <a:ext cx="8382240" cy="6112080"/>
        </p:xfrm>
        <a:graphic>
          <a:graphicData uri="http://schemas.openxmlformats.org/drawingml/2006/table">
            <a:tbl>
              <a:tblPr/>
              <a:tblGrid>
                <a:gridCol w="3119400"/>
                <a:gridCol w="5262840"/>
              </a:tblGrid>
              <a:tr h="293760"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Блок ИОП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уктурные элементы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78120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нформация о педагоге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. И. О., стаж работы по занимаемой должност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разование и квалификация. Сроки последней аттестаци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валификационная категория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96676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яснительная записка. 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акторы и предпосылки разработки ИОП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сновные направления ИОП и планируемые результаты ее реализаци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дачи программы. Цели программы.             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фессиональные затруднения, на решение которых направлена ИОП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Условия непрерывного профессионального образования, способствующие разработке ИОП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арактер запроса на содержание ИОП со стороны работодателя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сновные направления ИОП, формулируемые как задачи профессионального развития. Уровни профессиональных затруднений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ланируемые результаты, формулируемые как компетенции, освоение которых предусмотрено в ходе реализации ИОП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53352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ыходные данные ИОП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риод, на который разрабатывается ИОП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учный руководитель (если есть). Методист-консультант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48888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амообразование 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ема самообразования, индивидуального педагогического исследования. Учебный год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48924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вышение квалификаци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ема повышения. База прохождения. Количество часов. Время прохождения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558720">
                <a:tc>
                  <a:txBody>
                    <a:bodyPr lIns="27000" rIns="2700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сновные вопросы, намеченные на изучение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ид деятельности. Сроки. Посещать уроки коллег и участвовать в обмене опытом.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106200"/>
          <a:ext cx="8763120" cy="6556680"/>
        </p:xfrm>
        <a:graphic>
          <a:graphicData uri="http://schemas.openxmlformats.org/drawingml/2006/table">
            <a:tbl>
              <a:tblPr/>
              <a:tblGrid>
                <a:gridCol w="2895480"/>
                <a:gridCol w="5867640"/>
              </a:tblGrid>
              <a:tr h="78264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пользование новых технологий и методов в обучени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пользуемая технология. Периодичность использования. Результаты использования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156528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рганизация методической работы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зучать опыт работы лучших учителей своей школы, района, края через Интернет. Проводить самоанализ профессиональной деятельности. Создать собственную базу лучших сценариев уроков, интересных приемов и находок на уроке. Выступать с докладами, с творческим отчётом на заседаниях МО, семинарах, конференциях, педагогических советах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81612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езентация собственной 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дагогической деятельности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ормы презентации. Сроки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52236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Чей опыт предполагается изучить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ланируемые сроки, формы и методы, название технологии, педагогического опыта. Источники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870280">
                <a:tc>
                  <a:txBody>
                    <a:bodyPr lIns="53640" rIns="53640" tIns="0" bIns="0" anchor="ctr">
                      <a:noAutofit/>
                    </a:bodyPr>
                    <a:p>
                      <a:pPr marL="1760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жидаемые результаты: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17604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вышение успеваемости и уровня обученности учащихся, мотивации к изучению предмета,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разработка, рабочих программ, сценариев внеклассных мероприятий с применением ИКТ,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разработка и апробирование дидактических материалов, тестов, наглядностей, создание электронного комплектов педагогических разработок;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разработка и проведение открытых уроков, мастер-классов, обобщение опыта по исследуемой теме,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·        доклады, выступления на заседаниях МО, участие в конкурсах и конференциях с самообобщением опыта.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2001960"/>
          <a:ext cx="8534160" cy="1573200"/>
        </p:xfrm>
        <a:graphic>
          <a:graphicData uri="http://schemas.openxmlformats.org/drawingml/2006/table">
            <a:tbl>
              <a:tblPr/>
              <a:tblGrid>
                <a:gridCol w="1778040"/>
                <a:gridCol w="6756120"/>
              </a:tblGrid>
              <a:tr h="65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самообразования, индивидуального педагогического исследова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3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52280" y="1405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304920" y="3657600"/>
            <a:ext cx="46479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КВАЛИФИКАЦИ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4363920"/>
          <a:ext cx="8534160" cy="1857600"/>
        </p:xfrm>
        <a:graphic>
          <a:graphicData uri="http://schemas.openxmlformats.org/drawingml/2006/table">
            <a:tbl>
              <a:tblPr/>
              <a:tblGrid>
                <a:gridCol w="1447560"/>
                <a:gridCol w="2667240"/>
                <a:gridCol w="1752480"/>
                <a:gridCol w="990720"/>
                <a:gridCol w="1676160"/>
              </a:tblGrid>
              <a:tr h="97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повышения квалификаци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за прохожде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-во часов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прохожде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368280" y="1420920"/>
            <a:ext cx="784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ВОПРОСЫ, НАМЕЧЕННЫЕ НА ИЗУЧЕНИ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78000" y="2219400"/>
          <a:ext cx="8458200" cy="1305000"/>
        </p:xfrm>
        <a:graphic>
          <a:graphicData uri="http://schemas.openxmlformats.org/drawingml/2006/table">
            <a:tbl>
              <a:tblPr/>
              <a:tblGrid>
                <a:gridCol w="1761840"/>
                <a:gridCol w="5403960"/>
                <a:gridCol w="1292400"/>
              </a:tblGrid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Сроки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5"/>
          <p:cNvSpPr/>
          <p:nvPr/>
        </p:nvSpPr>
        <p:spPr>
          <a:xfrm>
            <a:off x="438120" y="3886200"/>
            <a:ext cx="67564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Й ОПЫТ ПРЕДПОЛАГАЕТСЯ ИЗУЧИТЬ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7600" y="4800600"/>
          <a:ext cx="8451720" cy="1305000"/>
        </p:xfrm>
        <a:graphic>
          <a:graphicData uri="http://schemas.openxmlformats.org/drawingml/2006/table">
            <a:tbl>
              <a:tblPr/>
              <a:tblGrid>
                <a:gridCol w="1762200"/>
                <a:gridCol w="4473360"/>
                <a:gridCol w="2216160"/>
              </a:tblGrid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Название технологи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Источники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Microsoft Sans Serif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96920" y="1487520"/>
            <a:ext cx="8915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НИЕ НОВЫХ ТЕХНОЛОГИЙ И МЕТОДОВ В ОБУЧЕНИ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979640"/>
          <a:ext cx="8616960" cy="977760"/>
        </p:xfrm>
        <a:graphic>
          <a:graphicData uri="http://schemas.openxmlformats.org/drawingml/2006/table">
            <a:tbl>
              <a:tblPr/>
              <a:tblGrid>
                <a:gridCol w="1795680"/>
                <a:gridCol w="2430360"/>
                <a:gridCol w="2236680"/>
                <a:gridCol w="2154240"/>
              </a:tblGrid>
              <a:tr h="65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ая технолог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ность использова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использования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3"/>
          <p:cNvSpPr/>
          <p:nvPr/>
        </p:nvSpPr>
        <p:spPr>
          <a:xfrm>
            <a:off x="345960" y="3090960"/>
            <a:ext cx="74422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МЕТОДИЧЕСКОЙ РАБОТ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63600" y="3595680"/>
          <a:ext cx="8599320" cy="652320"/>
        </p:xfrm>
        <a:graphic>
          <a:graphicData uri="http://schemas.openxmlformats.org/drawingml/2006/table">
            <a:tbl>
              <a:tblPr/>
              <a:tblGrid>
                <a:gridCol w="1770120"/>
                <a:gridCol w="5122800"/>
                <a:gridCol w="1706400"/>
              </a:tblGrid>
              <a:tr h="32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5"/>
          <p:cNvSpPr/>
          <p:nvPr/>
        </p:nvSpPr>
        <p:spPr>
          <a:xfrm>
            <a:off x="106200" y="4745160"/>
            <a:ext cx="91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Я СОБСТВЕННОЙ ПЕДАГОГИЧЕСКОЙ ДЕЯТЕЛЬНОС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63600" y="5315040"/>
          <a:ext cx="8599320" cy="652320"/>
        </p:xfrm>
        <a:graphic>
          <a:graphicData uri="http://schemas.openxmlformats.org/drawingml/2006/table">
            <a:tbl>
              <a:tblPr/>
              <a:tblGrid>
                <a:gridCol w="1770120"/>
                <a:gridCol w="5157720"/>
                <a:gridCol w="167148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презентаци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</a:tr>
              <a:tr h="32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64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7909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РМАТИВНО - ПРАВОВЫЕ ДОКУМЕНТЫ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552600"/>
            <a:ext cx="8686800" cy="60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Microsoft Sans Serif"/>
              </a:rPr>
              <a:t>МИНИСТЕРСТВО ТРУДА И СОЦИАЛЬНОЙ ЗАЩИТЫ РОССИЙСКОЙ ФЕДЕРАЦИИ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Microsoft Sans Serif"/>
              </a:rPr>
              <a:t>ПРИКАЗ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 18 октября 2013 года N 544н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 утверждении профессионального стандарта "Педагог (педагогическая деятельность в сфере дошкольного, начального общего, основного общего, среднего общего образования) (воспитатель, учитель)"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 изменениями на 5 августа 2016 года)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кумент с изменениями, внесенными: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ом Минтруда России от 5 августа 2016 года N 422н (Официальный интернет-портал правовой информации www.pravo.gov.ru, 23.08.2016, N 0001201608230049)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оответствии с пунктом 22 Правил разработки, утверждения и применения профессиональных стандартов, утвержденных постановлением Правительства Российской Федерации от 22 января 2013 года N 23 (Собрание законодательства Российской Федерации, 2013, N 4, ст.293),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ываю: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Утвердить прилагаемый профессиональный стандарт "Педагог (педагогическая деятельность в сфере дошкольного, начального общего, основного общего, среднего общего образования) (воспитатель, учитель)".</a:t>
            </a: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hp</cp:lastModifiedBy>
  <dcterms:modified xsi:type="dcterms:W3CDTF">2018-11-07T11:57:54Z</dcterms:modified>
  <cp:revision>154</cp:revision>
  <dc:subject/>
  <dc:title>Name of presentation</dc:title>
</cp:coreProperties>
</file>