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4.jpeg" ContentType="image/jpeg"/>
  <Override PartName="/ppt/media/image2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1EB4-A8E8-4A17-8AC5-CD46291852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2E2A-4491-46D6-BA01-FD9B5C0EE4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8362-5A51-40AA-AC55-3ED5B24E80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379-2BFD-42AA-82F2-FA3C6B56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6B1-A726-4FFE-84AD-3FFCDD09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CCC-8C21-4CDE-B174-DB36385F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432-0872-4CD4-ADB5-94823EEA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991-07D0-4429-86CD-3F24559F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C46-5B97-476F-A388-D109CED9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B4C7-2E0A-4B6C-A901-5389117E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C585-D955-43C9-A372-98D9FA29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D9CB-39D5-49F7-93CF-F6077DE8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B221-3279-49DB-B43A-8C0DF275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1C82-526C-4160-88E3-3B171A68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F3F-DC1F-41CC-8641-E04B25D7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00FB-6357-4C4A-BEAA-7890CA5A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7D43-9DFA-4883-88D7-6C082CC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A43F-8EC2-4D6D-95A5-5C7CC09A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7D29-E131-47E3-AE06-614D56FA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AAC7-A4EA-4FDC-80D2-B5DD093D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EEC-70F0-4644-8CE7-24DB51C4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209-9161-4CCD-966C-F4B41D97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871-D3AF-4814-9546-8C0C0EE1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360-E91F-48D4-BC4F-9C9A89A4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00B-3506-4B81-AA41-8DF87CF3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A98-24CD-44A7-BA95-4D35E25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C7F-733A-4405-AB3C-D15232C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90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0363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661B-647F-469D-AF6B-5B2231A73D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eaeb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eae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90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0363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C48A-2383-4588-AD2E-02AE96927E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6920" y="5300280"/>
            <a:ext cx="617220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работ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математ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акирзянова Е.А.</a:t>
            </a:r>
            <a:br>
              <a:rPr sz="1800"/>
            </a:br>
            <a:endParaRPr b="0" lang="en-US" sz="1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1989000"/>
            <a:ext cx="8271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Verdana"/>
                <a:ea typeface="Verdana"/>
              </a:rPr>
              <a:t>Влияние архитектурных стро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Verdana"/>
                <a:ea typeface="Verdana"/>
              </a:rPr>
              <a:t>на здоровье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258920" y="101592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СУДАРСТВЕН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ЛЕНИНСК-КУЗНЕЦКИЙ ПОЛИТЕХНИЧЕСКИЙ 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1547640" y="115920"/>
            <a:ext cx="64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м ленинградского архитектора И.П.Шме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https://static.tildacdn.com/tild6564-3531-4366-b530-613066396566/cottage_05.jpg"/>
          <p:cNvPicPr/>
          <p:nvPr/>
        </p:nvPicPr>
        <p:blipFill>
          <a:blip r:embed="rId1"/>
          <a:stretch/>
        </p:blipFill>
        <p:spPr>
          <a:xfrm>
            <a:off x="900000" y="1457280"/>
            <a:ext cx="4953240" cy="44132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https://static.tildacdn.com/tild3735-3036-4530-a237-376434643836/cottage_01.jpg"/>
          <p:cNvPicPr/>
          <p:nvPr/>
        </p:nvPicPr>
        <p:blipFill>
          <a:blip r:embed="rId2"/>
          <a:stretch/>
        </p:blipFill>
        <p:spPr>
          <a:xfrm>
            <a:off x="6227640" y="1044720"/>
            <a:ext cx="2376720" cy="2619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https://static.tildacdn.com/tild3232-3833-4238-b734-316334633439/cottage_02.jpg"/>
          <p:cNvPicPr/>
          <p:nvPr/>
        </p:nvPicPr>
        <p:blipFill>
          <a:blip r:embed="rId3"/>
          <a:stretch/>
        </p:blipFill>
        <p:spPr>
          <a:xfrm>
            <a:off x="6227640" y="3933720"/>
            <a:ext cx="245592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DSC00122.JPG"/>
          <p:cNvPicPr/>
          <p:nvPr/>
        </p:nvPicPr>
        <p:blipFill>
          <a:blip r:embed="rId1"/>
          <a:stretch/>
        </p:blipFill>
        <p:spPr>
          <a:xfrm>
            <a:off x="701640" y="333360"/>
            <a:ext cx="4897440" cy="302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:\Природа\ФОТО 422.jpg"/>
          <p:cNvPicPr/>
          <p:nvPr/>
        </p:nvPicPr>
        <p:blipFill>
          <a:blip r:embed="rId2"/>
          <a:stretch/>
        </p:blipFill>
        <p:spPr>
          <a:xfrm>
            <a:off x="4067280" y="3540240"/>
            <a:ext cx="3025800" cy="28191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5796000" y="15112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з современной архитектурной среды воспринимается человеком как агрессивный, вызывает психофизиологическую напряж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290"/>
          <p:cNvPicPr/>
          <p:nvPr/>
        </p:nvPicPr>
        <p:blipFill>
          <a:blip r:embed="rId3"/>
          <a:stretch/>
        </p:blipFill>
        <p:spPr>
          <a:xfrm>
            <a:off x="722160" y="3519360"/>
            <a:ext cx="2521080" cy="3040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6a776"/>
                </a:solidFill>
                <a:latin typeface="Calibri"/>
                <a:ea typeface="Calibri"/>
              </a:rPr>
              <a:t>Биоархитектура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4723920"/>
            <a:ext cx="787248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архитектура – это попытка воссоздать живые организмы при помощи архите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4" descr="314QDCA9QOKHFCAS7LPCNCALM1XDECA3EV2GKCAAAL42ICA11K07ACAEQIUK1CA2Q56W2CA5DL7WXCAOPIYTECAGAZHMSCAE6INYWCA47PPTOCAF9PYYECACRPKDFCA2Y0T86CA86523TCADL43DA.jpg"/>
          <p:cNvPicPr/>
          <p:nvPr/>
        </p:nvPicPr>
        <p:blipFill>
          <a:blip r:embed="rId1"/>
          <a:stretch/>
        </p:blipFill>
        <p:spPr>
          <a:xfrm>
            <a:off x="1403280" y="1844640"/>
            <a:ext cx="2857680" cy="2428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mexica.jpg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thumb 33"/>
          <p:cNvPicPr/>
          <p:nvPr/>
        </p:nvPicPr>
        <p:blipFill>
          <a:blip r:embed="rId1"/>
          <a:stretch/>
        </p:blipFill>
        <p:spPr>
          <a:xfrm>
            <a:off x="755640" y="1046160"/>
            <a:ext cx="3825720" cy="2765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"/>
          <p:cNvSpPr/>
          <p:nvPr/>
        </p:nvSpPr>
        <p:spPr>
          <a:xfrm>
            <a:off x="3796560" y="333360"/>
            <a:ext cx="37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a776"/>
                </a:solidFill>
                <a:latin typeface="Calibri"/>
                <a:ea typeface="Calibri"/>
              </a:rPr>
              <a:t>Биоархите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thumb 25"/>
          <p:cNvPicPr/>
          <p:nvPr/>
        </p:nvPicPr>
        <p:blipFill>
          <a:blip r:embed="rId2"/>
          <a:stretch/>
        </p:blipFill>
        <p:spPr>
          <a:xfrm>
            <a:off x="5003640" y="2133720"/>
            <a:ext cx="3529080" cy="3024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thumb 22"/>
          <p:cNvPicPr/>
          <p:nvPr/>
        </p:nvPicPr>
        <p:blipFill>
          <a:blip r:embed="rId3"/>
          <a:stretch/>
        </p:blipFill>
        <p:spPr>
          <a:xfrm>
            <a:off x="636480" y="4149720"/>
            <a:ext cx="39610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the-pled.ru/wp-content/uploads/2015/01/obustrojstvo-semnoj-kvartiry.jpg"/>
          <p:cNvPicPr/>
          <p:nvPr/>
        </p:nvPicPr>
        <p:blipFill>
          <a:blip r:embed="rId1"/>
          <a:stretch/>
        </p:blipFill>
        <p:spPr>
          <a:xfrm>
            <a:off x="660240" y="184320"/>
            <a:ext cx="4934160" cy="298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s://lovely-dom.ru/wp-content/uploads/2017/09/otdelke_sten_v_kvartire_dekorativnym_kamnem_i_oboyami_50_29124629.jpg"/>
          <p:cNvPicPr/>
          <p:nvPr/>
        </p:nvPicPr>
        <p:blipFill>
          <a:blip r:embed="rId2"/>
          <a:stretch/>
        </p:blipFill>
        <p:spPr>
          <a:xfrm>
            <a:off x="660240" y="3357720"/>
            <a:ext cx="4881600" cy="324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s://avatars.mds.yandex.net/get-pdb/911433/2bad38d4-ff85-4957-a168-eeedcceffcd9/s1200?webp=false"/>
          <p:cNvPicPr/>
          <p:nvPr/>
        </p:nvPicPr>
        <p:blipFill>
          <a:blip r:embed="rId3"/>
          <a:stretch/>
        </p:blipFill>
        <p:spPr>
          <a:xfrm>
            <a:off x="5724360" y="1989000"/>
            <a:ext cx="3405240" cy="3888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5594400" y="179280"/>
            <a:ext cx="35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ужно располагать в комнате приятные мел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26920" y="5300280"/>
            <a:ext cx="617220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работ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математ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акирзянова Е.А.</a:t>
            </a:r>
            <a:br>
              <a:rPr sz="1800"/>
            </a:br>
            <a:endParaRPr b="0" lang="en-US" sz="1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55280" y="2060640"/>
            <a:ext cx="8271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Verdana"/>
                <a:ea typeface="Verdana"/>
              </a:rPr>
              <a:t>Влияние архитектурных стро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33"/>
                </a:solidFill>
                <a:latin typeface="Verdana"/>
                <a:ea typeface="Verdana"/>
              </a:rPr>
              <a:t>на здоровье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1303200" y="811080"/>
            <a:ext cx="83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СУДАРСТВЕН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ЛЕНИНСК-КУЗНЕЦКИЙ ПОЛИТЕХНИЧЕСКИЙ 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400" spc="-1" strike="noStrike">
                <a:solidFill>
                  <a:srgbClr val="72a376"/>
                </a:solidFill>
                <a:latin typeface="Calibri"/>
                <a:ea typeface="Calibri"/>
              </a:rPr>
              <a:t>Цель :</a:t>
            </a:r>
            <a:endParaRPr b="0" lang="en-US" sz="3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1371240"/>
            <a:ext cx="84297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Выявить влияние архитектуры современного города на эмоциональное и психологическое состояни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9" descr="дом.jpg"/>
          <p:cNvPicPr/>
          <p:nvPr/>
        </p:nvPicPr>
        <p:blipFill>
          <a:blip r:embed="rId1"/>
          <a:stretch/>
        </p:blipFill>
        <p:spPr>
          <a:xfrm>
            <a:off x="5435640" y="2924280"/>
            <a:ext cx="2952720" cy="3776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Многоэт.jpg"/>
          <p:cNvPicPr/>
          <p:nvPr/>
        </p:nvPicPr>
        <p:blipFill>
          <a:blip r:embed="rId2"/>
          <a:stretch/>
        </p:blipFill>
        <p:spPr>
          <a:xfrm>
            <a:off x="1547640" y="2924280"/>
            <a:ext cx="303696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https://proxy.imgsmail.ru/?h=GVcUy7JQd3qNWc_tClMf1Q&amp;e=1410504818&amp;url171=aW1nLWZvdGtpLnlhbmRleC5ydS9nZXQvNTEwNi8xMTYwNzUzMjguMTRhLzBfMTZiYjM4XzQwZTBlYzU3X1hYTC5qcGc~"/>
          <p:cNvPicPr/>
          <p:nvPr/>
        </p:nvPicPr>
        <p:blipFill>
          <a:blip r:embed="rId1"/>
          <a:stretch/>
        </p:blipFill>
        <p:spPr>
          <a:xfrm>
            <a:off x="5003640" y="1027080"/>
            <a:ext cx="36021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Орудия и жилище кроманьонского человека"/>
          <p:cNvPicPr/>
          <p:nvPr/>
        </p:nvPicPr>
        <p:blipFill>
          <a:blip r:embed="rId2"/>
          <a:stretch/>
        </p:blipFill>
        <p:spPr>
          <a:xfrm>
            <a:off x="968400" y="549360"/>
            <a:ext cx="2955960" cy="2870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863640" y="7128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 развитием цивилизации архитектура меня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6" descr="0_960e_3fffd9ff_L.jpeg"/>
          <p:cNvPicPr/>
          <p:nvPr/>
        </p:nvPicPr>
        <p:blipFill>
          <a:blip r:embed="rId3"/>
          <a:stretch/>
        </p:blipFill>
        <p:spPr>
          <a:xfrm>
            <a:off x="1042920" y="376704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0_da1e_18ced9f3_XL.jpeg"/>
          <p:cNvPicPr/>
          <p:nvPr/>
        </p:nvPicPr>
        <p:blipFill>
          <a:blip r:embed="rId4"/>
          <a:stretch/>
        </p:blipFill>
        <p:spPr>
          <a:xfrm>
            <a:off x="4932360" y="3906720"/>
            <a:ext cx="3741840" cy="2597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thumb 5"/>
          <p:cNvPicPr/>
          <p:nvPr/>
        </p:nvPicPr>
        <p:blipFill>
          <a:blip r:embed="rId1"/>
          <a:stretch/>
        </p:blipFill>
        <p:spPr>
          <a:xfrm>
            <a:off x="1476360" y="1700280"/>
            <a:ext cx="6408720" cy="4465440"/>
          </a:xfrm>
          <a:prstGeom prst="rect">
            <a:avLst/>
          </a:prstGeom>
          <a:ln w="0">
            <a:noFill/>
          </a:ln>
        </p:spPr>
      </p:pic>
      <p:sp>
        <p:nvSpPr>
          <p:cNvPr id="117" name="Заголовок 1"/>
          <p:cNvSpPr/>
          <p:nvPr/>
        </p:nvSpPr>
        <p:spPr>
          <a:xfrm>
            <a:off x="857160" y="285840"/>
            <a:ext cx="7772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ru-RU" sz="2000" spc="-1" strike="noStrike">
                <a:solidFill>
                  <a:srgbClr val="72a376"/>
                </a:solidFill>
                <a:latin typeface="Verdana"/>
                <a:ea typeface="Verdana"/>
              </a:rPr>
              <a:t>Каменные джунг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900igr.net/datas/matematika/CHisla-v-zhizni/0005-005-Zolotoe-sechenie-v-arkhitekture.jpg"/>
          <p:cNvPicPr/>
          <p:nvPr/>
        </p:nvPicPr>
        <p:blipFill>
          <a:blip r:embed="rId1"/>
          <a:stretch/>
        </p:blipFill>
        <p:spPr>
          <a:xfrm>
            <a:off x="666720" y="620640"/>
            <a:ext cx="815328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://mypresentation.ru/documents_2/7c9841bb7af87a229fc0248fbf46145a/img6.jpg"/>
          <p:cNvPicPr/>
          <p:nvPr/>
        </p:nvPicPr>
        <p:blipFill>
          <a:blip r:embed="rId1"/>
          <a:stretch/>
        </p:blipFill>
        <p:spPr>
          <a:xfrm>
            <a:off x="3863880" y="1773360"/>
            <a:ext cx="5280120" cy="43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anna-premiera.ru/wp-content/uploads/2016/11/C5DK_BP_uID-3_Pic_stdas0104_4.jpg"/>
          <p:cNvPicPr/>
          <p:nvPr/>
        </p:nvPicPr>
        <p:blipFill>
          <a:blip r:embed="rId2"/>
          <a:stretch/>
        </p:blipFill>
        <p:spPr>
          <a:xfrm>
            <a:off x="684360" y="260280"/>
            <a:ext cx="3095640" cy="5059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3995640" y="260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библии Мафусаил прожил 969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s://cf.ppt-online.org/files1/slide/i/IPhVqdTvmNHKwD6flxeCrEXktG40O3iAgoUyJLz1M/slide-12.jpg"/>
          <p:cNvPicPr/>
          <p:nvPr/>
        </p:nvPicPr>
        <p:blipFill>
          <a:blip r:embed="rId1"/>
          <a:stretch/>
        </p:blipFill>
        <p:spPr>
          <a:xfrm>
            <a:off x="826920" y="219240"/>
            <a:ext cx="7921800" cy="608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https://cdn.pixabay.com/photo/2017/06/30/16/09/architecture-2458649_1280.jpg"/>
          <p:cNvPicPr/>
          <p:nvPr/>
        </p:nvPicPr>
        <p:blipFill>
          <a:blip r:embed="rId1"/>
          <a:stretch/>
        </p:blipFill>
        <p:spPr>
          <a:xfrm>
            <a:off x="685800" y="822240"/>
            <a:ext cx="3998880" cy="266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http://monateka.com/images/1262197.jpg"/>
          <p:cNvPicPr/>
          <p:nvPr/>
        </p:nvPicPr>
        <p:blipFill>
          <a:blip r:embed="rId2"/>
          <a:stretch/>
        </p:blipFill>
        <p:spPr>
          <a:xfrm>
            <a:off x="654120" y="3573360"/>
            <a:ext cx="4062240" cy="3106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https://www.e-architect.co.uk/images/jpgs/france/housing_rennes_courrouze_g030712_6.jpg"/>
          <p:cNvPicPr/>
          <p:nvPr/>
        </p:nvPicPr>
        <p:blipFill>
          <a:blip r:embed="rId3"/>
          <a:stretch/>
        </p:blipFill>
        <p:spPr>
          <a:xfrm>
            <a:off x="4859280" y="1685880"/>
            <a:ext cx="3924360" cy="49942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2627280" y="11592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же архитектурная фор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роения влияет н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https://fs00.infourok.ru/images/doc/235/115060/1/img8.jpg"/>
          <p:cNvPicPr/>
          <p:nvPr/>
        </p:nvPicPr>
        <p:blipFill>
          <a:blip r:embed="rId1"/>
          <a:srcRect l="16042" t="13866" r="14646" b="3941"/>
          <a:stretch/>
        </p:blipFill>
        <p:spPr>
          <a:xfrm>
            <a:off x="6719760" y="441648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https://ds04.infourok.ru/uploads/ex/07ec/00086c5b-b63f04b9/img16.jpg"/>
          <p:cNvPicPr/>
          <p:nvPr/>
        </p:nvPicPr>
        <p:blipFill>
          <a:blip r:embed="rId2"/>
          <a:stretch/>
        </p:blipFill>
        <p:spPr>
          <a:xfrm>
            <a:off x="612720" y="13176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50:13Z</dcterms:created>
  <dc:creator>Номе</dc:creator>
  <dc:description/>
  <dc:language>en-US</dc:language>
  <cp:lastModifiedBy>Пользователь Windows</cp:lastModifiedBy>
  <dcterms:modified xsi:type="dcterms:W3CDTF">2019-01-07T14:11:31Z</dcterms:modified>
  <cp:revision>113</cp:revision>
  <dc:subject/>
  <dc:title>Автор работы: ученица 11 «Б» класса Овчинникова Ангелина   Научный руководитель: учитель биологии высшей категории МОУ Лицея №2 Мордвинкина Т. А.</dc:title>
</cp:coreProperties>
</file>