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8AE8-8021-4209-A122-3036055AD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3D80-2379-4263-B6A6-C6F503B68A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2FCB-FAA3-45D4-A8B4-26FABEA20C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D6D-6A58-4F70-8461-5BE46C28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811-A090-476E-AC01-E503209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EDD-C547-4995-8990-FFFE9FCE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ADC-C215-42D4-9311-2F4BA1FE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DDB-07B4-4049-A322-D2D381C9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775F-D65A-4768-BB7D-B5BF307B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8A1C-5C90-41FF-A9A4-D6CEC72B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307-4D0F-4567-A2BF-395BFCAC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A963-CF01-4D5E-896B-D3A73A39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A895-0BE3-4924-AC4C-FE720949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C83-95B0-4A18-AAD4-26AC721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B0E-4632-4235-A1BB-CE40B51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94B-3338-4B75-B701-A9B31DC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4B9-1442-4312-93DC-3D3002E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8FFF-4218-42F0-A73C-E33C817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A57B-D56F-4FA5-9DF5-CBC968EE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9756-FC75-43D4-96F3-22105184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22B-BC1C-4F42-A751-CF59B8C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E35-3989-4A13-958D-C42339E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ED8-77DA-47A3-85C1-493B670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272-607D-4F06-B503-782CB8ED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657-B536-4082-A7FA-82DD833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259-550E-40A1-98DF-0203444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F75-B8A3-4A3D-BD16-7636756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80E-FA45-4B1A-99AD-D29B79ECE7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aeb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ae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0EB2-384F-45BA-B64A-3DCDB4F15A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6920" y="5300280"/>
            <a:ext cx="617220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работ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математ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акирзянова Е.А.</a:t>
            </a:r>
            <a:br>
              <a:rPr sz="1800"/>
            </a:br>
            <a:endParaRPr b="0" lang="en-US" sz="1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1989000"/>
            <a:ext cx="8271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Влияние архитектурных стро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на здоровье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258920" y="10159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ЛЕНИНСК-КУЗНЕЦКИЙ ПОЛИТЕХНИЧЕСКИ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547640" y="11592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м ленинградского архитектора И.П.Шме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https://static.tildacdn.com/tild6564-3531-4366-b530-613066396566/cottage_05.jpg"/>
          <p:cNvPicPr/>
          <p:nvPr/>
        </p:nvPicPr>
        <p:blipFill>
          <a:blip r:embed="rId1"/>
          <a:stretch/>
        </p:blipFill>
        <p:spPr>
          <a:xfrm>
            <a:off x="900000" y="1457280"/>
            <a:ext cx="4953240" cy="44132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https://static.tildacdn.com/tild3735-3036-4530-a237-376434643836/cottage_01.jpg"/>
          <p:cNvPicPr/>
          <p:nvPr/>
        </p:nvPicPr>
        <p:blipFill>
          <a:blip r:embed="rId2"/>
          <a:stretch/>
        </p:blipFill>
        <p:spPr>
          <a:xfrm>
            <a:off x="6227640" y="1044720"/>
            <a:ext cx="2376720" cy="2619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https://static.tildacdn.com/tild3232-3833-4238-b734-316334633439/cottage_02.jpg"/>
          <p:cNvPicPr/>
          <p:nvPr/>
        </p:nvPicPr>
        <p:blipFill>
          <a:blip r:embed="rId3"/>
          <a:stretch/>
        </p:blipFill>
        <p:spPr>
          <a:xfrm>
            <a:off x="6227640" y="3933720"/>
            <a:ext cx="245592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DSC00122.JPG"/>
          <p:cNvPicPr/>
          <p:nvPr/>
        </p:nvPicPr>
        <p:blipFill>
          <a:blip r:embed="rId1"/>
          <a:stretch/>
        </p:blipFill>
        <p:spPr>
          <a:xfrm>
            <a:off x="701640" y="333360"/>
            <a:ext cx="4897440" cy="30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:\Природа\ФОТО 422.jpg"/>
          <p:cNvPicPr/>
          <p:nvPr/>
        </p:nvPicPr>
        <p:blipFill>
          <a:blip r:embed="rId2"/>
          <a:stretch/>
        </p:blipFill>
        <p:spPr>
          <a:xfrm>
            <a:off x="4067280" y="3540240"/>
            <a:ext cx="3025800" cy="28191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5796000" y="15112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 современной архитектурной среды воспринимается человеком как агрессивный, вызывает психофизиологическую напряж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290"/>
          <p:cNvPicPr/>
          <p:nvPr/>
        </p:nvPicPr>
        <p:blipFill>
          <a:blip r:embed="rId3"/>
          <a:stretch/>
        </p:blipFill>
        <p:spPr>
          <a:xfrm>
            <a:off x="722160" y="3519360"/>
            <a:ext cx="2521080" cy="3040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6a776"/>
                </a:solidFill>
                <a:latin typeface="Calibri"/>
                <a:ea typeface="Calibri"/>
              </a:rPr>
              <a:t>Биоархитектура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4723920"/>
            <a:ext cx="787248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архитектура – это попытка воссоздать живые организмы при помощи архите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4" descr="314QDCA9QOKHFCAS7LPCNCALM1XDECA3EV2GKCAAAL42ICA11K07ACAEQIUK1CA2Q56W2CA5DL7WXCAOPIYTECAGAZHMSCAE6INYWCA47PPTOCAF9PYYECACRPKDFCA2Y0T86CA86523TCADL43DA.jpg"/>
          <p:cNvPicPr/>
          <p:nvPr/>
        </p:nvPicPr>
        <p:blipFill>
          <a:blip r:embed="rId1"/>
          <a:stretch/>
        </p:blipFill>
        <p:spPr>
          <a:xfrm>
            <a:off x="1403280" y="184464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mexica.jpg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thumb 33"/>
          <p:cNvPicPr/>
          <p:nvPr/>
        </p:nvPicPr>
        <p:blipFill>
          <a:blip r:embed="rId1"/>
          <a:stretch/>
        </p:blipFill>
        <p:spPr>
          <a:xfrm>
            <a:off x="755640" y="1046160"/>
            <a:ext cx="3825720" cy="2765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3796560" y="333360"/>
            <a:ext cx="37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a776"/>
                </a:solidFill>
                <a:latin typeface="Calibri"/>
                <a:ea typeface="Calibri"/>
              </a:rPr>
              <a:t>Биоархите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thumb 25"/>
          <p:cNvPicPr/>
          <p:nvPr/>
        </p:nvPicPr>
        <p:blipFill>
          <a:blip r:embed="rId2"/>
          <a:stretch/>
        </p:blipFill>
        <p:spPr>
          <a:xfrm>
            <a:off x="5003640" y="2133720"/>
            <a:ext cx="3529080" cy="3024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thumb 22"/>
          <p:cNvPicPr/>
          <p:nvPr/>
        </p:nvPicPr>
        <p:blipFill>
          <a:blip r:embed="rId3"/>
          <a:stretch/>
        </p:blipFill>
        <p:spPr>
          <a:xfrm>
            <a:off x="636480" y="4149720"/>
            <a:ext cx="39610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the-pled.ru/wp-content/uploads/2015/01/obustrojstvo-semnoj-kvartiry.jpg"/>
          <p:cNvPicPr/>
          <p:nvPr/>
        </p:nvPicPr>
        <p:blipFill>
          <a:blip r:embed="rId1"/>
          <a:stretch/>
        </p:blipFill>
        <p:spPr>
          <a:xfrm>
            <a:off x="660240" y="184320"/>
            <a:ext cx="4934160" cy="298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s://lovely-dom.ru/wp-content/uploads/2017/09/otdelke_sten_v_kvartire_dekorativnym_kamnem_i_oboyami_50_29124629.jpg"/>
          <p:cNvPicPr/>
          <p:nvPr/>
        </p:nvPicPr>
        <p:blipFill>
          <a:blip r:embed="rId2"/>
          <a:stretch/>
        </p:blipFill>
        <p:spPr>
          <a:xfrm>
            <a:off x="660240" y="3357720"/>
            <a:ext cx="4881600" cy="324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avatars.mds.yandex.net/get-pdb/911433/2bad38d4-ff85-4957-a168-eeedcceffcd9/s1200?webp=false"/>
          <p:cNvPicPr/>
          <p:nvPr/>
        </p:nvPicPr>
        <p:blipFill>
          <a:blip r:embed="rId3"/>
          <a:stretch/>
        </p:blipFill>
        <p:spPr>
          <a:xfrm>
            <a:off x="5724360" y="1989000"/>
            <a:ext cx="3405240" cy="388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5594400" y="179280"/>
            <a:ext cx="35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ужно располагать в комнате приятные ме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26920" y="5300280"/>
            <a:ext cx="617220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работ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математ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акирзянова Е.А.</a:t>
            </a:r>
            <a:br>
              <a:rPr sz="1800"/>
            </a:br>
            <a:endParaRPr b="0" lang="en-US" sz="1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5280" y="2060640"/>
            <a:ext cx="8271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Влияние архитектурных стро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на здоровье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1303200" y="811080"/>
            <a:ext cx="83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ЛЕНИНСК-КУЗНЕЦКИЙ ПОЛИТЕХНИЧЕСКИ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400" spc="-1" strike="noStrike">
                <a:solidFill>
                  <a:srgbClr val="72a376"/>
                </a:solidFill>
                <a:latin typeface="Calibri"/>
                <a:ea typeface="Calibri"/>
              </a:rPr>
              <a:t>Цель :</a:t>
            </a:r>
            <a:endParaRPr b="0" lang="en-US" sz="3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1371240"/>
            <a:ext cx="84297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Выявить влияние архитектуры современного города на эмоциональное и психологическое состоян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9" descr="дом.jpg"/>
          <p:cNvPicPr/>
          <p:nvPr/>
        </p:nvPicPr>
        <p:blipFill>
          <a:blip r:embed="rId1"/>
          <a:stretch/>
        </p:blipFill>
        <p:spPr>
          <a:xfrm>
            <a:off x="5435640" y="2924280"/>
            <a:ext cx="2952720" cy="3776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Многоэт.jpg"/>
          <p:cNvPicPr/>
          <p:nvPr/>
        </p:nvPicPr>
        <p:blipFill>
          <a:blip r:embed="rId2"/>
          <a:stretch/>
        </p:blipFill>
        <p:spPr>
          <a:xfrm>
            <a:off x="1547640" y="2924280"/>
            <a:ext cx="303696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https://proxy.imgsmail.ru/?h=GVcUy7JQd3qNWc_tClMf1Q&amp;e=1410504818&amp;url171=aW1nLWZvdGtpLnlhbmRleC5ydS9nZXQvNTEwNi8xMTYwNzUzMjguMTRhLzBfMTZiYjM4XzQwZTBlYzU3X1hYTC5qcGc~"/>
          <p:cNvPicPr/>
          <p:nvPr/>
        </p:nvPicPr>
        <p:blipFill>
          <a:blip r:embed="rId1"/>
          <a:stretch/>
        </p:blipFill>
        <p:spPr>
          <a:xfrm>
            <a:off x="5003640" y="1027080"/>
            <a:ext cx="36021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Орудия и жилище кроманьонского человека"/>
          <p:cNvPicPr/>
          <p:nvPr/>
        </p:nvPicPr>
        <p:blipFill>
          <a:blip r:embed="rId2"/>
          <a:stretch/>
        </p:blipFill>
        <p:spPr>
          <a:xfrm>
            <a:off x="968400" y="549360"/>
            <a:ext cx="2955960" cy="2870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863640" y="7128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 развитием цивилизации архитектура меня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6" descr="0_960e_3fffd9ff_L.jpeg"/>
          <p:cNvPicPr/>
          <p:nvPr/>
        </p:nvPicPr>
        <p:blipFill>
          <a:blip r:embed="rId3"/>
          <a:stretch/>
        </p:blipFill>
        <p:spPr>
          <a:xfrm>
            <a:off x="1042920" y="376704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0_da1e_18ced9f3_XL.jpeg"/>
          <p:cNvPicPr/>
          <p:nvPr/>
        </p:nvPicPr>
        <p:blipFill>
          <a:blip r:embed="rId4"/>
          <a:stretch/>
        </p:blipFill>
        <p:spPr>
          <a:xfrm>
            <a:off x="4932360" y="3906720"/>
            <a:ext cx="3741840" cy="259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thumb 5"/>
          <p:cNvPicPr/>
          <p:nvPr/>
        </p:nvPicPr>
        <p:blipFill>
          <a:blip r:embed="rId1"/>
          <a:stretch/>
        </p:blipFill>
        <p:spPr>
          <a:xfrm>
            <a:off x="1476360" y="1700280"/>
            <a:ext cx="6408720" cy="446544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857160" y="285840"/>
            <a:ext cx="7772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2000" spc="-1" strike="noStrike">
                <a:solidFill>
                  <a:srgbClr val="72a376"/>
                </a:solidFill>
                <a:latin typeface="Verdana"/>
                <a:ea typeface="Verdana"/>
              </a:rPr>
              <a:t>Каменные джунг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900igr.net/datas/matematika/CHisla-v-zhizni/0005-005-Zolotoe-sechenie-v-arkhitekture.jpg"/>
          <p:cNvPicPr/>
          <p:nvPr/>
        </p:nvPicPr>
        <p:blipFill>
          <a:blip r:embed="rId1"/>
          <a:stretch/>
        </p:blipFill>
        <p:spPr>
          <a:xfrm>
            <a:off x="666720" y="620640"/>
            <a:ext cx="815328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mypresentation.ru/documents_2/7c9841bb7af87a229fc0248fbf46145a/img6.jpg"/>
          <p:cNvPicPr/>
          <p:nvPr/>
        </p:nvPicPr>
        <p:blipFill>
          <a:blip r:embed="rId1"/>
          <a:stretch/>
        </p:blipFill>
        <p:spPr>
          <a:xfrm>
            <a:off x="3863880" y="1773360"/>
            <a:ext cx="528012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anna-premiera.ru/wp-content/uploads/2016/11/C5DK_BP_uID-3_Pic_stdas0104_4.jpg"/>
          <p:cNvPicPr/>
          <p:nvPr/>
        </p:nvPicPr>
        <p:blipFill>
          <a:blip r:embed="rId2"/>
          <a:stretch/>
        </p:blipFill>
        <p:spPr>
          <a:xfrm>
            <a:off x="684360" y="260280"/>
            <a:ext cx="3095640" cy="5059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3995640" y="26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библии Мафусаил прожил 96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s://cf.ppt-online.org/files1/slide/i/IPhVqdTvmNHKwD6flxeCrEXktG40O3iAgoUyJLz1M/slide-12.jpg"/>
          <p:cNvPicPr/>
          <p:nvPr/>
        </p:nvPicPr>
        <p:blipFill>
          <a:blip r:embed="rId1"/>
          <a:stretch/>
        </p:blipFill>
        <p:spPr>
          <a:xfrm>
            <a:off x="826920" y="219240"/>
            <a:ext cx="7921800" cy="608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https://cdn.pixabay.com/photo/2017/06/30/16/09/architecture-2458649_1280.jpg"/>
          <p:cNvPicPr/>
          <p:nvPr/>
        </p:nvPicPr>
        <p:blipFill>
          <a:blip r:embed="rId1"/>
          <a:stretch/>
        </p:blipFill>
        <p:spPr>
          <a:xfrm>
            <a:off x="685800" y="822240"/>
            <a:ext cx="3998880" cy="266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ttp://monateka.com/images/1262197.jpg"/>
          <p:cNvPicPr/>
          <p:nvPr/>
        </p:nvPicPr>
        <p:blipFill>
          <a:blip r:embed="rId2"/>
          <a:stretch/>
        </p:blipFill>
        <p:spPr>
          <a:xfrm>
            <a:off x="654120" y="3573360"/>
            <a:ext cx="4062240" cy="310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https://www.e-architect.co.uk/images/jpgs/france/housing_rennes_courrouze_g030712_6.jpg"/>
          <p:cNvPicPr/>
          <p:nvPr/>
        </p:nvPicPr>
        <p:blipFill>
          <a:blip r:embed="rId3"/>
          <a:stretch/>
        </p:blipFill>
        <p:spPr>
          <a:xfrm>
            <a:off x="4859280" y="1685880"/>
            <a:ext cx="3924360" cy="4994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2627280" y="11592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же архитектурная фор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роения влияет н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s://fs00.infourok.ru/images/doc/235/115060/1/img8.jpg"/>
          <p:cNvPicPr/>
          <p:nvPr/>
        </p:nvPicPr>
        <p:blipFill>
          <a:blip r:embed="rId1"/>
          <a:srcRect l="16042" t="13866" r="14646" b="3941"/>
          <a:stretch/>
        </p:blipFill>
        <p:spPr>
          <a:xfrm>
            <a:off x="6719760" y="441648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https://ds04.infourok.ru/uploads/ex/07ec/00086c5b-b63f04b9/img16.jpg"/>
          <p:cNvPicPr/>
          <p:nvPr/>
        </p:nvPicPr>
        <p:blipFill>
          <a:blip r:embed="rId2"/>
          <a:stretch/>
        </p:blipFill>
        <p:spPr>
          <a:xfrm>
            <a:off x="612720" y="13176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50:13Z</dcterms:created>
  <dc:creator>Номе</dc:creator>
  <dc:description/>
  <dc:language>en-US</dc:language>
  <cp:lastModifiedBy>Пользователь Windows</cp:lastModifiedBy>
  <dcterms:modified xsi:type="dcterms:W3CDTF">2019-01-07T14:11:31Z</dcterms:modified>
  <cp:revision>113</cp:revision>
  <dc:subject/>
  <dc:title>Автор работы: ученица 11 «Б» класса Овчинникова Ангелина   Научный руководитель: учитель биологии высшей категории МОУ Лицея №2 Мордвинкина Т. А.</dc:title>
</cp:coreProperties>
</file>