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551-676F-4C54-AB70-9C16C27B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73D-80FC-4E52-8477-6F45A68C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408-5283-4179-BB46-893798BE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A33-88EB-4B54-8706-AD97C073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8DD-6954-405A-A2F4-7200F400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B8A-13CC-4E52-9EDB-1730F01F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FE7-4323-48DE-93F0-4E5AFFF8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6D7-E0D3-4B23-AB8B-2AF6341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41C-965B-406E-B348-76D6931E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629-76F5-4286-AF21-7C44E966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78C-E387-4E91-9ACC-104A4B3F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4A2-1E03-4170-BF54-55E86A18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5869-F9A0-4FE4-BE31-E5CC8C6BA4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28592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ассный час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«Вредные привычки и как с ними бороться?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висимости: телевизионная, интернет, игро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867280" y="1765440"/>
            <a:ext cx="2376720" cy="2023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865160" y="4238640"/>
            <a:ext cx="2500560" cy="203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5003640" y="4214880"/>
            <a:ext cx="2521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0120" y="404640"/>
            <a:ext cx="3108240" cy="2160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078560" y="27176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верно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нехочуха"/>
          <p:cNvPicPr/>
          <p:nvPr/>
        </p:nvPicPr>
        <p:blipFill>
          <a:blip r:embed="rId2"/>
          <a:stretch/>
        </p:blipFill>
        <p:spPr>
          <a:xfrm>
            <a:off x="4859280" y="415800"/>
            <a:ext cx="2865600" cy="21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02_nehochuha_nevsedoma"/>
          <p:cNvPicPr/>
          <p:nvPr/>
        </p:nvPicPr>
        <p:blipFill>
          <a:blip r:embed="rId3"/>
          <a:stretch/>
        </p:blipFill>
        <p:spPr>
          <a:xfrm>
            <a:off x="611280" y="3187800"/>
            <a:ext cx="3097080" cy="2376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1061640" y="57326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яш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949360" y="271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4859280" y="3284640"/>
            <a:ext cx="2903760" cy="2325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4820040" y="580536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ызть карандаш или ру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620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ое главное —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йти причины этой привы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тучать себ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мотивировать себ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ому самоорганизовать себ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мотивировать других организовать вас (найти себе «пастуха»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тучать друг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бо отучить его вообще, чтобы он так не делал нигде и никогд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он что-то не делал рядом с в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этом одно дело - отучать посторонних людей, другое - близких, при этом отучать своих детей - другое, нежели отучать своих родите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Спасибо за внима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71680" y="12859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ивычк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йствие, которое возникло постепенно, в результате повторения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теперь выполняется само, без моей во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8760" y="4284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рошие привы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500120"/>
            <a:ext cx="4283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тить зубы два раза в день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лать зарядку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гать/гулять по утрам или вечерам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ть посуду сразу после 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бирать вещи на место сразу после их использования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равлять постель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жать чистым письменный ст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4572000" y="289080"/>
            <a:ext cx="2041560" cy="1339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"/>
          <p:cNvPicPr/>
          <p:nvPr/>
        </p:nvPicPr>
        <p:blipFill>
          <a:blip r:embed="rId2"/>
          <a:stretch/>
        </p:blipFill>
        <p:spPr>
          <a:xfrm>
            <a:off x="4699080" y="2897280"/>
            <a:ext cx="1790640" cy="255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3"/>
          <a:stretch/>
        </p:blipFill>
        <p:spPr>
          <a:xfrm>
            <a:off x="6642000" y="1628640"/>
            <a:ext cx="2008440" cy="148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4"/>
          <a:stretch/>
        </p:blipFill>
        <p:spPr>
          <a:xfrm>
            <a:off x="6762600" y="4843440"/>
            <a:ext cx="17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жим д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11344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3336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редные привыч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те привычки, которые ограничивают человека и работают против его личной эффективности, успешности, благополучия и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132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920" y="1125000"/>
            <a:ext cx="40399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ком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коголиз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ыряние в нос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ызть ног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ызть карандаш или руч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ыкать зуб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лёвывать на п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ыряние в уш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елкать пальцами р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яшливость и л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4581360" y="257040"/>
            <a:ext cx="1862280" cy="167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784760" y="2492280"/>
            <a:ext cx="1731960" cy="173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6556320" y="3789360"/>
            <a:ext cx="2009880" cy="1504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6515280" y="1119240"/>
            <a:ext cx="2089080" cy="168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4484520" y="4886280"/>
            <a:ext cx="2086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лкогол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253880"/>
            <a:ext cx="8280360" cy="19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коголизация в 76 % случаев начинается до 20 лет, в том числе в 49 % ещё в подростковом возра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808360" cy="3181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796000" y="3459240"/>
            <a:ext cx="30067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рком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826920" y="1625760"/>
            <a:ext cx="3097440" cy="4643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160960" y="2494080"/>
            <a:ext cx="31291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у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00200" y="2492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отин – один из самых опасных ядов растительного происхо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4920" y="31680"/>
            <a:ext cx="2075040" cy="181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757840" y="4508640"/>
            <a:ext cx="317196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5:02:50Z</dcterms:created>
  <dc:creator>Puh</dc:creator>
  <dc:description/>
  <dc:language>en-US</dc:language>
  <cp:lastModifiedBy>наташа</cp:lastModifiedBy>
  <dcterms:modified xsi:type="dcterms:W3CDTF">2019-01-07T14:10:24Z</dcterms:modified>
  <cp:revision>30</cp:revision>
  <dc:subject/>
  <dc:title>Как бороться с плохими привычками?</dc:title>
</cp:coreProperties>
</file>