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0C0C-0DC5-462E-AA38-0A4E2FAF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48F0-CED6-4827-8636-7C06EE87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F6C1-13A1-4775-9BD6-63828F94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A177-B4E5-4C7A-B11E-018B9CA3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5793-C8C0-49FB-A058-41E0789E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E5E4-E37B-4FAE-999B-1D2BF184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4FDA-8345-47E1-BEAE-F17505A2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E0F1-649C-4C18-85B9-0FDC77A6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2076-5E25-4BD5-A880-2A09A71A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6D6E-7501-402F-AF71-3CA83699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49ED-161F-488E-9026-474A6AF7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62E6-8C0A-4723-BE34-025725D1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E45A-15A3-4952-8D10-EE10985E50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285920"/>
            <a:ext cx="7772400" cy="22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лассный час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«Вредные привычки и как с ними бороться?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ависимости: телевизионная, интернет, игров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2361960" cy="1933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5867280" y="1765440"/>
            <a:ext cx="2376720" cy="2023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1865160" y="4238640"/>
            <a:ext cx="2500560" cy="2039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5003640" y="4214880"/>
            <a:ext cx="252108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00120" y="404640"/>
            <a:ext cx="3108240" cy="216072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1078560" y="271764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верно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нехочуха"/>
          <p:cNvPicPr/>
          <p:nvPr/>
        </p:nvPicPr>
        <p:blipFill>
          <a:blip r:embed="rId2"/>
          <a:stretch/>
        </p:blipFill>
        <p:spPr>
          <a:xfrm>
            <a:off x="4859280" y="415800"/>
            <a:ext cx="2865600" cy="2149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02_nehochuha_nevsedoma"/>
          <p:cNvPicPr/>
          <p:nvPr/>
        </p:nvPicPr>
        <p:blipFill>
          <a:blip r:embed="rId3"/>
          <a:stretch/>
        </p:blipFill>
        <p:spPr>
          <a:xfrm>
            <a:off x="611280" y="3187800"/>
            <a:ext cx="3097080" cy="237636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1061640" y="573264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ряшл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5949360" y="2717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4859280" y="3284640"/>
            <a:ext cx="2903760" cy="23256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4820040" y="5805360"/>
            <a:ext cx="30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ызть карандаш или руч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95280" y="6206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амое главное —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йти причины этой привыч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3419640" y="37162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тучать себ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мотивировать себ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амому самоорганизовать себ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мотивировать других организовать вас (найти себе «пастуха»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тучать други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ибо отучить его вообще, чтобы он так не делал нигде и никогда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он что-то не делал рядом с в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 этом одно дело - отучать посторонних людей, другое - близких, при этом отучать своих детей - другое, нежели отучать своих родител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Спасибо за внимани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71680" y="128592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ивычка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ействие, которое возникло постепенно, в результате повторения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 теперь выполняется само, без моей во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28760" y="42840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орошие привыч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4200" y="1500120"/>
            <a:ext cx="42832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тить зубы два раза в день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лать зарядку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гать/гулять по утрам или вечерам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ть посуду сразу после е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бирать вещи на место сразу после их использования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правлять постель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ржать чистым письменный ст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4572000" y="289080"/>
            <a:ext cx="2041560" cy="1339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10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3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"/>
          <p:cNvPicPr/>
          <p:nvPr/>
        </p:nvPicPr>
        <p:blipFill>
          <a:blip r:embed="rId2"/>
          <a:stretch/>
        </p:blipFill>
        <p:spPr>
          <a:xfrm>
            <a:off x="4699080" y="2897280"/>
            <a:ext cx="1790640" cy="2552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"/>
          <p:cNvPicPr/>
          <p:nvPr/>
        </p:nvPicPr>
        <p:blipFill>
          <a:blip r:embed="rId3"/>
          <a:stretch/>
        </p:blipFill>
        <p:spPr>
          <a:xfrm>
            <a:off x="6642000" y="1628640"/>
            <a:ext cx="2008440" cy="1481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4"/>
          <a:stretch/>
        </p:blipFill>
        <p:spPr>
          <a:xfrm>
            <a:off x="6762600" y="4843440"/>
            <a:ext cx="176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ежим д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11344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333360"/>
            <a:ext cx="822960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редные привычк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те привычки, которые ограничивают человека и работают против его личной эффективности, успешности, благополучия и здоров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2556000" y="3357720"/>
            <a:ext cx="4132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920" y="1125000"/>
            <a:ext cx="40399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ком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лкоголиз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выряние в нос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ызть ног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ызть карандаш или руч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ыкать зуб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лёвывать на п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выряние в уш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Щелкать пальцами ру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ряшливость и л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редные привыч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4581360" y="257040"/>
            <a:ext cx="1862280" cy="167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4784760" y="2492280"/>
            <a:ext cx="1731960" cy="1731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6556320" y="3789360"/>
            <a:ext cx="2009880" cy="1504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4"/>
          <a:stretch/>
        </p:blipFill>
        <p:spPr>
          <a:xfrm>
            <a:off x="6515280" y="1119240"/>
            <a:ext cx="2089080" cy="1685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5"/>
          <a:stretch/>
        </p:blipFill>
        <p:spPr>
          <a:xfrm>
            <a:off x="4484520" y="4886280"/>
            <a:ext cx="208620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лкоголиз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3640" y="1253880"/>
            <a:ext cx="8280360" cy="195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коголизация в 76 % случаев начинается до 20 лет, в том числе в 49 % ещё в подростковом возрас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808360" cy="3181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796000" y="3459240"/>
            <a:ext cx="300672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аркоман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826920" y="1625760"/>
            <a:ext cx="3097440" cy="4643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5160960" y="2494080"/>
            <a:ext cx="312912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ур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00200" y="249228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котин – один из самых опасных ядов растительного происхож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4920" y="31680"/>
            <a:ext cx="2075040" cy="1812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5757840" y="4508640"/>
            <a:ext cx="3171960" cy="21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5:02:50Z</dcterms:created>
  <dc:creator>Puh</dc:creator>
  <dc:description/>
  <dc:language>en-US</dc:language>
  <cp:lastModifiedBy>наташа</cp:lastModifiedBy>
  <dcterms:modified xsi:type="dcterms:W3CDTF">2019-01-07T14:10:24Z</dcterms:modified>
  <cp:revision>30</cp:revision>
  <dc:subject/>
  <dc:title>Как бороться с плохими привычками?</dc:title>
</cp:coreProperties>
</file>