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7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1.png" ContentType="image/png"/>
  <Override PartName="/ppt/media/image6.wmf" ContentType="image/x-wmf"/>
  <Override PartName="/ppt/media/image12.png" ContentType="image/png"/>
  <Override PartName="/ppt/media/image9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A91-4A12-4D76-87E4-D1D70ED1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87C-CE58-4083-83F8-E5A083A6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B47-72AB-4CED-9ECB-981D6663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21E-38DD-4131-9890-E1AF0DD3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F430-CCF7-4230-B0E0-7755D85B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4847-0649-4C89-925E-4138152A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AC60-E71E-42AE-B3D6-F3D6D3D4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A72C-141C-46E0-B44F-249B74D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3063-D5B8-43C9-A5E5-F67BC32A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55D0-2278-4F2E-94F8-1F44C458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6618-FBC1-4C97-96AC-EA5854FF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F2F-0473-46DA-8D24-7AF515B6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BFC3-30F6-4CAB-80C2-348ABA5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6754-1A48-4EFD-909F-51A085B5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EA82-D866-4A8C-9DCA-90940789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FA66-4FD6-443B-9CB3-BCDCBC61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026E-68B8-4AEF-A0FE-17EC3BF0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3D4CB-5316-4831-B964-1E8C2409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DB7D4-FA69-409C-BBBE-2675BB78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1058B-2CD9-4439-9160-1682EFAC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C61FB-B3EC-4654-B132-658B4EBB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31F24-FBEC-4461-A1DE-E779437D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10C-5D31-4A88-8241-9D4AADD9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5E7E6-615F-4711-8ACE-5D040709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78F0B-C313-4493-84D6-70D4F71C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2D745-4867-4E70-B5AE-1007B9E8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69BA4-DF81-4FFC-8C26-3066BEE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F0C8F-7FF4-407D-AA1F-E6AA6E64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83BB7-105B-49B0-BBE8-B7447F0F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FD32E-F3F0-4488-8322-6515B97B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0AA0-6B06-41F8-B4A6-85C709D3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41D2-9EB6-403C-A13E-490C6656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403B-46DA-4B1B-970D-F939107B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3AD-2049-4B1C-AF88-AF512F24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E40CE-32FD-4822-A10D-4CE3B4B4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0BD72-C421-4382-B127-2B7A7E7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D6B07-6E87-4C3D-98E6-457B1363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27F99-89C1-4F10-9584-4D13128B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12EBE-106D-407F-A19D-C42C9251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D41A3-58D1-4078-8DB7-BB62CFE6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73374-1F8F-4298-9EEB-111D258A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96A99-4D01-4D3D-AAA5-EFABB3EA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A0FE-79D8-4E29-8E48-0B9F0724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D6E-8826-4B79-89C6-85314AD8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363-381E-436D-84E0-58A59A4A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421-2663-4FC9-B684-9574AB3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26D-BFBB-467A-89BE-0B4E4FF0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8E5-FF54-4196-AF46-15E11D4B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A339-F171-4DE5-8023-42E0CEF390A0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7598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7598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598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7664-4633-4D76-B87B-46BEA549ABA4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DD8C-9C18-4FE6-ACFF-DDF2D4429EC3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1684-19E6-4F1A-B20A-8B567DD22A3C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Times New Roman"/>
              </a:rPr>
              <a:t>Тема проекта: «Статистика вокруг нас. </a:t>
            </a:r>
            <a:r>
              <a:rPr b="0" lang="ru-RU" sz="2800" spc="-1" strike="noStrike">
                <a:solidFill>
                  <a:srgbClr val="575f6d"/>
                </a:solidFill>
                <a:latin typeface="Times New Roman"/>
              </a:rPr>
              <a:t>Рост одноклассников»</a:t>
            </a:r>
            <a:endParaRPr b="0" lang="en-US" sz="28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2249640"/>
            <a:ext cx="4038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у выполнили: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и 7 класса МБО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орликовская ОСШ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12" descr="DSC00001"/>
          <p:cNvPicPr/>
          <p:nvPr/>
        </p:nvPicPr>
        <p:blipFill>
          <a:blip r:embed="rId1"/>
          <a:stretch/>
        </p:blipFill>
        <p:spPr>
          <a:xfrm>
            <a:off x="457200" y="2514600"/>
            <a:ext cx="47242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-1843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 выяснить, как собираются и группируются статистические данные, как можно наглядно представить статистическую информацию на примере роста учащихся 7 класса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учить некоторые статистические характеристики и показать их практическое использов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учить медицинские показатели роста человек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брать и сгруппировать статистические данные  ро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класников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ределить какие факторы влияют на рост человек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анализировать всю информацию, обобщить результаты и сделать вывод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глядно представит статистическую информаци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8" descr="Анимашки Дети"/>
          <p:cNvPicPr/>
          <p:nvPr/>
        </p:nvPicPr>
        <p:blipFill>
          <a:blip r:embed="rId1"/>
          <a:stretch/>
        </p:blipFill>
        <p:spPr>
          <a:xfrm>
            <a:off x="7086600" y="609480"/>
            <a:ext cx="12193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3"/>
          <p:cNvSpPr/>
          <p:nvPr/>
        </p:nvSpPr>
        <p:spPr>
          <a:xfrm>
            <a:off x="228600" y="0"/>
            <a:ext cx="784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а с учебно-познавательной литературой, беседа,  сбор информации из  медицинских карт, Интернета и других источников, анализ, сравнение и обобщен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ъект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щиеся  7  клас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мет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показатели роста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 Предположим, что рост учащихся  класса соответствует средневозрастным норм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жидаемые результат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результате выполнения проекта ученики должн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 некоторые статистические характеристи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ме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составлять план простого статистического исследования, обрабатывать реальные данные, формулировать гипотез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ладать навыкам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самостоятельного сбора и обработки информации; создания презентации и оформления результатов статистического исследования.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Times New Roman"/>
              </a:rPr>
              <a:t>Способы измерения роста человека: 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</a:rPr>
              <a:t>                                             ростомером</a:t>
            </a:r>
            <a:endParaRPr b="0" lang="en-US" sz="2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190760"/>
            <a:ext cx="403848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формуле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детей младше 8лет: 130 см – 7 см х n, где n – число лет до 8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детей старше 8 лет: 130 см +5 см х n, где n-число лет после 8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9" descr="DSC00020"/>
          <p:cNvPicPr/>
          <p:nvPr/>
        </p:nvPicPr>
        <p:blipFill>
          <a:blip r:embed="rId1"/>
          <a:srcRect l="36100" t="17355" r="1231" b="32015"/>
          <a:stretch/>
        </p:blipFill>
        <p:spPr>
          <a:xfrm>
            <a:off x="838080" y="1828800"/>
            <a:ext cx="2934000" cy="228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DSC00009"/>
          <p:cNvPicPr/>
          <p:nvPr/>
        </p:nvPicPr>
        <p:blipFill>
          <a:blip r:embed="rId2"/>
          <a:srcRect l="18951" t="6361" r="27545" b="0"/>
          <a:stretch/>
        </p:blipFill>
        <p:spPr>
          <a:xfrm>
            <a:off x="4952880" y="18288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648320" y="4190760"/>
            <a:ext cx="403848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о центильной таблиц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рост попадает в интервал 25%-75% -  средний; интервал 10% - 25%- рост ниже среднего; 75%-90% -  выше среднего; 3%-10% - низкий рост; 90%-97% - высокий рост; до 3% - очень низкий рост; свыше 97% - очень высокий рост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Times New Roman"/>
              </a:rPr>
              <a:t>Рост одноклассников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graphicFrame>
        <p:nvGraphicFramePr>
          <p:cNvPr id="227" name="Диаграмма 2"/>
          <p:cNvGraphicFramePr/>
          <p:nvPr/>
        </p:nvGraphicFramePr>
        <p:xfrm>
          <a:off x="1281240" y="2322360"/>
          <a:ext cx="2388960" cy="19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2322360"/>
                    <a:ext cx="238896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23"/>
          <p:cNvGraphicFramePr/>
          <p:nvPr/>
        </p:nvGraphicFramePr>
        <p:xfrm>
          <a:off x="4724280" y="2209680"/>
          <a:ext cx="2971800" cy="208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209680"/>
                    <a:ext cx="297180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21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28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37"/>
          <p:cNvSpPr/>
          <p:nvPr/>
        </p:nvSpPr>
        <p:spPr>
          <a:xfrm flipV="1">
            <a:off x="1219320" y="4343400"/>
            <a:ext cx="2361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39" descr="DSC00016"/>
          <p:cNvPicPr/>
          <p:nvPr/>
        </p:nvPicPr>
        <p:blipFill>
          <a:blip r:embed="rId5"/>
          <a:stretch/>
        </p:blipFill>
        <p:spPr>
          <a:xfrm>
            <a:off x="1676520" y="4572000"/>
            <a:ext cx="3009960" cy="20858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648320" y="4487400"/>
            <a:ext cx="4038480" cy="20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е роста  предоставил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ыгомына А.А, детский фельдшер Корликовской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ковой больниц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Arial"/>
              </a:rPr>
              <a:t>Измерение роста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43" name="Picture 6" descr="DSC00004"/>
          <p:cNvPicPr/>
          <p:nvPr/>
        </p:nvPicPr>
        <p:blipFill>
          <a:blip r:embed="rId1"/>
          <a:stretch/>
        </p:blipFill>
        <p:spPr>
          <a:xfrm>
            <a:off x="762120" y="2057400"/>
            <a:ext cx="2438280" cy="2695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DSC00005"/>
          <p:cNvPicPr/>
          <p:nvPr/>
        </p:nvPicPr>
        <p:blipFill>
          <a:blip r:embed="rId2"/>
          <a:stretch/>
        </p:blipFill>
        <p:spPr>
          <a:xfrm>
            <a:off x="2438280" y="3657600"/>
            <a:ext cx="2210040" cy="2666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DSC00013"/>
          <p:cNvPicPr/>
          <p:nvPr/>
        </p:nvPicPr>
        <p:blipFill>
          <a:blip r:embed="rId3"/>
          <a:stretch/>
        </p:blipFill>
        <p:spPr>
          <a:xfrm>
            <a:off x="5153040" y="2392200"/>
            <a:ext cx="3457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575f6d"/>
                </a:solidFill>
                <a:latin typeface="Times New Roman"/>
              </a:rPr>
              <a:t>Рост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Times New Roman"/>
              </a:rPr>
              <a:t> по формуле                                                    на 23 октября 2016 года</a:t>
            </a:r>
            <a:endParaRPr b="0" lang="en-US" sz="2000" spc="-1" strike="noStrike">
              <a:solidFill>
                <a:srgbClr val="575f6d"/>
              </a:solidFill>
              <a:latin typeface="Trebuchet MS"/>
            </a:endParaRPr>
          </a:p>
        </p:txBody>
      </p:sp>
      <p:graphicFrame>
        <p:nvGraphicFramePr>
          <p:cNvPr id="247" name="Диаграмма 6"/>
          <p:cNvGraphicFramePr/>
          <p:nvPr/>
        </p:nvGraphicFramePr>
        <p:xfrm>
          <a:off x="609480" y="2590920"/>
          <a:ext cx="335304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33530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Диаграмма 4"/>
          <p:cNvGraphicFramePr/>
          <p:nvPr/>
        </p:nvGraphicFramePr>
        <p:xfrm>
          <a:off x="4648320" y="2666880"/>
          <a:ext cx="4038480" cy="2921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0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666880"/>
                    <a:ext cx="403848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Arial"/>
              </a:rPr>
              <a:t>Факторы, влияющие на рост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 Деятельность центральной нервной системы и эндокринных желез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  Полноценное питание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b32c1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енетические фактор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b32c1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нешнесредовые фактор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Picture 7" descr="Анимация Люди"/>
          <p:cNvPicPr/>
          <p:nvPr/>
        </p:nvPicPr>
        <p:blipFill>
          <a:blip r:embed="rId1"/>
          <a:stretch/>
        </p:blipFill>
        <p:spPr>
          <a:xfrm>
            <a:off x="6324480" y="4495680"/>
            <a:ext cx="1752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Trebuchet MS"/>
              </a:rPr>
              <a:t>Вывод</a:t>
            </a:r>
            <a:endParaRPr b="0" lang="en-US" sz="2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520" y="1981080"/>
            <a:ext cx="40388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 результате выполнения работы узна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чт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При рождении  малыша его рост  должен быть в пределах 46 – 55 см., и рост всех учащихся нашего класса  при рождении соответствовал норме. В настоящее время 77,8 % имеют рост выше среднего, только у одного ученика ниже среднего, значит гипотеза подтвердилась. Рост учащихся соответствует средневозрастной норме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 Рост и развитие ребёнка являются результатом сложного влияния на него многих факторов, как генетических, так и внешнесредовых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2249640"/>
            <a:ext cx="4038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над проектом  научились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бирать и обрабатывать статистическую информацию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ределять рост человека по медицинским показателям с помощью центильных  таблиц и  формул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ать с ресурсами сети Интернет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роить диаграммы и графики с помощью компьютер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ходить статистические характеристики в конкретных измер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598d9"/>
                </a:solidFill>
                <a:latin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Picture 5" descr="Анимашки Люди"/>
          <p:cNvPicPr/>
          <p:nvPr/>
        </p:nvPicPr>
        <p:blipFill>
          <a:blip r:embed="rId1"/>
          <a:stretch/>
        </p:blipFill>
        <p:spPr>
          <a:xfrm>
            <a:off x="5257800" y="838080"/>
            <a:ext cx="13082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19:45Z</dcterms:created>
  <dc:creator>Ученик</dc:creator>
  <dc:description/>
  <dc:language>en-US</dc:language>
  <cp:lastModifiedBy>User</cp:lastModifiedBy>
  <dcterms:modified xsi:type="dcterms:W3CDTF">2019-01-05T15:07:5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