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E07-D03D-4113-9A54-8CB52CE4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C7-939E-4720-95E9-7A071590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2B2-598C-43E0-9803-C8FF8099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19C-4EEF-4283-8125-56CD6F82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5DB-63A5-4FD6-A9E4-381C460F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AFD0-36D3-4A6A-B98C-4905085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D6D4-4C70-437B-9E9C-BF87D17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8380-4542-40D3-9546-4ED4ADEA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B97-5CBB-49CE-B07B-D0655500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836-CCA8-4A96-BD8B-9BFC0B1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E127-EB15-42A3-A3BE-6C53E89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5CA-8F74-433C-91C7-CDEA083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8D8-0D60-4D34-8BB2-57DF50D1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7F9F-51F9-448E-A7CA-A2FC0EC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BF7D-CB7D-457B-9A48-02606C7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313-96B9-4825-AFA0-B10A4BCE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D49C-F6AF-4461-90B6-8E255128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42E9B-1971-4DE2-97C5-0D173AE6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9A214-DC35-47AC-B6B9-0C016D28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B5BD-FF79-462F-AFCD-6BFDCC53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B2365-BEB6-416E-A665-4216F578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49005-71F1-4020-85A0-ED70ED21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064-55FD-45F8-9A97-8A3E4FE9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F82C0-CB3E-4D95-B2BF-AA37A99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D6B2E-0FA5-4C33-9F1E-2522587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CE98F-C406-40E6-8809-1FA386A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B1EF4-8E74-4707-80F0-BEC51B0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7BBC1-4E31-4E55-8A63-FD742A4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9A50A-C006-4234-BCF0-0C3E2739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B6BA-8CC8-476F-9C56-EF0146AC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920C-8DA9-43DE-8BB3-FA7A0CC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812F-5FCD-41F7-893D-C5890EA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1F42-4592-4CDA-B328-740CFE50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CEC-4124-4F30-9D67-FC23C4E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DEB7-DCD6-497E-A2BA-891AF92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7072-DFF8-4F0B-9109-3EFE1B8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0DE7-8E8D-435B-B7D0-962DE64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D0FB-DC10-4EE7-B9BD-B0CCBED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5DD1-162A-46FF-A5EE-C14133D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B7B0-46ED-40C2-A2DF-6EA56A2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01C5-62D0-4CE0-BE9F-3FD6540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CF81-77AF-45F8-B015-261A11E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6DBA-4056-4218-AF37-ECA9B98C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AF9-CD5A-4994-AB14-DB2E0CF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842-5289-49BD-AEF4-4AB5E2A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2F6-E932-4675-8F5B-D8CDFD0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AFC-630F-4B40-AC47-BBCE7EB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900-EA00-4B9D-BCDA-79B638B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37A-6679-4BC4-82DF-2B77735A771D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598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CD41-58E3-4A6D-9CE7-6305D28BA09A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F321-49B8-43C8-A06F-CB63C84CBE09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32C-DE02-4AF7-A92C-0AA97B351AB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Times New Roman"/>
              </a:rPr>
              <a:t>Тема проекта: «Статистика вокруг нас.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Рост одноклассников»</a:t>
            </a:r>
            <a:endParaRPr b="0" lang="en-US" sz="28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и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и 7 класса МБО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ликовская ОС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12" descr="DSC00001"/>
          <p:cNvPicPr/>
          <p:nvPr/>
        </p:nvPicPr>
        <p:blipFill>
          <a:blip r:embed="rId1"/>
          <a:stretch/>
        </p:blipFill>
        <p:spPr>
          <a:xfrm>
            <a:off x="457200" y="2514600"/>
            <a:ext cx="4724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-1843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 выяснить, как собираются и группируются статистические данные, как можно наглядно представить статистическую информацию на примере роста учащихся 7 класс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некоторые статистические характеристики и показать их практическое исполь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медицинские показатели роста челове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брать и сгруппировать статистические данные  ро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класнико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ределить какие факторы влияют на рост челове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анализировать всю информацию, 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глядно представит статистическую информаци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8" descr="Анимашки Дети"/>
          <p:cNvPicPr/>
          <p:nvPr/>
        </p:nvPicPr>
        <p:blipFill>
          <a:blip r:embed="rId1"/>
          <a:stretch/>
        </p:blipFill>
        <p:spPr>
          <a:xfrm>
            <a:off x="7086600" y="609480"/>
            <a:ext cx="12193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228600" y="0"/>
            <a:ext cx="784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с учебно-познавательной литературой, беседа,  сбор информации из  медицинских карт, Интернета и других источников, анализ, сравнение и обобще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иеся  7  кла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мет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показатели роста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 Предположим, что рост учащихся  класса соответствует средневозрастным норм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жидаемые результа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результате выполнения проекта ученики должн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 некоторые статистические характерист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ме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составлять план простого статистического исследования, обрабатывать реальные данные, формулировать гипотез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ладать навыкам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самостоятельного сбора и обработки информации; создания презентации и оформления результатов статистического исследования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Способы измерения роста человека: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</a:rPr>
              <a:t>                                             ростомером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190760"/>
            <a:ext cx="403848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формуле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младше 8лет: 130 см – 7 см х n, где n – число лет до 8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етей старше 8 лет: 130 см +5 см х n, где n-число лет после 8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9" descr="DSC00020"/>
          <p:cNvPicPr/>
          <p:nvPr/>
        </p:nvPicPr>
        <p:blipFill>
          <a:blip r:embed="rId1"/>
          <a:srcRect l="36100" t="17355" r="1231" b="32015"/>
          <a:stretch/>
        </p:blipFill>
        <p:spPr>
          <a:xfrm>
            <a:off x="838080" y="1828800"/>
            <a:ext cx="29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DSC00009"/>
          <p:cNvPicPr/>
          <p:nvPr/>
        </p:nvPicPr>
        <p:blipFill>
          <a:blip r:embed="rId2"/>
          <a:srcRect l="18951" t="6361" r="27545" b="0"/>
          <a:stretch/>
        </p:blipFill>
        <p:spPr>
          <a:xfrm>
            <a:off x="4952880" y="18288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48320" y="4190760"/>
            <a:ext cx="403848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 центильной таблиц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рост попадает в интервал 25%-75% -  средний; интервал 10% - 25%- рост ниже среднего; 75%-90% -  выше среднего; 3%-10% - низкий рост; 90%-97% - высокий рост; до 3% - очень низкий рост; свыше 97% - очень высокий рос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Рост одноклассников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graphicFrame>
        <p:nvGraphicFramePr>
          <p:cNvPr id="227" name="Диаграмма 2"/>
          <p:cNvGraphicFramePr/>
          <p:nvPr/>
        </p:nvGraphicFramePr>
        <p:xfrm>
          <a:off x="1281240" y="2322360"/>
          <a:ext cx="2388960" cy="19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322360"/>
                    <a:ext cx="238896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23"/>
          <p:cNvGraphicFramePr/>
          <p:nvPr/>
        </p:nvGraphicFramePr>
        <p:xfrm>
          <a:off x="4724280" y="2209680"/>
          <a:ext cx="2971800" cy="20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09680"/>
                    <a:ext cx="297180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37"/>
          <p:cNvSpPr/>
          <p:nvPr/>
        </p:nvSpPr>
        <p:spPr>
          <a:xfrm flipV="1">
            <a:off x="1219320" y="4343400"/>
            <a:ext cx="236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39" descr="DSC00016"/>
          <p:cNvPicPr/>
          <p:nvPr/>
        </p:nvPicPr>
        <p:blipFill>
          <a:blip r:embed="rId5"/>
          <a:stretch/>
        </p:blipFill>
        <p:spPr>
          <a:xfrm>
            <a:off x="1676520" y="4572000"/>
            <a:ext cx="3009960" cy="2085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648320" y="4487400"/>
            <a:ext cx="4038480" cy="20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роста  предостави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ыгомына А.А, детский фельдшер Корликовско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ковой больниц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Arial"/>
              </a:rPr>
              <a:t>Измерение роста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43" name="Picture 6" descr="DSC00004"/>
          <p:cNvPicPr/>
          <p:nvPr/>
        </p:nvPicPr>
        <p:blipFill>
          <a:blip r:embed="rId1"/>
          <a:stretch/>
        </p:blipFill>
        <p:spPr>
          <a:xfrm>
            <a:off x="762120" y="2057400"/>
            <a:ext cx="2438280" cy="2695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DSC00005"/>
          <p:cNvPicPr/>
          <p:nvPr/>
        </p:nvPicPr>
        <p:blipFill>
          <a:blip r:embed="rId2"/>
          <a:stretch/>
        </p:blipFill>
        <p:spPr>
          <a:xfrm>
            <a:off x="2438280" y="365760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DSC00013"/>
          <p:cNvPicPr/>
          <p:nvPr/>
        </p:nvPicPr>
        <p:blipFill>
          <a:blip r:embed="rId3"/>
          <a:stretch/>
        </p:blipFill>
        <p:spPr>
          <a:xfrm>
            <a:off x="5153040" y="2392200"/>
            <a:ext cx="3457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</a:rPr>
              <a:t>Рост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Times New Roman"/>
              </a:rPr>
              <a:t> по формуле                                                    на 23 октября 2016 года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graphicFrame>
        <p:nvGraphicFramePr>
          <p:cNvPr id="247" name="Диаграмма 6"/>
          <p:cNvGraphicFramePr/>
          <p:nvPr/>
        </p:nvGraphicFramePr>
        <p:xfrm>
          <a:off x="609480" y="2590920"/>
          <a:ext cx="335304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3353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Диаграмма 4"/>
          <p:cNvGraphicFramePr/>
          <p:nvPr/>
        </p:nvGraphicFramePr>
        <p:xfrm>
          <a:off x="4648320" y="2666880"/>
          <a:ext cx="4038480" cy="292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0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666880"/>
                    <a:ext cx="403848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Arial"/>
              </a:rPr>
              <a:t>Факторы, влияющие на рост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Деятельность центральной нервной системы и эндокринных желез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  Полноценное питание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b32c1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енетические факто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b32c1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шнесредовые фактор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7" descr="Анимация Люди"/>
          <p:cNvPicPr/>
          <p:nvPr/>
        </p:nvPicPr>
        <p:blipFill>
          <a:blip r:embed="rId1"/>
          <a:stretch/>
        </p:blipFill>
        <p:spPr>
          <a:xfrm>
            <a:off x="6324480" y="4495680"/>
            <a:ext cx="1752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Trebuchet MS"/>
              </a:rPr>
              <a:t>Вывод</a:t>
            </a:r>
            <a:endParaRPr b="0" lang="en-US" sz="2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520" y="1981080"/>
            <a:ext cx="40388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результате выполнения работы узн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чт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При рождении  малыша его рост  должен быть в пределах 46 – 55 см., и рост всех учащихся нашего класса  при рождении соответствовал норме. В настоящее время 77,8 % имеют рост выше среднего, только у одного ученика ниже среднего, значит гипотеза подтвердилась. Рост учащихся соответствует средневозрастной норм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Рост и развитие ребёнка являются результатом сложного влияния на него многих факторов, как генетических, так и внешнесредовых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2249640"/>
            <a:ext cx="4038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над проектом  научились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ирать и обрабатывать статистическую информацию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ять рост человека по медицинским показателям с помощью центильных  таблиц и  форму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ть с ресурсами сети Интерне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оить диаграммы и графики с помощью компьютер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ходить статистические характеристики в конкретных измер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98d9"/>
                </a:solidFill>
                <a:latin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5" descr="Анимашки Люди"/>
          <p:cNvPicPr/>
          <p:nvPr/>
        </p:nvPicPr>
        <p:blipFill>
          <a:blip r:embed="rId1"/>
          <a:stretch/>
        </p:blipFill>
        <p:spPr>
          <a:xfrm>
            <a:off x="5257800" y="838080"/>
            <a:ext cx="13082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19:45Z</dcterms:created>
  <dc:creator>Ученик</dc:creator>
  <dc:description/>
  <dc:language>en-US</dc:language>
  <cp:lastModifiedBy>User</cp:lastModifiedBy>
  <dcterms:modified xsi:type="dcterms:W3CDTF">2019-01-05T15:07:5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