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164-0B83-4EFF-902A-CE87AED0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7F7-0ECC-408E-88A9-9AC4046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28A95-05BD-481F-959C-7ACC743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0FE22-CD2C-49B1-A755-150846AB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48C6-0E32-49B6-9A37-3D81C11A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D16E4-8943-4A17-8229-A9F039E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59E47-C421-4A5F-9260-BA0A7FD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ED40B-6912-4DF6-BBD9-8C73DD4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2B4D4-53E8-4C9F-9064-C35B380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0E3F4-A7FF-406D-A642-5165B627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05E1-404D-440E-9F04-D4EB8C0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C455C-6627-4398-A87A-0B95B507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BAB-CCA4-4796-89E3-8286C53C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69883-6686-4032-B19F-0B5595A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1D0EB-9759-4CC0-91AF-59D0FA22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7EFB1-C844-4048-91DA-F4F6D3DC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92C12-20D3-4B77-9CE7-C55A062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2322-7099-4C7B-8284-55BBCF82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777D3-1FF7-4AD8-84D3-771D38C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DECE6-E445-4264-9CF0-57D05BF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BC35A-5AF3-465F-951C-B69C97E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714A-F5CD-404F-A880-0131C3F6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419F6-5E18-437B-ADF8-6129CE53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53B-34F1-481A-B680-A5A8FEC8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9C70E-BECE-4D82-B75E-3E2CC9B1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04666-72BE-4359-A60F-7F63F1D8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2523E-7227-4D87-AC89-8B758A21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BF6E0-E016-4999-AC07-5553EA38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6236-0889-4895-9A49-DD6FDC7F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5823-076A-4505-995A-EF134BF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7B7F1-085D-4373-B3DB-F88397E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848C2-C274-4209-AAF6-978097D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7D532-9C2B-48CB-A675-3692602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4DE6-D693-40CE-A9ED-FD888B4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5D2-2092-41F0-B8F0-4A96B327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62E33-9A4D-4E09-A4B5-C5FD6E2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9DB3F-A461-49C0-BAC3-2185614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12808-0425-4CB7-90E6-F9CA3C07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B604B-3F75-4A71-AE24-8295612A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AE013-8460-4803-AF20-3B8008A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705F5-DE40-4E9B-A525-BD7C1B0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125AA-0EBE-4CBB-8F68-7BE6304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43EDC-72EF-4BC8-85C2-A69EB3C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AFDF2-56FF-4713-9856-B69DB9F4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708B3-A611-4F49-8465-0D6F788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144-74CB-46A9-B3B8-7C653531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BD74E-B73B-4BC9-8700-FB58B58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CF2A5-FA80-4143-83F6-558792B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3A4FE-4D05-4713-BC64-4B58378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54D76-8A4F-4DCC-818C-FEB7AB53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48AF6-7B1C-4F5C-9648-C1BB67EE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2F2A9-36AE-4A21-BD9B-1A3ED26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3B3F1-B936-4B0E-8595-1C987D4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022AF-25C5-47A4-B360-1F013D6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851CA-B5ED-4797-9BE2-E139F33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F9E96-302C-4457-AA8C-32209C2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E47D-871C-440F-81FC-5294B3B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0AE9C-0E57-4557-BFCD-8964CCD3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DCD9A-E5B5-4CF2-909E-0734113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FDC4A-44E0-4156-9CF7-E28691A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57F03-D849-4321-8F23-17AA9AF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9ABDA-26A4-4222-87DC-66231241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CA4BA-759B-4606-8FD2-0B817137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F1D51-D69F-4996-93A4-E46FF789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A05AC-DC23-489D-9859-83758C9E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FD356-EAEA-4D2D-8CFD-49C515C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F4C99-5342-47E9-91D2-62C4AA64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797F-0F95-4C04-81AD-6DAE61E5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E9FE0-12DC-44D8-B992-81D43B9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F9A9F-2B99-4CBE-8B38-9E48210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6CBC0-2D27-41CC-8DF8-9846F7D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5FC5F-F1E8-4563-878F-40D31F1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90AA9-D831-4EE1-888A-D9BDC92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2714E-0810-4346-BB91-7900F10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D7943-79ED-4297-9020-84F90DD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1A8E2-6CBE-4727-AD49-06436A11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44553-A940-42C9-A5F0-0E8402B0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23DF8-E4A5-4371-8413-0393AA01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1B0-92D8-45C4-87D5-6E12677B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BF489-8BB5-414A-906B-79FD9070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733E7-074E-4718-8653-6D130601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6B958-859C-4AD0-8AC5-14C663F8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45B2B-3BC1-47D7-9F24-726B1436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E01C6-0D64-44F5-BB9D-9CB2878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8D823-3C6F-44CC-B550-B72DB2A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EBBB6-532C-45C3-AC8E-089398A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05F73-802A-48DE-ABBB-86C4864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09980-BCB8-4CC0-8AF2-A3689C3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957DB-EBEE-4759-94A7-ABEB0020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8C85-07C9-40C7-9DC6-595ECF6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158D4-7D04-49DC-B5CA-754604E8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99A-AFCB-4733-A3A1-61465A4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964-1AE5-47C4-B7B2-A38A18B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2771-751C-49D5-9414-2E34881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5D2A-CBDF-462F-9E6B-7F64320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50C-63BE-4468-80E7-41AB35D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C0C0-505B-4FE5-B140-4C486BA5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97D-A0B3-4D67-A8B1-0B31745E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A9F8-B566-4F3C-A4F3-DC945D2F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6DC9-A1E9-4381-ACB2-9A0CB234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0130-7DE5-46DB-B0A8-DE640051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CAFF-8874-41B3-A80A-DD6C93A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C4B7-D190-4515-80AB-89D43021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E4B-63FE-4B03-8ACB-8E0BECB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B32D-0E00-4420-9490-6872B2CB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E348-80CC-4A8E-9937-9E44DC4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81E7-B12C-40FD-A285-407BFD5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C026-C329-4A61-A387-25784BA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3683-DF91-460F-84A3-856F14E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83F5-6655-4ED3-B24D-15FC7FC9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EDBC-8C1C-48FB-9919-82F78AF9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ACCF-3A88-4718-ACD8-C6998E45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B9AB-491C-4652-8D58-82E4656F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5661-8D11-4B51-AAC4-983195A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B77-E4BB-46D0-B918-BD59073B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CDF0-CEB8-49B5-99FD-C228757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5EC1-5AF3-4C26-9D49-AC35A118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70DD-1C67-4C1D-8702-33D6676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7B16-45C1-4628-9565-DBB09BC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EC8F-91E3-45F2-A433-1FB0B38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A9B1-DA8A-4213-8FBB-A3EDAC4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F96D-5D22-4930-BBBF-136409FE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F4B1-60A6-46C7-ACEC-7096CFE4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5B19-AC2A-49FF-90DF-F3A32DDC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CA36-EE4F-41EC-86E1-499C5963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0B3-6568-4984-B791-0FE0A2E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A5EA2-BF1C-4190-B2A8-EF7ABB0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EA5F-6FA6-4E1D-96FB-985B0004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2BDA-DEDE-4EB0-915C-189BE27A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94566-4DF8-43A5-AAFC-4CB5E93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08E7-DD44-4B3D-88B1-EC792B2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63A8-63CA-48DC-973B-3B88B03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EE0F-D11E-40B2-BABC-34F107A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D416-0A6B-473E-A12B-9250A96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390F-8699-40EB-B41A-9ED68457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94DF-EB57-4303-9E5B-3E148A4F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877-4BAE-459F-8B2B-EF483F6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A9BC-C393-44C2-8207-E6944BA2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C2F12-EC4C-41E2-92AF-BC0AC959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A765-A531-4A85-916E-A698C8F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0290F-DAD8-4785-80DD-C7F293A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2E68-FA96-4205-AC37-8BE1344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0669-CF6B-48AF-84A8-5C632C7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262B-52C0-4B39-897D-CBA23B03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59FD-3CF2-4E50-BADC-50B2B04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DCF1-86A4-4A30-94E9-893D4D0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B853-EF13-4DE1-A5DA-141D747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CD1-5C49-42F9-8CD4-FFD6899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BF8D-0B99-44A2-998E-7E0F8545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900D-E0EB-49C1-849D-0325B9EA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165C-5FC4-4195-8074-9D38ACF5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EF86-C791-4C11-A5F2-74C9EC4C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9747-A9A6-40F6-865A-CC1C9B7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2087-ABC2-4B81-A288-A129611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CABE-AD66-4DB5-A4B4-0128446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D11F-EB9C-4350-A7E4-730C6F49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45DE-5779-4727-BD2C-D2020EF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E524-07AC-48A2-B56E-0594AE4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978-8517-465B-ABA3-F928298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2DDA-C7D7-4BEF-A9C0-9DF0636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DCE7-4B97-46A1-AC21-D726CAD9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FE1A-1A9A-4BDD-8549-D2342EA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515EA-6FD7-46DF-A1F3-88D50014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4435-FDD8-46AC-87A5-F660D363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717C3-0404-4019-8207-98F172E5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F289-8853-4CE7-BED4-39509CB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DF34-8065-4C7A-86F1-5F981D2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A7A9-2EDB-4E14-8F4F-3DAA1D5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4C8A9-F203-4F64-A038-B901E7A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3BE-5B22-4269-A1BA-CBC20AA8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1DF2-EAC1-4865-AF29-FB7CFC83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6696-1E78-43BD-B820-27F9F28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9A14-6D96-4385-8162-E433553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CA7D9-9F4F-4D48-8722-92BCA01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9B2A-FE98-43E6-ADA6-552F9FBE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7F06-B3F3-4AAC-B435-C671CC41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9C3C-52F0-4061-A17B-55A1C86B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D7C4A-FAA0-4893-AC97-ED77775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D60B6-C356-4609-87FD-94281927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977C3-E199-46E2-B7D0-9550EF6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606F-DE27-4CAF-9E76-2C38B99A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875-0658-4BD5-873B-A41ED6ABB9F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3CC-E570-4456-89DC-CBFD679A80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F4E0-0A25-4A7B-9693-8A5FF4F329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B8D-08BF-4503-A101-5A99C23059A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F23-CBB6-40B4-BC40-646C90B62C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81FA-E7EB-454B-BE2D-4E7B9BB1DD0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CE66-EA01-4B32-8A51-6B27E98589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D70-1E75-4A15-9F0C-52FD34997F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936-3174-4986-86FC-010E84706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1E9-953B-46AB-8B77-FBBBB7F44E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9E7-6F62-49A9-B156-373FA62DE6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5C2D-436B-48CB-8729-DF53550E09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653-5A54-4A2F-A645-A01CAB481B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233-18E3-4F31-9328-F24C74E36A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Г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Первые уроки школьной отметк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8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 помочь ребёнку в выполнении домашних заданий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7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4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2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6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71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8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02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Прямоугольник 1"/>
          <p:cNvSpPr/>
          <p:nvPr/>
        </p:nvSpPr>
        <p:spPr>
          <a:xfrm>
            <a:off x="990720" y="152280"/>
            <a:ext cx="5943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ожение о критериях оценивания знаний учащихся 2-4 классов муниципального 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1. Настоящее положение регламентирует порядок оцен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достижений, уровня знаний и умений, навыков учащихся при текущем и итоговом контроле обучающихся 2-4 классов и разработано на основ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а РФ «Об образовании» в ред. от 02.02.2011 №2-Ф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ения о порядке проведения промежуточной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водных класса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пового положения об общеобразовательном учреждении, утвержденного постановлением правительства РФ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 марта  2001г. № 196 (в ред. от 10.03.2009 № 21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ых требований по оценке знаний, ум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ов учащихся по отдельным учебным предметам и образовательным обла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ческого письма «Контроль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 в начальной школе», №1561/14-15 от 19.11.199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2. Система контроля и оценки ставит следующую задачу: развить 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иков умение проверять и контролировать с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 оценивать свою деятельность, находить ошибки и пути их уст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3. С учетом современных требований к оценочной деятельност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й школе вводится четырех балльная система цифровых оценок. Отменяется оценка «очень плохо» (отметка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3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но допущены ошибки ( не более 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выполнено правильно не менее ½ всех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 (те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Ирина</cp:lastModifiedBy>
  <dcterms:modified xsi:type="dcterms:W3CDTF">2018-10-11T03:13:40Z</dcterms:modified>
  <cp:revision>87</cp:revision>
  <dc:subject/>
  <dc:title>PowerPoint Template</dc:title>
</cp:coreProperties>
</file>