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gif" ContentType="image/gif"/>
  <Override PartName="/ppt/media/image12.gif" ContentType="image/gif"/>
  <Override PartName="/ppt/media/image10.png" ContentType="image/png"/>
  <Override PartName="/ppt/media/image28.wmf" ContentType="image/x-wmf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6.png" ContentType="image/png"/>
  <Override PartName="/ppt/media/image11.gif" ContentType="image/gif"/>
  <Override PartName="/ppt/media/image5.jpeg" ContentType="image/jpeg"/>
  <Override PartName="/ppt/media/image26.jpeg" ContentType="image/jpeg"/>
  <Override PartName="/ppt/media/image4.png" ContentType="image/png"/>
  <Override PartName="/ppt/media/image24.gif" ContentType="image/gif"/>
  <Override PartName="/ppt/media/image27.wmf" ContentType="image/x-wmf"/>
  <Override PartName="/ppt/media/image17.gif" ContentType="image/gif"/>
  <Override PartName="/ppt/media/image2.jpeg" ContentType="image/jpeg"/>
  <Override PartName="/ppt/media/image25.jpeg" ContentType="image/jpeg"/>
  <Override PartName="/ppt/media/image22.gif" ContentType="image/gif"/>
  <Override PartName="/ppt/media/image18.jpeg" ContentType="image/jpeg"/>
  <Override PartName="/ppt/media/image16.gif" ContentType="image/gif"/>
  <Override PartName="/ppt/media/image20.png" ContentType="image/png"/>
  <Override PartName="/ppt/media/image15.gif" ContentType="image/gif"/>
  <Override PartName="/ppt/media/image1.png" ContentType="image/png"/>
  <Override PartName="/ppt/media/image21.gif" ContentType="image/gif"/>
  <Override PartName="/ppt/media/image19.gif" ContentType="image/gif"/>
  <Override PartName="/ppt/media/image3.png" ContentType="image/png"/>
  <Override PartName="/ppt/media/image23.gif" ContentType="image/gi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00F8-B2E9-47C6-86B3-1304A2283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1826-E10A-404D-9253-49CBA3B9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87347-612F-4AD4-A383-594AA58F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75612-91D3-4B8B-8788-6C3131ED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F13BE-7E45-4B91-B76B-1E366A26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B1C3F-D9C5-444D-B30C-FFCB0706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EDC50-07B6-4CF6-8EB7-E1C79273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DA3480-3A5B-429C-A6DE-D0F853B8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EC941-A0BF-4908-B268-63AE5214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9ADEC-C21B-4ECC-AC3A-50E13CC77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2B2B9-9E82-4763-BB07-294196B8B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03262-AE4A-47BF-8A20-5B0F39C1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0172-1B9E-46B2-B721-9F399C4DF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F5759-13F9-41D7-B770-B7854E02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41081-5106-40ED-A0AE-2B09606A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82877-175E-49CA-B3E9-BCAD975C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DF1569-57B5-42FA-B1B9-C3B3F790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E8800-ABD9-4D5A-9069-B08A188C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0A5CE2-A5D1-4156-94DC-CED08719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C27F9-DE5E-4DE7-947F-E34C992B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18F93-9CBF-4711-BDA3-93DB613F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D83E5A-5BC8-4865-9B78-D2FB0473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BA13BC-8734-437D-B662-A2D4AB97D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449D-57B2-40D5-9E61-849348DE2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C4716-59D6-4651-9AD2-D9458C090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29443-F7FA-49CA-BFBA-59564C0AF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9329B-8F2A-4135-852C-F8C6E686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3E93E-012F-4CE5-B65D-8986101F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052E1-0662-463D-BC56-A0876F83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9DC29-7AD3-4251-A41F-4D657467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90460-FFD2-4320-8458-A1FE8D84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A46A1-D9E9-4A4B-B3C6-55756F41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690A9-DA0E-490E-A30C-0C95F153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DCC12-EEFB-4CD0-B025-FBDC5036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E88C-C10D-4A05-B37F-8205D2A92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877B7-0241-4AEB-84DF-DCA936A0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7F185-3086-4A26-BCB2-7699E9440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81721-0F2D-468B-B111-7764D1792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B77803-88C4-4FB0-B0E1-D57E1D1AA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5F4BB3-75FA-4A78-9E26-815AF77D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9BBA6-383B-48EE-B387-F7A21094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E91E94-35E0-4C5E-A22D-D2B5156C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11CC80-645C-4A05-9786-DE4E96FB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4D34A9-DB45-4E1C-BE87-0BE2056F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A4632-5EB8-43C1-A3A3-831DA637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46AB-76D1-43B7-92BA-5D347B0F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512D45-0C08-4B7C-B39D-221A82E9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C3F2A2-F18F-4BD5-963A-0F10C111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81AAE8-BE5F-4915-97F4-A9EC050B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5E20B8-16E0-4A3B-8606-454834AE6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26BDF-413B-40E0-B916-B59BD91D9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D61E11-85D4-43E0-8982-80416A46D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0BBD9F-EFCC-40BB-BC99-13CB0431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820A57-BB66-43A5-93B4-07C5C9AA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2B180B-7BFA-4D39-AFDD-BA716C5C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0B0F0A-B4B8-49BC-9398-5017E9EE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290B-3EB1-4651-8AA7-3F3FE20F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A91798-E238-42A3-8661-CEB6AC30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9912A9-77E2-4AFF-8C28-E3D3594F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12D3BF-BB0B-4FFE-A4FF-2C7B7177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2032FB-D887-4575-84AF-6FC2301B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429537-B7A4-4FA3-8039-F7D635A6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093032-01DD-4F37-BCF5-B31FC7034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5FF21C-B5A7-45D4-B070-41DEECE2E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C227D9-290F-418F-ADFF-CEAF84BE9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C421EE-AE46-4D43-9C38-52B4D12E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81C348-62ED-435D-9042-6A45C4A9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2279-C7FA-4C4D-B3EF-4A9273F9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32B324-7462-4F7D-8F2F-FCD39671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B80AF1-CB7A-4685-9348-4BBCE309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62A64B-30D7-43B9-B71A-F09D6CBC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0FC121-470C-4BAF-BED6-2F62C33A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03C308-CAE6-4DEC-A63B-C1FE147C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0E9D4A-DCC4-4C48-9CE1-BC325826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D5A68E-76DF-455C-9449-68CBA283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22400F-C36A-4054-858D-7ADC362F1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28156F-DD48-4556-A3A5-85B763EA3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5E8822-26E4-46C2-8E8B-1F40003D5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05ED-17FE-489B-909B-122AA9DD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CB8406-CD44-4C58-BF5E-0D7411A8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5EC60B-961B-4AB7-9154-5A0763C9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CD643A-5D99-40DF-85F0-219DC0EB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D9F0E4-A552-4A56-9256-47C6AA92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74AC9B-E603-4633-9E9D-500F18A3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821FD6-B274-4910-A3DE-CB221702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4A7DF3-4473-4A79-9600-DDDFCA13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CB36A5-4922-4419-9AC5-16196AF5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FD38DD-162D-4ECB-8B5B-AABA407C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A1A36A-2422-48B0-8D61-467C71168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A1B8-2427-450A-817F-36C35976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53DAA6-04D2-4DE0-88D1-8E40260D2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502F-01FE-41C1-9295-20F9F8B2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E2F0-2E50-44C9-9D1A-FF447E06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4619-7D35-41D1-8D53-13B315F8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C693-AB5E-4B05-B52E-C9B5B4E0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85F3-D67E-4F35-A6D0-B96E5DA5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F26A-7D37-4CDF-B91B-6949C627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D338-EA43-4F21-9CFB-5B6E126C1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C5E5E-E328-4614-9561-85BD0FB0F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8768E-EE07-46C0-9DAB-89E35AC3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FD90C-3702-42C3-AC57-C97AE222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88100-0F7F-4518-BB1C-D0BCA7EA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661EB-0AFD-4DF0-8BAA-1BD92B57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5037-E288-44A9-A942-E861706D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27B42-6E9A-4837-98A5-189DB00C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FF920-A1DB-4E2B-868E-186CE72A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AC52A-E0B1-4FA3-B7D2-88CA7676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F168C-F06E-4C65-B596-203397F2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9195A-0B5F-4218-B51A-0CD0683A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9EDE1-9537-44CE-9DCC-EB8C88F5B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C53A1-BEFA-4AD7-B08B-B94A7B054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70DFA-A86C-43D1-B090-63B811140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2FFCE-279C-45E7-95C4-A32E41E1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C63F6-87AD-4860-A0EC-CF48F255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912A-6329-41B9-A7BF-93538970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BB293-5AA4-4A98-8519-BD195C88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6D11D-7B9D-4D1A-9528-1CAB90F1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A9E77-FB5B-425F-B3C7-D4652CCB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76D5A-B24F-4374-BBA2-C069DCCB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AD9EE-DED3-4014-AF9E-771BF96B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5E10B-9BA0-49B8-AF3B-60E3DAE9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7BF1A-DDD0-42A5-8D31-B262C9C1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6D24D-5C2A-4154-A1F1-9952EDB3B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C7850-3FC4-4734-BB50-B914D3BE1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A6F8D-E089-4591-9072-E8B8DF8B5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A1BD-68D3-4558-9A20-FBEE35A3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7A0A6-4201-40BF-B0FA-207715B0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6E6AE-CBAF-4648-86DA-56F200CA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568F6-02B4-43D0-ABB7-2E21A309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75509-793B-42A3-9E3D-180B75AC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F3E05-782C-49F1-BF6B-AB50A834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48BB0-8794-40D6-A512-881658A3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AAE03-DDB4-4608-A36D-C77E586D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2608A-36DD-4912-992D-DD1419B0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AC9B8-1B43-44A9-88AB-F4B0C943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3BDF8-6CC3-48E5-9FE0-A7A1B47F9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E1FF-4126-4424-973C-E2173AC4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F847A-3160-4EB5-AD44-F32B39583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767E3-0193-4CE8-BB04-8F3F79837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32C9C-3D01-442E-B03C-00734488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EC2CC-62F6-4F03-A135-51DB95C5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45550-D831-422C-A85C-CDA70C6C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55B26-7B93-4D04-B51A-1ABA835C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6ED45-9F68-43A8-84C2-109310EF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313EA-5BF7-4973-8286-216ED584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734A7-98FB-4558-9B28-6C5E7B45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9F88D-0091-4A35-94AE-E55D5C66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207C-8353-4D94-879C-4A9A6FEE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B1DEF-9703-4FDF-A235-AB6DDDFC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38976-BC77-4AD0-BEDC-A03749784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FE329-6485-42B3-8939-37D8CFDB1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3C8D1-3460-4D90-9AD6-3BD168BE2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4AF5F-4EBC-4BC3-A2B7-AAB213F4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D3D82-DA90-44FA-AF90-F70D8768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B7AD9-4839-4BD6-AABB-1DC5B508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9A24A-D18C-435F-9C2D-CDF25A55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205B0-F6E2-4902-875A-76473AAC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638D2-D111-4AED-BEF8-D70DEF99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9948-B95B-4478-99E4-0886BF43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1D97B-9A3E-457F-874D-F1C14092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0DD9F-6930-473E-9CA3-601E5BE3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78DC8-98F9-465B-9911-D49B7176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D9796-9631-4A17-8544-35E841F84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AD810-AE67-4075-96C8-8E32601E3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6E764-EE68-4DF9-9FFA-44EAC4DD3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DD092-CE28-4B05-B249-6DF947C7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4FC83-0779-4B5E-BB6D-05975FD2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B7296-45CA-4D8A-B985-438C0B25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E843E-DDA8-4819-8D53-C4699098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E9AA-DD3E-4965-ADBE-777A4885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6080F-AA17-4D16-BAF7-CA97F0D5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3A7B0-80C6-4597-A6D1-84DAC07C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B12F4-DD83-4996-B9E6-5F7A44D1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5ADAC-D7DB-4ACA-ADC0-B43E6F97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CA14E-FBB2-4235-AEBB-4FA77C3E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07A45-AF2C-4D92-A7ED-AC37AD20A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91BC2-ED2E-47CA-B52A-4FE465A99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F0DC8-0D55-4670-BBCF-7192B40CD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D12F2-9AB2-4137-9E0D-E699F8CA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24B29-4F51-4946-8988-FCB862D7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44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4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45"/>
          <p:cNvSpPr/>
          <p:nvPr/>
        </p:nvSpPr>
        <p:spPr>
          <a:xfrm>
            <a:off x="0" y="990720"/>
            <a:ext cx="9144000" cy="120600"/>
          </a:xfrm>
          <a:prstGeom prst="rect">
            <a:avLst/>
          </a:prstGeom>
          <a:gradFill rotWithShape="0">
            <a:gsLst>
              <a:gs pos="0">
                <a:srgbClr val="ecce4c"/>
              </a:gs>
              <a:gs pos="50000">
                <a:srgbClr val="f6e7a8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9088-4F96-4DE3-BDC3-4630A0D0A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1AB8-26F7-44C8-B89F-E99730F7F7F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451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ECBD-3929-42AA-AAF0-6EE88C52369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9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8C1D-4B65-42CC-B460-70BAB6002AE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543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664A-B28C-48D0-A376-4491F7D5D73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4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4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0F34-862D-42F7-A382-AA99F9186C3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4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4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4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CD8E-0C7F-4907-B350-5C2573EF506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2D28-B585-4AF4-94E1-2E2D89E29BB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4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9DC9-6A60-4034-A21E-5E6F3BC5F9A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3"/>
          <p:cNvSpPr/>
          <p:nvPr/>
        </p:nvSpPr>
        <p:spPr>
          <a:xfrm flipV="1">
            <a:off x="0" y="3002400"/>
            <a:ext cx="9144000" cy="77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6"/>
          <p:cNvGrpSpPr/>
          <p:nvPr/>
        </p:nvGrpSpPr>
        <p:grpSpPr>
          <a:xfrm>
            <a:off x="4038480" y="5691240"/>
            <a:ext cx="1079640" cy="635760"/>
            <a:chOff x="4038480" y="5691240"/>
            <a:chExt cx="1079640" cy="635760"/>
          </a:xfrm>
        </p:grpSpPr>
        <p:sp>
          <p:nvSpPr>
            <p:cNvPr id="139" name="Text Box 14"/>
            <p:cNvSpPr/>
            <p:nvPr/>
          </p:nvSpPr>
          <p:spPr>
            <a:xfrm>
              <a:off x="4038480" y="5867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5"/>
            <p:cNvSpPr/>
            <p:nvPr/>
          </p:nvSpPr>
          <p:spPr>
            <a:xfrm rot="5400000">
              <a:off x="4432320" y="53974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cc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BD0D-93A3-4E14-99F6-F85FE576A5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Object 44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Object 4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Rectangle 45"/>
          <p:cNvSpPr/>
          <p:nvPr/>
        </p:nvSpPr>
        <p:spPr>
          <a:xfrm>
            <a:off x="0" y="990720"/>
            <a:ext cx="9144000" cy="120600"/>
          </a:xfrm>
          <a:prstGeom prst="rect">
            <a:avLst/>
          </a:prstGeom>
          <a:gradFill rotWithShape="0">
            <a:gsLst>
              <a:gs pos="0">
                <a:srgbClr val="ecce4c"/>
              </a:gs>
              <a:gs pos="50000">
                <a:srgbClr val="f6e7a8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6E59-30A0-4DBE-ABB7-CAF367406F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2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234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48CF-63DA-491A-817E-0B507786995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281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77C7-F329-46AF-8122-D35E533BDB9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0936-3B68-4147-AFA4-98233F09DF1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1B36-708E-4A61-AA98-8F71FA62DC2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019920" cy="2210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Родительское </a:t>
            </a:r>
            <a:br>
              <a:rPr sz="4500"/>
            </a:b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собрание </a:t>
            </a:r>
            <a:br>
              <a:rPr sz="4500"/>
            </a:b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во 2 «Г» классе 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297180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3300"/>
                </a:solidFill>
                <a:latin typeface="Verdana"/>
              </a:rPr>
              <a:t>Тема: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70c0"/>
                </a:solidFill>
                <a:latin typeface="Verdana"/>
              </a:rPr>
              <a:t>«Первые уроки школьной отметки»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исьменная рабо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одержащая только при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вся работа выполнена безошибочно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допущены 1-2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3» - допущены 3-4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2» - допущены 5 и более вычислительных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5029200"/>
            <a:ext cx="16941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исьменная работа, содержащая только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е задачи решены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нет ошибок в ходе решения задач, но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хотя бы одна ошибка в ходе решения задачи и 1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если вычислительных ошибок нет, но не решена 1 задач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а ошибка в ходе решения 2-х задач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опущена ошибка в ходе решения задачи и 2 вычислительные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858000" y="502920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Комбинированная контрольная раб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(1 задача, примеры и задание другого ви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ошибки в ходе решения задачи при правильном выполнении всех заданий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допущены 3-4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а ошибка в ходе решения задачи и хотя бы одна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при решении задач и примеров допущено более 5 вычислительных оши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Рисунок 3" descr="учитель.gif"/>
          <p:cNvPicPr/>
          <p:nvPr/>
        </p:nvPicPr>
        <p:blipFill>
          <a:blip r:embed="rId1"/>
          <a:stretch/>
        </p:blipFill>
        <p:spPr>
          <a:xfrm>
            <a:off x="7162920" y="518148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атематический 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5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5d135"/>
                </a:solidFill>
                <a:latin typeface="Arial"/>
              </a:rPr>
              <a:t>«3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4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«2» - не выполнена 1/2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400800" y="4876920"/>
            <a:ext cx="169380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80880" y="2276640"/>
            <a:ext cx="83822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Как воспринимать  отметки ребёнка? </a:t>
            </a:r>
            <a:br>
              <a:rPr sz="36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3600"/>
            </a:br>
            <a:br>
              <a:rPr sz="4800"/>
            </a:br>
            <a:br>
              <a:rPr sz="4800"/>
            </a:b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1600200" y="480060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амятка для роди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Не ругайте своего ребёнка за плохую  отметку. </a:t>
            </a:r>
            <a:r>
              <a:rPr b="1" lang="ru-RU" sz="2800" spc="-1" strike="noStrike">
                <a:solidFill>
                  <a:srgbClr val="692aa2"/>
                </a:solidFill>
                <a:latin typeface="Arial"/>
              </a:rPr>
              <a:t>Ему очень хочется быть в ваших глазах хорош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Если быть хорошим не получается, ребёнок начинает </a:t>
            </a:r>
            <a:r>
              <a:rPr b="0" lang="ru-RU" sz="2800" spc="-1" strike="noStrike" u="sng">
                <a:solidFill>
                  <a:srgbClr val="0a0aff"/>
                </a:solidFill>
                <a:uFillTx/>
                <a:latin typeface="Arial"/>
              </a:rPr>
              <a:t>врать и изворачиваться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чтобы избежать наказ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4" descr="j0282745"/>
          <p:cNvPicPr/>
          <p:nvPr/>
        </p:nvPicPr>
        <p:blipFill>
          <a:blip r:embed="rId1"/>
          <a:stretch/>
        </p:blipFill>
        <p:spPr>
          <a:xfrm>
            <a:off x="4267080" y="2362320"/>
            <a:ext cx="190512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чувствуйте своему ребёнку, если он долго трудился, но результат его труда не вы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ъясните ему, что важен не только высокий результат. Больше важны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знани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, которые он сможет                       приобрести в результате                    ежедневного, упорного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4" descr="Копия (5) AG00315_"/>
          <p:cNvPicPr/>
          <p:nvPr/>
        </p:nvPicPr>
        <p:blipFill>
          <a:blip r:embed="rId1"/>
          <a:stretch/>
        </p:blipFill>
        <p:spPr>
          <a:xfrm>
            <a:off x="5943600" y="3352680"/>
            <a:ext cx="2881440" cy="29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заставляйте своего ребёнка вымаливать себе оценку в конце четверти ради вашего душевного споко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Не учите своего ребёнка ловчить, унижаться и приспосабливаться ради положительного результата в виде высокой отм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Picture 5" descr="AG00319_"/>
          <p:cNvPicPr/>
          <p:nvPr/>
        </p:nvPicPr>
        <p:blipFill>
          <a:blip r:embed="rId1"/>
          <a:stretch/>
        </p:blipFill>
        <p:spPr>
          <a:xfrm>
            <a:off x="4464000" y="3544920"/>
            <a:ext cx="4680000" cy="3313080"/>
          </a:xfrm>
          <a:prstGeom prst="rect">
            <a:avLst/>
          </a:prstGeom>
          <a:ln w="0">
            <a:noFill/>
          </a:ln>
        </p:spPr>
      </p:pic>
      <p:pic>
        <p:nvPicPr>
          <p:cNvPr id="718" name="Рисунок 4" descr="24.jpg"/>
          <p:cNvPicPr/>
          <p:nvPr/>
        </p:nvPicPr>
        <p:blipFill>
          <a:blip r:embed="rId2"/>
          <a:stretch/>
        </p:blipFill>
        <p:spPr>
          <a:xfrm>
            <a:off x="533520" y="4572000"/>
            <a:ext cx="184788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когда не выражайте сомнений по поводу объективности выставленной вашему                  ребёнку оценки всл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Есть сомнения - идите в школу (к учителю) и попытайтесь объективно разобраться в ситу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Не обвиняйте беспричинно других              взрослых и  одноклассников в                   проблемах собственного реб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4" descr="j0336396"/>
          <p:cNvPicPr/>
          <p:nvPr/>
        </p:nvPicPr>
        <p:blipFill>
          <a:blip r:embed="rId1"/>
          <a:stretch/>
        </p:blipFill>
        <p:spPr>
          <a:xfrm>
            <a:off x="7391520" y="1752480"/>
            <a:ext cx="1536480" cy="142236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4" descr="Рисунок16"/>
          <p:cNvPicPr/>
          <p:nvPr/>
        </p:nvPicPr>
        <p:blipFill>
          <a:blip r:embed="rId2"/>
          <a:stretch/>
        </p:blipFill>
        <p:spPr>
          <a:xfrm>
            <a:off x="7543800" y="3581280"/>
            <a:ext cx="1219320" cy="30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держивайте ребёнка в его, пусть не очень значительных, но победах над собой, над своей ле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монстрируйте положительные результаты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воего труд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чтобы ребёнку хотелось вам подраж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4" descr="J0076204"/>
          <p:cNvPicPr/>
          <p:nvPr/>
        </p:nvPicPr>
        <p:blipFill>
          <a:blip r:embed="rId1"/>
          <a:stretch/>
        </p:blipFill>
        <p:spPr>
          <a:xfrm>
            <a:off x="3048120" y="4114800"/>
            <a:ext cx="5616360" cy="220968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8" descr="Учитель"/>
          <p:cNvPicPr/>
          <p:nvPr/>
        </p:nvPicPr>
        <p:blipFill>
          <a:blip r:embed="rId2"/>
          <a:stretch/>
        </p:blipFill>
        <p:spPr>
          <a:xfrm>
            <a:off x="762120" y="4724280"/>
            <a:ext cx="1868400" cy="16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31720" y="151920"/>
            <a:ext cx="7407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964305"/>
                </a:solidFill>
                <a:latin typeface="Corbel"/>
              </a:rPr>
              <a:t>Родительское собрание</a:t>
            </a: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63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70c0"/>
                </a:solidFill>
                <a:uFillTx/>
                <a:latin typeface="Corbel"/>
              </a:rPr>
              <a:t>Повестка дня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3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0e04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3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Оценка. Отметк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3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терии оценки .Как к ней относиться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3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Как помочь ребёнку в выполнении домашних заданий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3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Разное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3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3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??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Устраивайте праздники по случ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получения отличной отмет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Arial"/>
              </a:rPr>
              <a:t>Хорошее, как и плохое, запоминается ребёнком надолго и его хочется    повтор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Пусть ребёнок получает хорошую  отметку ради того, чтобы его             отметили. Вскоре это                                   станет привыч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Picture 4" descr="BD13647_"/>
          <p:cNvPicPr/>
          <p:nvPr/>
        </p:nvPicPr>
        <p:blipFill>
          <a:blip r:embed="rId1"/>
          <a:stretch/>
        </p:blipFill>
        <p:spPr>
          <a:xfrm>
            <a:off x="5694480" y="4419720"/>
            <a:ext cx="2489040" cy="188892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4" descr="j0178301"/>
          <p:cNvPicPr/>
          <p:nvPr/>
        </p:nvPicPr>
        <p:blipFill>
          <a:blip r:embed="rId2"/>
          <a:stretch/>
        </p:blipFill>
        <p:spPr>
          <a:xfrm rot="813000">
            <a:off x="7315200" y="1066680"/>
            <a:ext cx="1676520" cy="158292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4" descr="Карандаш"/>
          <p:cNvPicPr/>
          <p:nvPr/>
        </p:nvPicPr>
        <p:blipFill>
          <a:blip r:embed="rId3"/>
          <a:stretch/>
        </p:blipFill>
        <p:spPr>
          <a:xfrm>
            <a:off x="7543800" y="2438280"/>
            <a:ext cx="1905120" cy="24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0" y="33526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Как помочь ребёнку                                                                  в выполнении  домашних заданий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?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380520" y="3962160"/>
            <a:ext cx="8001000" cy="990360"/>
          </a:xfrm>
          <a:prstGeom prst="rect">
            <a:avLst/>
          </a:prstGeom>
          <a:solidFill>
            <a:srgbClr val="f7ebb7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оветы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Picture 8" descr="Учитель"/>
          <p:cNvPicPr/>
          <p:nvPr/>
        </p:nvPicPr>
        <p:blipFill>
          <a:blip r:embed="rId1"/>
          <a:stretch/>
        </p:blipFill>
        <p:spPr>
          <a:xfrm>
            <a:off x="3809880" y="304920"/>
            <a:ext cx="18687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ак правильно помогать ребёнку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6" name="Group 3"/>
          <p:cNvGrpSpPr/>
          <p:nvPr/>
        </p:nvGrpSpPr>
        <p:grpSpPr>
          <a:xfrm>
            <a:off x="228600" y="1832040"/>
            <a:ext cx="2971080" cy="3730320"/>
            <a:chOff x="228600" y="1832040"/>
            <a:chExt cx="2971080" cy="3730320"/>
          </a:xfrm>
        </p:grpSpPr>
        <p:sp>
          <p:nvSpPr>
            <p:cNvPr id="737" name="AutoShape 4"/>
            <p:cNvSpPr/>
            <p:nvPr/>
          </p:nvSpPr>
          <p:spPr>
            <a:xfrm>
              <a:off x="228600" y="2116440"/>
              <a:ext cx="2962440" cy="2641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AutoShape 5"/>
            <p:cNvSpPr/>
            <p:nvPr/>
          </p:nvSpPr>
          <p:spPr>
            <a:xfrm>
              <a:off x="274320" y="2124000"/>
              <a:ext cx="2873520" cy="259128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AutoShape 6"/>
            <p:cNvSpPr/>
            <p:nvPr/>
          </p:nvSpPr>
          <p:spPr>
            <a:xfrm>
              <a:off x="298080" y="4031640"/>
              <a:ext cx="2834280" cy="655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AutoShape 7"/>
            <p:cNvSpPr/>
            <p:nvPr/>
          </p:nvSpPr>
          <p:spPr>
            <a:xfrm>
              <a:off x="298080" y="2144520"/>
              <a:ext cx="2834280" cy="654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AutoShape 8"/>
            <p:cNvSpPr/>
            <p:nvPr/>
          </p:nvSpPr>
          <p:spPr>
            <a:xfrm>
              <a:off x="237240" y="4758120"/>
              <a:ext cx="2962440" cy="8042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AutoShape 9"/>
            <p:cNvSpPr/>
            <p:nvPr/>
          </p:nvSpPr>
          <p:spPr>
            <a:xfrm>
              <a:off x="298080" y="4926960"/>
              <a:ext cx="2834280" cy="568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3" name="Group 10"/>
            <p:cNvGrpSpPr/>
            <p:nvPr/>
          </p:nvGrpSpPr>
          <p:grpSpPr>
            <a:xfrm>
              <a:off x="1247760" y="1832040"/>
              <a:ext cx="880200" cy="594360"/>
              <a:chOff x="1247760" y="1832040"/>
              <a:chExt cx="880200" cy="594360"/>
            </a:xfrm>
          </p:grpSpPr>
          <p:sp>
            <p:nvSpPr>
              <p:cNvPr id="744" name="Oval 11"/>
              <p:cNvSpPr/>
              <p:nvPr/>
            </p:nvSpPr>
            <p:spPr>
              <a:xfrm>
                <a:off x="1247760" y="1832040"/>
                <a:ext cx="880200" cy="594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Oval 12"/>
              <p:cNvSpPr/>
              <p:nvPr/>
            </p:nvSpPr>
            <p:spPr>
              <a:xfrm>
                <a:off x="1256760" y="1836360"/>
                <a:ext cx="851040" cy="575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Oval 13"/>
              <p:cNvSpPr/>
              <p:nvPr/>
            </p:nvSpPr>
            <p:spPr>
              <a:xfrm>
                <a:off x="1267200" y="1839960"/>
                <a:ext cx="831240" cy="561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Oval 14"/>
              <p:cNvSpPr/>
              <p:nvPr/>
            </p:nvSpPr>
            <p:spPr>
              <a:xfrm>
                <a:off x="1276560" y="1845360"/>
                <a:ext cx="790560" cy="523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Oval 15"/>
              <p:cNvSpPr/>
              <p:nvPr/>
            </p:nvSpPr>
            <p:spPr>
              <a:xfrm>
                <a:off x="1322640" y="1859400"/>
                <a:ext cx="702360" cy="425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" name="Text Box 16"/>
            <p:cNvSpPr/>
            <p:nvPr/>
          </p:nvSpPr>
          <p:spPr>
            <a:xfrm>
              <a:off x="1504440" y="191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17"/>
            <p:cNvSpPr/>
            <p:nvPr/>
          </p:nvSpPr>
          <p:spPr>
            <a:xfrm>
              <a:off x="333000" y="2536560"/>
              <a:ext cx="281736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Group 18"/>
          <p:cNvGrpSpPr/>
          <p:nvPr/>
        </p:nvGrpSpPr>
        <p:grpSpPr>
          <a:xfrm>
            <a:off x="3352680" y="1832040"/>
            <a:ext cx="2590560" cy="3806280"/>
            <a:chOff x="3352680" y="1832040"/>
            <a:chExt cx="2590560" cy="3806280"/>
          </a:xfrm>
        </p:grpSpPr>
        <p:sp>
          <p:nvSpPr>
            <p:cNvPr id="752" name="AutoShape 19"/>
            <p:cNvSpPr/>
            <p:nvPr/>
          </p:nvSpPr>
          <p:spPr>
            <a:xfrm>
              <a:off x="3352680" y="2122200"/>
              <a:ext cx="2586960" cy="2695320"/>
            </a:xfrm>
            <a:custGeom>
              <a:avLst/>
              <a:gdLst>
                <a:gd name="textAreaLeft" fmla="*/ 132480 w 2586960"/>
                <a:gd name="textAreaRight" fmla="*/ 2454480 w 2586960"/>
                <a:gd name="textAreaTop" fmla="*/ 132480 h 2695320"/>
                <a:gd name="textAreaBottom" fmla="*/ 2562840 h 2695320"/>
              </a:gdLst>
              <a:ahLst/>
              <a:rect l="textAreaLeft" t="textAreaTop" r="textAreaRight" b="textAreaBottom"/>
              <a:pathLst>
                <a:path w="21600" h="22505">
                  <a:moveTo>
                    <a:pt x="3782" y="0"/>
                  </a:moveTo>
                  <a:arcTo wR="3782" hR="3782" stAng="16200000" swAng="-5400000"/>
                  <a:lnTo>
                    <a:pt x="0" y="18723"/>
                  </a:lnTo>
                  <a:arcTo wR="3782" hR="3782" stAng="10800000" swAng="-5400000"/>
                  <a:lnTo>
                    <a:pt x="17818" y="2250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AutoShape 20"/>
            <p:cNvSpPr/>
            <p:nvPr/>
          </p:nvSpPr>
          <p:spPr>
            <a:xfrm>
              <a:off x="3392280" y="2130120"/>
              <a:ext cx="2509200" cy="2644200"/>
            </a:xfrm>
            <a:custGeom>
              <a:avLst/>
              <a:gdLst>
                <a:gd name="textAreaLeft" fmla="*/ 122400 w 2509200"/>
                <a:gd name="textAreaRight" fmla="*/ 2386800 w 2509200"/>
                <a:gd name="textAreaTop" fmla="*/ 122400 h 2644200"/>
                <a:gd name="textAreaBottom" fmla="*/ 2521800 h 2644200"/>
              </a:gdLst>
              <a:ahLst/>
              <a:rect l="textAreaLeft" t="textAreaTop" r="textAreaRight" b="textAreaBottom"/>
              <a:pathLst>
                <a:path w="21600" h="22762">
                  <a:moveTo>
                    <a:pt x="3600" y="0"/>
                  </a:moveTo>
                  <a:arcTo wR="3600" hR="3600" stAng="16200000" swAng="-5400000"/>
                  <a:lnTo>
                    <a:pt x="0" y="19162"/>
                  </a:lnTo>
                  <a:arcTo wR="3600" hR="3600" stAng="10800000" swAng="-5400000"/>
                  <a:lnTo>
                    <a:pt x="18000" y="22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AutoShape 21"/>
            <p:cNvSpPr/>
            <p:nvPr/>
          </p:nvSpPr>
          <p:spPr>
            <a:xfrm>
              <a:off x="3413160" y="4076640"/>
              <a:ext cx="2475000" cy="66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AutoShape 22"/>
            <p:cNvSpPr/>
            <p:nvPr/>
          </p:nvSpPr>
          <p:spPr>
            <a:xfrm>
              <a:off x="3413160" y="2150640"/>
              <a:ext cx="2475000" cy="66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3"/>
            <p:cNvSpPr/>
            <p:nvPr/>
          </p:nvSpPr>
          <p:spPr>
            <a:xfrm>
              <a:off x="4242600" y="1832040"/>
              <a:ext cx="768600" cy="606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4"/>
            <p:cNvSpPr/>
            <p:nvPr/>
          </p:nvSpPr>
          <p:spPr>
            <a:xfrm>
              <a:off x="4249800" y="1836360"/>
              <a:ext cx="744120" cy="586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25"/>
            <p:cNvSpPr/>
            <p:nvPr/>
          </p:nvSpPr>
          <p:spPr>
            <a:xfrm>
              <a:off x="4259880" y="1839240"/>
              <a:ext cx="726480" cy="573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26"/>
            <p:cNvSpPr/>
            <p:nvPr/>
          </p:nvSpPr>
          <p:spPr>
            <a:xfrm>
              <a:off x="4267080" y="1845360"/>
              <a:ext cx="690840" cy="534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27"/>
            <p:cNvSpPr/>
            <p:nvPr/>
          </p:nvSpPr>
          <p:spPr>
            <a:xfrm>
              <a:off x="4308840" y="1860480"/>
              <a:ext cx="613080" cy="43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Text Box 28"/>
            <p:cNvSpPr/>
            <p:nvPr/>
          </p:nvSpPr>
          <p:spPr>
            <a:xfrm>
              <a:off x="4444200" y="1918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29"/>
            <p:cNvSpPr/>
            <p:nvPr/>
          </p:nvSpPr>
          <p:spPr>
            <a:xfrm>
              <a:off x="3443400" y="2550600"/>
              <a:ext cx="245988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AutoShape 30"/>
            <p:cNvSpPr/>
            <p:nvPr/>
          </p:nvSpPr>
          <p:spPr>
            <a:xfrm>
              <a:off x="3355920" y="4817880"/>
              <a:ext cx="2587320" cy="8204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AutoShape 31"/>
            <p:cNvSpPr/>
            <p:nvPr/>
          </p:nvSpPr>
          <p:spPr>
            <a:xfrm>
              <a:off x="3409200" y="4840200"/>
              <a:ext cx="2475000" cy="729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Group 32"/>
          <p:cNvGrpSpPr/>
          <p:nvPr/>
        </p:nvGrpSpPr>
        <p:grpSpPr>
          <a:xfrm>
            <a:off x="6019920" y="1828800"/>
            <a:ext cx="2742840" cy="4035600"/>
            <a:chOff x="6019920" y="1828800"/>
            <a:chExt cx="2742840" cy="4035600"/>
          </a:xfrm>
        </p:grpSpPr>
        <p:sp>
          <p:nvSpPr>
            <p:cNvPr id="766" name="AutoShape 33"/>
            <p:cNvSpPr/>
            <p:nvPr/>
          </p:nvSpPr>
          <p:spPr>
            <a:xfrm>
              <a:off x="6027480" y="2136600"/>
              <a:ext cx="2735280" cy="2857680"/>
            </a:xfrm>
            <a:custGeom>
              <a:avLst/>
              <a:gdLst>
                <a:gd name="textAreaLeft" fmla="*/ 140040 w 2735280"/>
                <a:gd name="textAreaRight" fmla="*/ 2595240 w 2735280"/>
                <a:gd name="textAreaTop" fmla="*/ 140040 h 2857680"/>
                <a:gd name="textAreaBottom" fmla="*/ 2717640 h 2857680"/>
              </a:gdLst>
              <a:ahLst/>
              <a:rect l="textAreaLeft" t="textAreaTop" r="textAreaRight" b="textAreaBottom"/>
              <a:pathLst>
                <a:path w="21600" h="22566">
                  <a:moveTo>
                    <a:pt x="3782" y="0"/>
                  </a:moveTo>
                  <a:arcTo wR="3782" hR="3782" stAng="16200000" swAng="-5400000"/>
                  <a:lnTo>
                    <a:pt x="0" y="18784"/>
                  </a:lnTo>
                  <a:arcTo wR="3782" hR="3782" stAng="10800000" swAng="-5400000"/>
                  <a:lnTo>
                    <a:pt x="17818" y="2256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AutoShape 34"/>
            <p:cNvSpPr/>
            <p:nvPr/>
          </p:nvSpPr>
          <p:spPr>
            <a:xfrm>
              <a:off x="6069960" y="2057400"/>
              <a:ext cx="2652840" cy="2890800"/>
            </a:xfrm>
            <a:custGeom>
              <a:avLst/>
              <a:gdLst>
                <a:gd name="textAreaLeft" fmla="*/ 129240 w 2652840"/>
                <a:gd name="textAreaRight" fmla="*/ 2523600 w 2652840"/>
                <a:gd name="textAreaTop" fmla="*/ 129240 h 2890800"/>
                <a:gd name="textAreaBottom" fmla="*/ 2761560 h 2890800"/>
              </a:gdLst>
              <a:ahLst/>
              <a:rect l="textAreaLeft" t="textAreaTop" r="textAreaRight" b="textAreaBottom"/>
              <a:pathLst>
                <a:path w="21600" h="23537">
                  <a:moveTo>
                    <a:pt x="3600" y="0"/>
                  </a:moveTo>
                  <a:arcTo wR="3600" hR="3600" stAng="16200000" swAng="-5400000"/>
                  <a:lnTo>
                    <a:pt x="0" y="19937"/>
                  </a:lnTo>
                  <a:arcTo wR="3600" hR="3600" stAng="10800000" swAng="-5400000"/>
                  <a:lnTo>
                    <a:pt x="18000" y="235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AutoShape 35"/>
            <p:cNvSpPr/>
            <p:nvPr/>
          </p:nvSpPr>
          <p:spPr>
            <a:xfrm>
              <a:off x="6091560" y="4208400"/>
              <a:ext cx="261684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AutoShape 36"/>
            <p:cNvSpPr/>
            <p:nvPr/>
          </p:nvSpPr>
          <p:spPr>
            <a:xfrm>
              <a:off x="6091560" y="2166840"/>
              <a:ext cx="261684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0" name="Group 37"/>
            <p:cNvGrpSpPr/>
            <p:nvPr/>
          </p:nvGrpSpPr>
          <p:grpSpPr>
            <a:xfrm>
              <a:off x="6968520" y="1828800"/>
              <a:ext cx="812520" cy="642960"/>
              <a:chOff x="6968520" y="1828800"/>
              <a:chExt cx="812520" cy="642960"/>
            </a:xfrm>
          </p:grpSpPr>
          <p:sp>
            <p:nvSpPr>
              <p:cNvPr id="771" name="Oval 38"/>
              <p:cNvSpPr/>
              <p:nvPr/>
            </p:nvSpPr>
            <p:spPr>
              <a:xfrm>
                <a:off x="6968520" y="1828800"/>
                <a:ext cx="81252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Oval 39"/>
              <p:cNvSpPr/>
              <p:nvPr/>
            </p:nvSpPr>
            <p:spPr>
              <a:xfrm>
                <a:off x="6976800" y="1833480"/>
                <a:ext cx="7855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Oval 40"/>
              <p:cNvSpPr/>
              <p:nvPr/>
            </p:nvSpPr>
            <p:spPr>
              <a:xfrm>
                <a:off x="6986520" y="1837440"/>
                <a:ext cx="7675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Oval 41"/>
              <p:cNvSpPr/>
              <p:nvPr/>
            </p:nvSpPr>
            <p:spPr>
              <a:xfrm>
                <a:off x="6995160" y="1843200"/>
                <a:ext cx="72972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Oval 42"/>
              <p:cNvSpPr/>
              <p:nvPr/>
            </p:nvSpPr>
            <p:spPr>
              <a:xfrm>
                <a:off x="7037640" y="1858680"/>
                <a:ext cx="64836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6" name="Text Box 43"/>
            <p:cNvSpPr/>
            <p:nvPr/>
          </p:nvSpPr>
          <p:spPr>
            <a:xfrm>
              <a:off x="71917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Text Box 44"/>
            <p:cNvSpPr/>
            <p:nvPr/>
          </p:nvSpPr>
          <p:spPr>
            <a:xfrm>
              <a:off x="6123960" y="2590920"/>
              <a:ext cx="26006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AutoShape 45"/>
            <p:cNvSpPr/>
            <p:nvPr/>
          </p:nvSpPr>
          <p:spPr>
            <a:xfrm>
              <a:off x="6019920" y="4994280"/>
              <a:ext cx="27345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AutoShape 46"/>
            <p:cNvSpPr/>
            <p:nvPr/>
          </p:nvSpPr>
          <p:spPr>
            <a:xfrm>
              <a:off x="6075720" y="5018040"/>
              <a:ext cx="26164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Прямоугольник 46"/>
          <p:cNvSpPr/>
          <p:nvPr/>
        </p:nvSpPr>
        <p:spPr>
          <a:xfrm>
            <a:off x="228600" y="22096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вмешивайтесь в выполнение домашнего задания, если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проси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мощ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рямоугольник 47"/>
          <p:cNvSpPr/>
          <p:nvPr/>
        </p:nvSpPr>
        <p:spPr>
          <a:xfrm>
            <a:off x="3657600" y="243828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ьмите на себя только, то,  что он не может выпол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Прямоугольник 48"/>
          <p:cNvSpPr/>
          <p:nvPr/>
        </p:nvSpPr>
        <p:spPr>
          <a:xfrm>
            <a:off x="6019920" y="2362320"/>
            <a:ext cx="2895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 мере освоения ребёнком но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ействий, постепенно передавайте ему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Picture 8" descr="Учитель"/>
          <p:cNvPicPr/>
          <p:nvPr/>
        </p:nvPicPr>
        <p:blipFill>
          <a:blip r:embed="rId1"/>
          <a:stretch/>
        </p:blipFill>
        <p:spPr>
          <a:xfrm>
            <a:off x="762120" y="4876920"/>
            <a:ext cx="186840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Как помочь ребенку                                           выполнить домашнее задание»</a:t>
            </a:r>
            <a:br>
              <a:rPr sz="5400"/>
            </a:b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2286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енок должен готовить домашнее задан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амостоятель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не бесконтро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ясни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рудности, с которыми встречается ребенок при выполнении домашнего зад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строй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бенка на выполнение заданий тех уроков, которые были сегодня, а задания на следующий день надо только повтор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тм выполнения домашнего задания               индивидуален для каждого ребенка                 Не Следует ни торопиться, и ни затяги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бсуждайте с ребёнком то, что                                           задал учитель учить дома. Он                       руководствуется учебным планом и                         и утверждённой школьной программ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5" descr="р19"/>
          <p:cNvPicPr/>
          <p:nvPr/>
        </p:nvPicPr>
        <p:blipFill>
          <a:blip r:embed="rId1"/>
          <a:stretch/>
        </p:blipFill>
        <p:spPr>
          <a:xfrm>
            <a:off x="6583320" y="3886200"/>
            <a:ext cx="2560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Прямоугольник 1"/>
          <p:cNvSpPr/>
          <p:nvPr/>
        </p:nvSpPr>
        <p:spPr>
          <a:xfrm>
            <a:off x="2286000" y="474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Это надо помнить !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е каждого задания необходимо мотивировать применением его в будущ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ледует отвлекать ребенка, умственный труд требует сосредоточе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умная помощь и ненавязчивый контроль особенно необходимы ребенку в трудновыполнимых зада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епенно необходимо приучать ребенка к планирующей оценке своих действий на день, два, неделю, месяц, четвер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Рисунок 4" descr="1september.jpg"/>
          <p:cNvPicPr/>
          <p:nvPr/>
        </p:nvPicPr>
        <p:blipFill>
          <a:blip r:embed="rId1"/>
          <a:stretch/>
        </p:blipFill>
        <p:spPr>
          <a:xfrm>
            <a:off x="7620120" y="152280"/>
            <a:ext cx="1333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омните об этом!!!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152280" y="1219320"/>
            <a:ext cx="87631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Научить рёбёнка самостоятельно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учитьс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         </a:t>
            </a: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научить добывать знания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аша родительская обязанность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06060"/>
                </a:solidFill>
                <a:latin typeface="Arial"/>
              </a:rPr>
              <a:t>Статья 52                                «Закон «Закон об образовани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06060"/>
                </a:solidFill>
                <a:latin typeface="Arial"/>
              </a:rPr>
              <a:t>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5" descr="j0088510"/>
          <p:cNvPicPr/>
          <p:nvPr/>
        </p:nvPicPr>
        <p:blipFill>
          <a:blip r:embed="rId1"/>
          <a:stretch/>
        </p:blipFill>
        <p:spPr>
          <a:xfrm>
            <a:off x="5943600" y="3200400"/>
            <a:ext cx="30052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43164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Arial"/>
              </a:rPr>
              <a:t>Ребёнок нуждается в постоянной поддержке родителей. Ваша искренняя заинтересованность в его школьных делах, серьёзное отношение к достижениям и трудностям помогут учени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Не забывайте напоминать о школьных правилах и необходимости их соблю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92aa2"/>
                </a:solidFill>
                <a:latin typeface="Arial"/>
              </a:rPr>
              <a:t>Составьте вместе распорядок дня, а затем следите за его выполн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190760" y="1294920"/>
            <a:ext cx="48006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26b18"/>
                </a:solidFill>
                <a:latin typeface="Arial"/>
              </a:rPr>
              <a:t>Когда человек учится, у него может что-то не получаться, это естественно. Ребёнок имеет право на ошиб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Не пропускайте трудности. При необходимости обращайтесь за помощью к учител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Поддерживайте ребёнка в его желании добиться успеха. В каждой работе обязательно найдите, за что можно было бы его похвали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Arial"/>
              </a:rPr>
              <a:t>Похвала способна повысить интеллектуальные дост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AutoShape 4"/>
          <p:cNvSpPr/>
          <p:nvPr/>
        </p:nvSpPr>
        <p:spPr>
          <a:xfrm>
            <a:off x="0" y="0"/>
            <a:ext cx="4267080" cy="190512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WordArt 6"/>
          <p:cNvSpPr txBox="1"/>
          <p:nvPr/>
        </p:nvSpPr>
        <p:spPr>
          <a:xfrm>
            <a:off x="684360" y="476280"/>
            <a:ext cx="251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лез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98" name="WordArt 7"/>
          <p:cNvSpPr txBox="1"/>
          <p:nvPr/>
        </p:nvSpPr>
        <p:spPr>
          <a:xfrm>
            <a:off x="684360" y="981000"/>
            <a:ext cx="25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2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-360" y="4571640"/>
            <a:ext cx="8915400" cy="685800"/>
          </a:xfrm>
          <a:prstGeom prst="rect">
            <a:avLst/>
          </a:prstGeom>
          <a:solidFill>
            <a:srgbClr val="f4e294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Успехов и терпения ВАМ в воспитании и обучении детей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WordArt 3"/>
          <p:cNvSpPr txBox="1"/>
          <p:nvPr/>
        </p:nvSpPr>
        <p:spPr>
          <a:xfrm>
            <a:off x="914400" y="3048120"/>
            <a:ext cx="7391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65d135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Спасибо за сотрудничество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65d135"/>
                  </a:gs>
                </a:gsLst>
                <a:lin ang="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WordArt 2"/>
          <p:cNvSpPr txBox="1"/>
          <p:nvPr/>
        </p:nvSpPr>
        <p:spPr>
          <a:xfrm rot="20901000">
            <a:off x="831960" y="1698120"/>
            <a:ext cx="7418160" cy="271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6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пасибо за внимание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62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802" name="Picture 3" descr="j0305589[1]"/>
          <p:cNvPicPr/>
          <p:nvPr/>
        </p:nvPicPr>
        <p:blipFill>
          <a:blip r:embed="rId1"/>
          <a:stretch/>
        </p:blipFill>
        <p:spPr>
          <a:xfrm>
            <a:off x="6556320" y="4549680"/>
            <a:ext cx="1647720" cy="139392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8" descr="Учитель"/>
          <p:cNvPicPr/>
          <p:nvPr/>
        </p:nvPicPr>
        <p:blipFill>
          <a:blip r:embed="rId2"/>
          <a:stretch/>
        </p:blipFill>
        <p:spPr>
          <a:xfrm>
            <a:off x="457200" y="990720"/>
            <a:ext cx="1868400" cy="162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Rectangle 2" descr=""/>
          <p:cNvPicPr/>
          <p:nvPr/>
        </p:nvPicPr>
        <p:blipFill>
          <a:blip r:embed="rId1"/>
          <a:stretch/>
        </p:blipFill>
        <p:spPr>
          <a:xfrm>
            <a:off x="1214280" y="142920"/>
            <a:ext cx="7429680" cy="6429240"/>
          </a:xfrm>
          <a:prstGeom prst="rect">
            <a:avLst/>
          </a:prstGeom>
          <a:ln w="0">
            <a:noFill/>
          </a:ln>
        </p:spPr>
      </p:pic>
      <p:sp>
        <p:nvSpPr>
          <p:cNvPr id="676" name="Прямоугольник 4"/>
          <p:cNvSpPr/>
          <p:nvPr/>
        </p:nvSpPr>
        <p:spPr>
          <a:xfrm>
            <a:off x="2500200" y="58579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436a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5436a"/>
                </a:solidFill>
                <a:latin typeface="Arial"/>
              </a:rPr>
              <a:t>Р. Кипл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4" descr="Карандаш"/>
          <p:cNvPicPr/>
          <p:nvPr/>
        </p:nvPicPr>
        <p:blipFill>
          <a:blip r:embed="rId2"/>
          <a:stretch/>
        </p:blipFill>
        <p:spPr>
          <a:xfrm>
            <a:off x="7929720" y="3929040"/>
            <a:ext cx="1684080" cy="246060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4" descr="Глобус"/>
          <p:cNvPicPr/>
          <p:nvPr/>
        </p:nvPicPr>
        <p:blipFill>
          <a:blip r:embed="rId3"/>
          <a:stretch/>
        </p:blipFill>
        <p:spPr>
          <a:xfrm>
            <a:off x="142920" y="142920"/>
            <a:ext cx="1238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Прямоугольник 1"/>
          <p:cNvSpPr/>
          <p:nvPr/>
        </p:nvSpPr>
        <p:spPr>
          <a:xfrm>
            <a:off x="990720" y="152280"/>
            <a:ext cx="594360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ложение о критериях оценивания знаний учащихся 2-4 классов муниципального общеобразовательного учрежд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Общие поло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1. Настоящее положение регламентирует порядок оцени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ебных достижений, уровня знаний и умений, навыков учащихся при текущем и итоговом контроле обучающихся 2-4 классов и разработано на основ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кона РФ «Об образовании» в ред. от 02.02.2011 №2-ФЗ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ожения о порядке проведения промежуточной аттес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ереводных классах школ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ипового положения об общеобразовательном учреждении, утвержденного постановлением правительства РФ 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 марта  2001г. № 196 (в ред. от 10.03.2009 № 21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йствующих нормативных требований по оценке знаний, умений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выков учащихся по отдельным учебным предметам и образовательным областя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тодического письма «Контроль результат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учения в начальной школе», №1561/14-15 от 19.11.1998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2. Система контроля и оценки ставит следующую задачу: развить 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кольников умение проверять и контролировать себ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итически оценивать свою деятельность, находить ошибки и пути их устран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3. С учетом современных требований к оценочной деятельности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чальной школе вводится четырех балльная система цифровых оценок. Отменяется оценка «очень плохо» (отметка 1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ритерии оц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т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 более 2-х оши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или 1ошибка и 2 исправл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3» - не более 4-х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2» - 5 и более ошиб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781680" y="1371600"/>
            <a:ext cx="1905120" cy="1619280"/>
          </a:xfrm>
          <a:prstGeom prst="rect">
            <a:avLst/>
          </a:prstGeom>
          <a:ln w="0">
            <a:noFill/>
          </a:ln>
        </p:spPr>
      </p:pic>
      <p:pic>
        <p:nvPicPr>
          <p:cNvPr id="683" name="Рисунок 4" descr="335ohp.jpg"/>
          <p:cNvPicPr/>
          <p:nvPr/>
        </p:nvPicPr>
        <p:blipFill>
          <a:blip r:embed="rId2"/>
          <a:stretch/>
        </p:blipFill>
        <p:spPr>
          <a:xfrm>
            <a:off x="228600" y="1143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рфографическо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без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полность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но допущены ошибки ( не более ¾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«3»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выполнено правильно не менее ½ всех зада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«2»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выполненно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писывание текста (без задания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безукоризненно выполненная работа, в которой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-2 исправления или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«3»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-3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4 ошибки и бол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4572000"/>
            <a:ext cx="16941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ловарный 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работа без ошиб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«3»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3-5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4114800"/>
            <a:ext cx="190512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онтрольная работа (тес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- безошибочно выполнены все зад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- выполнено правильно не менее 3/4 всех зад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«3» - выполнено не менее ½ зад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«2» - ученик не справился с большинством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477120" y="495288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5:38:31Z</dcterms:created>
  <dc:creator>ThemeGallery</dc:creator>
  <dc:description/>
  <dc:language>en-US</dc:language>
  <cp:lastModifiedBy>Ирина</cp:lastModifiedBy>
  <dcterms:modified xsi:type="dcterms:W3CDTF">2018-10-11T03:13:40Z</dcterms:modified>
  <cp:revision>87</cp:revision>
  <dc:subject/>
  <dc:title>PowerPoint Template</dc:title>
</cp:coreProperties>
</file>