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68D1-04D7-42CB-B0CD-E8C52906A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ACB-93BC-4B55-B7BB-07AD085E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BDA2-7EA4-42EF-8038-B9B331C25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8A3B-70FD-4364-B412-914D56DCB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4275-38B2-4AC9-9417-11F1771E9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C5C9-1A54-4A39-8CE8-7D0463D5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B228-87E6-4E21-8A15-35D39AB1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13B3-510B-477D-B533-FFE0339D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E6E6-63D0-40E0-8D41-9242C7D27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AABA1-0980-49FE-9A70-5062928F2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1320-6042-42FE-9E96-A93402F0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97F7-37FA-44E3-A9E5-51EDC8F13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87EC-DFC4-4F72-B818-D340D774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A439-05C0-4B96-8ED6-75817C7AE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1B45-2718-4F64-A6CC-D9089B925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F326-0E63-41EB-B083-EEA18AFE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2D39-D259-4588-999B-BA0A104E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C601-14CC-4930-B2A3-AA81CDBF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7A5-DE4B-4ECD-9496-2D94B1DB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FB3F-C685-4675-A657-7B2656E1A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FEB3-DB09-4C22-9151-FF5823A8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CB34-BFBB-47D8-A8B0-5F5EB043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F136-582C-41F4-8FBC-B13BA25A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86DE-9FDF-43E1-A61F-80B16F87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25BA-CEC2-49ED-B715-01F7318A75AF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6084-3A89-408C-BF38-8C58C5DEFDF4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907560"/>
            <a:ext cx="7116480" cy="518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дидактических игр в познавательной деятельности дошкольников.</a:t>
            </a:r>
            <a:endParaRPr b="0" lang="en-US" sz="6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465480"/>
            <a:ext cx="7124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71280" y="188640"/>
            <a:ext cx="712476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дактическая игра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такая коллективная, целенаправленная учебная деятельность, когда каждый участник и команда в целом объединены решением главной задачи и ориентируют свое поведение на выигрыш. Дидактическая игра — это активная и(или) интерактивная учебная деятельность по имитационному моделированию изучаемых систем, явлений, процессов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407520"/>
            <a:ext cx="7124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09800" y="549360"/>
            <a:ext cx="7124400" cy="53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В игре ребенок приобретает новые знания, умения, навыки. Игры, способствующие развитию восприятия, внимания, памяти, мышления, развитию творческих способностей, направлены на умственное развитие дошкольника в целом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ие игры в раннем возрасте. 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Покажи правильно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 гостях у куклы Кати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Найди и покажи»;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гадай. Что бывает весной, летом, осенью, зимой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c32ac"/>
                </a:solidFill>
                <a:latin typeface="Times New Roman"/>
                <a:ea typeface="Times New Roman"/>
              </a:rPr>
              <a:t>Дидактические игры во 2-ой младшей группе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09800" y="2133360"/>
            <a:ext cx="712440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«Догадайся, что звучит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«Где растет?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«Собери грибы в лукошко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«Потерялись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189000"/>
            <a:ext cx="71244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Дидактические игры в средней группе.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ершки и корешки»;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то во что одет?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хотник и пастух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ывает или не бывает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189000"/>
            <a:ext cx="71244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ae1078"/>
                </a:solidFill>
                <a:latin typeface="Times New Roman"/>
                <a:ea typeface="Times New Roman"/>
              </a:rPr>
              <a:t>Дидактические игры с старшей группе.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Пищевые цепочки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Что может делать вода?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Живое – неживое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Отбери животных, которые живут под землей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9800" y="189000"/>
            <a:ext cx="7124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дактические игры в подготовительной группе.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09800" y="1806480"/>
            <a:ext cx="7124400" cy="44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тему «Космос»;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тему «Профессии и техника»;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ные опыты;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1244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все возрастов и с постепенным усложнением подходит игра «Кто где живет?»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-19080" y="1474920"/>
            <a:ext cx="5359320" cy="3189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5284800" y="3584520"/>
            <a:ext cx="36702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2T04:46:59Z</dcterms:created>
  <dc:creator>1</dc:creator>
  <dc:description/>
  <dc:language>en-US</dc:language>
  <cp:lastModifiedBy>Пользователь Windows</cp:lastModifiedBy>
  <dcterms:modified xsi:type="dcterms:W3CDTF">2019-01-07T06:57:54Z</dcterms:modified>
  <cp:revision>14</cp:revision>
  <dc:subject/>
  <dc:title>Роль дидактических игр в познавательной деятельности дошкольников.</dc:title>
</cp:coreProperties>
</file>