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7.gif" ContentType="image/gif"/>
  <Override PartName="/ppt/media/image3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jeopardy-wait%20long.wav" ContentType="audio/x-wav"/>
  <Override PartName="/ppt/media/image11.png" ContentType="image/png"/>
  <Override PartName="/ppt/media/image5.png" ContentType="image/png"/>
  <Override PartName="/ppt/media/whoosh.wav" ContentType="audio/x-wav"/>
  <Override PartName="/ppt/media/image2.png" ContentType="image/png"/>
  <Override PartName="/ppt/media/drumroll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C69-2926-4FC6-A8C1-252B42F944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D84-C777-4A11-B505-D9A70824E0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6A10-AA9B-4658-B462-2C786915A7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296-B080-443A-B407-C5023C7FBC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5A13-E238-47E4-B312-3BF91C13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A599-8DF7-4DBE-8093-8DF7AED8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A0EE-D931-4334-9850-7D4FF10C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7315-1B99-46DF-A69B-9D47A5E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8DCB-478A-4FB6-A57C-CB40993D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B8A8-E056-459B-BAE9-066F32B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57CB-3C20-459D-BE81-F6954141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0F54-5D7E-4F43-9C3A-B7EFBDB8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703-AD7F-44B8-9493-045AB8B4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6DA-7B89-48A2-84A7-8B48AE9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111-9745-4805-8D70-4F9E9E3D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7811-2FFB-4289-ACAC-903C304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6419-700A-4EA2-95CF-162BEE2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953-0C85-4B9F-9FB1-8EA4BF1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764-9459-472E-90CB-AC84494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0784-2D96-49C3-88B2-8E67EDE0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76E-723A-4AED-8D33-CFCB64DD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8D14-4B94-4F65-AE2E-4F09879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EFAF-974D-428E-8944-E15FF5C7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6AF0-0DDF-4CF3-85A6-807722BA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5F5D-4E89-4B07-A62F-CF4D276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1BF4-AD70-4486-8F06-929F4F1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708C-7780-4761-9F4D-296394B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6533-2835-43F8-9B59-7F8DBED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B17-DE11-4BCD-9F7D-060ACF276E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49E3-8652-4F20-A932-7258B71B9F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-wait%20lo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6.xml"/><Relationship Id="rId8" Type="http://schemas.openxmlformats.org/officeDocument/2006/relationships/slide" Target="slide24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25.xml"/><Relationship Id="rId13" Type="http://schemas.openxmlformats.org/officeDocument/2006/relationships/slide" Target="slide10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26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lase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slideLayout" Target="../slideLayouts/slideLayout1.xml"/><Relationship Id="rId4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 flipV="1" rot="10800000">
            <a:off x="2347560" y="4690440"/>
            <a:ext cx="7219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атематическая виктор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467080" y="182520"/>
            <a:ext cx="487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7 КЛАС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 flipV="1" rot="10813800">
            <a:off x="-733680" y="4594320"/>
            <a:ext cx="987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атематическая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иктор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84080" y="5594400"/>
            <a:ext cx="2405160" cy="100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20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1" descr="своя игра загл"/>
          <p:cNvPicPr/>
          <p:nvPr/>
        </p:nvPicPr>
        <p:blipFill>
          <a:blip r:embed="rId1"/>
          <a:stretch/>
        </p:blipFill>
        <p:spPr>
          <a:xfrm>
            <a:off x="0" y="-603360"/>
            <a:ext cx="9802800" cy="76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19280" y="630000"/>
            <a:ext cx="720072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отая часть числ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94280" y="2060640"/>
            <a:ext cx="793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лабиринт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4508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цен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думать.mp3" descr=""/>
          <p:cNvPicPr/>
          <p:nvPr/>
        </p:nvPicPr>
        <p:blipFill>
          <a:blip r:embed="rId1"/>
          <a:stretch/>
        </p:blipFill>
        <p:spPr>
          <a:xfrm>
            <a:off x="7020000" y="628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gong.mp3" descr=""/>
          <p:cNvPicPr/>
          <p:nvPr/>
        </p:nvPicPr>
        <p:blipFill>
          <a:blip r:embed="rId2"/>
          <a:stretch/>
        </p:blipFill>
        <p:spPr>
          <a:xfrm>
            <a:off x="6126120" y="6281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3208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6184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ло 5 свечей. Две из них потушили. Сколько свечей осталос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42908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думать.mp3" descr=""/>
          <p:cNvPicPr/>
          <p:nvPr/>
        </p:nvPicPr>
        <p:blipFill>
          <a:blip r:embed="rId1"/>
          <a:stretch/>
        </p:blipFill>
        <p:spPr>
          <a:xfrm>
            <a:off x="7075440" y="6300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gong.mp3" descr=""/>
          <p:cNvPicPr/>
          <p:nvPr/>
        </p:nvPicPr>
        <p:blipFill>
          <a:blip r:embed="rId2"/>
          <a:stretch/>
        </p:blipFill>
        <p:spPr>
          <a:xfrm>
            <a:off x="6178680" y="6257880"/>
            <a:ext cx="32040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32088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5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618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9280" y="6044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лова «Математика царица наук» Пушкина или Гаусс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аус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думать.mp3" descr=""/>
          <p:cNvPicPr/>
          <p:nvPr/>
        </p:nvPicPr>
        <p:blipFill>
          <a:blip r:embed="rId1"/>
          <a:stretch/>
        </p:blipFill>
        <p:spPr>
          <a:xfrm>
            <a:off x="7137360" y="623088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210" name="gong.mp3" descr=""/>
          <p:cNvPicPr/>
          <p:nvPr/>
        </p:nvPicPr>
        <p:blipFill>
          <a:blip r:embed="rId2"/>
          <a:stretch/>
        </p:blipFill>
        <p:spPr>
          <a:xfrm>
            <a:off x="6423120" y="626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32088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1" dur="618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4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фагор или Архимед был олимпийским чемпионом по бокс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222640" y="177336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84360" y="4292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думать.mp3" descr=""/>
          <p:cNvPicPr/>
          <p:nvPr/>
        </p:nvPicPr>
        <p:blipFill>
          <a:blip r:embed="rId1"/>
          <a:stretch/>
        </p:blipFill>
        <p:spPr>
          <a:xfrm>
            <a:off x="7211880" y="628164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16" name="gong.mp3" descr=""/>
          <p:cNvPicPr/>
          <p:nvPr/>
        </p:nvPicPr>
        <p:blipFill>
          <a:blip r:embed="rId2"/>
          <a:stretch/>
        </p:blipFill>
        <p:spPr>
          <a:xfrm>
            <a:off x="6381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32088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6184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63280" y="60444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Если у треугольника отрезать один угол, сколько углов останетс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390760" y="263700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Догадайся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971640" y="49356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еты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думать.mp3" descr=""/>
          <p:cNvPicPr/>
          <p:nvPr/>
        </p:nvPicPr>
        <p:blipFill>
          <a:blip r:embed="rId1"/>
          <a:stretch/>
        </p:blipFill>
        <p:spPr>
          <a:xfrm>
            <a:off x="6966000" y="627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gong.mp3" descr=""/>
          <p:cNvPicPr/>
          <p:nvPr/>
        </p:nvPicPr>
        <p:blipFill>
          <a:blip r:embed="rId2"/>
          <a:stretch/>
        </p:blipFill>
        <p:spPr>
          <a:xfrm>
            <a:off x="6095880" y="627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3208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61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560" y="475920"/>
            <a:ext cx="74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му равен радиус единичной окружности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40940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62728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дини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думать.mp3" descr=""/>
          <p:cNvPicPr/>
          <p:nvPr/>
        </p:nvPicPr>
        <p:blipFill>
          <a:blip r:embed="rId1"/>
          <a:stretch/>
        </p:blipFill>
        <p:spPr>
          <a:xfrm>
            <a:off x="6875640" y="6230880"/>
            <a:ext cx="44604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gong.mp3" descr=""/>
          <p:cNvPicPr/>
          <p:nvPr/>
        </p:nvPicPr>
        <p:blipFill>
          <a:blip r:embed="rId2"/>
          <a:stretch/>
        </p:blipFill>
        <p:spPr>
          <a:xfrm>
            <a:off x="5940360" y="62308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3208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618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40940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62728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осем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359000" y="412920"/>
            <a:ext cx="79074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 граней у шестигра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рандаш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думать.mp3" descr=""/>
          <p:cNvPicPr/>
          <p:nvPr/>
        </p:nvPicPr>
        <p:blipFill>
          <a:blip r:embed="rId1"/>
          <a:stretch/>
        </p:blipFill>
        <p:spPr>
          <a:xfrm>
            <a:off x="680400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4" name="gong.mp3" descr=""/>
          <p:cNvPicPr/>
          <p:nvPr/>
        </p:nvPicPr>
        <p:blipFill>
          <a:blip r:embed="rId2"/>
          <a:stretch/>
        </p:blipFill>
        <p:spPr>
          <a:xfrm>
            <a:off x="5867280" y="62388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320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618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тверждение, не требующее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казательст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406160" y="177336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5564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си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1835280" y="260280"/>
            <a:ext cx="73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думать.mp3" descr=""/>
          <p:cNvPicPr/>
          <p:nvPr/>
        </p:nvPicPr>
        <p:blipFill>
          <a:blip r:embed="rId1"/>
          <a:stretch/>
        </p:blipFill>
        <p:spPr>
          <a:xfrm>
            <a:off x="709308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gong.mp3" descr=""/>
          <p:cNvPicPr/>
          <p:nvPr/>
        </p:nvPicPr>
        <p:blipFill>
          <a:blip r:embed="rId2"/>
          <a:stretch/>
        </p:blipFill>
        <p:spPr>
          <a:xfrm>
            <a:off x="6156360" y="62784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208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618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406160" y="2276640"/>
            <a:ext cx="61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сякая всячина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3204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трез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C:\Users\Марина\Desktop\ребусы\ребус 11.png"/>
          <p:cNvPicPr/>
          <p:nvPr/>
        </p:nvPicPr>
        <p:blipFill>
          <a:blip r:embed="rId1"/>
          <a:stretch/>
        </p:blipFill>
        <p:spPr>
          <a:xfrm>
            <a:off x="4859280" y="406440"/>
            <a:ext cx="3994200" cy="1558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16160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гадайте ребу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думать.mp3" descr=""/>
          <p:cNvPicPr/>
          <p:nvPr/>
        </p:nvPicPr>
        <p:blipFill>
          <a:blip r:embed="rId2"/>
          <a:stretch/>
        </p:blipFill>
        <p:spPr>
          <a:xfrm>
            <a:off x="6551640" y="612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gong.mp3" descr=""/>
          <p:cNvPicPr/>
          <p:nvPr/>
        </p:nvPicPr>
        <p:blipFill>
          <a:blip r:embed="rId3"/>
          <a:stretch/>
        </p:blipFill>
        <p:spPr>
          <a:xfrm>
            <a:off x="5864400" y="6122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3208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evt="end">
                                        <p:tn val="598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6184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107640" y="1773360"/>
            <a:ext cx="87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268360" y="4437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ономет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44640" y="65520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ибор , для измерения давления в шин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думать.mp3" descr=""/>
          <p:cNvPicPr/>
          <p:nvPr/>
        </p:nvPicPr>
        <p:blipFill>
          <a:blip r:embed="rId1"/>
          <a:stretch/>
        </p:blipFill>
        <p:spPr>
          <a:xfrm>
            <a:off x="67327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gong.mp3" descr=""/>
          <p:cNvPicPr/>
          <p:nvPr/>
        </p:nvPicPr>
        <p:blipFill>
          <a:blip r:embed="rId2"/>
          <a:stretch/>
        </p:blipFill>
        <p:spPr>
          <a:xfrm>
            <a:off x="5724360" y="62514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3208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6184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63640" y="1916280"/>
            <a:ext cx="65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редмет математики настолько серьёзен, что надо не упускать случая сделать его занимательны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Паска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9218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сса бидона с молоком 32 кг, без молока -2 кг. Какова масса бидона, заполненного на половину?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) 15 кг б) 16 кг  в) 17 к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37600" y="2135160"/>
            <a:ext cx="87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00320" y="461160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7 к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думать.mp3" descr=""/>
          <p:cNvPicPr/>
          <p:nvPr/>
        </p:nvPicPr>
        <p:blipFill>
          <a:blip r:embed="rId1"/>
          <a:stretch/>
        </p:blipFill>
        <p:spPr>
          <a:xfrm>
            <a:off x="688968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gong.mp3" descr=""/>
          <p:cNvPicPr/>
          <p:nvPr/>
        </p:nvPicPr>
        <p:blipFill>
          <a:blip r:embed="rId2"/>
          <a:stretch/>
        </p:blipFill>
        <p:spPr>
          <a:xfrm>
            <a:off x="585468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3208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6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618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обыкновенной  дроби  это число записывается  под черт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02960" y="2060640"/>
            <a:ext cx="87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63640" y="4437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наменате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думать.mp3" descr=""/>
          <p:cNvPicPr/>
          <p:nvPr/>
        </p:nvPicPr>
        <p:blipFill>
          <a:blip r:embed="rId1"/>
          <a:stretch/>
        </p:blipFill>
        <p:spPr>
          <a:xfrm>
            <a:off x="67327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gong.mp3" descr=""/>
          <p:cNvPicPr/>
          <p:nvPr/>
        </p:nvPicPr>
        <p:blipFill>
          <a:blip r:embed="rId2"/>
          <a:stretch/>
        </p:blipFill>
        <p:spPr>
          <a:xfrm>
            <a:off x="565164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320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6184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еханизм, преобразующий энергию сгорающего топлива в механическую работ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05840" y="1773360"/>
            <a:ext cx="87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калейдоскоп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195640" y="4508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виг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думать.mp3" descr=""/>
          <p:cNvPicPr/>
          <p:nvPr/>
        </p:nvPicPr>
        <p:blipFill>
          <a:blip r:embed="rId1"/>
          <a:stretch/>
        </p:blipFill>
        <p:spPr>
          <a:xfrm>
            <a:off x="6886440" y="6248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gong.mp3" descr=""/>
          <p:cNvPicPr/>
          <p:nvPr/>
        </p:nvPicPr>
        <p:blipFill>
          <a:blip r:embed="rId2"/>
          <a:stretch/>
        </p:blipFill>
        <p:spPr>
          <a:xfrm>
            <a:off x="601200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3208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evt="end">
                                        <p:tn val="674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6184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4552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естница состоит из 9 ступеней. На какую ступеньку надо встать, чтобы быть как раз на середине лестницы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249560" y="227664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26920" y="49658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я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думать.mp3" descr=""/>
          <p:cNvPicPr/>
          <p:nvPr/>
        </p:nvPicPr>
        <p:blipFill>
          <a:blip r:embed="rId1"/>
          <a:stretch/>
        </p:blipFill>
        <p:spPr>
          <a:xfrm>
            <a:off x="6659640" y="61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78" name="gong.mp3" descr=""/>
          <p:cNvPicPr/>
          <p:nvPr/>
        </p:nvPicPr>
        <p:blipFill>
          <a:blip r:embed="rId2"/>
          <a:stretch/>
        </p:blipFill>
        <p:spPr>
          <a:xfrm>
            <a:off x="558000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3208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0" dur="6184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536840" y="646200"/>
            <a:ext cx="7613640" cy="1195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319400" y="234936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14240" y="5084640"/>
            <a:ext cx="64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торое слагаемое-н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думать.mp3" descr=""/>
          <p:cNvPicPr/>
          <p:nvPr/>
        </p:nvPicPr>
        <p:blipFill>
          <a:blip r:embed="rId2"/>
          <a:stretch/>
        </p:blipFill>
        <p:spPr>
          <a:xfrm>
            <a:off x="6859440" y="62247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gong.mp3" descr=""/>
          <p:cNvPicPr/>
          <p:nvPr/>
        </p:nvPicPr>
        <p:blipFill>
          <a:blip r:embed="rId3"/>
          <a:stretch/>
        </p:blipFill>
        <p:spPr>
          <a:xfrm>
            <a:off x="5796000" y="61689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32088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6184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1523880" y="469800"/>
            <a:ext cx="7626600" cy="2102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1248120" y="234936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Text Box 5" descr=""/>
          <p:cNvPicPr/>
          <p:nvPr/>
        </p:nvPicPr>
        <p:blipFill>
          <a:blip r:embed="rId2"/>
          <a:stretch/>
        </p:blipFill>
        <p:spPr>
          <a:xfrm>
            <a:off x="895320" y="4896000"/>
            <a:ext cx="6419880" cy="5112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думать.mp3" descr=""/>
          <p:cNvPicPr/>
          <p:nvPr/>
        </p:nvPicPr>
        <p:blipFill>
          <a:blip r:embed="rId3"/>
          <a:stretch/>
        </p:blipFill>
        <p:spPr>
          <a:xfrm>
            <a:off x="6699240" y="6210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gong.mp3" descr=""/>
          <p:cNvPicPr/>
          <p:nvPr/>
        </p:nvPicPr>
        <p:blipFill>
          <a:blip r:embed="rId4"/>
          <a:stretch/>
        </p:blipFill>
        <p:spPr>
          <a:xfrm>
            <a:off x="565164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32088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evt="end">
                                        <p:tn val="731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618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то больше произведение всех цифр или их сумм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319400" y="2060640"/>
            <a:ext cx="62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Веселые задачи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979640" y="494172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умм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думать.mp3" descr=""/>
          <p:cNvPicPr/>
          <p:nvPr/>
        </p:nvPicPr>
        <p:blipFill>
          <a:blip r:embed="rId1"/>
          <a:stretch/>
        </p:blipFill>
        <p:spPr>
          <a:xfrm>
            <a:off x="7051680" y="6264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gong.mp3" descr=""/>
          <p:cNvPicPr/>
          <p:nvPr/>
        </p:nvPicPr>
        <p:blipFill>
          <a:blip r:embed="rId2"/>
          <a:stretch/>
        </p:blipFill>
        <p:spPr>
          <a:xfrm>
            <a:off x="6156360" y="6264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3208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6184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905040" y="2106720"/>
            <a:ext cx="74548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игру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SO00828_"/>
          <p:cNvPicPr/>
          <p:nvPr/>
        </p:nvPicPr>
        <p:blipFill>
          <a:blip r:embed="rId1"/>
          <a:stretch/>
        </p:blipFill>
        <p:spPr>
          <a:xfrm>
            <a:off x="7159680" y="182520"/>
            <a:ext cx="1984320" cy="2776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NA00042_"/>
          <p:cNvPicPr/>
          <p:nvPr/>
        </p:nvPicPr>
        <p:blipFill>
          <a:blip r:embed="rId2"/>
          <a:stretch/>
        </p:blipFill>
        <p:spPr>
          <a:xfrm>
            <a:off x="303120" y="3247920"/>
            <a:ext cx="1863720" cy="2759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835280" y="227664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я 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9640" y="0"/>
            <a:ext cx="7848720" cy="2288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Arial"/>
              </a:rPr>
              <a:t>Математический Турни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3120" y="477000"/>
            <a:ext cx="85978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59"/>
                </a:solidFill>
                <a:latin typeface="Monotype Corsiva"/>
              </a:rPr>
              <a:t>Цели математической игры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воспитанию "чувства локтя" и дружбы среди учащихся. Повышение познавательного интереса к предмету матема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побуждению каждого учащегося к творческому поиску и размышлениям, раскрытию своего творческого потенц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пособствовать развитию кругозора учащихся, математической речи и грамо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203640" y="5716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ff"/>
                </a:solidFill>
                <a:latin typeface="Arial"/>
              </a:rPr>
              <a:t>РАЗМ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42960" y="12142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чего не состоялась бы теорема Пифаг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430960" y="15717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ез катета и гипотену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85840" y="1928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строка из произведения французского писателя Альфонсо Доде: “4000 босых и размахивающих руками арабов бежало за верблюдом, как дураки, сверкая шестьюстами тысяч зубов”. А теперь подсчитайте, сколько же зубов у каждого из описанных писателем араб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5437440" y="300024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о 150 зубов на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275760" y="335772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ищет тот, кто решает задач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071960" y="34290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95920" y="38577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ошее отношение катета к гипотену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5076000" y="3857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н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365040" y="435780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из величин с дюжиной ну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4721040" y="43578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илли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285840" y="4857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ежуток времени длинною в 100 л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6289200" y="485784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35712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напряжение в электрооборудовании автомобил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7362360" y="5357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2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428760" y="578628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ли система зажигания в дизельном двигател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7572600" y="578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3399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>
            <a:hlinkClick r:id="" action="ppaction://hlinkshowjump?jump=nextslide"/>
          </p:cNvPr>
          <p:cNvSpPr/>
          <p:nvPr/>
        </p:nvSpPr>
        <p:spPr>
          <a:xfrm>
            <a:off x="324000" y="549360"/>
            <a:ext cx="165564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атематич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кий лабири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Догадай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есел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5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Матема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калейдоскоп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6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сяк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ся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7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Управляющая кнопка: далее 1"/>
          <p:cNvSpPr/>
          <p:nvPr/>
        </p:nvSpPr>
        <p:spPr>
          <a:xfrm>
            <a:off x="7885080" y="6453360"/>
            <a:ext cx="520560" cy="215640"/>
          </a:xfrm>
          <a:custGeom>
            <a:avLst/>
            <a:gdLst>
              <a:gd name="textAreaLeft" fmla="*/ 13680 w 520560"/>
              <a:gd name="textAreaRight" fmla="*/ 506880 w 520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2092" h="21600">
                <a:moveTo>
                  <a:pt x="0" y="0"/>
                </a:moveTo>
                <a:lnTo>
                  <a:pt x="52092" y="0"/>
                </a:lnTo>
                <a:lnTo>
                  <a:pt x="52092" y="21600"/>
                </a:lnTo>
                <a:lnTo>
                  <a:pt x="0" y="21600"/>
                </a:lnTo>
                <a:close/>
              </a:path>
              <a:path fill="lightenLess" w="52092" h="21600">
                <a:moveTo>
                  <a:pt x="0" y="0"/>
                </a:moveTo>
                <a:lnTo>
                  <a:pt x="52092" y="0"/>
                </a:lnTo>
                <a:lnTo>
                  <a:pt x="50692" y="1400"/>
                </a:lnTo>
                <a:lnTo>
                  <a:pt x="1400" y="1400"/>
                </a:lnTo>
                <a:close/>
              </a:path>
              <a:path fill="darken" w="52092" h="21600">
                <a:moveTo>
                  <a:pt x="52092" y="0"/>
                </a:moveTo>
                <a:lnTo>
                  <a:pt x="52092" y="21600"/>
                </a:lnTo>
                <a:lnTo>
                  <a:pt x="50692" y="20200"/>
                </a:lnTo>
                <a:lnTo>
                  <a:pt x="50692" y="1400"/>
                </a:lnTo>
                <a:close/>
              </a:path>
              <a:path fill="darkenLess" w="52092" h="21600">
                <a:moveTo>
                  <a:pt x="5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2" y="20200"/>
                </a:lnTo>
                <a:close/>
              </a:path>
              <a:path fill="lighten" w="5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92" h="21600">
                <a:moveTo>
                  <a:pt x="19040" y="3794"/>
                </a:moveTo>
                <a:lnTo>
                  <a:pt x="33052" y="10800"/>
                </a:lnTo>
                <a:lnTo>
                  <a:pt x="19040" y="17806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езультат сложен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684360" y="1773360"/>
            <a:ext cx="756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«Математический лабиринт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ум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думать.mp3" descr=""/>
          <p:cNvPicPr/>
          <p:nvPr/>
        </p:nvPicPr>
        <p:blipFill>
          <a:blip r:embed="rId1"/>
          <a:stretch/>
        </p:blipFill>
        <p:spPr>
          <a:xfrm>
            <a:off x="7020000" y="6264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gong.mp3" descr=""/>
          <p:cNvPicPr/>
          <p:nvPr/>
        </p:nvPicPr>
        <p:blipFill>
          <a:blip r:embed="rId2"/>
          <a:stretch/>
        </p:blipFill>
        <p:spPr>
          <a:xfrm>
            <a:off x="6229440" y="6264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90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618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5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ая большая хорда окружност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94280" y="1773360"/>
            <a:ext cx="793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«М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атематический лабиринт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76360" y="4365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аметр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думать.mp3" descr=""/>
          <p:cNvPicPr/>
          <p:nvPr/>
        </p:nvPicPr>
        <p:blipFill>
          <a:blip r:embed="rId1"/>
          <a:stretch/>
        </p:blipFill>
        <p:spPr>
          <a:xfrm>
            <a:off x="6635880" y="6107040"/>
            <a:ext cx="41724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gong.mp3" descr=""/>
          <p:cNvPicPr/>
          <p:nvPr/>
        </p:nvPicPr>
        <p:blipFill>
          <a:blip r:embed="rId2"/>
          <a:stretch/>
        </p:blipFill>
        <p:spPr>
          <a:xfrm>
            <a:off x="5794200" y="6107040"/>
            <a:ext cx="4176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3208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618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йцы пилят бревно. Они сделали 10 распилов. Сколько получилось чурбач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739080" y="2349360"/>
            <a:ext cx="760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«Математический лабиринт»</a:t>
            </a:r>
            <a:r>
              <a:rPr b="1" lang="ru-RU" sz="4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32000" y="5084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1 чурбач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думать.mp3" descr=""/>
          <p:cNvPicPr/>
          <p:nvPr/>
        </p:nvPicPr>
        <p:blipFill>
          <a:blip r:embed="rId1"/>
          <a:stretch/>
        </p:blipFill>
        <p:spPr>
          <a:xfrm>
            <a:off x="6823080" y="6243480"/>
            <a:ext cx="369720" cy="371520"/>
          </a:xfrm>
          <a:prstGeom prst="rect">
            <a:avLst/>
          </a:prstGeom>
          <a:ln w="0">
            <a:noFill/>
          </a:ln>
        </p:spPr>
      </p:pic>
      <p:pic>
        <p:nvPicPr>
          <p:cNvPr id="192" name="gong.mp3" descr=""/>
          <p:cNvPicPr/>
          <p:nvPr/>
        </p:nvPicPr>
        <p:blipFill>
          <a:blip r:embed="rId2"/>
          <a:stretch/>
        </p:blipFill>
        <p:spPr>
          <a:xfrm>
            <a:off x="6053040" y="6310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3208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7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6184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Артур</cp:lastModifiedBy>
  <dcterms:modified xsi:type="dcterms:W3CDTF">2013-11-21T13:46:42Z</dcterms:modified>
  <cp:revision>91</cp:revision>
  <dc:subject/>
  <dc:title>Презентация PowerPoint</dc:title>
</cp:coreProperties>
</file>