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100-CF85-45DC-BD5E-45F27F20A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DBA9-C43A-46E4-A075-BD7B97510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67B3-70DB-4493-B3F5-17D3242C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2B43-2CE5-47B3-B6F2-89FF579EB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0A12-608E-488F-877F-C448E6614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307-DF99-4943-8D77-041D1CE7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657-92A0-4DD9-8322-7B4923FE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7471-1CDD-485E-B9AD-1DA4B318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4A6-0893-49FD-98D0-3B9BD3E6A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45CB-AEE8-4B4B-A453-44DEE378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C8D2-A8B9-4DA3-89C6-65C77845E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A88F-60CC-41CD-B594-3431749CA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973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30FF-7ED8-46AA-A3EF-FD0CD6400A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4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"/>
              </a:rPr>
              <a:t>Урок-зачёт по теме «Обособленные и уточняющие члены предлож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0" y="3886200"/>
            <a:ext cx="3200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Выполнила Терских Л.Ю., учитель русского языка и литературы школы №3 г.Сор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c00000"/>
                </a:solidFill>
                <a:latin typeface="Calibri"/>
              </a:rPr>
              <a:t>Объяснить недостающие знаки препин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7621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лизким кажется небо соединившееся с гора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ерез полчаса явился уездный лекарь человек небольшого роста худенький и черноволос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ю жизнь бабушка работала не покладая ру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гу решено было вести через гору несмотря на сложность рельеф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ьды растаяв становятся синью в ре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ндрей подбирал ветки не спеш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десь среди болот поросших богатой растительностью и глухих лесов изгибаясь пробирается тоненький руче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дали сливаясь с небом громоздились льды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Жуковский оставил заметный след в истории литературы как поэт и преданный друг Пушкин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бо в январе как звёздный шатёр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звучит совсем как парадокс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7000"/>
                            </p:stCondLst>
                            <p:childTnLst>
                              <p:par>
                                <p:cTn id="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8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9000"/>
                            </p:stCondLst>
                            <p:childTnLst>
                              <p:par>
                                <p:cTn id="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Списать, расставив знаки препин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990360"/>
            <a:ext cx="91440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спуганные лаем собак они вбежали на террас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центре Москвы на Манежной площади стоит памятник маршалу Жукову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веток поникший потерявший свежесть все-таки был хорош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вери остановились и повернув к нам головы замерли на мест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ыл  лес как сон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н пролетел как стрела всё расстоя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го бывалого охотника заинтересовало это явле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7000"/>
                            </p:stCondLst>
                            <p:childTnLst>
                              <p:par>
                                <p:cTn id="13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Выписать номера тех предложений, где знаки поставлены: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 вариант – правильно;   2 вариант - неправи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ормочет, остывая самова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ергей вышел, потирая руки, и, кивнув мне, уселся ряд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ит остановился и, прислушиваясь к удаляющимся шагам, пошёл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анко бросился вперёд, высоко держа горящее сердце, и, освещая им путь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етер казавшийся слабым в лесу, в поле дул сильне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влечённые светом, бабочки прилетали и кружились около фонар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на совсем измученная дорогой, не могла идти дал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атальон, не замеченный противником, зашёл в тыл и ворвался на вокза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имирязев, замечательный ботаник открыл законы жизни раст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 облаками, заливая воздух серебряными звуками, дрожали жаворон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7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000"/>
                            </p:stCondLst>
                            <p:childTnLst>
                              <p:par>
                                <p:cTn id="1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едактирование текста.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 (ЕГЭ)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Запишите предложения, </a:t>
            </a: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исправив грамматическую ошиб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1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одъезжая к дому, собаки встретили нас громким лае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2 Вариа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Войдя в лес, стало совсем темно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alibri"/>
              </a:rPr>
              <a:t>Домашнее задание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404040"/>
                </a:solidFill>
                <a:latin typeface="Calibri"/>
              </a:rPr>
              <a:t>Придумать два предложения по тем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28440"/>
            <a:ext cx="40384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1752120"/>
            <a:ext cx="403848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2000"/>
                            </p:stCondLst>
                            <p:childTnLst>
                              <p:par>
                                <p:cTn id="258" nodeType="after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9-01-07T15:07:43Z</dcterms:modified>
  <cp:revision>10</cp:revision>
  <dc:subject/>
  <dc:title>Урок-зачёт по теме «Обособленные и уточняющие члены предложения»</dc:title>
</cp:coreProperties>
</file>