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73D-6487-4AE5-A338-A4244026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FFB8-62B4-4A87-B9AD-E5D1AB67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86B-1B3D-4085-83A8-B817C818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2067-D010-4840-87EA-A616FAF37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9922-ED88-4FFB-8B30-6C769346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FC86-1F58-479A-B51D-1D5865C0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7FB4-42F8-4430-9942-3CF3C97B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91F-5F5B-4E75-8538-D56ED682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F759-FA29-40B1-BE6B-D2FDE70D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1F95-5F4D-46D1-B8AF-596DAFAB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F712-FC4E-45CF-8F72-6382C723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4107-7D2B-412D-9AFA-E61954DF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97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16ED2-64B4-47D0-8C55-381DDE0E95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Урок-зачёт по теме «Обособленные и уточняющие члены предлож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38862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полнила Терских Л.Ю., учитель русского языка и литературы школы №3 г.Со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бъяснить недостающие знаки препин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зким кажется небо соединившееся с гор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полчаса явился уездный лекарь человек небольшого роста худенький и черноволос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ю жизнь бабушка работала не покладая ру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гу решено было вести через гору несмотря на сложность рельеф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ды растаяв становятся синью в ре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дрей подбирал ветки не спеш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среди болот поросших богатой растительностью и глухих лесов изгибаясь пробирается тоненький руч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дали сливаясь с небом громоздились ль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ковский оставил заметный след в истории литературы как поэт и преданный друг Пушк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бо в январе как звёздный шатё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вучит совсем как парадок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писать, расставив знаки препи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уганные лаем собак они вбежали на терра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Москвы на Манежной площади стоит памятник маршалу Жуко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ок поникший потерявший свежесть все-таки был хорош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ери остановились и повернув к нам головы замерли на ме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  лес как со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пролетел как стрела всё расстоя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го бывалого охотника заинтересовало это явл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писать номера тех предложений, где знаки поставлены: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 вариант – правильно;   2 вариант - неправи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ормочет, остывая самов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ергей вышел, потирая руки, и, кивнув мне, уселся ря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ит остановился и, прислушиваясь к удаляющимся шагам, пошёл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анко бросился вперёд, высоко держа горящее сердце, и, освещая им путь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етер казавшийся слабым в лесу, в поле дул силь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влечённые светом, бабочки прилетали и кружились около фон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на совсем измученная дорогой, не могла идти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атальон, не замеченный противником, зашёл в тыл и ворвался на вокз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имирязев, замечательный ботаник открыл законы жизни раст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 облаками, заливая воздух серебряными звуками, дрожали жаворо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дактирование текста.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(ЕГЭ)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пишите предложения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правив грамматическую ошиб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ъезжая к дому, собаки встретили нас громким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ойдя в лес, стало совсем тем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Придумать два предложения по те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9-01-07T15:07:43Z</dcterms:modified>
  <cp:revision>10</cp:revision>
  <dc:subject/>
  <dc:title>Урок-зачёт по теме «Обособленные и уточняющие члены предложения»</dc:title>
</cp:coreProperties>
</file>