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A1B-B91E-4C72-AD14-0A7BF87F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605-B643-447F-95D4-8C663F34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437-B353-47BE-BBF3-78BA3611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CC2-CCEC-4166-8AB3-D50B00C2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4D9-4D9E-41CB-A4F8-18A251E4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797-B919-4C19-80BF-C5B72B79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886-8DDF-403E-8567-5AB9EACA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30B-5E97-46DB-BAD7-EABCC127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465-5274-4BC2-89EB-7CA140DE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978-F676-4B2D-AE0C-4D1E27C3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C69-268B-4319-A2B4-1A7B5A5B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642-54E0-4698-BE92-928B9066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C1C0-0AD7-4268-932E-C0CAE43CB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274680"/>
            <a:ext cx="720108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885960"/>
            <a:ext cx="8229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65320" cy="330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2616120"/>
            <a:ext cx="48956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22960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885960"/>
            <a:ext cx="82296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885960"/>
            <a:ext cx="82296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76720" cy="597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2276640"/>
            <a:ext cx="431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4284720" cy="331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7T17:14:20Z</dcterms:created>
  <dc:creator>Александр</dc:creator>
  <dc:description/>
  <dc:language>en-US</dc:language>
  <cp:lastModifiedBy>Александр</cp:lastModifiedBy>
  <dcterms:modified xsi:type="dcterms:W3CDTF">2019-01-07T13:06:24Z</dcterms:modified>
  <cp:revision>3</cp:revision>
  <dc:subject/>
  <dc:title>Слайд 1</dc:title>
</cp:coreProperties>
</file>