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26EAA-D508-4ABD-A945-204B4C5A7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D7AF7-F3E0-4CB1-A2FE-8F96443A0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355F4-5C77-401E-941A-5194FB4B5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A1CA8-8240-45DE-8909-9B35CAB80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B79F5-77DE-4F2C-9480-8567780B2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E228B-EE6B-422A-B432-7A7CA0F5A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97F57-A09A-4831-B16B-3BE6C370C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2E9D0-1EED-4486-ADBD-179AF9C5E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BB982-C7D1-406B-B015-0A642E187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404E3-114C-460B-82E2-EF207D496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19AB0-8D2D-4931-A0E5-40132771B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3E9E2-7D26-4556-9806-BFD24BEC2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36FE6-6755-44CD-BF6D-893AE6659A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826920" y="274680"/>
            <a:ext cx="7201080" cy="617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57200" y="404640"/>
            <a:ext cx="822960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57200" y="885960"/>
            <a:ext cx="8229600" cy="54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3865320" cy="33019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4140360" y="2616120"/>
            <a:ext cx="4895640" cy="35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57200" y="333360"/>
            <a:ext cx="8229600" cy="59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57200" y="334800"/>
            <a:ext cx="8229600" cy="573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762120" y="3430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669960" y="274680"/>
            <a:ext cx="780264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57200" y="885960"/>
            <a:ext cx="8229600" cy="46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57200" y="885960"/>
            <a:ext cx="8229600" cy="506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4176720" cy="59770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4648320" y="2276640"/>
            <a:ext cx="431640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859280" y="3213000"/>
            <a:ext cx="4284720" cy="33116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50920" y="260280"/>
            <a:ext cx="453708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07T17:14:20Z</dcterms:created>
  <dc:creator>Александр</dc:creator>
  <dc:description/>
  <dc:language>en-US</dc:language>
  <cp:lastModifiedBy>Александр</cp:lastModifiedBy>
  <dcterms:modified xsi:type="dcterms:W3CDTF">2019-01-07T13:06:24Z</dcterms:modified>
  <cp:revision>3</cp:revision>
  <dc:subject/>
  <dc:title>Слайд 1</dc:title>
</cp:coreProperties>
</file>