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9.jpeg" ContentType="image/jpeg"/>
  <Override PartName="/ppt/media/image15.jpeg" ContentType="image/jpeg"/>
  <Override PartName="/ppt/media/image26.wmf" ContentType="image/x-wmf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50A8-A13B-4379-92E2-F987B70D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10F7-BCC4-484B-BCB9-7591D31D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816E-5D24-4846-B086-E99EAEA1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D0EC-287F-4F51-9F12-2424F645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8461-9D88-4DAF-9368-4882FA76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6EA-7D55-43A8-BECB-05C0ACD7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4F6D-5C2D-4F5A-901C-B521D663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1872-C6DB-4766-B558-EE24BB0D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DB4E-E954-4708-B460-07891E19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748D-5F57-4B44-8720-E4072DB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BF1F-B89B-419F-B0BD-89A942D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CA88-F24B-43DC-ADD3-8CF0A759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80BA-42AD-4D47-8BFE-53DC5C88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5E8E-19F2-430F-833A-BF158F5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0467-B054-481F-88D2-F0852216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DD80-BC47-4B79-AD41-5C3F3796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4CFE-9E85-430A-BCA3-A0066AF2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4DB1-949D-4BBB-AD18-F377DD2E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991C-3FD2-4E47-862A-5AE69E46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90F9-3719-4D67-A672-B68DA997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6D90-3050-4725-85DE-14E68F7D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C4AB-6A39-4F81-8187-BA29C78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E67E-F870-46F4-AE25-2C75FF95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15D8-378F-4BE4-9619-E040F8CC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E843-2F05-4252-83A6-F6A32B1CDD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E28-004D-46C4-B105-3AB1BA27D8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0840" y="1773000"/>
            <a:ext cx="65516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i="1" lang="ru-RU" sz="8000" spc="-1" strike="noStrike">
                <a:solidFill>
                  <a:srgbClr val="cc00ff"/>
                </a:solidFill>
                <a:latin typeface="Arial"/>
              </a:rPr>
              <a:t>У</a:t>
            </a:r>
            <a:r>
              <a:rPr b="1" i="1" lang="ru-RU" sz="5400" spc="-1" strike="noStrike">
                <a:solidFill>
                  <a:srgbClr val="ff00ff"/>
                </a:solidFill>
                <a:latin typeface="Arial"/>
              </a:rPr>
              <a:t>стный математический      жур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382560" y="4653000"/>
            <a:ext cx="576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baseline="-25000">
                <a:solidFill>
                  <a:srgbClr val="ff0066"/>
                </a:solidFill>
                <a:latin typeface="Arial"/>
              </a:rPr>
              <a:t>«КАЛЕЙДОСКОП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03320" y="4170240"/>
            <a:ext cx="32796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5075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Горе на двоих - полгоря, радость на двоих - две рад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Два сапога - па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Два часа собирался, два часа умывался, час утирался, сутки одева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Как две капли воды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Кто скоро помог, тот дважды помог.</a:t>
            </a:r>
            <a:br>
              <a:rPr sz="1600"/>
            </a:b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Между двух огн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а два слова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е может связать двух слов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Ни два, ни полтора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дна голова - хорошо, а две - лучше.</a:t>
            </a:r>
            <a:br>
              <a:rPr sz="1600"/>
            </a:b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От горшка два верш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алка о двух конц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идеть меж двух стулье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Скупой платит дважд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Убить двух зайце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Уплетать за обе щеки.</a:t>
            </a: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ain1113024026"/>
          <p:cNvPicPr/>
          <p:nvPr/>
        </p:nvPicPr>
        <p:blipFill>
          <a:blip r:embed="rId1"/>
          <a:stretch/>
        </p:blipFill>
        <p:spPr>
          <a:xfrm>
            <a:off x="5003640" y="1341360"/>
            <a:ext cx="1384560" cy="18813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0" y="3933720"/>
            <a:ext cx="84963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Хвастуну цена - три коп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Не узнавай друга в три дня - узнавай в три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Чтобы научиться трудолюбию, нужно три года, чтобы научиться лени - только три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Заблудиться в трех соснах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Не суметь разобраться в чем-нибудь простом, несложном, не суметь найти выход из самого простого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з третьих уст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з третьих рук.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Через посредников, не от очевидцев, не непосредственно (узнавать, получить, услышать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т горшка три вершка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Очень низкий, низкого роста, малень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 три короба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Третьего дня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Позавч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бещанного три года ждут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лакать в три ручья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То есть очень горько плак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main1113024047"/>
          <p:cNvPicPr/>
          <p:nvPr/>
        </p:nvPicPr>
        <p:blipFill>
          <a:blip r:embed="rId2"/>
          <a:stretch/>
        </p:blipFill>
        <p:spPr>
          <a:xfrm>
            <a:off x="6732720" y="2259000"/>
            <a:ext cx="1295280" cy="176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66340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Без четырех углов изба не руб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Конь о четырех ногах, да и то спотык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а все четыре стороны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9900"/>
                </a:solidFill>
                <a:latin typeface="Arial"/>
              </a:rPr>
              <a:t>Куда угодно, куда только захочется (идти, убираться, прогонять, отпуск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Жить в четырех стенах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007d"/>
                </a:solidFill>
                <a:latin typeface="Arial"/>
              </a:rPr>
              <a:t>Не общаясь ни с кем, пребывая в одиночестве. Не выходя из до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main1113024067"/>
          <p:cNvPicPr/>
          <p:nvPr/>
        </p:nvPicPr>
        <p:blipFill>
          <a:blip r:embed="rId1"/>
          <a:stretch/>
        </p:blipFill>
        <p:spPr>
          <a:xfrm>
            <a:off x="7236000" y="692280"/>
            <a:ext cx="1377720" cy="18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in1113024092"/>
          <p:cNvPicPr/>
          <p:nvPr/>
        </p:nvPicPr>
        <p:blipFill>
          <a:blip r:embed="rId2"/>
          <a:stretch/>
        </p:blipFill>
        <p:spPr>
          <a:xfrm>
            <a:off x="206280" y="2637000"/>
            <a:ext cx="1092240" cy="148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in1113024114"/>
          <p:cNvPicPr/>
          <p:nvPr/>
        </p:nvPicPr>
        <p:blipFill>
          <a:blip r:embed="rId3"/>
          <a:stretch/>
        </p:blipFill>
        <p:spPr>
          <a:xfrm>
            <a:off x="5867280" y="3789360"/>
            <a:ext cx="1165320" cy="15843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"/>
          <p:cNvSpPr/>
          <p:nvPr/>
        </p:nvSpPr>
        <p:spPr>
          <a:xfrm>
            <a:off x="1403280" y="2754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Как свои пять пальцев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7d"/>
                </a:solidFill>
                <a:latin typeface="Arial"/>
              </a:rPr>
              <a:t>Знать очень хорошо, досконально, основ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1547640" y="378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ятое колесо в телеге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9900"/>
                </a:solidFill>
                <a:latin typeface="Arial"/>
              </a:rPr>
              <a:t>Лишний, ненужный в каком-либо деле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70036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Шестое чувство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"Шестерка"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емеро с ложкой - один с плош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Лук от семи нед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За семью мор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дним махом семерых убивах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ам не дерусь, семерых не бою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До седьмого колена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До самых отдаленных поко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На седьмом небе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Выражение, пришедшее к нам от греческого философа Аристотеля. Оно означает в настоящее время высшую степень радости, счаст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Семь смертных грехов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Библейское выражение. Со времен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учило значение каких-либо плохих, непростительных проступ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емеро одного не ждут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Так говорят, когда начинают какое-то дело без того, кто опоздал, или с упреком тому, кто заставляет многих (не обязательно семерых) ждать себ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Семь бед - один ответ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Рискнем еще раз, и если придется отвечать - так за все сразу, одновременно. Говорится о решимости сделать еще что-нибудь рискованное, опасное в добавление к уже сделанн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main1113024136"/>
          <p:cNvPicPr/>
          <p:nvPr/>
        </p:nvPicPr>
        <p:blipFill>
          <a:blip r:embed="rId1"/>
          <a:stretch/>
        </p:blipFill>
        <p:spPr>
          <a:xfrm>
            <a:off x="7020000" y="549360"/>
            <a:ext cx="1324080" cy="180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main1113024159"/>
          <p:cNvPicPr/>
          <p:nvPr/>
        </p:nvPicPr>
        <p:blipFill>
          <a:blip r:embed="rId2"/>
          <a:stretch/>
        </p:blipFill>
        <p:spPr>
          <a:xfrm>
            <a:off x="324000" y="4314960"/>
            <a:ext cx="1428480" cy="19429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"/>
          <p:cNvSpPr/>
          <p:nvPr/>
        </p:nvSpPr>
        <p:spPr>
          <a:xfrm>
            <a:off x="2411280" y="486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есна да осень - на дню погод восемь</a:t>
            </a:r>
            <a:r>
              <a:rPr b="0" i="1" lang="ru-RU" sz="1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547640" y="1063800"/>
            <a:ext cx="633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, математика, ты веч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дись, прекрасная, с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е величье бесконеч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предначертано судь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овеяна ты сла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, светоч всех земных свет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бя царицей велич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аром Гаусс окрест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их гениев творе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ица всех наук зем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вызываешь восхищ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мых подданных твои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всем наукам помога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ирать бесценные д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месте с ними пролага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и в далёкие мир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2" descr="&amp;Ncy;&amp;iecy;&amp;dcy;&amp;iecy;&amp;lcy;&amp;yacy; &amp;mcy;&amp;acy;&amp;tcy;&amp;iecy;&amp;mcy;&amp;acy;&amp;tcy;&amp;icy;&amp;kcy;&amp;icy; &amp;Vcy;&amp;ocy;&amp;scy;&amp;pcy;&amp;icy;&amp;tcy;&amp;acy;&amp;tcy;&amp;iecy;&amp;lcy;&amp;yacy;&amp;mcy;"/>
          <p:cNvPicPr/>
          <p:nvPr/>
        </p:nvPicPr>
        <p:blipFill>
          <a:blip r:embed="rId1"/>
          <a:stretch/>
        </p:blipFill>
        <p:spPr>
          <a:xfrm>
            <a:off x="6084720" y="549360"/>
            <a:ext cx="2554560" cy="27892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3 &amp;Dcy;&amp;iecy;&amp;kcy;&amp;acy;&amp;bcy;&amp;rcy;&amp;yacy; 2013 - 8&amp;Bcy; &amp;kcy;&amp;lcy;&amp;acy;&amp;scy;&amp;scy; &amp;lcy;&amp;icy;&amp;tscy;&amp;iecy;&amp;yacy; 4, &amp;gcy;.&amp;Tcy;&amp;ucy;&amp;lcy;&amp;acy;"/>
          <p:cNvPicPr/>
          <p:nvPr/>
        </p:nvPicPr>
        <p:blipFill>
          <a:blip r:embed="rId2"/>
          <a:stretch/>
        </p:blipFill>
        <p:spPr>
          <a:xfrm>
            <a:off x="395280" y="3429000"/>
            <a:ext cx="361620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905040" y="2106720"/>
            <a:ext cx="74548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Поздравляем победителе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SO00828_"/>
          <p:cNvPicPr/>
          <p:nvPr/>
        </p:nvPicPr>
        <p:blipFill>
          <a:blip r:embed="rId1"/>
          <a:stretch/>
        </p:blipFill>
        <p:spPr>
          <a:xfrm>
            <a:off x="7159680" y="182520"/>
            <a:ext cx="1984320" cy="2776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NA00042_"/>
          <p:cNvPicPr/>
          <p:nvPr/>
        </p:nvPicPr>
        <p:blipFill>
          <a:blip r:embed="rId2"/>
          <a:stretch/>
        </p:blipFill>
        <p:spPr>
          <a:xfrm>
            <a:off x="303120" y="3247920"/>
            <a:ext cx="1863720" cy="275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poke620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6200" y="4270320"/>
            <a:ext cx="24652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3" descr="http://hoster.bmstu.ru/%7Efn1/wp-content/uploads/2011/08/math/2.jpg"/>
          <p:cNvPicPr/>
          <p:nvPr/>
        </p:nvPicPr>
        <p:blipFill>
          <a:blip r:embed="rId1"/>
          <a:stretch/>
        </p:blipFill>
        <p:spPr>
          <a:xfrm>
            <a:off x="395280" y="620640"/>
            <a:ext cx="2521080" cy="2879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3276720" y="981000"/>
            <a:ext cx="52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греческий математик, физик, механик и инженер из Сиракуз. Предполагают, что его отцом был астроном Фидий. Часть научных работ Архимеда дошла до нас в форме писем к Эратосфену, Конону, Досифею. Сделал множество открытий в геометрии. Заложил основы механики, гидростатики. Автор ряда важных открытий и изобретений: машины для орошения полей, водоподъемного механизма (архимедов винт), системы рычагов, блоков для поднятия больших тяжестей, военных метательных машин и т. 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1122120" y="37893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264960" y="429264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87 до н. э. — 212 до н. 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Пифагор </a:t>
            </a:r>
            <a:br>
              <a:rPr sz="1600"/>
            </a:b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(греч. Πυθαγόρας ο Σάμιος)</a:t>
            </a:r>
            <a:br>
              <a:rPr sz="1600"/>
            </a:b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(родился ок. 580 г. и умер ок. 5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308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он  умер в 500 году до н.э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 Пифагор"/>
          <p:cNvPicPr/>
          <p:nvPr/>
        </p:nvPicPr>
        <p:blipFill>
          <a:blip r:embed="rId1"/>
          <a:stretch/>
        </p:blipFill>
        <p:spPr>
          <a:xfrm>
            <a:off x="7020000" y="476280"/>
            <a:ext cx="1558800" cy="244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Фалес Милетский "/>
          <p:cNvPicPr/>
          <p:nvPr/>
        </p:nvPicPr>
        <p:blipFill>
          <a:blip r:embed="rId2"/>
          <a:stretch/>
        </p:blipFill>
        <p:spPr>
          <a:xfrm>
            <a:off x="539640" y="3716280"/>
            <a:ext cx="1757520" cy="2160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2390760" y="3933720"/>
            <a:ext cx="59007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Фалес Милетский </a:t>
            </a:r>
            <a:br>
              <a:rPr sz="1800"/>
            </a:b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(625 до н.э. - 548 до н.э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http://hoster.bmstu.ru/%7Efn1/wp-content/uploads/2011/08/math/8.jpg"/>
          <p:cNvPicPr/>
          <p:nvPr/>
        </p:nvPicPr>
        <p:blipFill>
          <a:blip r:embed="rId1"/>
          <a:stretch/>
        </p:blipFill>
        <p:spPr>
          <a:xfrm>
            <a:off x="900000" y="503280"/>
            <a:ext cx="1874880" cy="23176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906120" y="2897280"/>
            <a:ext cx="1846440" cy="368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варист Гал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49400" y="3629160"/>
            <a:ext cx="396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ающийся французский математик, основатель современной высшей алгебры. Радикальный революционер-республиканец, он был застрелен на дуэли при неоднозначных обстоятельствах в возрасте двадцати лет. За 20 лет жизни Галуа успел сделать открытия, ставящие его на уровень крупнейших математиков XIX ве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182880" y="32446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6.10.1811 – 30.05.183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http://hoster.bmstu.ru/%7Efn1/wp-content/uploads/2011/08/math/10.jpg"/>
          <p:cNvPicPr/>
          <p:nvPr/>
        </p:nvPicPr>
        <p:blipFill>
          <a:blip r:embed="rId2"/>
          <a:stretch/>
        </p:blipFill>
        <p:spPr>
          <a:xfrm>
            <a:off x="4859280" y="61920"/>
            <a:ext cx="2133720" cy="2558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4281480" y="24638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1.03.1596 – 11.02.16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4281480" y="3021120"/>
            <a:ext cx="3281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к, физик, философ. Основатель аналитической геометрии. Основные труды Декарта – «Рассуждение о методе» (1637), «Правила для руководства ума» (1701), «Трактат о свете» (1664) и др. Также ученый рассматривал символику Виета, многочлены, решения алгебраических уравнений, комплексные числа (их Декарт называл «ложным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3" descr="http://hoster.bmstu.ru/%7Efn1/wp-content/uploads/2011/08/math/1.jpg"/>
          <p:cNvPicPr/>
          <p:nvPr/>
        </p:nvPicPr>
        <p:blipFill>
          <a:blip r:embed="rId1"/>
          <a:stretch/>
        </p:blipFill>
        <p:spPr>
          <a:xfrm>
            <a:off x="487440" y="598320"/>
            <a:ext cx="165744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336240" y="2585880"/>
            <a:ext cx="22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льс Хенрик А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08000" y="3265560"/>
            <a:ext cx="2840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вежский математик, один из крупнейших математиков 19 в. В алгебре Абель нашёл необходимое условие для того, чтобы корень уравнения выражался «в радикалах» через коэффициенты этого уравнения и привёл конкретные примеры уравнений 5-й степени, чьи корни нельзя выразить в радика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125640" y="290988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5.08.1802 — 06.04.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1" descr="http://hoster.bmstu.ru/%7Efn1/wp-content/uploads/2011/08/math/21.jpg"/>
          <p:cNvPicPr/>
          <p:nvPr/>
        </p:nvPicPr>
        <p:blipFill>
          <a:blip r:embed="rId2"/>
          <a:stretch/>
        </p:blipFill>
        <p:spPr>
          <a:xfrm>
            <a:off x="3924360" y="566640"/>
            <a:ext cx="2038320" cy="25275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3492360" y="345924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2.09.1801 — 20.12.186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сийский математик и механик, признанный лидер математиков Российской империи середины XIX ве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работы Остроградского относятся к прикладным аспектам математического анализа, механики, теории упругости и магнетизма, теории вероятностей. Он внёс также вклад в алгебру и теорию чис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рошо известен метод Остроградского для интегрирования рациональных функций (1844). В физике чрезвычайно полезна формула Остроградского для преобразования объёмного интеграла в поверхност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3732120" y="3124080"/>
            <a:ext cx="38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Васильевич Остроград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http://hoster.bmstu.ru/%7Efn1/wp-content/uploads/2011/08/math/36.jpg"/>
          <p:cNvPicPr/>
          <p:nvPr/>
        </p:nvPicPr>
        <p:blipFill>
          <a:blip r:embed="rId1"/>
          <a:stretch/>
        </p:blipFill>
        <p:spPr>
          <a:xfrm>
            <a:off x="179280" y="476280"/>
            <a:ext cx="186552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2043000" y="404640"/>
            <a:ext cx="62485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суа Ви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François Vièt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540 — 13.02.16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анцузский математик, основоположник символической алгеб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ет ввёл буквенные обозначения не только для неизвестных величин, но и для коэффициентов уравнений; благодаря этому стало впервые возможным выражение свойств уравнений и их корней общими формулами. Ему принадлежит установление единообразного приёма решения уравнений 2-й, 3-й и 4-й степеней. Установил зависимости между корнями и коэффициентами урав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http://hoster.bmstu.ru/%7Efn1/wp-content/uploads/2011/08/math/16.jpg"/>
          <p:cNvPicPr/>
          <p:nvPr/>
        </p:nvPicPr>
        <p:blipFill>
          <a:blip r:embed="rId2"/>
          <a:stretch/>
        </p:blipFill>
        <p:spPr>
          <a:xfrm>
            <a:off x="179280" y="3162240"/>
            <a:ext cx="1865520" cy="27147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2195640" y="4149720"/>
            <a:ext cx="619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ий математик, создатель неевклидовой геометрии, названной его именем, деятель университетского образования и народного просв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ие Лобачевского (1826, опубликованное 1829-30), не получившее признания современников, совершило переворот в представлении о природе пространства, в основе которого более 2 тыс. лет лежало учение Евклида, и оказало огромное влияние на развитие математи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268360" y="3433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олай Иванович Лобаче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20.11.1792 — 12.02.18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39640" y="549360"/>
            <a:ext cx="7777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я стра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Что такое математика и математические терм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Трапеция 2"/>
          <p:cNvSpPr/>
          <p:nvPr/>
        </p:nvSpPr>
        <p:spPr>
          <a:xfrm>
            <a:off x="250920" y="1903320"/>
            <a:ext cx="1614240" cy="1150920"/>
          </a:xfrm>
          <a:custGeom>
            <a:avLst/>
            <a:gdLst/>
            <a:ahLst/>
            <a:rect l="l" t="t" r="r" b="b"/>
            <a:pathLst>
              <a:path w="1614488" h="1150937">
                <a:moveTo>
                  <a:pt x="0" y="1150937"/>
                </a:moveTo>
                <a:lnTo>
                  <a:pt x="287734" y="0"/>
                </a:lnTo>
                <a:lnTo>
                  <a:pt x="1326754" y="0"/>
                </a:lnTo>
                <a:lnTo>
                  <a:pt x="1614488" y="1150937"/>
                </a:lnTo>
                <a:lnTo>
                  <a:pt x="0" y="1150937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3"/>
          <p:cNvSpPr/>
          <p:nvPr/>
        </p:nvSpPr>
        <p:spPr>
          <a:xfrm>
            <a:off x="274680" y="4592520"/>
            <a:ext cx="1668600" cy="136872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магнитный диск 5"/>
          <p:cNvSpPr/>
          <p:nvPr/>
        </p:nvSpPr>
        <p:spPr>
          <a:xfrm rot="458400">
            <a:off x="7162560" y="2031840"/>
            <a:ext cx="1439640" cy="2233800"/>
          </a:xfrm>
          <a:prstGeom prst="flowChartMagneticDisk">
            <a:avLst/>
          </a:prstGeom>
          <a:solidFill>
            <a:srgbClr val="00b0f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ый треугольник 6"/>
          <p:cNvSpPr/>
          <p:nvPr/>
        </p:nvSpPr>
        <p:spPr>
          <a:xfrm rot="17882400">
            <a:off x="6703200" y="4826160"/>
            <a:ext cx="1654200" cy="900360"/>
          </a:xfrm>
          <a:prstGeom prst="rtTriangle">
            <a:avLst/>
          </a:prstGeom>
          <a:solidFill>
            <a:srgbClr val="ff00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7" descr="&amp;Vcy;&amp;icy;&amp;dcy;&amp;iecy;&amp;ocy; - imo2010org.kz - &amp;Mcy;&amp;iecy;&amp;zhcy;&amp;dcy;&amp;ucy;&amp;ncy;&amp;acy;&amp;rcy;&amp;ocy;&amp;dcy;&amp;ncy;&amp;acy;&amp;yacy; &amp;Mcy;&amp;acy;&amp;tcy;&amp;iecy;&amp;mcy;&amp;acy;&amp;tcy;&amp;icy;&amp;chcy;&amp;iecy;&amp;scy;&amp;kcy;&amp;acy;&amp;yacy; &amp;Ocy;&amp;lcy;&amp;icy;&amp;mcy;&amp;pcy;&amp;icy;&amp;acy;&amp;dcy;&amp;acy; 2010"/>
          <p:cNvPicPr/>
          <p:nvPr/>
        </p:nvPicPr>
        <p:blipFill>
          <a:blip r:embed="rId1"/>
          <a:stretch/>
        </p:blipFill>
        <p:spPr>
          <a:xfrm>
            <a:off x="2195640" y="2133720"/>
            <a:ext cx="458316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ОСЛОВИЦЫ, ПОГОВОРКИ, КРЫЛАТЫЕ СЛОВА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(о числ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main1113024026"/>
          <p:cNvPicPr/>
          <p:nvPr/>
        </p:nvPicPr>
        <p:blipFill>
          <a:blip r:embed="rId1"/>
          <a:stretch/>
        </p:blipFill>
        <p:spPr>
          <a:xfrm>
            <a:off x="4140360" y="4508640"/>
            <a:ext cx="63468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ain1113024047"/>
          <p:cNvPicPr/>
          <p:nvPr/>
        </p:nvPicPr>
        <p:blipFill>
          <a:blip r:embed="rId2"/>
          <a:stretch/>
        </p:blipFill>
        <p:spPr>
          <a:xfrm>
            <a:off x="5435640" y="4869000"/>
            <a:ext cx="582480" cy="792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2678040" y="2424600"/>
            <a:ext cx="5931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ословицы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ткие народные изречения с назидатель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м, народные афо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оговорки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раткие устойчивые выражения, преимуще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ные, не составляющ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пословиц, законченных высказы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Крылатые слова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ные, меткие выражения, изре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шедшие в общее употреб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12" descr="&amp;Fcy;&amp;ocy;&amp;tcy;&amp;ocy;&amp;acy;&amp;lcy;&amp;softcy;&amp;bcy;&amp;ocy;&amp;mcy;&amp;ycy; - &amp;Mcy;&amp;icy;&amp;khcy;&amp;acy;&amp;jcy;&amp;lcy;&amp;ocy;&amp;vcy;&amp;scy;&amp;kcy;&amp;acy;&amp;yacy; &amp;shcy;&amp;kcy;&amp;ocy;&amp;lcy;&amp;acy;-&amp;icy;&amp;ncy;&amp;tcy;&amp;iecy;&amp;rcy;&amp;ncy;&amp;acy;&amp;tcy; IV &amp;vcy;&amp;icy;&amp;dcy;&amp;acy;"/>
          <p:cNvPicPr/>
          <p:nvPr/>
        </p:nvPicPr>
        <p:blipFill>
          <a:blip r:embed="rId3"/>
          <a:stretch/>
        </p:blipFill>
        <p:spPr>
          <a:xfrm>
            <a:off x="250920" y="1341360"/>
            <a:ext cx="2392200" cy="2955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9640" y="235404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оль без палочки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 (прост.). Ничего не стоящий, не значащий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Ноль внимания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7d"/>
                </a:solidFill>
                <a:latin typeface="Arial"/>
              </a:rPr>
              <a:t>(прост.)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Полное равнодушие, безразличие со стороны кого-либо к кому-либо или чему-либ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Абсолютный нуль, круглый ноль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Человек ничтожный, совершенно бесполезный в каком-либо де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водить к нулю, свести к нулю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 Лишать всякого смысла, значения. </a:t>
            </a:r>
            <a:r>
              <a:rPr b="0" i="1" lang="ru-RU" sz="1600" spc="-1" strike="noStrike">
                <a:solidFill>
                  <a:srgbClr val="00007d"/>
                </a:solidFill>
                <a:latin typeface="Arial"/>
              </a:rPr>
              <a:t>(сравн. "сводить на нет")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ичего не возникает из ничего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. Это выражение принадлежит греческому философу Мелиссу, часто цитировалось древними философами, писа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main1113024003"/>
          <p:cNvPicPr/>
          <p:nvPr/>
        </p:nvPicPr>
        <p:blipFill>
          <a:blip r:embed="rId1"/>
          <a:stretch/>
        </p:blipFill>
        <p:spPr>
          <a:xfrm>
            <a:off x="7740720" y="2482920"/>
            <a:ext cx="1068480" cy="177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ain1113023831"/>
          <p:cNvPicPr/>
          <p:nvPr/>
        </p:nvPicPr>
        <p:blipFill>
          <a:blip r:embed="rId2"/>
          <a:stretch/>
        </p:blipFill>
        <p:spPr>
          <a:xfrm>
            <a:off x="5796000" y="3392640"/>
            <a:ext cx="1324080" cy="1800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"/>
          <p:cNvSpPr/>
          <p:nvPr/>
        </p:nvSpPr>
        <p:spPr>
          <a:xfrm>
            <a:off x="468360" y="2473200"/>
            <a:ext cx="856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ин - задириха, другой - неуступиха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весна на Родине лучше, чем сто весен на чужбине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на пчела немного меду натаскает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о дерево срубишь - десять посади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правда на свете живет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ин в поле не воин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ин в море - не рыбак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рука узла не вяжет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ин пашет, а семеро руками машут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голова на плечах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на нога тут, другая - там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Одна мудрая голова ста голов стоит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дна пчела лучше, чем рой мух.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учше один раз увидеть, чем сто раз услышать.</a:t>
            </a:r>
            <a:br>
              <a:rPr sz="1800"/>
            </a:b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На одном месте и камень мхом зарас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3:55:21Z</dcterms:created>
  <dc:creator>home</dc:creator>
  <dc:description/>
  <dc:language>en-US</dc:language>
  <cp:lastModifiedBy>Admin</cp:lastModifiedBy>
  <dcterms:modified xsi:type="dcterms:W3CDTF">2014-11-14T04:52:47Z</dcterms:modified>
  <cp:revision>32</cp:revision>
  <dc:subject/>
  <dc:title>Устный журнал</dc:title>
</cp:coreProperties>
</file>