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D2C-725D-465C-B133-5D926F85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F52-9F75-4699-908B-BDF0BD9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786-CFC3-4CBF-AFEB-59FAF86B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283-DFEB-4CCD-83F1-B7969D92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D62-DC3E-425C-8D0F-A7CC5E79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E73-1725-4CA0-9646-B7EFA2E0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A43-AFBE-460E-A0D5-8CDA4D9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385-1B5C-47AC-8A3F-35E4BF49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4C7-736F-4293-86E9-B3BBE8E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EB6-0F05-4F2C-85F6-5F43136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BE5-2AFF-47DA-B4CE-436F6CF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83-B099-4741-88A2-205798C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FD7-C602-446F-B510-CECB665D4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8.radikal.ru/i162/0912/08/4ef3bc615ea6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kz44.narod.ru/2295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17360"/>
            <a:ext cx="8497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икой Победе посвящае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"/>
          <p:cNvPicPr/>
          <p:nvPr/>
        </p:nvPicPr>
        <p:blipFill>
          <a:blip r:embed="rId1"/>
          <a:stretch/>
        </p:blipFill>
        <p:spPr>
          <a:xfrm>
            <a:off x="395280" y="765000"/>
            <a:ext cx="842472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у защищает Панф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"/>
          <p:cNvPicPr/>
          <p:nvPr/>
        </p:nvPicPr>
        <p:blipFill>
          <a:blip r:embed="rId1"/>
          <a:stretch/>
        </p:blipFill>
        <p:spPr>
          <a:xfrm>
            <a:off x="468360" y="592200"/>
            <a:ext cx="8280360" cy="6005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ольце на Неве Ле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"/>
          <p:cNvPicPr/>
          <p:nvPr/>
        </p:nvPicPr>
        <p:blipFill>
          <a:blip r:embed="rId1"/>
          <a:stretch/>
        </p:blipFill>
        <p:spPr>
          <a:xfrm>
            <a:off x="324000" y="536400"/>
            <a:ext cx="8496000" cy="5988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щины на во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975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добрые женски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3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раненым бой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205337613_okazanie_pervojj_medicinskojj_pomoshhi"/>
          <p:cNvPicPr/>
          <p:nvPr/>
        </p:nvPicPr>
        <p:blipFill>
          <a:blip r:embed="rId1"/>
          <a:stretch/>
        </p:blipFill>
        <p:spPr>
          <a:xfrm>
            <a:off x="324000" y="765000"/>
            <a:ext cx="8459640" cy="5754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4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31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ный партиз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18 из 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8496000" cy="577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по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99 из 2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ои былых в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5"/>
          <p:cNvPicPr/>
          <p:nvPr/>
        </p:nvPicPr>
        <p:blipFill>
          <a:blip r:embed="rId1"/>
          <a:stretch/>
        </p:blipFill>
        <p:spPr>
          <a:xfrm>
            <a:off x="324000" y="592200"/>
            <a:ext cx="8496000" cy="5932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сражались з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6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979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ала фашистская нечи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395280" y="633240"/>
            <a:ext cx="8424720" cy="582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, кто приняли смертный 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7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975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емственность поко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8"/>
          <p:cNvPicPr/>
          <p:nvPr/>
        </p:nvPicPr>
        <p:blipFill>
          <a:blip r:embed="rId1"/>
          <a:stretch/>
        </p:blipFill>
        <p:spPr>
          <a:xfrm>
            <a:off x="1258920" y="608040"/>
            <a:ext cx="6626160" cy="5994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чный огонь мы в груди хра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83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вражеским танкам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9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ается Брестская 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4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97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шквалом литого св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904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ает огнём Севаст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048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инув андреевский 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086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И грудью своей закрывает Одессу родную моря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04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ащиту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9"/>
          <p:cNvPicPr/>
          <p:nvPr/>
        </p:nvPicPr>
        <p:blipFill>
          <a:blip r:embed="rId1"/>
          <a:stretch/>
        </p:blipFill>
        <p:spPr>
          <a:xfrm>
            <a:off x="324000" y="533520"/>
            <a:ext cx="8496000" cy="5991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58:59Z</dcterms:created>
  <dc:creator>Admin</dc:creator>
  <dc:description/>
  <dc:language>en-US</dc:language>
  <cp:lastModifiedBy>НИНА</cp:lastModifiedBy>
  <dcterms:modified xsi:type="dcterms:W3CDTF">2019-01-06T19:38:43Z</dcterms:modified>
  <cp:revision>8</cp:revision>
  <dc:subject/>
  <dc:title>65 годовщине Великой Победы посвящается </dc:title>
</cp:coreProperties>
</file>