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7FE-AB6E-4A20-B947-3A06108E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C66-E644-4E18-B318-F39C5822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DA1-0AA4-4C2D-8533-F5C571CA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115-7635-4888-A130-DDB59B25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53A-8922-4E7A-B3C6-BD3D5E04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0DA-CF99-4DBB-AA2C-F2E42767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127-1CD3-45FA-8700-BF33659F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540-C355-4565-A6EA-D3E09655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B36-F826-4011-B22C-455B7E2C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E3D-C975-4128-9870-7BFB527A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19E-3572-47F3-B0CC-ECB29781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72D-6218-46C2-BA86-9C8A9735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BB0A-7490-41CC-9301-A2E91377DB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58.radikal.ru/i162/0912/08/4ef3bc615ea6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kz44.narod.ru/2295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17360"/>
            <a:ext cx="8497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икой Победе посвящает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"/>
          <p:cNvPicPr/>
          <p:nvPr/>
        </p:nvPicPr>
        <p:blipFill>
          <a:blip r:embed="rId1"/>
          <a:stretch/>
        </p:blipFill>
        <p:spPr>
          <a:xfrm>
            <a:off x="395280" y="765000"/>
            <a:ext cx="8424720" cy="583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ву защищает Панфи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0"/>
          <p:cNvPicPr/>
          <p:nvPr/>
        </p:nvPicPr>
        <p:blipFill>
          <a:blip r:embed="rId1"/>
          <a:stretch/>
        </p:blipFill>
        <p:spPr>
          <a:xfrm>
            <a:off x="468360" y="592200"/>
            <a:ext cx="8280360" cy="60055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ольце на Неве Ленин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1"/>
          <p:cNvPicPr/>
          <p:nvPr/>
        </p:nvPicPr>
        <p:blipFill>
          <a:blip r:embed="rId1"/>
          <a:stretch/>
        </p:blipFill>
        <p:spPr>
          <a:xfrm>
            <a:off x="324000" y="536400"/>
            <a:ext cx="8496000" cy="59882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нщины на вой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2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9752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и добрые женские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3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83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раненым бой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1205337613_okazanie_pervojj_medicinskojj_pomoshhi"/>
          <p:cNvPicPr/>
          <p:nvPr/>
        </p:nvPicPr>
        <p:blipFill>
          <a:blip r:embed="rId1"/>
          <a:stretch/>
        </p:blipFill>
        <p:spPr>
          <a:xfrm>
            <a:off x="324000" y="765000"/>
            <a:ext cx="8459640" cy="5754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4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31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Юный партиз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Картинка 18 из 25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765000"/>
            <a:ext cx="8496000" cy="5778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н по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Картинка 99 из 25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765000"/>
            <a:ext cx="8353440" cy="583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рои былых вре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5"/>
          <p:cNvPicPr/>
          <p:nvPr/>
        </p:nvPicPr>
        <p:blipFill>
          <a:blip r:embed="rId1"/>
          <a:stretch/>
        </p:blipFill>
        <p:spPr>
          <a:xfrm>
            <a:off x="324000" y="592200"/>
            <a:ext cx="8496000" cy="59324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и сражались за Ро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6"/>
          <p:cNvPicPr/>
          <p:nvPr/>
        </p:nvPicPr>
        <p:blipFill>
          <a:blip r:embed="rId1"/>
          <a:stretch/>
        </p:blipFill>
        <p:spPr>
          <a:xfrm>
            <a:off x="395280" y="549360"/>
            <a:ext cx="8353440" cy="5979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ала фашистская нечи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"/>
          <p:cNvPicPr/>
          <p:nvPr/>
        </p:nvPicPr>
        <p:blipFill>
          <a:blip r:embed="rId1"/>
          <a:stretch/>
        </p:blipFill>
        <p:spPr>
          <a:xfrm>
            <a:off x="395280" y="633240"/>
            <a:ext cx="8424720" cy="5820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, кто приняли смертный 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7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9752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емственность поко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8"/>
          <p:cNvPicPr/>
          <p:nvPr/>
        </p:nvPicPr>
        <p:blipFill>
          <a:blip r:embed="rId1"/>
          <a:stretch/>
        </p:blipFill>
        <p:spPr>
          <a:xfrm>
            <a:off x="1258920" y="608040"/>
            <a:ext cx="6626160" cy="5994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чный огонь мы в груди хра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9"/>
          <p:cNvPicPr/>
          <p:nvPr/>
        </p:nvPicPr>
        <p:blipFill>
          <a:blip r:embed="rId1"/>
          <a:stretch/>
        </p:blipFill>
        <p:spPr>
          <a:xfrm>
            <a:off x="395280" y="620640"/>
            <a:ext cx="8353440" cy="583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вражеским танкам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3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96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жается Брестская кре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4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97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 шквалом литого сви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5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5904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ылает огнём Севастоп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6"/>
          <p:cNvPicPr/>
          <p:nvPr/>
        </p:nvPicPr>
        <p:blipFill>
          <a:blip r:embed="rId1"/>
          <a:stretch/>
        </p:blipFill>
        <p:spPr>
          <a:xfrm>
            <a:off x="1403280" y="549360"/>
            <a:ext cx="6264360" cy="6048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кинув андреевский фл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7"/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60865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И грудью своей закрывает Одессу родную моря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8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04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ащиту Мос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9"/>
          <p:cNvPicPr/>
          <p:nvPr/>
        </p:nvPicPr>
        <p:blipFill>
          <a:blip r:embed="rId1"/>
          <a:stretch/>
        </p:blipFill>
        <p:spPr>
          <a:xfrm>
            <a:off x="324000" y="533520"/>
            <a:ext cx="8496000" cy="59911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58:59Z</dcterms:created>
  <dc:creator>Admin</dc:creator>
  <dc:description/>
  <dc:language>en-US</dc:language>
  <cp:lastModifiedBy>НИНА</cp:lastModifiedBy>
  <dcterms:modified xsi:type="dcterms:W3CDTF">2019-01-06T19:38:43Z</dcterms:modified>
  <cp:revision>8</cp:revision>
  <dc:subject/>
  <dc:title>65 годовщине Великой Победы посвящается </dc:title>
</cp:coreProperties>
</file>