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FBC-D026-44F4-992D-B7FA950E4A7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AD0-A868-4786-A99B-E57CBFC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5E0-429D-4B7D-A495-FC84C5A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B29-04E9-4CAD-A567-5AB511E6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DB3-15CB-47E7-94BB-BD6E5FD4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CAE-AEF3-4534-9F09-CD818550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847-8E6A-4AA4-99E2-DD0FC62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FAF-9CD9-4FCA-A5B2-51F967B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CA3-2B8F-4799-ADC3-BA82892A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7CD-5443-4678-897E-26FE94CA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10F-2F5D-4D11-89C0-B5F06FA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D60-1C36-47FA-AB6C-D70898A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D50-ACAD-48BA-86FC-F297E65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843-B4B6-43E8-A63D-BB567A026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Зимой" descr="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зима2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анки" descr="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лыжи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Надюха%20зимой%201" descr=""/>
          <p:cNvPicPr/>
          <p:nvPr/>
        </p:nvPicPr>
        <p:blipFill>
          <a:blip r:embed="rId1"/>
          <a:srcRect l="12566" t="19671" r="0" b="12259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354" t="2740" r="27541" b="0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обужинский%20Домик%20в%20петербурге%201" descr="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ванов%20Семья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КрымовНикифор%20Зимний%20пейзаж%201" descr=""/>
          <p:cNvPicPr/>
          <p:nvPr/>
        </p:nvPicPr>
        <p:blipFill>
          <a:blip r:embed="rId1"/>
          <a:srcRect l="0" t="10995" r="0" b="0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554" t="15900" r="22420" b="39418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g&amp;Wolf135" descr="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6278" descr=""/>
          <p:cNvPicPr/>
          <p:nvPr/>
        </p:nvPicPr>
        <p:blipFill>
          <a:blip r:embed="rId1"/>
          <a:srcRect l="0" t="15127" r="5229" b="11255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ab&amp;Squir061" descr=""/>
          <p:cNvPicPr/>
          <p:nvPr/>
        </p:nvPicPr>
        <p:blipFill>
          <a:blip r:embed="rId2"/>
          <a:srcRect l="15391" t="0" r="15391" b="0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ab&amp;Squir033" descr=""/>
          <p:cNvPicPr/>
          <p:nvPr/>
        </p:nvPicPr>
        <p:blipFill>
          <a:blip r:embed="rId1"/>
          <a:srcRect l="5846" t="0" r="5650" b="0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Горностай%202" descr=""/>
          <p:cNvPicPr/>
          <p:nvPr/>
        </p:nvPicPr>
        <p:blipFill>
          <a:blip r:embed="rId2"/>
          <a:srcRect l="25048" t="15528" r="17032" b="12019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8817" r="28820" b="0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2:11Z</dcterms:modified>
  <cp:revision>54</cp:revision>
  <dc:subject/>
  <dc:title>ЗИМА</dc:title>
</cp:coreProperties>
</file>