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330-CF45-4700-BA06-23E9AFD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9B7-2EA4-489A-81F5-FFBE604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C8B-617A-4966-993A-52BA137E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7C8-6A82-4CDE-95B7-000A7FFA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B69-B6CA-4970-B641-A50EC5A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5BA-1420-4F26-813D-A7BA915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8A4-BB42-4D98-9512-612C460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0D8-1845-48C5-8AA2-C1D8809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412-BD70-4902-B08F-645CA557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6EA-D2CA-46AA-AFAD-947870EF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C96-3437-4D50-8407-7FEF4A7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5B8-A38E-475F-9AB4-6A30287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2A3-004C-487C-8689-C6E4837BF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БОУ «ЦО№21»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Тул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спитатель Нуруллаева Г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Группа №4 «Подсолнуш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e1eae"/>
                </a:solidFill>
                <a:latin typeface="Arial"/>
              </a:rPr>
              <a:t>Все лето стояли , зимы ожидали</a:t>
            </a:r>
            <a:br>
              <a:rPr sz="2400"/>
            </a:br>
            <a:r>
              <a:rPr b="0" i="1" lang="ru-RU" sz="2400" spc="-1" strike="noStrike">
                <a:solidFill>
                  <a:srgbClr val="1e1eae"/>
                </a:solidFill>
                <a:latin typeface="Arial"/>
              </a:rPr>
              <a:t>Дождались поры-помчались с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1\Desktop\Зимние прогулки\20181214_114030.jpg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41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1\Desktop\Зимние прогулки\20181214_114110.jpg"/>
          <p:cNvPicPr/>
          <p:nvPr/>
        </p:nvPicPr>
        <p:blipFill>
          <a:blip r:embed="rId2"/>
          <a:stretch/>
        </p:blipFill>
        <p:spPr>
          <a:xfrm>
            <a:off x="779400" y="1600200"/>
            <a:ext cx="36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Вот как славно мы гуляли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И немножечко устали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:\Ат\Зима\20181206_114841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Ат\Зима\20181206_112853.jpg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e1eae"/>
                </a:solidFill>
                <a:latin typeface="Arial"/>
              </a:rPr>
              <a:t>Вот и к нам  пришла з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F:\Ат\Зима\20181206_140230.jpg"/>
          <p:cNvPicPr/>
          <p:nvPr/>
        </p:nvPicPr>
        <p:blipFill>
          <a:blip r:embed="rId1"/>
          <a:stretch/>
        </p:blipFill>
        <p:spPr>
          <a:xfrm>
            <a:off x="2438280" y="1447920"/>
            <a:ext cx="39448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Наши зимние прогу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Снег ложится на до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Речка льдом покры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Это зимушка-з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В гости к нам яв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Как нам зиму не люб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Выйдем на прогул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абу снежную ле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удем в пере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удем мы играть в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Там, где снег глубо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Побежим вперегон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Разгорятся щё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83429f946a4d817ac6a25b13ff247de"/>
          <p:cNvPicPr/>
          <p:nvPr/>
        </p:nvPicPr>
        <p:blipFill>
          <a:blip r:embed="rId1"/>
          <a:stretch/>
        </p:blipFill>
        <p:spPr>
          <a:xfrm>
            <a:off x="7924680" y="380880"/>
            <a:ext cx="995400" cy="373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083429f946a4d817ac6a25b13ff247de"/>
          <p:cNvPicPr/>
          <p:nvPr/>
        </p:nvPicPr>
        <p:blipFill>
          <a:blip r:embed="rId2"/>
          <a:stretch/>
        </p:blipFill>
        <p:spPr>
          <a:xfrm>
            <a:off x="0" y="0"/>
            <a:ext cx="995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Ах ты зимушка, зима!</a:t>
            </a:r>
            <a:br>
              <a:rPr sz="2800"/>
            </a:b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Сколько снега принес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F:\Ат\Зима\20181206_112636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F:\Ат\Зима\20181206_115705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По сугробам мы идем</a:t>
            </a:r>
            <a:br>
              <a:rPr sz="2800"/>
            </a:b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Ни за что не упад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F:\Ат\Зима\20170301_111709.jpg"/>
          <p:cNvPicPr/>
          <p:nvPr/>
        </p:nvPicPr>
        <p:blipFill>
          <a:blip r:embed="rId1"/>
          <a:stretch/>
        </p:blipFill>
        <p:spPr>
          <a:xfrm>
            <a:off x="2819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Приходите к нам, ребята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Не забудьте взять лоп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:\Ат\Зима\20180219_113008.jpg"/>
          <p:cNvPicPr/>
          <p:nvPr/>
        </p:nvPicPr>
        <p:blipFill>
          <a:blip r:embed="rId1"/>
          <a:stretch/>
        </p:blipFill>
        <p:spPr>
          <a:xfrm>
            <a:off x="2666880" y="1608120"/>
            <a:ext cx="38862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Мы лопатками капаем,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Снег с дорожек ,расчищ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:\Ат\Зима\20181210_113325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:\Ат\Зима\20181128_114620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Бабу снежную лепить ,будем мы усер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:\Ат\Зима\20181210_113821.jpg"/>
          <p:cNvPicPr/>
          <p:nvPr/>
        </p:nvPicPr>
        <p:blipFill>
          <a:blip r:embed="rId1"/>
          <a:stretch/>
        </p:blipFill>
        <p:spPr>
          <a:xfrm>
            <a:off x="32767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Клюшки в руки мы возьмем ,погонять немнож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:\Ат\Зима\20181128_114519.jpg"/>
          <p:cNvPicPr/>
          <p:nvPr/>
        </p:nvPicPr>
        <p:blipFill>
          <a:blip r:embed="rId1"/>
          <a:stretch/>
        </p:blipFill>
        <p:spPr>
          <a:xfrm>
            <a:off x="2590920" y="1523880"/>
            <a:ext cx="3716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haitov</dc:creator>
  <dc:description/>
  <dc:language>en-US</dc:language>
  <cp:lastModifiedBy>Khaitov</cp:lastModifiedBy>
  <dcterms:modified xsi:type="dcterms:W3CDTF">2019-01-07T09:12:4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